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29E-106A-4325-A126-2AE31D9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494-A53B-42D9-9A64-32471F0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988-7A98-4873-8289-2B6583D4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083-AC78-4B6D-A7BD-E6F8D042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CED-A37B-4014-A676-BB90B07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7A8-5B73-4BEF-B9ED-A50BD8D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BBA-8A9E-411E-A046-0A4B56A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8AB-B45B-4E6E-9594-95522D2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0CE-5DFE-46C9-83FE-0E0684C8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4E5-68D6-4C5B-AB2D-5E66342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B95-306A-4E43-8061-93AAFDA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220-397C-4746-A2C0-FDF49A9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69F5-FF8E-4A1C-AF97-B39B1F8D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14760" y="0"/>
            <a:ext cx="9296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733920"/>
            <a:ext cx="8534520" cy="3429000"/>
            <a:chOff x="0" y="3733920"/>
            <a:chExt cx="8534520" cy="3429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3733920"/>
              <a:ext cx="8534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0" y="3733920"/>
              <a:ext cx="85345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1371600" y="0"/>
            <a:ext cx="5038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</a:t>
            </a: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VISED TAL MODEL  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ATEMALA  NOV 4-8 , 2002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6C6-4FBD-456C-A674-6E2F2CF14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actic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the ability to implement a costing methodology with reasonable demands being placed on data availability and data processing in order to keep the costing exercise economical, yet still usefu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ity of cost models must take into account the trade off between limitations in available human resource, timeliness of information, cost of implementation of methodology and and in-house resources to monitor and revise methodolog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618-570F-45E8-A827-18DF8B44D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The provision of forecasts of cost reduction that results from a more efficient combination of resourc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most nebulous principle since there is no common barometer for stipulating efficiency. Even within the ITU models different models have different benchmarks for measuring/extrapolating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41A-6BDB-4F2D-B697-7FD60ABBF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icing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undled Cos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ss Net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yance Net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undled Conveyance Network to provide interconnection a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 tand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uble tand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9AD-9861-49E6-92C8-31B3DBD4E5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71560" y="1981080"/>
          <a:ext cx="740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1981080"/>
                    <a:ext cx="740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E53-90A1-4097-B1D2-0F839CFEE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Component Usage RE: Call Pa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dialed on originating network to subscriber on another net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 sent from equipment to originating swit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ginating switch examines called digits, recognizing that digits are in another local exchange activates and routes a query trigger to the S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1CC-1748-4A89-9EAB-66FBA043C9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P performs the translation and routes the query to an appropriate S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P matches the location of routing number associated with dialed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P response containing location routing number is sent back to the originating switch by the S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ing switch receives message and routes call to recipient switch based on location routing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ient switch continues the switching (including signaling and transmission until call reaches dest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4C4-80A7-4ADC-8F96-0A6C6096A8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ariably Call Path Utilizes Components Of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76320" y="198072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ing  network (including signaling network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Network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network (if includ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first two are used invariably when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nection is required, the objective is to find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or which derives the most efficient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, subject to market peculiarities. This i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of the TAL model for Caribbean and Lat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940-BCE7-450E-A8D0-CA9DB4DB8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Clust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648320"/>
            <a:ext cx="19051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umb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rate for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fac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05520" y="49528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029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s to encou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343400"/>
            <a:ext cx="9144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he mos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114800"/>
            <a:ext cx="2286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et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0040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819520"/>
            <a:ext cx="9144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274320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2362320"/>
            <a:ext cx="9144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00800" y="2209680"/>
            <a:ext cx="914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362320"/>
            <a:ext cx="91440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590920"/>
            <a:ext cx="9144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198108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743200"/>
            <a:ext cx="7621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276720"/>
            <a:ext cx="14479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28195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819520"/>
            <a:ext cx="763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3124080"/>
            <a:ext cx="4572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1981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9810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2362320"/>
            <a:ext cx="9144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1905120"/>
            <a:ext cx="9144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fford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9810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market 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consu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and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8954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743200"/>
            <a:ext cx="3505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895480"/>
            <a:ext cx="2971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67160" y="2541600"/>
            <a:ext cx="400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t oriented pricing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BBC-A1E3-460C-ACC9-7B0D370E53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ACB6-DFA7-4FC8-AB54-CD7B1D86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s of TAL 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Run Efficiency Co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124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100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00200" y="3733560"/>
            <a:ext cx="2590920" cy="1904760"/>
          </a:xfrm>
          <a:prstGeom prst="line">
            <a:avLst/>
          </a:prstGeom>
          <a:ln w="93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048120"/>
            <a:ext cx="213336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572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00200" y="3429000"/>
            <a:ext cx="17524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00200" y="37335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REC formul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A(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per minute cost of traf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 total cost (direct, indirect and comm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 = Efficiency fac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traffic through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8CF-F01E-49D0-A1D2-6DDB9043D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ing The ICT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anbul Action Pl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ICT facilities is an imperative to Socio-econ growth, particularly in developing count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ICT services is highly contingent on telecommunication networks that deliver services at prices that are equitable, affordable and cost orien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fundamental pricing princi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C3C-2DE9-48E8-8CFC-D79D63C66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Constrai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high financial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al impedi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urement dis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Run Economic- Efficiency Costing (LE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Economic-Efficiency Costing (IE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they are both long run concep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A72-ABFC-4663-A1D4-B11947C21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 &amp; 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C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total cost adjusted for unavoidable dis- economies of scale (ineffici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total traffic (current + expect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C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st of additional components to deliver interconnect traffic, subject to adjustment for in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nterconnect traf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002-4026-4218-943E-EF1DD9B46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Mod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80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rect 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Annualized equipmen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preciation) + annualized cos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erest on loans and reasonable retur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) + acquisition and installation costs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tion equipment which cannot as yet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ed + annualized operational, re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aintenance costs (OPEX) where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&amp;D costs;     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204-65FE-40B0-97FB-EF0BC80E9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Modali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Costs: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expenses attributed to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 but not all activities i.e. site, trench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s, electricity, networ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tc.  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Cos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al administration,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&amp;D, bad debt expenses, taxes not included in di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ndirect exp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3B8-CA70-4E96-94D8-A3F2D61F39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incurred in the provis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rvices that do not have spec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fore traceable causal relationship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ne i.e. general administration,(includ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heads, head office expenses, train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ing systems, taxes, bad debts, etc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6E2-11E5-4B1E-814C-20216F143D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Equipment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Cost: estimated on the basis of current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costs tend to favour the incumbent at the expense of the competitor and consumers wel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there may be need for adjustment to account for diseconomies of sca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C3C-1C95-4F90-B546-4552431C25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/BD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: Assess the cost of resources used in the delivery of telephon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concept: ITU –T Recommendation D 600R Enhanced Fully Distributed Cost (EDF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ing the principles of ABC unit cost of service = total cost/traffic vol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ed historical cost: use the accounts of the network operator, amortization is adjusted to correspond with current replacement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side of the equation is modified to deduct non-voice traffic and the cost side is modified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F87-FDD0-402A-A24F-A8968B7BF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 Adjustment to Current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Purchase price of equipment in year 0 = $10 Mill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er’s amortization schedule 10y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price of equipment falls by 8% per ann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allowance in year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0 000000x (1-0.0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 = 846, 400 instead of 1 000 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84E-8DC9-47F4-A932-1FB119E155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very sore bone of conten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ed 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 loaded or back loaded sum of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lic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movement of real price of asset over its life span taking into consideration productivity, revenue earning capability over asset life and obsolesc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5A6-9AC4-4CCA-86F3-4BDABF3AEA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Other Cos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 of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hould reflect opportunity cost of investment. Rate of return should be determined by the capital market. Note that the rate should cover investment costs, including equity and debt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xy mid-range/best practice values should be used given that the Latin America &amp; Caribbean region has relatively high OPEX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cillary cos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estimated by allowing a mark up based on best practice bench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179-4878-4B07-B4A1-61D378A899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&amp; The Digital Divid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nge of physical, logical and commercial interface required to complete a call on a network on which the call did not origin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ed interconnection is essential to facilitate seamless communication between end users subscribing to different service provi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,Therefore, a critical node to ensure that end users are exposed to a matrix of choices in accessing ICT ser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066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EDC-6D3F-41CC-AE4A-9E5FB2F7F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 Modalities Re: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network is circuit switch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digital switching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wo tier switching system: tandem switching, local switching supported by remote switching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usage of fibre in urban areas;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relatively modern transmission technolog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F1D-BF73-4E58-832E-B6F390C230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Unbundled Switch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is to estimate the LEC and IEC of switching traffic over different switching elements on the network including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dem Swi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te Swi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6BF-5871-4E44-8AD0-B2B6D25C65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ore Net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981080"/>
          <a:ext cx="7189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189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0ED-F8F9-4D33-B52F-90BCC1784B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ing Network 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wi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 side facilities: (including but not limited to) connection to local loop at MDF and Line card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unk side facilities: Connections between trunk-side termination at trunk-side cross connect panel and trunk car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facilities that connect lines to lines, lines to trunk, trunk to trunk and features such as telephone numbers, dial tone, local area signaling, customer calling, Routing functions e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78C-BC92-4DBD-93AC-D792D5E99C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dem Swi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afford connection between tru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tion at cross connect panel and tru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d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provide trunk to trunk switching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ilities that provide other func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recording, call routing to operator serv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ignaling conversion featur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ing Network: includes signaling link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aling control and transfer poi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73-769F-488E-BC96-29F8BCBCE8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stim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Component Iden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Data collec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e table 1.p1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Undertake cost estimates : unit &amp; total investment co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ppendix I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, annualized (OPEX, indirect costs and common costs that are traffic sensi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cost per switching component sum: annualized direct, indirect and common costs.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endix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interconnect component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914-248F-4BBD-8D8D-71DB040B8E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Dem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number of calls or number of minutes switch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emand, calls = number of successful &amp; unsuccessful call attempts that engage the swit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emand, minutes= minutes of switched traffic plus hold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demand Calls /minutes) = current demand + growth fac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per switching component is determined by traffic routing. Routing factors have to be accessed or comput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5BC-B8E5-4C53-84D0-04E11E3886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LEC &amp;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 = total cost /total dem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C = Incremental cost/incremental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de calculations that do not take into account market distortions and such do not address issues of efficien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F82-6B62-4A46-BD95-F6AD3745A1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Dimension &amp;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is normally dimensioned to facilitate peak loads as denominated in  busy hour call attempts and busy hour erla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dimensioning of the switching network to equate required capacity to handle busy hour traffic (call attempts and erlangs, including growth factor) with installed switching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the network is inefficient either in terms of excess or under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concern for the regulator is excess capa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315-7985-4512-B329-0FA2F9950F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Adjust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 efficiency adjustmen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xcess switching capacity avoidable? If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conomic cost of the excess? E.g.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consistent busy hour traffic demand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switch is Q but closest manufac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for that switch is of 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Q, the excess 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is unavoi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f the operator elects to install a switch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gap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p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fficiency gap is negative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able and requires an efficiency adjus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013-C004-4485-A7A4-505E2DB015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Triang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352680"/>
            <a:ext cx="259092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590920"/>
            <a:ext cx="9144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886200"/>
            <a:ext cx="388620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080" y="3276720"/>
            <a:ext cx="6858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743200"/>
            <a:ext cx="152424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057400"/>
            <a:ext cx="16002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00600" y="243828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43600" y="2971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19920" y="3428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9718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2209680"/>
            <a:ext cx="4952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16D-0BE4-421C-8590-33B9A7E80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Economic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efficiency gap in terms of excess capacity is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ß is the adjustment factor that should be applied to reduce LEC or IEC switching cost estimated earlie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B06-6202-4670-95F0-CDCA48CD94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Transmis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TN transmission involves narrow ban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ed line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derive the unbundled co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ow band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services do not include Fax and v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ISDN l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ages mode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U-LS    LS-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-TS        TS-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50D-4A05-4FC5-ACCD-942BED3B60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Networ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100584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electronics Multiplexers, digital cr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ors,regenerators et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: ducts, trenches, poles, cable &amp; fibre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Unbund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onnection at:  (See relevant diagram abo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witch: purchase restricted to transmission linkage between remote and local swi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) Single tandem : purchase restricted to those at (i) plus linkage between local and tandem switch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) Double tandem: purchase of transmission link between tandem switches plus purchases indicated at (ii) ab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AA0-AD39-4687-9E95-C04F17AD0B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ing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that employed for switch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llection on transmission equipment and infrastructure (pp 22- 24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o make appropriate assumptions as to the minimum levels of transmission technology. (pp 24-2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and study blue print of transmission net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cost of the transmission links on actual network (Appendix V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X and Ancillary cost may be estimated using benchmarks. (option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543-CCD8-4EB2-A680-397B591DE8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Leased 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re: number of 2 Mbits links dedicated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 carr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carr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proportion of the PSTN dedicated to leased line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edicated capacity calculate leased line traffic in Mbits (Eq 23. P.32) and subtract from total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that from total transmission cost leased line co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078-EACE-423C-BA4C-95F3772EB9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e Re: LEC &amp; I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to routing profi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 per transmission link = 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C per transmission link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otal cost of transmission facilities used for voice traffic including interconnect traff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otal mbits of voice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additional cost of facilities for interconnect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bits of interconnect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CF8-1A9A-4EB8-A443-BF2FD22AD2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ually Incurred Cost vs Cost of Efficient Service Pro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that every service provider should strive for provision of “optimal”cost efficient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cept should form the basis for cost derivation and therefore cost oriented pri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cept proposes costing based on up-to-date technology supported by efficient ope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countries argued that: because of difference in economies of scale efficiency criteria are different on relatively smaller networks given that network dimensioning do not favour even the largest operators in developing countr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5AA-6C1D-4DC7-8187-C61D4FF7D6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Efficiency Indicat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reserves built into installation to accommodate future traffic since cost based on this capacity would not truly reflect the cost of current ope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rates based on economic life of ass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cap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between OPEX and equipment cos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universal serv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BEF-28DD-48DD-AAFD-F2C4FB003D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: “Operators must verify that idle capacity is not the result of inefficient use of resources. They must ensure that all available capacity is used within a period compatible with good replenishment practices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 {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∆K-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Dotum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*[(1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λ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]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λ is the compounded growth rat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230-9382-4214-BDD6-ADF74AD692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urrent capac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is appropriate replenishment perio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is spare capacity;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efficient capac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ositive, investment cost should be reduced by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∆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Assum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Dotum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otum"/>
              </a:rPr>
              <a:t>=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283-57A7-45D1-AC7E-5152EA67761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Battlegr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DC vs 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rical vs Current Cos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B6E-32EE-4753-BE94-6BBBED416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emand = 150, is forecast to increase by 15% per annu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 for capacity maturity i.e long run period is 3 y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= {0; 50- 150* [(1+0.1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]}=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ctual growth in demand is 5% th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26.36 in which case cost would have to be reduced by 26.36/200 = 13.8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988-B5C9-41FC-BEAC-2BF0B7242B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the question of Efficiency refers to capacity utiliz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estimated traffic throughput on a transmission linkage is Ej Mbi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transmission capacity on the link is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bit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/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j+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&lt;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re is a primary inefficiency gap of 1-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rompts the question,  is the gap avoid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4D4-058F-4F8B-A329-87E90EE139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optimal transmission network for relevant traffic throughput is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j+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ŵ = &gt;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ble excess capacity = ŵ – 1= @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factor to be used to adjust the L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ilar procedure is used to derive the adjustment factor for IE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51E-51EE-4969-B37B-DF5E8D6978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bundled 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762120"/>
          <a:ext cx="7772400" cy="6095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 Net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Routed Traf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R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E4-9C88-431B-8CC1-C975A56ECBB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bundled 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762120"/>
          <a:ext cx="7772400" cy="6095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 Net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mental Routed Traf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mental C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i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-R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vii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(n-v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F7F-8DCE-4E73-90D9-55C3496D1F1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C vs 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countries favoured IC while developing countries favoured F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ing countries operators claim that FDC permit cost recovery while IC does not necessarily guarantee s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countries operators complain that FDC is inefficient pricing and would consider FDC only if certain efficiency criteria are met inclu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llocation based on causality, AB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ation of assets at current prices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CA7-D3D8-4FF3-B08F-944E49EB4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iangle &amp;ITU/WTO Interconnect Imperative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bility: Network technical standards.  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lsory Interconnection: access to ROAs at any technical feasible point on incumbent’s network to duly authorized competitor.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Unbundling: Separation of network elements according to usage/demand. (Legislation/Regu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ion: No most-favoured interconnect pricing between an ROA and its subsidiary. (Legis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1523880"/>
            <a:ext cx="2011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gisl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65440" y="3029040"/>
            <a:ext cx="2011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gislation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6E7-3E8B-4D16-A875-262500307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36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: An overarching clause. (Legislation/Regul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-Oriented Prices: interconnect rates should be based on the cost of the components used to deliver the service. (Legislation/Regulation supported by appropriate costing methodology/model  to estimate cost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 estimates are necessary to determine cost oriented pricing for providing serv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95680" y="4724280"/>
            <a:ext cx="268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t model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1E4-25DA-47D8-8977-BBB69FE10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Costing Princi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“Open availability of information used in cost derivation in order to allow comprehension of the final from the vintage point of an external analy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is critical for verification of cost and advancement of the process of compet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AB0-957F-40DB-AC26-14175DD865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23:38:18Z</dcterms:created>
  <dc:creator>John Prince</dc:creator>
  <dc:description/>
  <dc:language>en-US</dc:language>
  <cp:lastModifiedBy>UGALE, Arvin Carlos D.</cp:lastModifiedBy>
  <dcterms:modified xsi:type="dcterms:W3CDTF">2002-11-05T11:13:55Z</dcterms:modified>
  <cp:revision>85</cp:revision>
  <dc:subject/>
  <dc:title>What is interconnection </dc:title>
</cp:coreProperties>
</file>