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B0D-990E-4EFD-9B16-BAD3C74A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2BB-33C4-4162-BA8B-15FE2D6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F88-CF07-4326-A4B5-0013DCDA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4A8-254F-4EAE-B457-78876633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94D-B4F0-4600-899C-6B87D0ED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783-70D6-483C-B9B3-BF6A1965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0E9-F5F2-4991-89A6-F9094099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466-3EEE-42B0-A448-EF546495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019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F27-FEFF-40ED-AAEA-19D39B1C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F9B-0EC8-4BAE-B029-4A3E71D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B0A-6C40-4B40-9026-270807D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15D-D3EA-49B1-A833-25DD137A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3241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BD495D-9A6D-43C1-B908-53D789E207FE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90640" y="363600"/>
            <a:ext cx="670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COSITU</a:t>
            </a:r>
            <a:endParaRPr b="1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U model for the calculation of telephone service costs, tariffs and interconnection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DD0-5092-4862-ACA8-9DEEF1C735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ming national, double transit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network of another national operat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located outside the charging area of the interconnection point and connected to the network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 to national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it call between two national operators via the network of the operator for which the calculations are ma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395-99B4-41CD-BF9A-5DD66CB4D1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ernational boundaries of network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itical boundar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lways correspond 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boundaries of network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aginar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int in the middle of the international area delimits the international “half-circuit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omplet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ational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4038480"/>
            <a:ext cx="3047760" cy="175284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962520"/>
            <a:ext cx="3048120" cy="175248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48769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3581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2705040" y="4000320"/>
            <a:ext cx="685800" cy="3809880"/>
          </a:xfrm>
          <a:custGeom>
            <a:avLst/>
            <a:gdLst>
              <a:gd name="textAreaLeft" fmla="*/ 438120 w 685800"/>
              <a:gd name="textAreaRight" fmla="*/ 686160 w 6858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308"/>
                </a:lnTo>
                <a:cubicBezTo>
                  <a:pt x="10800" y="8208"/>
                  <a:pt x="5400" y="9108"/>
                  <a:pt x="0" y="9108"/>
                </a:cubicBezTo>
                <a:cubicBezTo>
                  <a:pt x="5400" y="9108"/>
                  <a:pt x="10800" y="10008"/>
                  <a:pt x="10800" y="109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3B8-EB60-4B03-9E4A-5C69D6E6C1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National boundaries of networks and the base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interconnect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in a given jurisdiction, the interconnection poi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twork bound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ts incurred within the boundaries of a network are endogenous co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hich the operat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liberty 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ro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cept for transit charges identified at transmission, pay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other correspondents for terminal traffic are exogenous costs which are not counted in determining costs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352-A8DD-4831-AC10-7B7DB7E9DC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dogenous costs and exogenou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286000"/>
            <a:ext cx="3048120" cy="175248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2209680"/>
            <a:ext cx="3048120" cy="175284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OUNTRY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31240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2324160" y="3161880"/>
            <a:ext cx="685800" cy="3809880"/>
          </a:xfrm>
          <a:custGeom>
            <a:avLst/>
            <a:gdLst>
              <a:gd name="textAreaLeft" fmla="*/ 438120 w 685800"/>
              <a:gd name="textAreaRight" fmla="*/ 686160 w 6858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308"/>
                </a:lnTo>
                <a:cubicBezTo>
                  <a:pt x="10800" y="8208"/>
                  <a:pt x="5400" y="9108"/>
                  <a:pt x="0" y="9108"/>
                </a:cubicBezTo>
                <a:cubicBezTo>
                  <a:pt x="5400" y="9108"/>
                  <a:pt x="10800" y="10008"/>
                  <a:pt x="10800" y="109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5562720"/>
            <a:ext cx="26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Endogenous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556272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Exogenous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324480" y="3352320"/>
            <a:ext cx="685800" cy="3581280"/>
          </a:xfrm>
          <a:custGeom>
            <a:avLst/>
            <a:gdLst>
              <a:gd name="textAreaLeft" fmla="*/ 438120 w 685800"/>
              <a:gd name="textAreaRight" fmla="*/ 686160 w 6858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739"/>
                </a:lnTo>
                <a:cubicBezTo>
                  <a:pt x="10800" y="8639"/>
                  <a:pt x="5400" y="9539"/>
                  <a:pt x="0" y="9539"/>
                </a:cubicBezTo>
                <a:cubicBezTo>
                  <a:pt x="5400" y="9539"/>
                  <a:pt x="10800" y="10439"/>
                  <a:pt x="10800" y="1133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1911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648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CDF-D27A-43EE-BF29-0A8CE2E829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nge managemen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storical cos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 price of equipment and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urrent cos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alling 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telecommunication equipment, curren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COSIT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costs as confirmed on the relevant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F33-5B43-440B-9C88-90CF233B15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tual costs versus optimum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s (even current costs) incur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ffer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ervice are not necessari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o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ice provision can be an important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tructural realities of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kind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mar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hou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theless be consider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eme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478-7224-4012-ABC2-2AFF5CF9AA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3320" y="482400"/>
            <a:ext cx="466272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asic principles for cost model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par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open availability of information used in the cost derivation process in order to allow comprehension of the final rate from the vantage point of an external analyst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185760" indent="-1857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acticabil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ability to implement a costing methodology with reasonable demands being placed on data availability and data processing in order to keep the costing exercise economical yet still useful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A6A-70A9-4221-96B6-F770664FAA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usa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demonstration of a clear cause-and-effect relationship between service delivery, on the one hand, and the network elements and other resources used to provide it, on the other hand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, taking account of relevant cost determinants (cost inducers)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05B-C3EA-4AEF-B030-98C6601291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ibution to common cos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osting methodologie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hould provide for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 reasonable contribution to common costs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provision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forecast of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ost reduction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at result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from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more efficient combination of resources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76A-FCBA-4850-8ADB-780769440D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tages of cost-orientated </a:t>
            </a: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pric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ing allowed by </a:t>
            </a: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COSITU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981080"/>
            <a:ext cx="1447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 of network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Operation and maintenanc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981080"/>
            <a:ext cx="16002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Amortization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Equipment price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 of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1981080"/>
            <a:ext cx="16002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 of functiona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Identifiable direct and indirect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Other common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447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Unit endogenous cost of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Tax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Universal service oblig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1981080"/>
            <a:ext cx="17524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-orientated endogenous tari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Tariff rebal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USO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219320"/>
            <a:ext cx="8229600" cy="609480"/>
          </a:xfrm>
          <a:custGeom>
            <a:avLst/>
            <a:gdLst>
              <a:gd name="textAreaLeft" fmla="*/ 1285920 w 8229600"/>
              <a:gd name="textAreaRight" fmla="*/ 7201080 w 8229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475-E47D-4482-A0F5-4DECF67CDE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096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e:  The views expressed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 this paper are those of the author and do not necessarily represent the opinions of ITU or its members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terms and definitions used are the author’s own and can on no account be regarded as replacing the official ITU defin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267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pape-gorgui.toure@itu.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584-C899-40F2-B801-3D5EBC8389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ttom-up” or “Top-down”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ifference between these two metho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he cost o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work 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is determin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Bottom-up (“scorched node” or “earth node”): a fictitious network i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worked out from an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n estimate of traffic need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ased on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tatistical data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op-down: th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existing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network is the source of all information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modat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, the initial stage for the bottom-up 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CE6-737F-45EA-991D-384A19815C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ull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costs or incremental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 allocates all costs to all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cremen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 allocates a cost variation to the var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rom a previously established balance - i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ffic volume th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 terms of stri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 wi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ules of cost orientation, the incremen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 requires complete rotation on all services and an additional allocation of common co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lance operation (real or fictitious);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se i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ame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92C-CEFD-490E-9679-11EA847378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ull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costs or incremental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 market where several players are competing, it is in the interests of a service provider to apply the incremen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out rotation, to a given service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r is already competitive in the other services (“value chain” theor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ing a service by the incremen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 without rotation amounts to transferr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of that service to the oth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services (cro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idy!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economically speaking it is acceptable as long as it produces neither an increase in the price of the other services nor anti-competitive arbitrage, which make the market less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2BB-9B6D-4D88-9636-079E640ACF0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ull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costs or incremental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ev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d to determine costs and traffic, the COSITU model can accommodate th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, however, be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mized for use of real information from the accounts and technical data of real network operators with a view to equitable allocation of costs to the servic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enera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llectively or separat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ffected b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chnological cho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 directl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ervices sold – retail or wholes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262-CE9A-4EE1-9931-B7F171222F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djuste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reciation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(1/3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ne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accoun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telecommunication oper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nevertheless possible to take account of the natural evolution of the price of equipme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specific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adjust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4D1-9B33-45EC-BE5A-D466D78D5A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019920" cy="3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djuste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reciation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(2/3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also be taken into accoun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i="1" lang="en-GB" sz="2400" spc="-1" strike="noStrike" baseline="-25000">
                <a:solidFill>
                  <a:srgbClr val="008000"/>
                </a:solidFill>
                <a:latin typeface="Times New Roman"/>
              </a:rPr>
              <a:t>0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  i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value of one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DR in the national currency in the year of acquisition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i="1" lang="en-GB" sz="2400" spc="-1" strike="noStrike" baseline="-25000">
                <a:solidFill>
                  <a:srgbClr val="008000"/>
                </a:solidFill>
                <a:latin typeface="Times New Roman"/>
              </a:rPr>
              <a:t>n 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value of one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DR in the national currency in year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N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stically, the age of the equipment of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rdinar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lecommunication network is D/2 (half the li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52680" y="2133720"/>
                <a:ext cx="18288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821-D522-417B-ABBF-A7186A0DBE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djuste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reciation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(3/3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CC=AMO*((1+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D/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(1-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D/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–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where: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 = adjustment to curren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O = amortization allow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annual average growth rate in the price of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average annual rate of currency de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ci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A2A-C38B-43FB-8629-323B5595DF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ficiency (1/2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iciency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combining the following 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nstall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verage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nnual growth rat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in number of subscribers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replenishment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period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476-C5AA-48C7-BF31-EC191F00C5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ficiency (2/2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’= Max(0 ;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 - K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*[(1+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1]</a:t>
            </a:r>
            <a:r>
              <a:rPr b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K ’ is the idle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K is the difference between the installed capacity and the 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1" i="1" lang="en-GB" sz="2400" spc="-1" strike="noStrike" baseline="-25000">
                <a:solidFill>
                  <a:srgbClr val="008000"/>
                </a:solidFill>
                <a:latin typeface="Times New Roman"/>
              </a:rPr>
              <a:t>u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s the 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τ is the annual average growth rat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in the number of subscribers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N is th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necessary extension time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76D-FBFD-4AC8-8F51-15C96962D9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usalit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 of the local loop is not sensitive to variation in traffic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basic investment which serves the global net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 of the local loop must b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ver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custo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ough all the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D6F-D990-400C-9C39-6D2D78CA94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(urba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raff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d sole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of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hich the calculations are m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ween users located in the same local charging 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(interurba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raff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d sole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of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hich the calculations are m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tw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s located in different local charging are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ational outgoing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nd-user connected to the network of the operator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international gatewa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rrespondent located outside the natio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7CC-6B8A-43D2-A5C6-529D22CDCE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perating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and maintenance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Purchases and variations in stock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ransport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Outside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ervices 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sonn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xes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her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ncial and similar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ing prov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063-DCFF-4714-A55D-7939ACB8B8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st of capita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bined effect of debt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ditors dema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wners demand divid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atio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s an idea of current return 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investors often demand a retu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keeping with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il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national financial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612320" y="1407600"/>
            <a:ext cx="60696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t_profit /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4F1-1440-4CCA-945A-BEC0C65A0D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st of capita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apital asset pricing model (CAPM) gives an indication of how to determine a minimum return on equity in a given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47920" y="3381480"/>
                <a:ext cx="555624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sk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ate</m:t>
                                </m:r>
                              </m:sub>
                            </m:sSub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sub>
                        </m:sSub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sitivity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rke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isk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4B2-67C2-4739-937A-C5A9E752EC6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alculating BETA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TA of a stock corresponds to the slope of regression of its profitability as compared to that of the market, in other words, by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47920" y="2514600"/>
                <a:ext cx="5252760" cy="380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T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sSub>
                                              <m:e/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M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sSub>
                                              <m:e/>
                                              <m:sub>
                                                <m:r>
                                                  <m:t xml:space="preserve">M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CFA-4F5C-4533-8D95-1B8C442365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BETA of major European group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4" name="fig_25-6" descr=""/>
          <p:cNvPicPr/>
          <p:nvPr/>
        </p:nvPicPr>
        <p:blipFill>
          <a:blip r:embed="rId1"/>
          <a:stretch/>
        </p:blipFill>
        <p:spPr>
          <a:xfrm>
            <a:off x="0" y="1617840"/>
            <a:ext cx="8763120" cy="34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ED4-605E-40FC-993E-82571936D08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volution of risk premium in European marke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fig_27-3" descr="wpe7.gif (10629 octets)"/>
          <p:cNvPicPr/>
          <p:nvPr/>
        </p:nvPicPr>
        <p:blipFill>
          <a:blip r:embed="rId1"/>
          <a:stretch/>
        </p:blipFill>
        <p:spPr>
          <a:xfrm>
            <a:off x="571680" y="938160"/>
            <a:ext cx="8001000" cy="49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F30-F46B-4958-A7C5-9C9A38C6E53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volution of risk premium in emerging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market countri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fig_27-5" descr="wpe7.gif (10629 octets)"/>
          <p:cNvPicPr/>
          <p:nvPr/>
        </p:nvPicPr>
        <p:blipFill>
          <a:blip r:embed="rId1"/>
          <a:stretch/>
        </p:blipFill>
        <p:spPr>
          <a:xfrm>
            <a:off x="571680" y="938160"/>
            <a:ext cx="8001000" cy="49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FFF-3A59-4265-9C09-47105B102A4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BETA: conclusion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llowing shows that the CAPM is useful in calculating expected returns on equity only if there is abundant and reliable data pertaining to the market in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does not rely only on this approach, given the specificities of developing countr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has an additional approach, which is essentially a comparative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F91-2DC0-4CC3-8D35-1503BC0EE5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ome basic fac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kets in developing countries are exposed to adverse circumstances of all kinds, the effects of which are, for the most part, measured in terms of monetary ris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loans on these markets (in the telecommunication sector) are in convertible currenc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 investors in these markets also have investments in international financial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20D-9432-43B1-9C9E-A3677C9EC9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nsequenc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est rate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hard currency debts must be adjusted for the risk premium of the issuing markets and for local conditions using the currency depreciation ra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pected rate-of-return must also be adjusted, on the basis of indications from the international financial market or the owners’ market of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92E-E25D-4F1A-834F-968217A1C8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ming internat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ser located outside the na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ies 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connected to the network of the operator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international gatew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utgoing subreg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connected to the network of the operator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international gatewa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orrespondent located outside the na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n a country which can be accessed by terrestrial med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so used for tru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874-EA03-40DD-B72A-D45D4F2955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alculating the risk premium linked to currency depreciat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90920" y="42667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 = average duration of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 = currency de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isk – free money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86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447920" y="1676520"/>
                <a:ext cx="5715000" cy="24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ε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ε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DCC-E1BE-41D3-B913-D340CD5D73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Returns on equity: Europ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0" name="annexe_roe" descr=""/>
          <p:cNvPicPr/>
          <p:nvPr/>
        </p:nvPicPr>
        <p:blipFill>
          <a:blip r:embed="rId1"/>
          <a:srcRect l="7762" t="0" r="0" b="0"/>
          <a:stretch/>
        </p:blipFill>
        <p:spPr>
          <a:xfrm>
            <a:off x="685800" y="1981080"/>
            <a:ext cx="8153280" cy="326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872-3F87-449E-A381-5DA4E1AF53C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Global interest rat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2" name="fig_29-9" descr="wpe3.gif (11608 octets)"/>
          <p:cNvPicPr/>
          <p:nvPr/>
        </p:nvPicPr>
        <p:blipFill>
          <a:blip r:embed="rId1"/>
          <a:stretch/>
        </p:blipFill>
        <p:spPr>
          <a:xfrm>
            <a:off x="457200" y="1295280"/>
            <a:ext cx="8153280" cy="507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2E1-A7DC-4B3B-A668-69150405067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xampl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ing a telecommunication company expecting a return on equity of 6.6% in Europ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ing an interest rate of 5.8% over ten yea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rder for the enterprise to have an interest in investing in the market of a developing country where the differential currency depreciation rate is 3.5% per annum and to obtain the same return on capital in Euros over ten years, its expected rate of return in the local curr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need to be 10.93%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AAF-9EE2-4DD1-9992-78DBED5723E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he cost of capital: conclus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is able to calculate, assuming a preponderant risk of inflation for telecommunication companies in developing countries (sector risk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~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rket risk -&gt; BET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~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1), the essential components of the cost of capital as adjusted to local condi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after the traditional formula for the cost of capital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5764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971800" y="5029200"/>
                <a:ext cx="43815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7F9-3A96-4470-9E87-771EA458E09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pecial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special costs are easy to single out even where the operator does not have analytical cost accoun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Study of products and services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Charging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Advertising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Distribution network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Customer service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International activities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National activities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Provisions for bad debts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369-0943-452F-BBF3-91CC83E2878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Routing tabl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outing table is an essential instrument for cost-orientated charg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allows allocation to every service, according to the intensity of demand it places on each one, part of the resources needed for its produc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 driver used by COSITU is traffic volume (adjusted by the geographical correction coefficient) for network component cost al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453-8B04-42DD-A7AE-C57F1E65AEE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Unit costs and reference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 the basis of the routing table, COSITU allocates to services their share of each cost component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resulting cost of a service is divided by the corresponding real traffic volume in order to obtain the unit cost of the servic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t this stage, the COSITU server allows an online comparison with other telephone network operator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costs here are endogenous intrinsic costs which do not take into account the specific requirements of Sta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DA4-7485-4305-8D2A-57A569B0FE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Moving from costs to tariff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89F-A1A4-4B4C-9AC0-9092F134FA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Other tariff elements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egulatory authority may impose constraints on the prices practised by a telecommunication service provi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Profit tax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ontribution to universal service obligations (USO) 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ccess deficit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AA9-9A7E-4EAA-8920-00E4AF0D85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bregional inco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ser loca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a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n a country which can be accessed by terrestrial media also used for trunk traffic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connected to the network of the operator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international gatew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C92-B506-444E-9223-D2ACE05EC7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Profit tax (1/2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operator’s profits are distributed betwe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hareholders, through return on capital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State, through statutory taxation of profits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areholders often demand an after-tax return on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CEA-96E0-401F-B95A-54261995AE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Profit tax (2/2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73160" y="2743200"/>
                <a:ext cx="64627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nefit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vy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vy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uity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Equit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EC0-4DB6-4A4B-8F88-A97535890439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ntribution to universal service obligation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tate may require a deduction from an operator’s revenue for the purpose of financing USO co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Os may or may not be combined with the access defic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 applicable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447920" y="4505400"/>
                <a:ext cx="64008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O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nefit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2DA-9F3C-4D76-880B-CED2A36E426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ccess deficit (1/4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ccess deficit may occur when the regulatory authority opposes cost-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djustment of the following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connection charge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monthly subscription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price per minute of a local call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price per minute of a trunk call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CDF-8A11-4F10-9CD1-97DBCADF78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ccess deficit (2/4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redistributing the access deficit, it must be borne in mind that only local users pay the connection charge and monthly sub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ge per minute for outgoing calls should be redu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90640" y="4083120"/>
                <a:ext cx="7439040" cy="18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ubscribers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sf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bscr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'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206-8F53-4EEA-815B-4FFB42CF8C5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ccess deficit (3/4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mount of the access deficit is obtained by the following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1680" y="4267080"/>
                <a:ext cx="9210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cal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'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ca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cal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k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o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eff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2A3-4E3E-4BF6-82BF-6DB77CB779E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ccess deficit (4/4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D &gt; 0, the access deficit is reallocated to all telecommunication services provided by the operato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there is no deficit. The surplus may be allocated to local and trunk calls in order to reduce and rebalance their tariff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A15-64BD-4A14-8A1F-CB5A5B0D4B5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Generic formula for distribution of other tariff elemen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calculated, the profit tax, the access deficit and the contribution to universal service obligations must be allocated to the appropriate servi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eneric formula for this purpos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00200" y="3930480"/>
                <a:ext cx="5638680" cy="208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rif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ment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376-8348-4434-81BE-E3F7CBC723B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SITU assumption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al transit offered if the third parties to be interconnected can be accessed inside the same tariff area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(« Hot potatoe routing »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al traffic to/from international via a direct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link 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ernational transit cent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certain specific applications, the model may need slight external reprocessing; the necessary elements are avail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report on unit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D42-1501-43FC-A66F-35C5DAF4509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ners in a peering agreement can meet at several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sure parity of costs incurred, backbones adopt the "hot potato" routing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Hot potato" routing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52520" y="5334120"/>
            <a:ext cx="85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72440" y="4038480"/>
            <a:ext cx="85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257800"/>
            <a:ext cx="5105520" cy="60948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3886200"/>
            <a:ext cx="4876560" cy="68580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4089240"/>
            <a:ext cx="5181840" cy="1689120"/>
          </a:xfrm>
          <a:custGeom>
            <a:avLst/>
            <a:gdLst/>
            <a:ahLst/>
            <a:rect l="l" t="t" r="r" b="b"/>
            <a:pathLst>
              <a:path w="3264" h="1064">
                <a:moveTo>
                  <a:pt x="3264" y="112"/>
                </a:moveTo>
                <a:cubicBezTo>
                  <a:pt x="3108" y="56"/>
                  <a:pt x="2952" y="0"/>
                  <a:pt x="2928" y="112"/>
                </a:cubicBezTo>
                <a:cubicBezTo>
                  <a:pt x="2904" y="224"/>
                  <a:pt x="3136" y="632"/>
                  <a:pt x="3120" y="784"/>
                </a:cubicBezTo>
                <a:cubicBezTo>
                  <a:pt x="3104" y="936"/>
                  <a:pt x="3216" y="984"/>
                  <a:pt x="2832" y="1024"/>
                </a:cubicBezTo>
                <a:cubicBezTo>
                  <a:pt x="2448" y="1064"/>
                  <a:pt x="1288" y="1040"/>
                  <a:pt x="816" y="1024"/>
                </a:cubicBezTo>
                <a:cubicBezTo>
                  <a:pt x="344" y="1008"/>
                  <a:pt x="136" y="952"/>
                  <a:pt x="0" y="92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975120"/>
            <a:ext cx="5181840" cy="1752480"/>
          </a:xfrm>
          <a:custGeom>
            <a:avLst/>
            <a:gdLst/>
            <a:ahLst/>
            <a:rect l="l" t="t" r="r" b="b"/>
            <a:pathLst>
              <a:path w="3264" h="1104">
                <a:moveTo>
                  <a:pt x="0" y="952"/>
                </a:moveTo>
                <a:cubicBezTo>
                  <a:pt x="172" y="1028"/>
                  <a:pt x="344" y="1104"/>
                  <a:pt x="432" y="1000"/>
                </a:cubicBezTo>
                <a:cubicBezTo>
                  <a:pt x="520" y="896"/>
                  <a:pt x="216" y="488"/>
                  <a:pt x="528" y="328"/>
                </a:cubicBezTo>
                <a:cubicBezTo>
                  <a:pt x="840" y="168"/>
                  <a:pt x="1848" y="80"/>
                  <a:pt x="2304" y="40"/>
                </a:cubicBezTo>
                <a:cubicBezTo>
                  <a:pt x="2760" y="0"/>
                  <a:pt x="3112" y="80"/>
                  <a:pt x="3264" y="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886200"/>
            <a:ext cx="60984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3809880"/>
            <a:ext cx="533160" cy="221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5943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59436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BC0-6329-4DE5-A480-8D1DB6B863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national to internat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between two non-subregional international correspond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gateway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national to subregion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from a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n-subregional international correspondent to a subregional correspond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gateway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5C1-A128-4D1F-AA6C-E6EB46FE4B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Times New Roman"/>
              </a:rPr>
              <a:t>Interconnection of ISPs and mobiles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pe-gorgui.toure@itu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57150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Note – </a:t>
            </a:r>
            <a:r>
              <a:rPr b="0" i="1" lang="fr-CH" sz="1400" spc="-1" strike="noStrike">
                <a:solidFill>
                  <a:srgbClr val="000000"/>
                </a:solidFill>
                <a:latin typeface="Times New Roman"/>
              </a:rPr>
              <a:t>The views expressed in this paper are those of the author and do not necessarily represent the opinions of ITU and its memb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F6E-C9A0-4A0B-9D5D-3D76604C855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echnical requirements for interconnection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ition of interfaces in accordance with ITU-T recommendations (e.g. R2, SS7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ion of a physical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8000"/>
                </a:solidFill>
                <a:latin typeface="Times New Roman"/>
              </a:rPr>
              <a:t>Belonging to one of the parties;</a:t>
            </a:r>
            <a:endParaRPr b="1" i="1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8000"/>
                </a:solidFill>
                <a:latin typeface="Times New Roman"/>
              </a:rPr>
              <a:t>In co-ownership in accordance with the “half-circuit” regime;</a:t>
            </a:r>
            <a:endParaRPr b="1" i="1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8000"/>
                </a:solidFill>
                <a:latin typeface="Times New Roman"/>
              </a:rPr>
              <a:t>Composed of two one-way special bundles.</a:t>
            </a:r>
            <a:endParaRPr b="1" i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94C-E58D-4F27-8CB6-4B69EC5441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414520" y="1395360"/>
          <a:ext cx="47865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1395360"/>
                    <a:ext cx="47865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EB5-44BC-4015-B25F-D4285486921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Fixed network Access and switching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2119320"/>
          <a:ext cx="8610480" cy="26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19320"/>
                    <a:ext cx="861048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rot="16200000">
            <a:off x="7048440" y="39240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781000" y="2857320"/>
            <a:ext cx="457200" cy="5257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DD1-EA14-4139-8406-C54B5C7AB15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Mobile network Acces and switching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0880" y="1523880"/>
          <a:ext cx="84582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4582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 rot="16200000">
            <a:off x="2781000" y="2857320"/>
            <a:ext cx="457200" cy="5257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048440" y="39240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5FD-F678-45CB-A9A5-E8F8DE059E2D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pplication of COSITU to mobile network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ions of capacity and growth in mobile commun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BSC access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BSC traffic growth adjusted to growth of 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ation of average monthly subscription taking into account the weight of prepaid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C01-3612-44BC-81FA-A361BEE12FA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pecific responsibilities of NRA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terconnection interfaces must be clearly specified and publicly availa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be part of the specifications common to all operators and be recognized during the licence awarding proc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asic principles for calculating interconnection charges, including those relating to discounts for volume, should be public and common to all operato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ffect of the application of USO policies should be borne by all network operators on an equitable bas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in objective of interconnection should be to maximize the economic advantages of externalities and reduce service costs/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860-94D3-407D-B2DB-7680C4C693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Internet telephon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three ways of accessing the telephone network via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 dedicated link (including cyber cafes) with the ISP: no interconnection with other national operators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 domestic call terminating on a set of modems of an ISP connected to the Internet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 national call to a VoIP server connected to the Internet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s of providing an end-to-end service are different in each of the above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919-AB78-4562-893C-214F8BBA39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16120" y="2422440"/>
            <a:ext cx="5798880" cy="3971880"/>
            <a:chOff x="816120" y="2422440"/>
            <a:chExt cx="5798880" cy="3971880"/>
          </a:xfrm>
        </p:grpSpPr>
        <p:sp>
          <p:nvSpPr>
            <p:cNvPr id="229" name=""/>
            <p:cNvSpPr/>
            <p:nvPr/>
          </p:nvSpPr>
          <p:spPr>
            <a:xfrm>
              <a:off x="816120" y="2422440"/>
              <a:ext cx="5798880" cy="3971880"/>
            </a:xfrm>
            <a:custGeom>
              <a:avLst/>
              <a:gdLst/>
              <a:ahLst/>
              <a:rect l="l" t="t" r="r" b="b"/>
              <a:pathLst>
                <a:path w="7306" h="5003">
                  <a:moveTo>
                    <a:pt x="0" y="1459"/>
                  </a:moveTo>
                  <a:lnTo>
                    <a:pt x="4592" y="1459"/>
                  </a:lnTo>
                  <a:lnTo>
                    <a:pt x="4592" y="0"/>
                  </a:lnTo>
                  <a:lnTo>
                    <a:pt x="7306" y="0"/>
                  </a:lnTo>
                  <a:lnTo>
                    <a:pt x="7306" y="5003"/>
                  </a:lnTo>
                  <a:lnTo>
                    <a:pt x="0" y="5003"/>
                  </a:lnTo>
                  <a:lnTo>
                    <a:pt x="0" y="1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61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9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827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5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493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4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177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50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84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1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5236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8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9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2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8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20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39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8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20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5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8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24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5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90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3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7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905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24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75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92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25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59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92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256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60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940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27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60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9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868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95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28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636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97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302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97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5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987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2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53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0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33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668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00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338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68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0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35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0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6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703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03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36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7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0500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3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7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05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400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3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66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40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735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08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41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750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08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416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0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43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7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101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5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7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11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7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13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79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13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4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81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4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81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16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49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29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16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98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84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179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51400" y="3571920"/>
              <a:ext cx="79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459320" y="3538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459320" y="3505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459320" y="347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459320" y="34380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459320" y="3405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459320" y="3370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459320" y="3336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4459320" y="3303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459320" y="3270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4459320" y="32364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459320" y="320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459320" y="3168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459320" y="3134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459320" y="3102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459320" y="30686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459320" y="30351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459320" y="2999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459320" y="2967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459320" y="2933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459320" y="29005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459320" y="28670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459320" y="28335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459320" y="2798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459320" y="2765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459320" y="2731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459320" y="26989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459320" y="26654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459320" y="2630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459320" y="2596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459320" y="2563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459320" y="2530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459320" y="24966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59320" y="24638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459320" y="2428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704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03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370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05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3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38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72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052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38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721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07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40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36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06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402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75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08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41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0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43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7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10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43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7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1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7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11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4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79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134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4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80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14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48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815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84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83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16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500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8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166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51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850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8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5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8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19640" y="242244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5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86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19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546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88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2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133880" y="2422440"/>
            <a:ext cx="2482920" cy="3973680"/>
            <a:chOff x="4133880" y="2422440"/>
            <a:chExt cx="2482920" cy="3973680"/>
          </a:xfrm>
        </p:grpSpPr>
        <p:sp>
          <p:nvSpPr>
            <p:cNvPr id="430" name=""/>
            <p:cNvSpPr/>
            <p:nvPr/>
          </p:nvSpPr>
          <p:spPr>
            <a:xfrm>
              <a:off x="635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88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23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56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8972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23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563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91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15000" y="2432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15000" y="2465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15000" y="2500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15000" y="2533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256716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15000" y="2600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15000" y="2633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5000" y="2666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15000" y="2701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5000" y="2735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15000" y="2768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15000" y="2801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15000" y="2835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15000" y="2868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15000" y="2903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2936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15000" y="2970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15000" y="3003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15000" y="3036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3071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15000" y="3105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15000" y="3138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15000" y="3171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5000" y="3205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15000" y="3238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15000" y="3273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15000" y="3306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15000" y="3340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15000" y="3373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15000" y="3406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15000" y="3441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15000" y="3475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15000" y="3508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15000" y="3541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15000" y="3575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15000" y="3608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15000" y="3643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5000" y="3676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15000" y="3710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15000" y="3743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15000" y="3776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15000" y="3809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15000" y="3844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15000" y="3878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15000" y="3911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15000" y="3944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15000" y="3978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15000" y="4013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15000" y="4046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15000" y="4079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15000" y="4113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15000" y="4146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15000" y="4179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15000" y="4214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15000" y="4248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15000" y="4281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15000" y="4314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15000" y="4348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15000" y="4381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15000" y="4416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15000" y="4449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15000" y="4483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15000" y="4516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15000" y="4549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15000" y="4584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15000" y="4618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15000" y="4651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15000" y="4684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15000" y="4718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15000" y="4751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15000" y="4786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15000" y="4819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15000" y="4853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5000" y="4886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15000" y="4919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15000" y="4952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4987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15000" y="5021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15000" y="5054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15000" y="5087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15000" y="5121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15000" y="5156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15000" y="5189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15000" y="5222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15000" y="5256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15000" y="5289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15000" y="5322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15000" y="5357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15000" y="5391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15000" y="5424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15000" y="5457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15000" y="5491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15000" y="5524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15000" y="5559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15000" y="5592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15000" y="5626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15000" y="5659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15000" y="5692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15000" y="5727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15000" y="5761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15000" y="5794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15000" y="5827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15000" y="5861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15000" y="5894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5000" y="5929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15000" y="5962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15000" y="5996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15000" y="6029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15000" y="6062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15000" y="6095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15000" y="6130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15000" y="6164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15000" y="6197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15000" y="6230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15000" y="6264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15000" y="6299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15000" y="6332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15000" y="6365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590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55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24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49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45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42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38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635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32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289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25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2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18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154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12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08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05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01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98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9526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91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88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85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81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783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74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716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68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64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5614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58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5548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51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5481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44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412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38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534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53132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527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24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521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178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14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11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076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043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5010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97628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94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4908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487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4842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8070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773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7397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707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673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638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4605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57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538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4505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470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436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40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370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43369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430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268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423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42022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16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13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816120" y="1380960"/>
            <a:ext cx="5441760" cy="5015160"/>
            <a:chOff x="816120" y="1380960"/>
            <a:chExt cx="5441760" cy="5015160"/>
          </a:xfrm>
        </p:grpSpPr>
        <p:sp>
          <p:nvSpPr>
            <p:cNvPr id="631" name=""/>
            <p:cNvSpPr/>
            <p:nvPr/>
          </p:nvSpPr>
          <p:spPr>
            <a:xfrm flipH="1">
              <a:off x="4100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067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033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9985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96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32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89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3865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8307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796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37634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730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6972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661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629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359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56184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529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494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3460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342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94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360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32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292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258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225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1910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15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123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90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3057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30222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989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9559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922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889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854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820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7871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754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7208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685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652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61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5855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55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517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484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45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2417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23839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34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316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228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249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2147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218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1474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114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208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045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201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979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1946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191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187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84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18108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177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1744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170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167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164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1609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7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54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50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47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144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14061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37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133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130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27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238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120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117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113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110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106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3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1003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96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93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90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86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6120" y="6380280"/>
              <a:ext cx="144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816120" y="6346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816120" y="6311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816120" y="6278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816120" y="6245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816120" y="6211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816120" y="6178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816120" y="6143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816120" y="6109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816120" y="6076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816120" y="6043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816120" y="6010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816120" y="5977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816120" y="5942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816120" y="5908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816120" y="5874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816120" y="5842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816120" y="5808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816120" y="5775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816120" y="5740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816120" y="5707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816120" y="5673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816120" y="5640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816120" y="5607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816120" y="5571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816120" y="5538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816120" y="5505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16120" y="5471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16120" y="5438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816120" y="5405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816120" y="5370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816120" y="5336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16120" y="5303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816120" y="5270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816120" y="5237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16120" y="5203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816120" y="5168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816120" y="5135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816120" y="5102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816120" y="5068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816120" y="5035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816120" y="5000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16120" y="4966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16120" y="4933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816120" y="4900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816120" y="4867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816120" y="4834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816120" y="4799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816120" y="4765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16120" y="4731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816120" y="4699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816120" y="4665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816120" y="4632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16120" y="4597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816120" y="4564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16120" y="4530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816120" y="4497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16120" y="4464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816120" y="4428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816120" y="4395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816120" y="4362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816120" y="4328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816120" y="4295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816120" y="4262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16120" y="4227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816120" y="4193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16120" y="4160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816120" y="4127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816120" y="4094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816120" y="4060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16120" y="4025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16120" y="3992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16120" y="3959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816120" y="3925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816120" y="3892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816120" y="3857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816120" y="3823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816120" y="3790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816120" y="3757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816120" y="3724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16120" y="3691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816120" y="3656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816120" y="3622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816120" y="3588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30960" y="4233960"/>
              <a:ext cx="4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65800" y="4622760"/>
              <a:ext cx="1555560" cy="233280"/>
            </a:xfrm>
            <a:custGeom>
              <a:avLst/>
              <a:gdLst/>
              <a:ahLst/>
              <a:rect l="l" t="t" r="r" b="b"/>
              <a:pathLst>
                <a:path w="1960" h="293">
                  <a:moveTo>
                    <a:pt x="72" y="276"/>
                  </a:moveTo>
                  <a:lnTo>
                    <a:pt x="60" y="272"/>
                  </a:lnTo>
                  <a:lnTo>
                    <a:pt x="47" y="262"/>
                  </a:lnTo>
                  <a:lnTo>
                    <a:pt x="37" y="247"/>
                  </a:lnTo>
                  <a:lnTo>
                    <a:pt x="30" y="226"/>
                  </a:lnTo>
                  <a:lnTo>
                    <a:pt x="23" y="202"/>
                  </a:lnTo>
                  <a:lnTo>
                    <a:pt x="19" y="175"/>
                  </a:lnTo>
                  <a:lnTo>
                    <a:pt x="17" y="147"/>
                  </a:lnTo>
                  <a:lnTo>
                    <a:pt x="19" y="119"/>
                  </a:lnTo>
                  <a:lnTo>
                    <a:pt x="23" y="92"/>
                  </a:lnTo>
                  <a:lnTo>
                    <a:pt x="30" y="67"/>
                  </a:lnTo>
                  <a:lnTo>
                    <a:pt x="37" y="46"/>
                  </a:lnTo>
                  <a:lnTo>
                    <a:pt x="47" y="32"/>
                  </a:lnTo>
                  <a:lnTo>
                    <a:pt x="60" y="22"/>
                  </a:lnTo>
                  <a:lnTo>
                    <a:pt x="72" y="18"/>
                  </a:lnTo>
                  <a:lnTo>
                    <a:pt x="85" y="22"/>
                  </a:lnTo>
                  <a:lnTo>
                    <a:pt x="97" y="32"/>
                  </a:lnTo>
                  <a:lnTo>
                    <a:pt x="106" y="46"/>
                  </a:lnTo>
                  <a:lnTo>
                    <a:pt x="115" y="67"/>
                  </a:lnTo>
                  <a:lnTo>
                    <a:pt x="122" y="92"/>
                  </a:lnTo>
                  <a:lnTo>
                    <a:pt x="125" y="119"/>
                  </a:lnTo>
                  <a:lnTo>
                    <a:pt x="127" y="147"/>
                  </a:lnTo>
                  <a:lnTo>
                    <a:pt x="125" y="175"/>
                  </a:lnTo>
                  <a:lnTo>
                    <a:pt x="122" y="202"/>
                  </a:lnTo>
                  <a:lnTo>
                    <a:pt x="115" y="226"/>
                  </a:lnTo>
                  <a:lnTo>
                    <a:pt x="106" y="247"/>
                  </a:lnTo>
                  <a:lnTo>
                    <a:pt x="97" y="262"/>
                  </a:lnTo>
                  <a:lnTo>
                    <a:pt x="85" y="272"/>
                  </a:lnTo>
                  <a:lnTo>
                    <a:pt x="72" y="276"/>
                  </a:lnTo>
                  <a:close/>
                  <a:moveTo>
                    <a:pt x="72" y="0"/>
                  </a:moveTo>
                  <a:lnTo>
                    <a:pt x="1887" y="0"/>
                  </a:lnTo>
                  <a:lnTo>
                    <a:pt x="1903" y="4"/>
                  </a:lnTo>
                  <a:lnTo>
                    <a:pt x="1917" y="13"/>
                  </a:lnTo>
                  <a:lnTo>
                    <a:pt x="1930" y="29"/>
                  </a:lnTo>
                  <a:lnTo>
                    <a:pt x="1942" y="48"/>
                  </a:lnTo>
                  <a:lnTo>
                    <a:pt x="1951" y="73"/>
                  </a:lnTo>
                  <a:lnTo>
                    <a:pt x="1958" y="101"/>
                  </a:lnTo>
                  <a:lnTo>
                    <a:pt x="1960" y="131"/>
                  </a:lnTo>
                  <a:lnTo>
                    <a:pt x="1960" y="163"/>
                  </a:lnTo>
                  <a:lnTo>
                    <a:pt x="1958" y="193"/>
                  </a:lnTo>
                  <a:lnTo>
                    <a:pt x="1951" y="221"/>
                  </a:lnTo>
                  <a:lnTo>
                    <a:pt x="1942" y="246"/>
                  </a:lnTo>
                  <a:lnTo>
                    <a:pt x="1930" y="265"/>
                  </a:lnTo>
                  <a:lnTo>
                    <a:pt x="1917" y="281"/>
                  </a:lnTo>
                  <a:lnTo>
                    <a:pt x="1903" y="290"/>
                  </a:lnTo>
                  <a:lnTo>
                    <a:pt x="1887" y="293"/>
                  </a:lnTo>
                  <a:lnTo>
                    <a:pt x="72" y="293"/>
                  </a:lnTo>
                  <a:lnTo>
                    <a:pt x="56" y="290"/>
                  </a:lnTo>
                  <a:lnTo>
                    <a:pt x="42" y="281"/>
                  </a:lnTo>
                  <a:lnTo>
                    <a:pt x="28" y="265"/>
                  </a:lnTo>
                  <a:lnTo>
                    <a:pt x="17" y="246"/>
                  </a:lnTo>
                  <a:lnTo>
                    <a:pt x="9" y="221"/>
                  </a:lnTo>
                  <a:lnTo>
                    <a:pt x="1" y="193"/>
                  </a:lnTo>
                  <a:lnTo>
                    <a:pt x="0" y="163"/>
                  </a:lnTo>
                  <a:lnTo>
                    <a:pt x="0" y="131"/>
                  </a:lnTo>
                  <a:lnTo>
                    <a:pt x="1" y="101"/>
                  </a:lnTo>
                  <a:lnTo>
                    <a:pt x="9" y="73"/>
                  </a:lnTo>
                  <a:lnTo>
                    <a:pt x="17" y="48"/>
                  </a:lnTo>
                  <a:lnTo>
                    <a:pt x="28" y="29"/>
                  </a:lnTo>
                  <a:lnTo>
                    <a:pt x="42" y="13"/>
                  </a:lnTo>
                  <a:lnTo>
                    <a:pt x="56" y="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614760" y="4738680"/>
              <a:ext cx="162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62520" y="4738680"/>
              <a:ext cx="379440" cy="777960"/>
            </a:xfrm>
            <a:custGeom>
              <a:avLst/>
              <a:gdLst/>
              <a:ahLst/>
              <a:rect l="l" t="t" r="r" b="b"/>
              <a:pathLst>
                <a:path w="479" h="979">
                  <a:moveTo>
                    <a:pt x="0" y="979"/>
                  </a:moveTo>
                  <a:lnTo>
                    <a:pt x="0" y="0"/>
                  </a:lnTo>
                  <a:lnTo>
                    <a:pt x="47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41960" y="4738680"/>
              <a:ext cx="182520" cy="777960"/>
            </a:xfrm>
            <a:custGeom>
              <a:avLst/>
              <a:gdLst/>
              <a:ahLst/>
              <a:rect l="l" t="t" r="r" b="b"/>
              <a:pathLst>
                <a:path w="230" h="979">
                  <a:moveTo>
                    <a:pt x="230" y="979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5241960" y="4738680"/>
              <a:ext cx="3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41960" y="3656160"/>
              <a:ext cx="253800" cy="1082520"/>
            </a:xfrm>
            <a:custGeom>
              <a:avLst/>
              <a:gdLst/>
              <a:ahLst/>
              <a:rect l="l" t="t" r="r" b="b"/>
              <a:pathLst>
                <a:path w="320" h="1364">
                  <a:moveTo>
                    <a:pt x="320" y="0"/>
                  </a:moveTo>
                  <a:lnTo>
                    <a:pt x="320" y="1364"/>
                  </a:lnTo>
                  <a:lnTo>
                    <a:pt x="0" y="1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13440" y="4738680"/>
              <a:ext cx="128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5241960" y="4738680"/>
              <a:ext cx="1015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35360" y="4675320"/>
              <a:ext cx="1216080" cy="128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05200" y="4683240"/>
              <a:ext cx="1128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P INTERNET BACKB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11120" y="1380960"/>
              <a:ext cx="2573640" cy="1295640"/>
            </a:xfrm>
            <a:custGeom>
              <a:avLst/>
              <a:gdLst/>
              <a:ahLst/>
              <a:rect l="l" t="t" r="r" b="b"/>
              <a:pathLst>
                <a:path w="3241" h="1630">
                  <a:moveTo>
                    <a:pt x="477" y="1210"/>
                  </a:moveTo>
                  <a:lnTo>
                    <a:pt x="514" y="1274"/>
                  </a:lnTo>
                  <a:lnTo>
                    <a:pt x="555" y="1334"/>
                  </a:lnTo>
                  <a:lnTo>
                    <a:pt x="602" y="1389"/>
                  </a:lnTo>
                  <a:lnTo>
                    <a:pt x="654" y="1440"/>
                  </a:lnTo>
                  <a:lnTo>
                    <a:pt x="708" y="1486"/>
                  </a:lnTo>
                  <a:lnTo>
                    <a:pt x="769" y="1525"/>
                  </a:lnTo>
                  <a:lnTo>
                    <a:pt x="830" y="1558"/>
                  </a:lnTo>
                  <a:lnTo>
                    <a:pt x="896" y="1586"/>
                  </a:lnTo>
                  <a:lnTo>
                    <a:pt x="963" y="1608"/>
                  </a:lnTo>
                  <a:lnTo>
                    <a:pt x="1030" y="1622"/>
                  </a:lnTo>
                  <a:lnTo>
                    <a:pt x="1101" y="1630"/>
                  </a:lnTo>
                  <a:lnTo>
                    <a:pt x="1170" y="1630"/>
                  </a:lnTo>
                  <a:lnTo>
                    <a:pt x="1239" y="1625"/>
                  </a:lnTo>
                  <a:lnTo>
                    <a:pt x="1308" y="1613"/>
                  </a:lnTo>
                  <a:lnTo>
                    <a:pt x="1377" y="1593"/>
                  </a:lnTo>
                  <a:lnTo>
                    <a:pt x="1442" y="1567"/>
                  </a:lnTo>
                  <a:lnTo>
                    <a:pt x="1504" y="1535"/>
                  </a:lnTo>
                  <a:lnTo>
                    <a:pt x="1564" y="1496"/>
                  </a:lnTo>
                  <a:lnTo>
                    <a:pt x="1620" y="1452"/>
                  </a:lnTo>
                  <a:lnTo>
                    <a:pt x="1677" y="1496"/>
                  </a:lnTo>
                  <a:lnTo>
                    <a:pt x="1737" y="1535"/>
                  </a:lnTo>
                  <a:lnTo>
                    <a:pt x="1801" y="1567"/>
                  </a:lnTo>
                  <a:lnTo>
                    <a:pt x="1866" y="1593"/>
                  </a:lnTo>
                  <a:lnTo>
                    <a:pt x="1933" y="1613"/>
                  </a:lnTo>
                  <a:lnTo>
                    <a:pt x="2002" y="1625"/>
                  </a:lnTo>
                  <a:lnTo>
                    <a:pt x="2071" y="1630"/>
                  </a:lnTo>
                  <a:lnTo>
                    <a:pt x="2142" y="1630"/>
                  </a:lnTo>
                  <a:lnTo>
                    <a:pt x="2211" y="1622"/>
                  </a:lnTo>
                  <a:lnTo>
                    <a:pt x="2280" y="1608"/>
                  </a:lnTo>
                  <a:lnTo>
                    <a:pt x="2345" y="1586"/>
                  </a:lnTo>
                  <a:lnTo>
                    <a:pt x="2410" y="1558"/>
                  </a:lnTo>
                  <a:lnTo>
                    <a:pt x="2472" y="1525"/>
                  </a:lnTo>
                  <a:lnTo>
                    <a:pt x="2532" y="1486"/>
                  </a:lnTo>
                  <a:lnTo>
                    <a:pt x="2587" y="1440"/>
                  </a:lnTo>
                  <a:lnTo>
                    <a:pt x="2638" y="1389"/>
                  </a:lnTo>
                  <a:lnTo>
                    <a:pt x="2686" y="1334"/>
                  </a:lnTo>
                  <a:lnTo>
                    <a:pt x="2727" y="1274"/>
                  </a:lnTo>
                  <a:lnTo>
                    <a:pt x="2764" y="1210"/>
                  </a:lnTo>
                  <a:lnTo>
                    <a:pt x="2813" y="1219"/>
                  </a:lnTo>
                  <a:lnTo>
                    <a:pt x="2863" y="1223"/>
                  </a:lnTo>
                  <a:lnTo>
                    <a:pt x="2912" y="1219"/>
                  </a:lnTo>
                  <a:lnTo>
                    <a:pt x="2960" y="1209"/>
                  </a:lnTo>
                  <a:lnTo>
                    <a:pt x="3008" y="1191"/>
                  </a:lnTo>
                  <a:lnTo>
                    <a:pt x="3052" y="1168"/>
                  </a:lnTo>
                  <a:lnTo>
                    <a:pt x="3093" y="1138"/>
                  </a:lnTo>
                  <a:lnTo>
                    <a:pt x="3130" y="1103"/>
                  </a:lnTo>
                  <a:lnTo>
                    <a:pt x="3163" y="1062"/>
                  </a:lnTo>
                  <a:lnTo>
                    <a:pt x="3190" y="1018"/>
                  </a:lnTo>
                  <a:lnTo>
                    <a:pt x="3211" y="970"/>
                  </a:lnTo>
                  <a:lnTo>
                    <a:pt x="3227" y="919"/>
                  </a:lnTo>
                  <a:lnTo>
                    <a:pt x="3238" y="868"/>
                  </a:lnTo>
                  <a:lnTo>
                    <a:pt x="3241" y="815"/>
                  </a:lnTo>
                  <a:lnTo>
                    <a:pt x="3238" y="762"/>
                  </a:lnTo>
                  <a:lnTo>
                    <a:pt x="3227" y="709"/>
                  </a:lnTo>
                  <a:lnTo>
                    <a:pt x="3211" y="660"/>
                  </a:lnTo>
                  <a:lnTo>
                    <a:pt x="3190" y="612"/>
                  </a:lnTo>
                  <a:lnTo>
                    <a:pt x="3163" y="568"/>
                  </a:lnTo>
                  <a:lnTo>
                    <a:pt x="3130" y="528"/>
                  </a:lnTo>
                  <a:lnTo>
                    <a:pt x="3093" y="492"/>
                  </a:lnTo>
                  <a:lnTo>
                    <a:pt x="3052" y="462"/>
                  </a:lnTo>
                  <a:lnTo>
                    <a:pt x="3008" y="439"/>
                  </a:lnTo>
                  <a:lnTo>
                    <a:pt x="2960" y="422"/>
                  </a:lnTo>
                  <a:lnTo>
                    <a:pt x="2912" y="411"/>
                  </a:lnTo>
                  <a:lnTo>
                    <a:pt x="2863" y="407"/>
                  </a:lnTo>
                  <a:lnTo>
                    <a:pt x="2813" y="409"/>
                  </a:lnTo>
                  <a:lnTo>
                    <a:pt x="2764" y="420"/>
                  </a:lnTo>
                  <a:lnTo>
                    <a:pt x="2727" y="356"/>
                  </a:lnTo>
                  <a:lnTo>
                    <a:pt x="2686" y="296"/>
                  </a:lnTo>
                  <a:lnTo>
                    <a:pt x="2638" y="242"/>
                  </a:lnTo>
                  <a:lnTo>
                    <a:pt x="2587" y="190"/>
                  </a:lnTo>
                  <a:lnTo>
                    <a:pt x="2532" y="145"/>
                  </a:lnTo>
                  <a:lnTo>
                    <a:pt x="2472" y="106"/>
                  </a:lnTo>
                  <a:lnTo>
                    <a:pt x="2410" y="70"/>
                  </a:lnTo>
                  <a:lnTo>
                    <a:pt x="2345" y="44"/>
                  </a:lnTo>
                  <a:lnTo>
                    <a:pt x="2280" y="23"/>
                  </a:lnTo>
                  <a:lnTo>
                    <a:pt x="2211" y="7"/>
                  </a:lnTo>
                  <a:lnTo>
                    <a:pt x="2142" y="0"/>
                  </a:lnTo>
                  <a:lnTo>
                    <a:pt x="2071" y="0"/>
                  </a:lnTo>
                  <a:lnTo>
                    <a:pt x="2002" y="5"/>
                  </a:lnTo>
                  <a:lnTo>
                    <a:pt x="1933" y="17"/>
                  </a:lnTo>
                  <a:lnTo>
                    <a:pt x="1866" y="37"/>
                  </a:lnTo>
                  <a:lnTo>
                    <a:pt x="1801" y="63"/>
                  </a:lnTo>
                  <a:lnTo>
                    <a:pt x="1737" y="95"/>
                  </a:lnTo>
                  <a:lnTo>
                    <a:pt x="1677" y="134"/>
                  </a:lnTo>
                  <a:lnTo>
                    <a:pt x="1620" y="178"/>
                  </a:lnTo>
                  <a:lnTo>
                    <a:pt x="1564" y="134"/>
                  </a:lnTo>
                  <a:lnTo>
                    <a:pt x="1504" y="95"/>
                  </a:lnTo>
                  <a:lnTo>
                    <a:pt x="1442" y="63"/>
                  </a:lnTo>
                  <a:lnTo>
                    <a:pt x="1377" y="37"/>
                  </a:lnTo>
                  <a:lnTo>
                    <a:pt x="1308" y="17"/>
                  </a:lnTo>
                  <a:lnTo>
                    <a:pt x="1239" y="5"/>
                  </a:lnTo>
                  <a:lnTo>
                    <a:pt x="1170" y="0"/>
                  </a:lnTo>
                  <a:lnTo>
                    <a:pt x="1101" y="0"/>
                  </a:lnTo>
                  <a:lnTo>
                    <a:pt x="1030" y="7"/>
                  </a:lnTo>
                  <a:lnTo>
                    <a:pt x="963" y="23"/>
                  </a:lnTo>
                  <a:lnTo>
                    <a:pt x="896" y="44"/>
                  </a:lnTo>
                  <a:lnTo>
                    <a:pt x="830" y="70"/>
                  </a:lnTo>
                  <a:lnTo>
                    <a:pt x="769" y="106"/>
                  </a:lnTo>
                  <a:lnTo>
                    <a:pt x="708" y="145"/>
                  </a:lnTo>
                  <a:lnTo>
                    <a:pt x="654" y="190"/>
                  </a:lnTo>
                  <a:lnTo>
                    <a:pt x="602" y="242"/>
                  </a:lnTo>
                  <a:lnTo>
                    <a:pt x="555" y="296"/>
                  </a:lnTo>
                  <a:lnTo>
                    <a:pt x="514" y="356"/>
                  </a:lnTo>
                  <a:lnTo>
                    <a:pt x="477" y="420"/>
                  </a:lnTo>
                  <a:lnTo>
                    <a:pt x="427" y="409"/>
                  </a:lnTo>
                  <a:lnTo>
                    <a:pt x="378" y="407"/>
                  </a:lnTo>
                  <a:lnTo>
                    <a:pt x="329" y="411"/>
                  </a:lnTo>
                  <a:lnTo>
                    <a:pt x="281" y="422"/>
                  </a:lnTo>
                  <a:lnTo>
                    <a:pt x="233" y="439"/>
                  </a:lnTo>
                  <a:lnTo>
                    <a:pt x="189" y="462"/>
                  </a:lnTo>
                  <a:lnTo>
                    <a:pt x="148" y="492"/>
                  </a:lnTo>
                  <a:lnTo>
                    <a:pt x="111" y="528"/>
                  </a:lnTo>
                  <a:lnTo>
                    <a:pt x="79" y="568"/>
                  </a:lnTo>
                  <a:lnTo>
                    <a:pt x="51" y="612"/>
                  </a:lnTo>
                  <a:lnTo>
                    <a:pt x="30" y="660"/>
                  </a:lnTo>
                  <a:lnTo>
                    <a:pt x="14" y="709"/>
                  </a:lnTo>
                  <a:lnTo>
                    <a:pt x="3" y="762"/>
                  </a:lnTo>
                  <a:lnTo>
                    <a:pt x="0" y="815"/>
                  </a:lnTo>
                  <a:lnTo>
                    <a:pt x="3" y="868"/>
                  </a:lnTo>
                  <a:lnTo>
                    <a:pt x="14" y="919"/>
                  </a:lnTo>
                  <a:lnTo>
                    <a:pt x="30" y="970"/>
                  </a:lnTo>
                  <a:lnTo>
                    <a:pt x="51" y="1018"/>
                  </a:lnTo>
                  <a:lnTo>
                    <a:pt x="79" y="1062"/>
                  </a:lnTo>
                  <a:lnTo>
                    <a:pt x="111" y="1103"/>
                  </a:lnTo>
                  <a:lnTo>
                    <a:pt x="148" y="1138"/>
                  </a:lnTo>
                  <a:lnTo>
                    <a:pt x="189" y="1168"/>
                  </a:lnTo>
                  <a:lnTo>
                    <a:pt x="233" y="1191"/>
                  </a:lnTo>
                  <a:lnTo>
                    <a:pt x="281" y="1209"/>
                  </a:lnTo>
                  <a:lnTo>
                    <a:pt x="329" y="1219"/>
                  </a:lnTo>
                  <a:lnTo>
                    <a:pt x="378" y="1223"/>
                  </a:lnTo>
                  <a:lnTo>
                    <a:pt x="427" y="1219"/>
                  </a:lnTo>
                  <a:lnTo>
                    <a:pt x="477" y="121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59720" y="18288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NAT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99320" y="2025720"/>
              <a:ext cx="85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95360" y="3879720"/>
              <a:ext cx="166680" cy="1987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3892680"/>
              <a:ext cx="49320" cy="17280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6"/>
                  </a:lnTo>
                  <a:lnTo>
                    <a:pt x="62" y="171"/>
                  </a:lnTo>
                  <a:lnTo>
                    <a:pt x="62" y="210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0"/>
                  </a:lnTo>
                  <a:lnTo>
                    <a:pt x="0" y="171"/>
                  </a:lnTo>
                  <a:lnTo>
                    <a:pt x="9" y="156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71680" y="3892680"/>
              <a:ext cx="75960" cy="172800"/>
            </a:xfrm>
            <a:custGeom>
              <a:avLst/>
              <a:gdLst/>
              <a:ahLst/>
              <a:rect l="l" t="t" r="r" b="b"/>
              <a:pathLst>
                <a:path w="96" h="219">
                  <a:moveTo>
                    <a:pt x="0" y="78"/>
                  </a:moveTo>
                  <a:lnTo>
                    <a:pt x="43" y="78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2" y="78"/>
                  </a:moveTo>
                  <a:lnTo>
                    <a:pt x="96" y="78"/>
                  </a:lnTo>
                  <a:lnTo>
                    <a:pt x="96" y="0"/>
                  </a:lnTo>
                  <a:lnTo>
                    <a:pt x="52" y="0"/>
                  </a:lnTo>
                  <a:lnTo>
                    <a:pt x="52" y="78"/>
                  </a:lnTo>
                  <a:close/>
                  <a:moveTo>
                    <a:pt x="0" y="219"/>
                  </a:moveTo>
                  <a:lnTo>
                    <a:pt x="96" y="219"/>
                  </a:lnTo>
                  <a:lnTo>
                    <a:pt x="96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71680" y="3990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000080" y="272880"/>
            <a:ext cx="7134120" cy="6121440"/>
            <a:chOff x="1000080" y="272880"/>
            <a:chExt cx="7134120" cy="6121440"/>
          </a:xfrm>
        </p:grpSpPr>
        <p:sp>
          <p:nvSpPr>
            <p:cNvPr id="832" name=""/>
            <p:cNvSpPr/>
            <p:nvPr/>
          </p:nvSpPr>
          <p:spPr>
            <a:xfrm>
              <a:off x="1471680" y="39844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71680" y="39783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71680" y="39718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71680" y="396540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12720" y="390672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12720" y="393876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12720" y="392256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71680" y="390672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71680" y="3938760"/>
              <a:ext cx="33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71680" y="392256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71680" y="404964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471680" y="403560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71680" y="4017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522440" y="4002120"/>
              <a:ext cx="14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496880" y="4002120"/>
              <a:ext cx="18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249200" y="4116240"/>
              <a:ext cx="459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97440" y="412416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52800" y="438120"/>
              <a:ext cx="496800" cy="495360"/>
            </a:xfrm>
            <a:custGeom>
              <a:avLst/>
              <a:gdLst/>
              <a:ahLst/>
              <a:rect l="l" t="t" r="r" b="b"/>
              <a:pathLst>
                <a:path w="626" h="625">
                  <a:moveTo>
                    <a:pt x="136" y="412"/>
                  </a:moveTo>
                  <a:lnTo>
                    <a:pt x="0" y="412"/>
                  </a:lnTo>
                  <a:lnTo>
                    <a:pt x="0" y="625"/>
                  </a:lnTo>
                  <a:lnTo>
                    <a:pt x="626" y="625"/>
                  </a:lnTo>
                  <a:lnTo>
                    <a:pt x="626" y="412"/>
                  </a:lnTo>
                  <a:lnTo>
                    <a:pt x="488" y="412"/>
                  </a:lnTo>
                  <a:lnTo>
                    <a:pt x="488" y="382"/>
                  </a:lnTo>
                  <a:lnTo>
                    <a:pt x="548" y="382"/>
                  </a:lnTo>
                  <a:lnTo>
                    <a:pt x="548" y="0"/>
                  </a:lnTo>
                  <a:lnTo>
                    <a:pt x="78" y="0"/>
                  </a:lnTo>
                  <a:lnTo>
                    <a:pt x="78" y="382"/>
                  </a:lnTo>
                  <a:lnTo>
                    <a:pt x="136" y="382"/>
                  </a:lnTo>
                  <a:lnTo>
                    <a:pt x="136" y="41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60800" y="76356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60800" y="73980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08400" y="779400"/>
              <a:ext cx="201600" cy="138240"/>
            </a:xfrm>
            <a:custGeom>
              <a:avLst/>
              <a:gdLst/>
              <a:ahLst/>
              <a:rect l="l" t="t" r="r" b="b"/>
              <a:pathLst>
                <a:path w="254" h="175">
                  <a:moveTo>
                    <a:pt x="0" y="175"/>
                  </a:moveTo>
                  <a:lnTo>
                    <a:pt x="206" y="175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175"/>
                  </a:lnTo>
                  <a:close/>
                  <a:moveTo>
                    <a:pt x="226" y="28"/>
                  </a:moveTo>
                  <a:lnTo>
                    <a:pt x="254" y="28"/>
                  </a:lnTo>
                  <a:lnTo>
                    <a:pt x="254" y="0"/>
                  </a:lnTo>
                  <a:lnTo>
                    <a:pt x="226" y="0"/>
                  </a:lnTo>
                  <a:lnTo>
                    <a:pt x="22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08400" y="82548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08400" y="87156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316320" y="849240"/>
              <a:ext cx="147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02000" y="833400"/>
              <a:ext cx="4608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68640" y="473040"/>
              <a:ext cx="465120" cy="333360"/>
            </a:xfrm>
            <a:custGeom>
              <a:avLst/>
              <a:gdLst/>
              <a:ahLst/>
              <a:rect l="l" t="t" r="r" b="b"/>
              <a:pathLst>
                <a:path w="587" h="420">
                  <a:moveTo>
                    <a:pt x="492" y="300"/>
                  </a:moveTo>
                  <a:lnTo>
                    <a:pt x="513" y="300"/>
                  </a:lnTo>
                  <a:lnTo>
                    <a:pt x="513" y="292"/>
                  </a:lnTo>
                  <a:lnTo>
                    <a:pt x="492" y="292"/>
                  </a:lnTo>
                  <a:lnTo>
                    <a:pt x="492" y="300"/>
                  </a:lnTo>
                  <a:close/>
                  <a:moveTo>
                    <a:pt x="131" y="248"/>
                  </a:moveTo>
                  <a:lnTo>
                    <a:pt x="131" y="30"/>
                  </a:lnTo>
                  <a:lnTo>
                    <a:pt x="455" y="30"/>
                  </a:lnTo>
                  <a:lnTo>
                    <a:pt x="455" y="248"/>
                  </a:lnTo>
                  <a:lnTo>
                    <a:pt x="131" y="248"/>
                  </a:lnTo>
                  <a:close/>
                  <a:moveTo>
                    <a:pt x="117" y="264"/>
                  </a:moveTo>
                  <a:lnTo>
                    <a:pt x="469" y="264"/>
                  </a:lnTo>
                  <a:lnTo>
                    <a:pt x="469" y="14"/>
                  </a:lnTo>
                  <a:lnTo>
                    <a:pt x="485" y="14"/>
                  </a:lnTo>
                  <a:lnTo>
                    <a:pt x="485" y="0"/>
                  </a:lnTo>
                  <a:lnTo>
                    <a:pt x="103" y="0"/>
                  </a:lnTo>
                  <a:lnTo>
                    <a:pt x="103" y="278"/>
                  </a:lnTo>
                  <a:lnTo>
                    <a:pt x="117" y="278"/>
                  </a:lnTo>
                  <a:lnTo>
                    <a:pt x="117" y="264"/>
                  </a:lnTo>
                  <a:close/>
                  <a:moveTo>
                    <a:pt x="0" y="405"/>
                  </a:moveTo>
                  <a:lnTo>
                    <a:pt x="59" y="405"/>
                  </a:lnTo>
                  <a:lnTo>
                    <a:pt x="59" y="386"/>
                  </a:lnTo>
                  <a:lnTo>
                    <a:pt x="0" y="386"/>
                  </a:lnTo>
                  <a:lnTo>
                    <a:pt x="0" y="405"/>
                  </a:lnTo>
                  <a:close/>
                  <a:moveTo>
                    <a:pt x="342" y="420"/>
                  </a:moveTo>
                  <a:lnTo>
                    <a:pt x="469" y="420"/>
                  </a:lnTo>
                  <a:lnTo>
                    <a:pt x="469" y="411"/>
                  </a:lnTo>
                  <a:lnTo>
                    <a:pt x="342" y="411"/>
                  </a:lnTo>
                  <a:lnTo>
                    <a:pt x="342" y="420"/>
                  </a:lnTo>
                  <a:close/>
                  <a:moveTo>
                    <a:pt x="568" y="395"/>
                  </a:moveTo>
                  <a:lnTo>
                    <a:pt x="587" y="395"/>
                  </a:lnTo>
                  <a:lnTo>
                    <a:pt x="587" y="386"/>
                  </a:lnTo>
                  <a:lnTo>
                    <a:pt x="568" y="386"/>
                  </a:lnTo>
                  <a:lnTo>
                    <a:pt x="568" y="395"/>
                  </a:lnTo>
                  <a:close/>
                  <a:moveTo>
                    <a:pt x="568" y="414"/>
                  </a:moveTo>
                  <a:lnTo>
                    <a:pt x="587" y="414"/>
                  </a:lnTo>
                  <a:lnTo>
                    <a:pt x="587" y="405"/>
                  </a:lnTo>
                  <a:lnTo>
                    <a:pt x="568" y="405"/>
                  </a:lnTo>
                  <a:lnTo>
                    <a:pt x="568" y="4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14720" y="723960"/>
              <a:ext cx="37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32068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33004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00480" y="973080"/>
              <a:ext cx="4302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48360" y="98100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08920" y="10936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40880" y="12049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10360" y="272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10360" y="482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110360" y="558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10360" y="768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110360" y="844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10360" y="1054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10360" y="1130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10360" y="1339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10360" y="1415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10360" y="1625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10360" y="1701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10360" y="1911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110360" y="1987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10360" y="2197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10360" y="2273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10360" y="2482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10360" y="2558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110360" y="2768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10360" y="2844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10360" y="3054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10360" y="3130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10360" y="3340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10360" y="3416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10360" y="3625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10360" y="3701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110360" y="3911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10360" y="3987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110360" y="4197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0360" y="4273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10360" y="4483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10360" y="4559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10360" y="4768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10360" y="4844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10360" y="5054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10360" y="5130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10360" y="5340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10360" y="5416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10360" y="5626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10360" y="5702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10360" y="5911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10360" y="5987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10360" y="6197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110360" y="6273720"/>
              <a:ext cx="1800" cy="120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5400000">
              <a:off x="6785280" y="328140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und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146240" y="901800"/>
              <a:ext cx="164880" cy="198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160640" y="914400"/>
              <a:ext cx="48960" cy="17316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7"/>
                  </a:lnTo>
                  <a:lnTo>
                    <a:pt x="62" y="172"/>
                  </a:lnTo>
                  <a:lnTo>
                    <a:pt x="62" y="212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9" y="157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222200" y="914400"/>
              <a:ext cx="76320" cy="17316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0" y="78"/>
                  </a:moveTo>
                  <a:lnTo>
                    <a:pt x="44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3" y="78"/>
                  </a:moveTo>
                  <a:lnTo>
                    <a:pt x="97" y="78"/>
                  </a:lnTo>
                  <a:lnTo>
                    <a:pt x="97" y="0"/>
                  </a:lnTo>
                  <a:lnTo>
                    <a:pt x="53" y="0"/>
                  </a:lnTo>
                  <a:lnTo>
                    <a:pt x="53" y="78"/>
                  </a:lnTo>
                  <a:close/>
                  <a:moveTo>
                    <a:pt x="0" y="219"/>
                  </a:moveTo>
                  <a:lnTo>
                    <a:pt x="97" y="219"/>
                  </a:lnTo>
                  <a:lnTo>
                    <a:pt x="97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22200" y="1012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222200" y="100656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22200" y="10000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222200" y="99540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222200" y="98748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263600" y="9288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263600" y="96048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63600" y="94464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222200" y="928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22200" y="9604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22200" y="9446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222200" y="10717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22200" y="10573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222200" y="1039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274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47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00080" y="1138320"/>
              <a:ext cx="4590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49760" y="114624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92720" y="5516640"/>
              <a:ext cx="662040" cy="496800"/>
            </a:xfrm>
            <a:custGeom>
              <a:avLst/>
              <a:gdLst/>
              <a:ahLst/>
              <a:rect l="l" t="t" r="r" b="b"/>
              <a:pathLst>
                <a:path w="835" h="625">
                  <a:moveTo>
                    <a:pt x="0" y="625"/>
                  </a:moveTo>
                  <a:lnTo>
                    <a:pt x="0" y="613"/>
                  </a:lnTo>
                  <a:lnTo>
                    <a:pt x="84" y="574"/>
                  </a:lnTo>
                  <a:lnTo>
                    <a:pt x="84" y="0"/>
                  </a:lnTo>
                  <a:lnTo>
                    <a:pt x="306" y="0"/>
                  </a:lnTo>
                  <a:lnTo>
                    <a:pt x="306" y="574"/>
                  </a:lnTo>
                  <a:lnTo>
                    <a:pt x="396" y="613"/>
                  </a:lnTo>
                  <a:lnTo>
                    <a:pt x="396" y="625"/>
                  </a:lnTo>
                  <a:lnTo>
                    <a:pt x="0" y="625"/>
                  </a:lnTo>
                  <a:close/>
                  <a:moveTo>
                    <a:pt x="334" y="539"/>
                  </a:moveTo>
                  <a:lnTo>
                    <a:pt x="412" y="539"/>
                  </a:lnTo>
                  <a:lnTo>
                    <a:pt x="499" y="560"/>
                  </a:lnTo>
                  <a:lnTo>
                    <a:pt x="499" y="604"/>
                  </a:lnTo>
                  <a:lnTo>
                    <a:pt x="412" y="604"/>
                  </a:lnTo>
                  <a:lnTo>
                    <a:pt x="412" y="625"/>
                  </a:lnTo>
                  <a:lnTo>
                    <a:pt x="757" y="625"/>
                  </a:lnTo>
                  <a:lnTo>
                    <a:pt x="757" y="604"/>
                  </a:lnTo>
                  <a:lnTo>
                    <a:pt x="670" y="604"/>
                  </a:lnTo>
                  <a:lnTo>
                    <a:pt x="670" y="560"/>
                  </a:lnTo>
                  <a:lnTo>
                    <a:pt x="757" y="539"/>
                  </a:lnTo>
                  <a:lnTo>
                    <a:pt x="835" y="539"/>
                  </a:lnTo>
                  <a:lnTo>
                    <a:pt x="835" y="157"/>
                  </a:lnTo>
                  <a:lnTo>
                    <a:pt x="334" y="157"/>
                  </a:lnTo>
                  <a:lnTo>
                    <a:pt x="334" y="539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59320" y="597204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535720" y="597204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13320" y="5672160"/>
              <a:ext cx="6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03960" y="5619600"/>
              <a:ext cx="88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81640" y="5537160"/>
              <a:ext cx="131760" cy="29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88000" y="599616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88000" y="596124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19600" y="5943600"/>
              <a:ext cx="27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75160" y="5846760"/>
              <a:ext cx="142920" cy="1350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0" y="104"/>
                  </a:moveTo>
                  <a:lnTo>
                    <a:pt x="14" y="10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4"/>
                  </a:lnTo>
                  <a:close/>
                  <a:moveTo>
                    <a:pt x="28" y="104"/>
                  </a:moveTo>
                  <a:lnTo>
                    <a:pt x="42" y="104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104"/>
                  </a:lnTo>
                  <a:close/>
                  <a:moveTo>
                    <a:pt x="54" y="104"/>
                  </a:moveTo>
                  <a:lnTo>
                    <a:pt x="69" y="104"/>
                  </a:lnTo>
                  <a:lnTo>
                    <a:pt x="69" y="0"/>
                  </a:lnTo>
                  <a:lnTo>
                    <a:pt x="54" y="0"/>
                  </a:lnTo>
                  <a:lnTo>
                    <a:pt x="54" y="104"/>
                  </a:lnTo>
                  <a:close/>
                  <a:moveTo>
                    <a:pt x="83" y="104"/>
                  </a:moveTo>
                  <a:lnTo>
                    <a:pt x="97" y="104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83" y="104"/>
                  </a:lnTo>
                  <a:close/>
                  <a:moveTo>
                    <a:pt x="111" y="104"/>
                  </a:moveTo>
                  <a:lnTo>
                    <a:pt x="125" y="104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111" y="104"/>
                  </a:lnTo>
                  <a:close/>
                  <a:moveTo>
                    <a:pt x="139" y="104"/>
                  </a:moveTo>
                  <a:lnTo>
                    <a:pt x="153" y="104"/>
                  </a:lnTo>
                  <a:lnTo>
                    <a:pt x="153" y="0"/>
                  </a:lnTo>
                  <a:lnTo>
                    <a:pt x="139" y="0"/>
                  </a:lnTo>
                  <a:lnTo>
                    <a:pt x="139" y="104"/>
                  </a:lnTo>
                  <a:close/>
                  <a:moveTo>
                    <a:pt x="166" y="104"/>
                  </a:moveTo>
                  <a:lnTo>
                    <a:pt x="180" y="104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66" y="104"/>
                  </a:lnTo>
                  <a:close/>
                  <a:moveTo>
                    <a:pt x="166" y="169"/>
                  </a:moveTo>
                  <a:lnTo>
                    <a:pt x="180" y="169"/>
                  </a:lnTo>
                  <a:lnTo>
                    <a:pt x="180" y="118"/>
                  </a:lnTo>
                  <a:lnTo>
                    <a:pt x="166" y="118"/>
                  </a:lnTo>
                  <a:lnTo>
                    <a:pt x="166" y="169"/>
                  </a:lnTo>
                  <a:close/>
                  <a:moveTo>
                    <a:pt x="139" y="169"/>
                  </a:moveTo>
                  <a:lnTo>
                    <a:pt x="153" y="169"/>
                  </a:lnTo>
                  <a:lnTo>
                    <a:pt x="153" y="118"/>
                  </a:lnTo>
                  <a:lnTo>
                    <a:pt x="139" y="118"/>
                  </a:lnTo>
                  <a:lnTo>
                    <a:pt x="139" y="169"/>
                  </a:lnTo>
                  <a:close/>
                  <a:moveTo>
                    <a:pt x="111" y="169"/>
                  </a:moveTo>
                  <a:lnTo>
                    <a:pt x="125" y="169"/>
                  </a:lnTo>
                  <a:lnTo>
                    <a:pt x="125" y="118"/>
                  </a:lnTo>
                  <a:lnTo>
                    <a:pt x="111" y="118"/>
                  </a:lnTo>
                  <a:lnTo>
                    <a:pt x="111" y="169"/>
                  </a:lnTo>
                  <a:close/>
                  <a:moveTo>
                    <a:pt x="83" y="169"/>
                  </a:moveTo>
                  <a:lnTo>
                    <a:pt x="97" y="169"/>
                  </a:lnTo>
                  <a:lnTo>
                    <a:pt x="97" y="118"/>
                  </a:lnTo>
                  <a:lnTo>
                    <a:pt x="83" y="118"/>
                  </a:lnTo>
                  <a:lnTo>
                    <a:pt x="83" y="169"/>
                  </a:lnTo>
                  <a:close/>
                  <a:moveTo>
                    <a:pt x="54" y="169"/>
                  </a:moveTo>
                  <a:lnTo>
                    <a:pt x="69" y="169"/>
                  </a:lnTo>
                  <a:lnTo>
                    <a:pt x="69" y="118"/>
                  </a:lnTo>
                  <a:lnTo>
                    <a:pt x="54" y="118"/>
                  </a:lnTo>
                  <a:lnTo>
                    <a:pt x="54" y="169"/>
                  </a:lnTo>
                  <a:close/>
                  <a:moveTo>
                    <a:pt x="28" y="169"/>
                  </a:moveTo>
                  <a:lnTo>
                    <a:pt x="42" y="169"/>
                  </a:lnTo>
                  <a:lnTo>
                    <a:pt x="42" y="118"/>
                  </a:lnTo>
                  <a:lnTo>
                    <a:pt x="28" y="118"/>
                  </a:lnTo>
                  <a:lnTo>
                    <a:pt x="28" y="169"/>
                  </a:lnTo>
                  <a:close/>
                  <a:moveTo>
                    <a:pt x="0" y="169"/>
                  </a:moveTo>
                  <a:lnTo>
                    <a:pt x="14" y="169"/>
                  </a:lnTo>
                  <a:lnTo>
                    <a:pt x="14" y="118"/>
                  </a:lnTo>
                  <a:lnTo>
                    <a:pt x="0" y="1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92800" y="554832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92800" y="5548320"/>
              <a:ext cx="109440" cy="1116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0" y="0"/>
                  </a:moveTo>
                  <a:lnTo>
                    <a:pt x="14" y="14"/>
                  </a:lnTo>
                  <a:lnTo>
                    <a:pt x="125" y="14"/>
                  </a:ln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92800" y="5599080"/>
              <a:ext cx="109440" cy="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92800" y="5651640"/>
              <a:ext cx="1094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92800" y="5703840"/>
              <a:ext cx="109440" cy="39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2800" y="575460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5392800" y="5559480"/>
              <a:ext cx="111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92880" y="5559480"/>
              <a:ext cx="93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97480" y="57387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97480" y="573084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97480" y="5724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97480" y="5715000"/>
              <a:ext cx="7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97480" y="570852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446800" y="5610240"/>
              <a:ext cx="349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78480" y="5680080"/>
              <a:ext cx="15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78480" y="5708520"/>
              <a:ext cx="15840" cy="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78480" y="5718240"/>
              <a:ext cx="15840" cy="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430960" y="5667480"/>
              <a:ext cx="511200" cy="263520"/>
            </a:xfrm>
            <a:custGeom>
              <a:avLst/>
              <a:gdLst/>
              <a:ahLst/>
              <a:rect l="l" t="t" r="r" b="b"/>
              <a:pathLst>
                <a:path w="645" h="334">
                  <a:moveTo>
                    <a:pt x="0" y="14"/>
                  </a:moveTo>
                  <a:lnTo>
                    <a:pt x="42" y="1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  <a:close/>
                  <a:moveTo>
                    <a:pt x="622" y="334"/>
                  </a:moveTo>
                  <a:lnTo>
                    <a:pt x="645" y="334"/>
                  </a:lnTo>
                  <a:lnTo>
                    <a:pt x="645" y="327"/>
                  </a:lnTo>
                  <a:lnTo>
                    <a:pt x="622" y="327"/>
                  </a:lnTo>
                  <a:lnTo>
                    <a:pt x="622" y="334"/>
                  </a:lnTo>
                  <a:close/>
                  <a:moveTo>
                    <a:pt x="238" y="261"/>
                  </a:moveTo>
                  <a:lnTo>
                    <a:pt x="238" y="41"/>
                  </a:lnTo>
                  <a:lnTo>
                    <a:pt x="583" y="41"/>
                  </a:lnTo>
                  <a:lnTo>
                    <a:pt x="583" y="261"/>
                  </a:lnTo>
                  <a:lnTo>
                    <a:pt x="238" y="261"/>
                  </a:lnTo>
                  <a:close/>
                  <a:moveTo>
                    <a:pt x="222" y="275"/>
                  </a:moveTo>
                  <a:lnTo>
                    <a:pt x="599" y="275"/>
                  </a:lnTo>
                  <a:lnTo>
                    <a:pt x="599" y="27"/>
                  </a:lnTo>
                  <a:lnTo>
                    <a:pt x="615" y="27"/>
                  </a:lnTo>
                  <a:lnTo>
                    <a:pt x="615" y="13"/>
                  </a:lnTo>
                  <a:lnTo>
                    <a:pt x="206" y="13"/>
                  </a:lnTo>
                  <a:lnTo>
                    <a:pt x="206" y="23"/>
                  </a:lnTo>
                  <a:lnTo>
                    <a:pt x="206" y="290"/>
                  </a:lnTo>
                  <a:lnTo>
                    <a:pt x="222" y="290"/>
                  </a:lnTo>
                  <a:lnTo>
                    <a:pt x="222" y="2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557680" y="5925960"/>
              <a:ext cx="200160" cy="17640"/>
            </a:xfrm>
            <a:custGeom>
              <a:avLst/>
              <a:gdLst/>
              <a:ahLst/>
              <a:rect l="l" t="t" r="r" b="b"/>
              <a:pathLst>
                <a:path w="251" h="23">
                  <a:moveTo>
                    <a:pt x="0" y="0"/>
                  </a:moveTo>
                  <a:lnTo>
                    <a:pt x="251" y="0"/>
                  </a:lnTo>
                  <a:lnTo>
                    <a:pt x="251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5657760" y="592560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76800" y="6051600"/>
              <a:ext cx="8938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242680" y="6059520"/>
              <a:ext cx="82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net data Serv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14840" y="5516640"/>
              <a:ext cx="495360" cy="496800"/>
            </a:xfrm>
            <a:custGeom>
              <a:avLst/>
              <a:gdLst/>
              <a:ahLst/>
              <a:rect l="l" t="t" r="r" b="b"/>
              <a:pathLst>
                <a:path w="626" h="627">
                  <a:moveTo>
                    <a:pt x="0" y="470"/>
                  </a:moveTo>
                  <a:lnTo>
                    <a:pt x="117" y="470"/>
                  </a:lnTo>
                  <a:lnTo>
                    <a:pt x="214" y="489"/>
                  </a:lnTo>
                  <a:lnTo>
                    <a:pt x="214" y="509"/>
                  </a:lnTo>
                  <a:lnTo>
                    <a:pt x="117" y="509"/>
                  </a:lnTo>
                  <a:lnTo>
                    <a:pt x="117" y="528"/>
                  </a:lnTo>
                  <a:lnTo>
                    <a:pt x="39" y="528"/>
                  </a:lnTo>
                  <a:lnTo>
                    <a:pt x="39" y="627"/>
                  </a:lnTo>
                  <a:lnTo>
                    <a:pt x="587" y="627"/>
                  </a:lnTo>
                  <a:lnTo>
                    <a:pt x="587" y="528"/>
                  </a:lnTo>
                  <a:lnTo>
                    <a:pt x="509" y="528"/>
                  </a:lnTo>
                  <a:lnTo>
                    <a:pt x="509" y="509"/>
                  </a:lnTo>
                  <a:lnTo>
                    <a:pt x="410" y="509"/>
                  </a:lnTo>
                  <a:lnTo>
                    <a:pt x="410" y="489"/>
                  </a:lnTo>
                  <a:lnTo>
                    <a:pt x="509" y="470"/>
                  </a:lnTo>
                  <a:lnTo>
                    <a:pt x="626" y="470"/>
                  </a:lnTo>
                  <a:lnTo>
                    <a:pt x="626" y="0"/>
                  </a:lnTo>
                  <a:lnTo>
                    <a:pt x="0" y="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707000" y="593568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82960" y="5919840"/>
              <a:ext cx="1573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82960" y="5905440"/>
              <a:ext cx="157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07000" y="588960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51200" y="5564160"/>
              <a:ext cx="412920" cy="441360"/>
            </a:xfrm>
            <a:custGeom>
              <a:avLst/>
              <a:gdLst/>
              <a:ahLst/>
              <a:rect l="l" t="t" r="r" b="b"/>
              <a:pathLst>
                <a:path w="519" h="556">
                  <a:moveTo>
                    <a:pt x="49" y="503"/>
                  </a:moveTo>
                  <a:lnTo>
                    <a:pt x="146" y="503"/>
                  </a:lnTo>
                  <a:lnTo>
                    <a:pt x="146" y="489"/>
                  </a:lnTo>
                  <a:lnTo>
                    <a:pt x="49" y="489"/>
                  </a:lnTo>
                  <a:lnTo>
                    <a:pt x="49" y="503"/>
                  </a:lnTo>
                  <a:close/>
                  <a:moveTo>
                    <a:pt x="19" y="556"/>
                  </a:moveTo>
                  <a:lnTo>
                    <a:pt x="39" y="537"/>
                  </a:lnTo>
                  <a:lnTo>
                    <a:pt x="19" y="517"/>
                  </a:lnTo>
                  <a:lnTo>
                    <a:pt x="0" y="537"/>
                  </a:lnTo>
                  <a:lnTo>
                    <a:pt x="19" y="556"/>
                  </a:lnTo>
                  <a:close/>
                  <a:moveTo>
                    <a:pt x="49" y="313"/>
                  </a:moveTo>
                  <a:lnTo>
                    <a:pt x="49" y="39"/>
                  </a:lnTo>
                  <a:lnTo>
                    <a:pt x="480" y="39"/>
                  </a:lnTo>
                  <a:lnTo>
                    <a:pt x="480" y="313"/>
                  </a:lnTo>
                  <a:lnTo>
                    <a:pt x="49" y="313"/>
                  </a:lnTo>
                  <a:close/>
                  <a:moveTo>
                    <a:pt x="30" y="341"/>
                  </a:moveTo>
                  <a:lnTo>
                    <a:pt x="509" y="341"/>
                  </a:lnTo>
                  <a:lnTo>
                    <a:pt x="509" y="20"/>
                  </a:lnTo>
                  <a:lnTo>
                    <a:pt x="519" y="20"/>
                  </a:lnTo>
                  <a:lnTo>
                    <a:pt x="519" y="0"/>
                  </a:lnTo>
                  <a:lnTo>
                    <a:pt x="10" y="0"/>
                  </a:lnTo>
                  <a:lnTo>
                    <a:pt x="10" y="352"/>
                  </a:lnTo>
                  <a:lnTo>
                    <a:pt x="30" y="352"/>
                  </a:lnTo>
                  <a:lnTo>
                    <a:pt x="30" y="341"/>
                  </a:lnTo>
                  <a:close/>
                  <a:moveTo>
                    <a:pt x="489" y="390"/>
                  </a:moveTo>
                  <a:lnTo>
                    <a:pt x="519" y="390"/>
                  </a:lnTo>
                  <a:lnTo>
                    <a:pt x="519" y="382"/>
                  </a:lnTo>
                  <a:lnTo>
                    <a:pt x="489" y="382"/>
                  </a:lnTo>
                  <a:lnTo>
                    <a:pt x="489" y="3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99080" y="5989680"/>
              <a:ext cx="61920" cy="1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45080" y="595296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645080" y="596412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69908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4660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6892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79268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1644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7"/>
                  </a:lnTo>
                  <a:lnTo>
                    <a:pt x="8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387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6252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848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9"/>
                  </a:lnTo>
                  <a:lnTo>
                    <a:pt x="11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0860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9323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95468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9784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0076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24520" y="597060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4828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02240" y="6051600"/>
              <a:ext cx="51912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52640" y="605952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s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57880" y="4332240"/>
              <a:ext cx="189000" cy="803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29520" y="5056200"/>
              <a:ext cx="48960" cy="39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29520" y="4370400"/>
              <a:ext cx="48960" cy="42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281640" y="4331880"/>
              <a:ext cx="180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342120" y="4392720"/>
              <a:ext cx="23760" cy="382320"/>
            </a:xfrm>
            <a:custGeom>
              <a:avLst/>
              <a:gdLst/>
              <a:ahLst/>
              <a:rect l="l" t="t" r="r" b="b"/>
              <a:pathLst>
                <a:path w="30" h="482">
                  <a:moveTo>
                    <a:pt x="30" y="380"/>
                  </a:moveTo>
                  <a:lnTo>
                    <a:pt x="30" y="355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30" y="380"/>
                  </a:lnTo>
                  <a:close/>
                  <a:moveTo>
                    <a:pt x="30" y="431"/>
                  </a:moveTo>
                  <a:lnTo>
                    <a:pt x="30" y="406"/>
                  </a:lnTo>
                  <a:lnTo>
                    <a:pt x="0" y="406"/>
                  </a:lnTo>
                  <a:lnTo>
                    <a:pt x="0" y="431"/>
                  </a:lnTo>
                  <a:lnTo>
                    <a:pt x="30" y="431"/>
                  </a:lnTo>
                  <a:close/>
                  <a:moveTo>
                    <a:pt x="30" y="482"/>
                  </a:moveTo>
                  <a:lnTo>
                    <a:pt x="30" y="456"/>
                  </a:lnTo>
                  <a:lnTo>
                    <a:pt x="0" y="456"/>
                  </a:lnTo>
                  <a:lnTo>
                    <a:pt x="0" y="482"/>
                  </a:lnTo>
                  <a:lnTo>
                    <a:pt x="30" y="482"/>
                  </a:lnTo>
                  <a:close/>
                  <a:moveTo>
                    <a:pt x="30" y="304"/>
                  </a:moveTo>
                  <a:lnTo>
                    <a:pt x="30" y="279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30" y="304"/>
                  </a:lnTo>
                  <a:close/>
                  <a:moveTo>
                    <a:pt x="30" y="228"/>
                  </a:moveTo>
                  <a:lnTo>
                    <a:pt x="30" y="203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30" y="228"/>
                  </a:lnTo>
                  <a:close/>
                  <a:moveTo>
                    <a:pt x="30" y="177"/>
                  </a:moveTo>
                  <a:lnTo>
                    <a:pt x="30" y="152"/>
                  </a:lnTo>
                  <a:lnTo>
                    <a:pt x="0" y="152"/>
                  </a:lnTo>
                  <a:lnTo>
                    <a:pt x="0" y="177"/>
                  </a:lnTo>
                  <a:lnTo>
                    <a:pt x="30" y="177"/>
                  </a:lnTo>
                  <a:close/>
                  <a:moveTo>
                    <a:pt x="30" y="127"/>
                  </a:moveTo>
                  <a:lnTo>
                    <a:pt x="30" y="101"/>
                  </a:lnTo>
                  <a:lnTo>
                    <a:pt x="0" y="101"/>
                  </a:lnTo>
                  <a:lnTo>
                    <a:pt x="0" y="127"/>
                  </a:lnTo>
                  <a:lnTo>
                    <a:pt x="30" y="127"/>
                  </a:lnTo>
                  <a:close/>
                  <a:moveTo>
                    <a:pt x="30" y="76"/>
                  </a:moveTo>
                  <a:lnTo>
                    <a:pt x="30" y="51"/>
                  </a:lnTo>
                  <a:lnTo>
                    <a:pt x="0" y="51"/>
                  </a:lnTo>
                  <a:lnTo>
                    <a:pt x="0" y="76"/>
                  </a:lnTo>
                  <a:lnTo>
                    <a:pt x="30" y="76"/>
                  </a:lnTo>
                  <a:close/>
                  <a:moveTo>
                    <a:pt x="30" y="25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486480" y="4870440"/>
              <a:ext cx="13032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6200000">
              <a:off x="6412320" y="492552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18200" y="1157400"/>
              <a:ext cx="2016000" cy="1207800"/>
            </a:xfrm>
            <a:custGeom>
              <a:avLst/>
              <a:gdLst/>
              <a:ahLst/>
              <a:rect l="l" t="t" r="r" b="b"/>
              <a:pathLst>
                <a:path w="2539" h="1522">
                  <a:moveTo>
                    <a:pt x="373" y="1130"/>
                  </a:moveTo>
                  <a:lnTo>
                    <a:pt x="401" y="1188"/>
                  </a:lnTo>
                  <a:lnTo>
                    <a:pt x="434" y="1245"/>
                  </a:lnTo>
                  <a:lnTo>
                    <a:pt x="470" y="1296"/>
                  </a:lnTo>
                  <a:lnTo>
                    <a:pt x="510" y="1343"/>
                  </a:lnTo>
                  <a:lnTo>
                    <a:pt x="555" y="1386"/>
                  </a:lnTo>
                  <a:lnTo>
                    <a:pt x="601" y="1423"/>
                  </a:lnTo>
                  <a:lnTo>
                    <a:pt x="650" y="1455"/>
                  </a:lnTo>
                  <a:lnTo>
                    <a:pt x="699" y="1479"/>
                  </a:lnTo>
                  <a:lnTo>
                    <a:pt x="752" y="1501"/>
                  </a:lnTo>
                  <a:lnTo>
                    <a:pt x="806" y="1513"/>
                  </a:lnTo>
                  <a:lnTo>
                    <a:pt x="860" y="1520"/>
                  </a:lnTo>
                  <a:lnTo>
                    <a:pt x="915" y="1522"/>
                  </a:lnTo>
                  <a:lnTo>
                    <a:pt x="970" y="1516"/>
                  </a:lnTo>
                  <a:lnTo>
                    <a:pt x="1025" y="1504"/>
                  </a:lnTo>
                  <a:lnTo>
                    <a:pt x="1076" y="1486"/>
                  </a:lnTo>
                  <a:lnTo>
                    <a:pt x="1129" y="1462"/>
                  </a:lnTo>
                  <a:lnTo>
                    <a:pt x="1177" y="1432"/>
                  </a:lnTo>
                  <a:lnTo>
                    <a:pt x="1224" y="1396"/>
                  </a:lnTo>
                  <a:lnTo>
                    <a:pt x="1269" y="1356"/>
                  </a:lnTo>
                  <a:lnTo>
                    <a:pt x="1313" y="1396"/>
                  </a:lnTo>
                  <a:lnTo>
                    <a:pt x="1360" y="1432"/>
                  </a:lnTo>
                  <a:lnTo>
                    <a:pt x="1410" y="1462"/>
                  </a:lnTo>
                  <a:lnTo>
                    <a:pt x="1461" y="1486"/>
                  </a:lnTo>
                  <a:lnTo>
                    <a:pt x="1514" y="1504"/>
                  </a:lnTo>
                  <a:lnTo>
                    <a:pt x="1567" y="1516"/>
                  </a:lnTo>
                  <a:lnTo>
                    <a:pt x="1622" y="1522"/>
                  </a:lnTo>
                  <a:lnTo>
                    <a:pt x="1677" y="1520"/>
                  </a:lnTo>
                  <a:lnTo>
                    <a:pt x="1732" y="1513"/>
                  </a:lnTo>
                  <a:lnTo>
                    <a:pt x="1785" y="1501"/>
                  </a:lnTo>
                  <a:lnTo>
                    <a:pt x="1838" y="1479"/>
                  </a:lnTo>
                  <a:lnTo>
                    <a:pt x="1889" y="1455"/>
                  </a:lnTo>
                  <a:lnTo>
                    <a:pt x="1937" y="1423"/>
                  </a:lnTo>
                  <a:lnTo>
                    <a:pt x="1983" y="1386"/>
                  </a:lnTo>
                  <a:lnTo>
                    <a:pt x="2027" y="1343"/>
                  </a:lnTo>
                  <a:lnTo>
                    <a:pt x="2067" y="1296"/>
                  </a:lnTo>
                  <a:lnTo>
                    <a:pt x="2103" y="1245"/>
                  </a:lnTo>
                  <a:lnTo>
                    <a:pt x="2136" y="1188"/>
                  </a:lnTo>
                  <a:lnTo>
                    <a:pt x="2165" y="1130"/>
                  </a:lnTo>
                  <a:lnTo>
                    <a:pt x="2203" y="1139"/>
                  </a:lnTo>
                  <a:lnTo>
                    <a:pt x="2242" y="1142"/>
                  </a:lnTo>
                  <a:lnTo>
                    <a:pt x="2281" y="1137"/>
                  </a:lnTo>
                  <a:lnTo>
                    <a:pt x="2318" y="1128"/>
                  </a:lnTo>
                  <a:lnTo>
                    <a:pt x="2355" y="1112"/>
                  </a:lnTo>
                  <a:lnTo>
                    <a:pt x="2391" y="1089"/>
                  </a:lnTo>
                  <a:lnTo>
                    <a:pt x="2423" y="1061"/>
                  </a:lnTo>
                  <a:lnTo>
                    <a:pt x="2453" y="1029"/>
                  </a:lnTo>
                  <a:lnTo>
                    <a:pt x="2477" y="992"/>
                  </a:lnTo>
                  <a:lnTo>
                    <a:pt x="2499" y="950"/>
                  </a:lnTo>
                  <a:lnTo>
                    <a:pt x="2516" y="906"/>
                  </a:lnTo>
                  <a:lnTo>
                    <a:pt x="2529" y="860"/>
                  </a:lnTo>
                  <a:lnTo>
                    <a:pt x="2536" y="811"/>
                  </a:lnTo>
                  <a:lnTo>
                    <a:pt x="2539" y="761"/>
                  </a:lnTo>
                  <a:lnTo>
                    <a:pt x="2536" y="712"/>
                  </a:lnTo>
                  <a:lnTo>
                    <a:pt x="2529" y="662"/>
                  </a:lnTo>
                  <a:lnTo>
                    <a:pt x="2516" y="616"/>
                  </a:lnTo>
                  <a:lnTo>
                    <a:pt x="2499" y="572"/>
                  </a:lnTo>
                  <a:lnTo>
                    <a:pt x="2477" y="530"/>
                  </a:lnTo>
                  <a:lnTo>
                    <a:pt x="2453" y="493"/>
                  </a:lnTo>
                  <a:lnTo>
                    <a:pt x="2423" y="461"/>
                  </a:lnTo>
                  <a:lnTo>
                    <a:pt x="2391" y="433"/>
                  </a:lnTo>
                  <a:lnTo>
                    <a:pt x="2355" y="410"/>
                  </a:lnTo>
                  <a:lnTo>
                    <a:pt x="2318" y="394"/>
                  </a:lnTo>
                  <a:lnTo>
                    <a:pt x="2281" y="383"/>
                  </a:lnTo>
                  <a:lnTo>
                    <a:pt x="2242" y="380"/>
                  </a:lnTo>
                  <a:lnTo>
                    <a:pt x="2203" y="383"/>
                  </a:lnTo>
                  <a:lnTo>
                    <a:pt x="2165" y="392"/>
                  </a:lnTo>
                  <a:lnTo>
                    <a:pt x="2136" y="334"/>
                  </a:lnTo>
                  <a:lnTo>
                    <a:pt x="2103" y="278"/>
                  </a:lnTo>
                  <a:lnTo>
                    <a:pt x="2067" y="226"/>
                  </a:lnTo>
                  <a:lnTo>
                    <a:pt x="2027" y="179"/>
                  </a:lnTo>
                  <a:lnTo>
                    <a:pt x="1983" y="136"/>
                  </a:lnTo>
                  <a:lnTo>
                    <a:pt x="1937" y="99"/>
                  </a:lnTo>
                  <a:lnTo>
                    <a:pt x="1889" y="68"/>
                  </a:lnTo>
                  <a:lnTo>
                    <a:pt x="1838" y="43"/>
                  </a:lnTo>
                  <a:lnTo>
                    <a:pt x="1785" y="22"/>
                  </a:lnTo>
                  <a:lnTo>
                    <a:pt x="1732" y="9"/>
                  </a:lnTo>
                  <a:lnTo>
                    <a:pt x="1677" y="2"/>
                  </a:lnTo>
                  <a:lnTo>
                    <a:pt x="1622" y="0"/>
                  </a:lnTo>
                  <a:lnTo>
                    <a:pt x="1567" y="6"/>
                  </a:lnTo>
                  <a:lnTo>
                    <a:pt x="1514" y="18"/>
                  </a:lnTo>
                  <a:lnTo>
                    <a:pt x="1461" y="36"/>
                  </a:lnTo>
                  <a:lnTo>
                    <a:pt x="1410" y="60"/>
                  </a:lnTo>
                  <a:lnTo>
                    <a:pt x="1360" y="90"/>
                  </a:lnTo>
                  <a:lnTo>
                    <a:pt x="1313" y="126"/>
                  </a:lnTo>
                  <a:lnTo>
                    <a:pt x="1269" y="166"/>
                  </a:lnTo>
                  <a:lnTo>
                    <a:pt x="1224" y="126"/>
                  </a:lnTo>
                  <a:lnTo>
                    <a:pt x="1177" y="90"/>
                  </a:lnTo>
                  <a:lnTo>
                    <a:pt x="1129" y="60"/>
                  </a:lnTo>
                  <a:lnTo>
                    <a:pt x="1076" y="36"/>
                  </a:lnTo>
                  <a:lnTo>
                    <a:pt x="1025" y="18"/>
                  </a:lnTo>
                  <a:lnTo>
                    <a:pt x="970" y="6"/>
                  </a:lnTo>
                  <a:lnTo>
                    <a:pt x="915" y="0"/>
                  </a:lnTo>
                  <a:lnTo>
                    <a:pt x="860" y="2"/>
                  </a:lnTo>
                  <a:lnTo>
                    <a:pt x="806" y="9"/>
                  </a:lnTo>
                  <a:lnTo>
                    <a:pt x="752" y="22"/>
                  </a:lnTo>
                  <a:lnTo>
                    <a:pt x="699" y="43"/>
                  </a:lnTo>
                  <a:lnTo>
                    <a:pt x="650" y="68"/>
                  </a:lnTo>
                  <a:lnTo>
                    <a:pt x="601" y="99"/>
                  </a:lnTo>
                  <a:lnTo>
                    <a:pt x="555" y="136"/>
                  </a:lnTo>
                  <a:lnTo>
                    <a:pt x="510" y="179"/>
                  </a:lnTo>
                  <a:lnTo>
                    <a:pt x="470" y="226"/>
                  </a:lnTo>
                  <a:lnTo>
                    <a:pt x="434" y="278"/>
                  </a:lnTo>
                  <a:lnTo>
                    <a:pt x="401" y="334"/>
                  </a:lnTo>
                  <a:lnTo>
                    <a:pt x="373" y="392"/>
                  </a:lnTo>
                  <a:lnTo>
                    <a:pt x="334" y="383"/>
                  </a:lnTo>
                  <a:lnTo>
                    <a:pt x="295" y="380"/>
                  </a:lnTo>
                  <a:lnTo>
                    <a:pt x="256" y="383"/>
                  </a:lnTo>
                  <a:lnTo>
                    <a:pt x="219" y="394"/>
                  </a:lnTo>
                  <a:lnTo>
                    <a:pt x="182" y="410"/>
                  </a:lnTo>
                  <a:lnTo>
                    <a:pt x="146" y="433"/>
                  </a:lnTo>
                  <a:lnTo>
                    <a:pt x="114" y="461"/>
                  </a:lnTo>
                  <a:lnTo>
                    <a:pt x="86" y="493"/>
                  </a:lnTo>
                  <a:lnTo>
                    <a:pt x="60" y="530"/>
                  </a:lnTo>
                  <a:lnTo>
                    <a:pt x="39" y="572"/>
                  </a:lnTo>
                  <a:lnTo>
                    <a:pt x="21" y="616"/>
                  </a:lnTo>
                  <a:lnTo>
                    <a:pt x="8" y="662"/>
                  </a:lnTo>
                  <a:lnTo>
                    <a:pt x="1" y="712"/>
                  </a:lnTo>
                  <a:lnTo>
                    <a:pt x="0" y="761"/>
                  </a:lnTo>
                  <a:lnTo>
                    <a:pt x="1" y="811"/>
                  </a:lnTo>
                  <a:lnTo>
                    <a:pt x="8" y="860"/>
                  </a:lnTo>
                  <a:lnTo>
                    <a:pt x="21" y="906"/>
                  </a:lnTo>
                  <a:lnTo>
                    <a:pt x="39" y="950"/>
                  </a:lnTo>
                  <a:lnTo>
                    <a:pt x="60" y="992"/>
                  </a:lnTo>
                  <a:lnTo>
                    <a:pt x="86" y="1029"/>
                  </a:lnTo>
                  <a:lnTo>
                    <a:pt x="114" y="1061"/>
                  </a:lnTo>
                  <a:lnTo>
                    <a:pt x="146" y="1089"/>
                  </a:lnTo>
                  <a:lnTo>
                    <a:pt x="182" y="1112"/>
                  </a:lnTo>
                  <a:lnTo>
                    <a:pt x="219" y="1128"/>
                  </a:lnTo>
                  <a:lnTo>
                    <a:pt x="256" y="1137"/>
                  </a:lnTo>
                  <a:lnTo>
                    <a:pt x="295" y="1142"/>
                  </a:lnTo>
                  <a:lnTo>
                    <a:pt x="334" y="1139"/>
                  </a:lnTo>
                  <a:lnTo>
                    <a:pt x="373" y="113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63760" y="16588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62120" y="5423040"/>
              <a:ext cx="8128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95240" y="5430960"/>
              <a:ext cx="65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IT Voice 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12760" y="554364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621880" y="565452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CP/IP capabil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24160" y="4094280"/>
              <a:ext cx="1290600" cy="1290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24160" y="4094280"/>
              <a:ext cx="1290600" cy="1263600"/>
            </a:xfrm>
            <a:custGeom>
              <a:avLst/>
              <a:gdLst/>
              <a:ahLst/>
              <a:rect l="l" t="t" r="r" b="b"/>
              <a:pathLst>
                <a:path w="1628" h="1592">
                  <a:moveTo>
                    <a:pt x="0" y="1592"/>
                  </a:moveTo>
                  <a:lnTo>
                    <a:pt x="813" y="1592"/>
                  </a:lnTo>
                  <a:lnTo>
                    <a:pt x="813" y="0"/>
                  </a:lnTo>
                  <a:lnTo>
                    <a:pt x="0" y="0"/>
                  </a:lnTo>
                  <a:lnTo>
                    <a:pt x="0" y="1592"/>
                  </a:lnTo>
                  <a:close/>
                  <a:moveTo>
                    <a:pt x="813" y="1592"/>
                  </a:moveTo>
                  <a:lnTo>
                    <a:pt x="1628" y="1592"/>
                  </a:lnTo>
                  <a:lnTo>
                    <a:pt x="1628" y="0"/>
                  </a:lnTo>
                  <a:lnTo>
                    <a:pt x="813" y="0"/>
                  </a:lnTo>
                  <a:lnTo>
                    <a:pt x="813" y="1592"/>
                  </a:lnTo>
                  <a:close/>
                  <a:moveTo>
                    <a:pt x="126" y="542"/>
                  </a:moveTo>
                  <a:lnTo>
                    <a:pt x="689" y="542"/>
                  </a:lnTo>
                  <a:lnTo>
                    <a:pt x="689" y="373"/>
                  </a:lnTo>
                  <a:lnTo>
                    <a:pt x="126" y="373"/>
                  </a:lnTo>
                  <a:lnTo>
                    <a:pt x="126" y="542"/>
                  </a:lnTo>
                  <a:close/>
                  <a:moveTo>
                    <a:pt x="126" y="881"/>
                  </a:moveTo>
                  <a:lnTo>
                    <a:pt x="689" y="881"/>
                  </a:lnTo>
                  <a:lnTo>
                    <a:pt x="689" y="593"/>
                  </a:lnTo>
                  <a:lnTo>
                    <a:pt x="126" y="593"/>
                  </a:lnTo>
                  <a:lnTo>
                    <a:pt x="126" y="881"/>
                  </a:lnTo>
                  <a:close/>
                  <a:moveTo>
                    <a:pt x="938" y="542"/>
                  </a:moveTo>
                  <a:lnTo>
                    <a:pt x="1502" y="542"/>
                  </a:lnTo>
                  <a:lnTo>
                    <a:pt x="1502" y="373"/>
                  </a:lnTo>
                  <a:lnTo>
                    <a:pt x="938" y="373"/>
                  </a:lnTo>
                  <a:lnTo>
                    <a:pt x="938" y="542"/>
                  </a:lnTo>
                  <a:close/>
                  <a:moveTo>
                    <a:pt x="938" y="763"/>
                  </a:moveTo>
                  <a:lnTo>
                    <a:pt x="1502" y="763"/>
                  </a:lnTo>
                  <a:lnTo>
                    <a:pt x="1502" y="593"/>
                  </a:lnTo>
                  <a:lnTo>
                    <a:pt x="938" y="593"/>
                  </a:lnTo>
                  <a:lnTo>
                    <a:pt x="938" y="76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24160" y="4202280"/>
              <a:ext cx="1290600" cy="10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25600" y="5369040"/>
              <a:ext cx="1287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68560" y="2676600"/>
              <a:ext cx="7920" cy="1266840"/>
            </a:xfrm>
            <a:custGeom>
              <a:avLst/>
              <a:gdLst/>
              <a:ahLst/>
              <a:rect l="l" t="t" r="r" b="b"/>
              <a:pathLst>
                <a:path w="11" h="1598">
                  <a:moveTo>
                    <a:pt x="11" y="0"/>
                  </a:moveTo>
                  <a:lnTo>
                    <a:pt x="11" y="158"/>
                  </a:lnTo>
                  <a:lnTo>
                    <a:pt x="0" y="158"/>
                  </a:lnTo>
                  <a:lnTo>
                    <a:pt x="0" y="15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22480" y="2676600"/>
              <a:ext cx="109800" cy="16344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69" y="0"/>
                  </a:lnTo>
                  <a:lnTo>
                    <a:pt x="138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4560" y="3929040"/>
              <a:ext cx="108000" cy="16524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138" y="0"/>
                  </a:moveTo>
                  <a:lnTo>
                    <a:pt x="69" y="206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84440" y="3303720"/>
              <a:ext cx="7714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94880" y="3311640"/>
              <a:ext cx="70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2 or SS7 circui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122800" y="2754360"/>
              <a:ext cx="746280" cy="495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146560" y="3146400"/>
              <a:ext cx="698760" cy="8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46560" y="2773440"/>
              <a:ext cx="698760" cy="333360"/>
            </a:xfrm>
            <a:custGeom>
              <a:avLst/>
              <a:gdLst/>
              <a:ahLst/>
              <a:rect l="l" t="t" r="r" b="b"/>
              <a:pathLst>
                <a:path w="880" h="418">
                  <a:moveTo>
                    <a:pt x="777" y="14"/>
                  </a:moveTo>
                  <a:lnTo>
                    <a:pt x="779" y="5"/>
                  </a:lnTo>
                  <a:lnTo>
                    <a:pt x="786" y="2"/>
                  </a:lnTo>
                  <a:lnTo>
                    <a:pt x="797" y="2"/>
                  </a:lnTo>
                  <a:lnTo>
                    <a:pt x="804" y="5"/>
                  </a:lnTo>
                  <a:lnTo>
                    <a:pt x="806" y="14"/>
                  </a:lnTo>
                  <a:lnTo>
                    <a:pt x="804" y="21"/>
                  </a:lnTo>
                  <a:lnTo>
                    <a:pt x="797" y="26"/>
                  </a:lnTo>
                  <a:lnTo>
                    <a:pt x="786" y="26"/>
                  </a:lnTo>
                  <a:lnTo>
                    <a:pt x="779" y="21"/>
                  </a:lnTo>
                  <a:lnTo>
                    <a:pt x="777" y="14"/>
                  </a:lnTo>
                  <a:close/>
                  <a:moveTo>
                    <a:pt x="659" y="14"/>
                  </a:moveTo>
                  <a:lnTo>
                    <a:pt x="662" y="5"/>
                  </a:lnTo>
                  <a:lnTo>
                    <a:pt x="669" y="2"/>
                  </a:lnTo>
                  <a:lnTo>
                    <a:pt x="678" y="2"/>
                  </a:lnTo>
                  <a:lnTo>
                    <a:pt x="685" y="5"/>
                  </a:lnTo>
                  <a:lnTo>
                    <a:pt x="689" y="14"/>
                  </a:lnTo>
                  <a:lnTo>
                    <a:pt x="685" y="21"/>
                  </a:lnTo>
                  <a:lnTo>
                    <a:pt x="678" y="26"/>
                  </a:lnTo>
                  <a:lnTo>
                    <a:pt x="669" y="26"/>
                  </a:lnTo>
                  <a:lnTo>
                    <a:pt x="662" y="21"/>
                  </a:lnTo>
                  <a:lnTo>
                    <a:pt x="659" y="14"/>
                  </a:lnTo>
                  <a:close/>
                  <a:moveTo>
                    <a:pt x="542" y="14"/>
                  </a:moveTo>
                  <a:lnTo>
                    <a:pt x="544" y="5"/>
                  </a:lnTo>
                  <a:lnTo>
                    <a:pt x="553" y="2"/>
                  </a:lnTo>
                  <a:lnTo>
                    <a:pt x="562" y="2"/>
                  </a:lnTo>
                  <a:lnTo>
                    <a:pt x="569" y="5"/>
                  </a:lnTo>
                  <a:lnTo>
                    <a:pt x="570" y="14"/>
                  </a:lnTo>
                  <a:lnTo>
                    <a:pt x="569" y="21"/>
                  </a:lnTo>
                  <a:lnTo>
                    <a:pt x="562" y="26"/>
                  </a:lnTo>
                  <a:lnTo>
                    <a:pt x="553" y="26"/>
                  </a:lnTo>
                  <a:lnTo>
                    <a:pt x="544" y="21"/>
                  </a:lnTo>
                  <a:lnTo>
                    <a:pt x="542" y="14"/>
                  </a:lnTo>
                  <a:close/>
                  <a:moveTo>
                    <a:pt x="424" y="14"/>
                  </a:moveTo>
                  <a:lnTo>
                    <a:pt x="427" y="5"/>
                  </a:lnTo>
                  <a:lnTo>
                    <a:pt x="434" y="2"/>
                  </a:lnTo>
                  <a:lnTo>
                    <a:pt x="443" y="2"/>
                  </a:lnTo>
                  <a:lnTo>
                    <a:pt x="450" y="5"/>
                  </a:lnTo>
                  <a:lnTo>
                    <a:pt x="454" y="14"/>
                  </a:lnTo>
                  <a:lnTo>
                    <a:pt x="450" y="21"/>
                  </a:lnTo>
                  <a:lnTo>
                    <a:pt x="443" y="26"/>
                  </a:lnTo>
                  <a:lnTo>
                    <a:pt x="434" y="26"/>
                  </a:lnTo>
                  <a:lnTo>
                    <a:pt x="427" y="21"/>
                  </a:lnTo>
                  <a:lnTo>
                    <a:pt x="424" y="14"/>
                  </a:lnTo>
                  <a:close/>
                  <a:moveTo>
                    <a:pt x="307" y="14"/>
                  </a:moveTo>
                  <a:lnTo>
                    <a:pt x="311" y="5"/>
                  </a:lnTo>
                  <a:lnTo>
                    <a:pt x="318" y="2"/>
                  </a:lnTo>
                  <a:lnTo>
                    <a:pt x="327" y="2"/>
                  </a:lnTo>
                  <a:lnTo>
                    <a:pt x="334" y="5"/>
                  </a:lnTo>
                  <a:lnTo>
                    <a:pt x="337" y="14"/>
                  </a:lnTo>
                  <a:lnTo>
                    <a:pt x="334" y="21"/>
                  </a:lnTo>
                  <a:lnTo>
                    <a:pt x="327" y="26"/>
                  </a:lnTo>
                  <a:lnTo>
                    <a:pt x="318" y="26"/>
                  </a:lnTo>
                  <a:lnTo>
                    <a:pt x="311" y="21"/>
                  </a:lnTo>
                  <a:lnTo>
                    <a:pt x="307" y="14"/>
                  </a:lnTo>
                  <a:close/>
                  <a:moveTo>
                    <a:pt x="189" y="14"/>
                  </a:moveTo>
                  <a:lnTo>
                    <a:pt x="192" y="5"/>
                  </a:lnTo>
                  <a:lnTo>
                    <a:pt x="199" y="2"/>
                  </a:lnTo>
                  <a:lnTo>
                    <a:pt x="208" y="2"/>
                  </a:lnTo>
                  <a:lnTo>
                    <a:pt x="217" y="5"/>
                  </a:lnTo>
                  <a:lnTo>
                    <a:pt x="219" y="14"/>
                  </a:lnTo>
                  <a:lnTo>
                    <a:pt x="217" y="21"/>
                  </a:lnTo>
                  <a:lnTo>
                    <a:pt x="208" y="26"/>
                  </a:lnTo>
                  <a:lnTo>
                    <a:pt x="199" y="26"/>
                  </a:lnTo>
                  <a:lnTo>
                    <a:pt x="192" y="21"/>
                  </a:lnTo>
                  <a:lnTo>
                    <a:pt x="189" y="14"/>
                  </a:lnTo>
                  <a:close/>
                  <a:moveTo>
                    <a:pt x="72" y="14"/>
                  </a:moveTo>
                  <a:lnTo>
                    <a:pt x="76" y="5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99" y="5"/>
                  </a:lnTo>
                  <a:lnTo>
                    <a:pt x="102" y="14"/>
                  </a:lnTo>
                  <a:lnTo>
                    <a:pt x="99" y="21"/>
                  </a:lnTo>
                  <a:lnTo>
                    <a:pt x="92" y="26"/>
                  </a:lnTo>
                  <a:lnTo>
                    <a:pt x="83" y="26"/>
                  </a:lnTo>
                  <a:lnTo>
                    <a:pt x="76" y="21"/>
                  </a:lnTo>
                  <a:lnTo>
                    <a:pt x="72" y="14"/>
                  </a:lnTo>
                  <a:close/>
                  <a:moveTo>
                    <a:pt x="116" y="418"/>
                  </a:moveTo>
                  <a:lnTo>
                    <a:pt x="175" y="418"/>
                  </a:lnTo>
                  <a:lnTo>
                    <a:pt x="175" y="0"/>
                  </a:lnTo>
                  <a:lnTo>
                    <a:pt x="116" y="0"/>
                  </a:lnTo>
                  <a:lnTo>
                    <a:pt x="116" y="418"/>
                  </a:lnTo>
                  <a:close/>
                  <a:moveTo>
                    <a:pt x="233" y="418"/>
                  </a:moveTo>
                  <a:lnTo>
                    <a:pt x="293" y="418"/>
                  </a:lnTo>
                  <a:lnTo>
                    <a:pt x="293" y="0"/>
                  </a:lnTo>
                  <a:lnTo>
                    <a:pt x="233" y="0"/>
                  </a:lnTo>
                  <a:lnTo>
                    <a:pt x="233" y="418"/>
                  </a:lnTo>
                  <a:close/>
                  <a:moveTo>
                    <a:pt x="351" y="418"/>
                  </a:moveTo>
                  <a:lnTo>
                    <a:pt x="410" y="418"/>
                  </a:lnTo>
                  <a:lnTo>
                    <a:pt x="410" y="0"/>
                  </a:lnTo>
                  <a:lnTo>
                    <a:pt x="351" y="0"/>
                  </a:lnTo>
                  <a:lnTo>
                    <a:pt x="351" y="418"/>
                  </a:lnTo>
                  <a:close/>
                  <a:moveTo>
                    <a:pt x="468" y="418"/>
                  </a:moveTo>
                  <a:lnTo>
                    <a:pt x="526" y="418"/>
                  </a:lnTo>
                  <a:lnTo>
                    <a:pt x="526" y="0"/>
                  </a:lnTo>
                  <a:lnTo>
                    <a:pt x="468" y="0"/>
                  </a:lnTo>
                  <a:lnTo>
                    <a:pt x="468" y="418"/>
                  </a:lnTo>
                  <a:close/>
                  <a:moveTo>
                    <a:pt x="586" y="418"/>
                  </a:moveTo>
                  <a:lnTo>
                    <a:pt x="645" y="418"/>
                  </a:lnTo>
                  <a:lnTo>
                    <a:pt x="645" y="0"/>
                  </a:lnTo>
                  <a:lnTo>
                    <a:pt x="586" y="0"/>
                  </a:lnTo>
                  <a:lnTo>
                    <a:pt x="586" y="418"/>
                  </a:lnTo>
                  <a:close/>
                  <a:moveTo>
                    <a:pt x="703" y="418"/>
                  </a:moveTo>
                  <a:lnTo>
                    <a:pt x="761" y="418"/>
                  </a:lnTo>
                  <a:lnTo>
                    <a:pt x="761" y="0"/>
                  </a:lnTo>
                  <a:lnTo>
                    <a:pt x="703" y="0"/>
                  </a:lnTo>
                  <a:lnTo>
                    <a:pt x="703" y="418"/>
                  </a:lnTo>
                  <a:close/>
                  <a:moveTo>
                    <a:pt x="821" y="418"/>
                  </a:moveTo>
                  <a:lnTo>
                    <a:pt x="880" y="418"/>
                  </a:lnTo>
                  <a:lnTo>
                    <a:pt x="880" y="0"/>
                  </a:lnTo>
                  <a:lnTo>
                    <a:pt x="821" y="0"/>
                  </a:lnTo>
                  <a:lnTo>
                    <a:pt x="821" y="418"/>
                  </a:lnTo>
                  <a:close/>
                  <a:moveTo>
                    <a:pt x="0" y="418"/>
                  </a:moveTo>
                  <a:lnTo>
                    <a:pt x="58" y="418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68880" y="3166920"/>
              <a:ext cx="652320" cy="41400"/>
            </a:xfrm>
            <a:custGeom>
              <a:avLst/>
              <a:gdLst/>
              <a:ahLst/>
              <a:rect l="l" t="t" r="r" b="b"/>
              <a:pathLst>
                <a:path w="822" h="51">
                  <a:moveTo>
                    <a:pt x="705" y="51"/>
                  </a:moveTo>
                  <a:lnTo>
                    <a:pt x="822" y="51"/>
                  </a:lnTo>
                  <a:lnTo>
                    <a:pt x="822" y="0"/>
                  </a:lnTo>
                  <a:lnTo>
                    <a:pt x="705" y="0"/>
                  </a:lnTo>
                  <a:lnTo>
                    <a:pt x="705" y="51"/>
                  </a:lnTo>
                  <a:close/>
                  <a:moveTo>
                    <a:pt x="528" y="51"/>
                  </a:moveTo>
                  <a:lnTo>
                    <a:pt x="647" y="51"/>
                  </a:lnTo>
                  <a:lnTo>
                    <a:pt x="647" y="0"/>
                  </a:lnTo>
                  <a:lnTo>
                    <a:pt x="528" y="0"/>
                  </a:lnTo>
                  <a:lnTo>
                    <a:pt x="528" y="51"/>
                  </a:lnTo>
                  <a:close/>
                  <a:moveTo>
                    <a:pt x="352" y="51"/>
                  </a:moveTo>
                  <a:lnTo>
                    <a:pt x="470" y="51"/>
                  </a:lnTo>
                  <a:lnTo>
                    <a:pt x="470" y="0"/>
                  </a:lnTo>
                  <a:lnTo>
                    <a:pt x="352" y="0"/>
                  </a:lnTo>
                  <a:lnTo>
                    <a:pt x="352" y="51"/>
                  </a:lnTo>
                  <a:close/>
                  <a:moveTo>
                    <a:pt x="177" y="51"/>
                  </a:moveTo>
                  <a:lnTo>
                    <a:pt x="293" y="51"/>
                  </a:lnTo>
                  <a:lnTo>
                    <a:pt x="293" y="0"/>
                  </a:lnTo>
                  <a:lnTo>
                    <a:pt x="177" y="0"/>
                  </a:lnTo>
                  <a:lnTo>
                    <a:pt x="177" y="51"/>
                  </a:lnTo>
                  <a:close/>
                  <a:moveTo>
                    <a:pt x="0" y="51"/>
                  </a:moveTo>
                  <a:lnTo>
                    <a:pt x="118" y="51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65560" y="3287880"/>
              <a:ext cx="3780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09480" y="329724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181480" y="3505320"/>
              <a:ext cx="638280" cy="150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213520" y="3562200"/>
              <a:ext cx="31680" cy="39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52920" y="3562200"/>
              <a:ext cx="3333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81480" y="3524400"/>
              <a:ext cx="638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68760" y="3571920"/>
              <a:ext cx="303480" cy="20520"/>
            </a:xfrm>
            <a:custGeom>
              <a:avLst/>
              <a:gdLst/>
              <a:ahLst/>
              <a:rect l="l" t="t" r="r" b="b"/>
              <a:pathLst>
                <a:path w="382" h="25">
                  <a:moveTo>
                    <a:pt x="80" y="25"/>
                  </a:moveTo>
                  <a:lnTo>
                    <a:pt x="101" y="25"/>
                  </a:lnTo>
                  <a:lnTo>
                    <a:pt x="101" y="0"/>
                  </a:lnTo>
                  <a:lnTo>
                    <a:pt x="80" y="0"/>
                  </a:lnTo>
                  <a:lnTo>
                    <a:pt x="80" y="25"/>
                  </a:lnTo>
                  <a:close/>
                  <a:moveTo>
                    <a:pt x="41" y="25"/>
                  </a:moveTo>
                  <a:lnTo>
                    <a:pt x="60" y="25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41" y="25"/>
                  </a:lnTo>
                  <a:close/>
                  <a:moveTo>
                    <a:pt x="0" y="25"/>
                  </a:moveTo>
                  <a:lnTo>
                    <a:pt x="20" y="2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5"/>
                  </a:lnTo>
                  <a:close/>
                  <a:moveTo>
                    <a:pt x="142" y="25"/>
                  </a:moveTo>
                  <a:lnTo>
                    <a:pt x="161" y="25"/>
                  </a:lnTo>
                  <a:lnTo>
                    <a:pt x="161" y="0"/>
                  </a:lnTo>
                  <a:lnTo>
                    <a:pt x="142" y="0"/>
                  </a:lnTo>
                  <a:lnTo>
                    <a:pt x="142" y="25"/>
                  </a:lnTo>
                  <a:close/>
                  <a:moveTo>
                    <a:pt x="202" y="25"/>
                  </a:moveTo>
                  <a:lnTo>
                    <a:pt x="221" y="25"/>
                  </a:lnTo>
                  <a:lnTo>
                    <a:pt x="221" y="0"/>
                  </a:lnTo>
                  <a:lnTo>
                    <a:pt x="202" y="0"/>
                  </a:lnTo>
                  <a:lnTo>
                    <a:pt x="202" y="25"/>
                  </a:lnTo>
                  <a:close/>
                  <a:moveTo>
                    <a:pt x="241" y="25"/>
                  </a:moveTo>
                  <a:lnTo>
                    <a:pt x="262" y="25"/>
                  </a:lnTo>
                  <a:lnTo>
                    <a:pt x="262" y="0"/>
                  </a:lnTo>
                  <a:lnTo>
                    <a:pt x="241" y="0"/>
                  </a:lnTo>
                  <a:lnTo>
                    <a:pt x="241" y="25"/>
                  </a:lnTo>
                  <a:close/>
                  <a:moveTo>
                    <a:pt x="281" y="25"/>
                  </a:moveTo>
                  <a:lnTo>
                    <a:pt x="303" y="25"/>
                  </a:lnTo>
                  <a:lnTo>
                    <a:pt x="303" y="0"/>
                  </a:lnTo>
                  <a:lnTo>
                    <a:pt x="281" y="0"/>
                  </a:lnTo>
                  <a:lnTo>
                    <a:pt x="281" y="25"/>
                  </a:lnTo>
                  <a:close/>
                  <a:moveTo>
                    <a:pt x="322" y="25"/>
                  </a:moveTo>
                  <a:lnTo>
                    <a:pt x="341" y="25"/>
                  </a:lnTo>
                  <a:lnTo>
                    <a:pt x="341" y="0"/>
                  </a:lnTo>
                  <a:lnTo>
                    <a:pt x="322" y="0"/>
                  </a:lnTo>
                  <a:lnTo>
                    <a:pt x="322" y="25"/>
                  </a:lnTo>
                  <a:close/>
                  <a:moveTo>
                    <a:pt x="363" y="25"/>
                  </a:moveTo>
                  <a:lnTo>
                    <a:pt x="382" y="25"/>
                  </a:lnTo>
                  <a:lnTo>
                    <a:pt x="382" y="0"/>
                  </a:lnTo>
                  <a:lnTo>
                    <a:pt x="363" y="0"/>
                  </a:lnTo>
                  <a:lnTo>
                    <a:pt x="36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065560" y="3693960"/>
              <a:ext cx="297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06600" y="370188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95760" y="3249720"/>
              <a:ext cx="180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884760" y="2028960"/>
              <a:ext cx="1611000" cy="636480"/>
            </a:xfrm>
            <a:custGeom>
              <a:avLst/>
              <a:gdLst/>
              <a:ahLst/>
              <a:rect l="l" t="t" r="r" b="b"/>
              <a:pathLst>
                <a:path w="2031" h="801">
                  <a:moveTo>
                    <a:pt x="0" y="0"/>
                  </a:moveTo>
                  <a:lnTo>
                    <a:pt x="2031" y="0"/>
                  </a:lnTo>
                  <a:lnTo>
                    <a:pt x="2031" y="80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64080" y="2657520"/>
              <a:ext cx="65160" cy="968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1" y="0"/>
                  </a:moveTo>
                  <a:lnTo>
                    <a:pt x="41" y="121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745160" y="1852560"/>
              <a:ext cx="5680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96640" y="186048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62880" y="1973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60080" y="20844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448320" y="2365200"/>
              <a:ext cx="381240" cy="2373480"/>
            </a:xfrm>
            <a:custGeom>
              <a:avLst/>
              <a:gdLst/>
              <a:ahLst/>
              <a:rect l="l" t="t" r="r" b="b"/>
              <a:pathLst>
                <a:path w="479" h="2991">
                  <a:moveTo>
                    <a:pt x="479" y="0"/>
                  </a:moveTo>
                  <a:lnTo>
                    <a:pt x="479" y="2991"/>
                  </a:lnTo>
                  <a:lnTo>
                    <a:pt x="0" y="299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11120" y="1000080"/>
              <a:ext cx="908280" cy="380880"/>
            </a:xfrm>
            <a:custGeom>
              <a:avLst/>
              <a:gdLst/>
              <a:ahLst/>
              <a:rect l="l" t="t" r="r" b="b"/>
              <a:pathLst>
                <a:path w="1143" h="478">
                  <a:moveTo>
                    <a:pt x="0" y="0"/>
                  </a:moveTo>
                  <a:lnTo>
                    <a:pt x="1143" y="0"/>
                  </a:lnTo>
                  <a:lnTo>
                    <a:pt x="1143" y="4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1649520" y="2765520"/>
            <a:ext cx="569880" cy="1212840"/>
          </a:xfrm>
          <a:custGeom>
            <a:avLst/>
            <a:gdLst/>
            <a:ahLst/>
            <a:rect l="l" t="t" r="r" b="b"/>
            <a:pathLst>
              <a:path w="717" h="1529">
                <a:moveTo>
                  <a:pt x="717" y="0"/>
                </a:moveTo>
                <a:lnTo>
                  <a:pt x="717" y="1529"/>
                </a:lnTo>
                <a:lnTo>
                  <a:pt x="0" y="15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187720" y="2676600"/>
            <a:ext cx="63360" cy="96840"/>
          </a:xfrm>
          <a:custGeom>
            <a:avLst/>
            <a:gdLst/>
            <a:ahLst/>
            <a:rect l="l" t="t" r="r" b="b"/>
            <a:pathLst>
              <a:path w="81" h="122">
                <a:moveTo>
                  <a:pt x="0" y="122"/>
                </a:moveTo>
                <a:lnTo>
                  <a:pt x="40" y="0"/>
                </a:lnTo>
                <a:lnTo>
                  <a:pt x="81" y="12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62040" y="3946680"/>
            <a:ext cx="96840" cy="6480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22" y="81"/>
                </a:moveTo>
                <a:lnTo>
                  <a:pt x="0" y="41"/>
                </a:lnTo>
                <a:lnTo>
                  <a:pt x="122" y="0"/>
                </a:lnTo>
                <a:lnTo>
                  <a:pt x="122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976480" y="933480"/>
            <a:ext cx="324000" cy="447480"/>
          </a:xfrm>
          <a:custGeom>
            <a:avLst/>
            <a:gdLst/>
            <a:ahLst/>
            <a:rect l="l" t="t" r="r" b="b"/>
            <a:pathLst>
              <a:path w="408" h="563">
                <a:moveTo>
                  <a:pt x="408" y="0"/>
                </a:moveTo>
                <a:lnTo>
                  <a:pt x="408" y="157"/>
                </a:lnTo>
                <a:lnTo>
                  <a:pt x="0" y="157"/>
                </a:lnTo>
                <a:lnTo>
                  <a:pt x="0" y="56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146240" y="4738680"/>
            <a:ext cx="663480" cy="662040"/>
          </a:xfrm>
          <a:custGeom>
            <a:avLst/>
            <a:gdLst/>
            <a:ahLst/>
            <a:rect l="l" t="t" r="r" b="b"/>
            <a:pathLst>
              <a:path w="836" h="833">
                <a:moveTo>
                  <a:pt x="251" y="492"/>
                </a:moveTo>
                <a:lnTo>
                  <a:pt x="585" y="492"/>
                </a:lnTo>
                <a:lnTo>
                  <a:pt x="585" y="455"/>
                </a:lnTo>
                <a:lnTo>
                  <a:pt x="251" y="455"/>
                </a:lnTo>
                <a:lnTo>
                  <a:pt x="251" y="492"/>
                </a:lnTo>
                <a:close/>
                <a:moveTo>
                  <a:pt x="85" y="455"/>
                </a:moveTo>
                <a:lnTo>
                  <a:pt x="751" y="455"/>
                </a:lnTo>
                <a:lnTo>
                  <a:pt x="751" y="0"/>
                </a:lnTo>
                <a:lnTo>
                  <a:pt x="85" y="0"/>
                </a:lnTo>
                <a:lnTo>
                  <a:pt x="85" y="455"/>
                </a:lnTo>
                <a:close/>
                <a:moveTo>
                  <a:pt x="168" y="607"/>
                </a:moveTo>
                <a:lnTo>
                  <a:pt x="668" y="607"/>
                </a:lnTo>
                <a:lnTo>
                  <a:pt x="668" y="492"/>
                </a:lnTo>
                <a:lnTo>
                  <a:pt x="168" y="492"/>
                </a:lnTo>
                <a:lnTo>
                  <a:pt x="168" y="607"/>
                </a:lnTo>
                <a:close/>
                <a:moveTo>
                  <a:pt x="628" y="607"/>
                </a:moveTo>
                <a:lnTo>
                  <a:pt x="244" y="607"/>
                </a:lnTo>
                <a:lnTo>
                  <a:pt x="0" y="607"/>
                </a:lnTo>
                <a:lnTo>
                  <a:pt x="0" y="833"/>
                </a:lnTo>
                <a:lnTo>
                  <a:pt x="836" y="833"/>
                </a:lnTo>
                <a:lnTo>
                  <a:pt x="836" y="607"/>
                </a:lnTo>
                <a:lnTo>
                  <a:pt x="628" y="607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362240" y="5265720"/>
            <a:ext cx="99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63520" y="5237280"/>
            <a:ext cx="50760" cy="2844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4" y="9"/>
                </a:lnTo>
                <a:lnTo>
                  <a:pt x="13" y="4"/>
                </a:lnTo>
                <a:lnTo>
                  <a:pt x="25" y="0"/>
                </a:lnTo>
                <a:lnTo>
                  <a:pt x="39" y="0"/>
                </a:lnTo>
                <a:lnTo>
                  <a:pt x="52" y="4"/>
                </a:lnTo>
                <a:lnTo>
                  <a:pt x="61" y="9"/>
                </a:lnTo>
                <a:lnTo>
                  <a:pt x="64" y="18"/>
                </a:lnTo>
                <a:lnTo>
                  <a:pt x="61" y="27"/>
                </a:lnTo>
                <a:lnTo>
                  <a:pt x="52" y="32"/>
                </a:lnTo>
                <a:lnTo>
                  <a:pt x="39" y="37"/>
                </a:lnTo>
                <a:lnTo>
                  <a:pt x="25" y="37"/>
                </a:lnTo>
                <a:lnTo>
                  <a:pt x="13" y="32"/>
                </a:lnTo>
                <a:lnTo>
                  <a:pt x="4" y="27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79440" y="4799160"/>
            <a:ext cx="397080" cy="2412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63520" y="5356080"/>
            <a:ext cx="628920" cy="3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27280" y="5235480"/>
            <a:ext cx="31680" cy="4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146240" y="529596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146240" y="532620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34604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7780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1544760" y="522108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76520" y="522144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19320" y="5440320"/>
            <a:ext cx="51732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268280" y="5448240"/>
            <a:ext cx="46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09720" y="4738680"/>
            <a:ext cx="514440" cy="552600"/>
          </a:xfrm>
          <a:custGeom>
            <a:avLst/>
            <a:gdLst/>
            <a:ahLst/>
            <a:rect l="l" t="t" r="r" b="b"/>
            <a:pathLst>
              <a:path w="647" h="695">
                <a:moveTo>
                  <a:pt x="647" y="0"/>
                </a:moveTo>
                <a:lnTo>
                  <a:pt x="492" y="0"/>
                </a:lnTo>
                <a:lnTo>
                  <a:pt x="492" y="695"/>
                </a:lnTo>
                <a:lnTo>
                  <a:pt x="0" y="6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19400" y="1380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74840" y="1474920"/>
            <a:ext cx="3348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28840" y="15685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384280" y="16621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438280" y="1755720"/>
            <a:ext cx="349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494080" y="18493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549520" y="19447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3520" y="20383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658960" y="2131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714760" y="2225520"/>
            <a:ext cx="3312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770200" y="2320920"/>
            <a:ext cx="3348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824200" y="2416320"/>
            <a:ext cx="3492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79640" y="2509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935440" y="2604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76480" y="138096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065400" y="1442880"/>
            <a:ext cx="54000" cy="3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154320" y="150660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241800" y="1571760"/>
            <a:ext cx="55440" cy="3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30720" y="1633680"/>
            <a:ext cx="540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19640" y="1697040"/>
            <a:ext cx="536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8200" y="176040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97120" y="1824120"/>
            <a:ext cx="540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686040" y="188748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774960" y="1951200"/>
            <a:ext cx="558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863880" y="2014560"/>
            <a:ext cx="208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29200" y="391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129200" y="423864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129200" y="439092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129200" y="454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129200" y="487044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129200" y="502128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29200" y="517212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129200" y="550080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29200" y="5651640"/>
            <a:ext cx="144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29200" y="1595520"/>
            <a:ext cx="496800" cy="396720"/>
          </a:xfrm>
          <a:custGeom>
            <a:avLst/>
            <a:gdLst/>
            <a:ahLst/>
            <a:rect l="l" t="t" r="r" b="b"/>
            <a:pathLst>
              <a:path w="627" h="499">
                <a:moveTo>
                  <a:pt x="0" y="250"/>
                </a:moveTo>
                <a:lnTo>
                  <a:pt x="3" y="212"/>
                </a:lnTo>
                <a:lnTo>
                  <a:pt x="14" y="176"/>
                </a:lnTo>
                <a:lnTo>
                  <a:pt x="31" y="141"/>
                </a:lnTo>
                <a:lnTo>
                  <a:pt x="54" y="109"/>
                </a:lnTo>
                <a:lnTo>
                  <a:pt x="84" y="79"/>
                </a:lnTo>
                <a:lnTo>
                  <a:pt x="118" y="55"/>
                </a:lnTo>
                <a:lnTo>
                  <a:pt x="157" y="33"/>
                </a:lnTo>
                <a:lnTo>
                  <a:pt x="199" y="17"/>
                </a:lnTo>
                <a:lnTo>
                  <a:pt x="243" y="5"/>
                </a:lnTo>
                <a:lnTo>
                  <a:pt x="289" y="0"/>
                </a:lnTo>
                <a:lnTo>
                  <a:pt x="337" y="0"/>
                </a:lnTo>
                <a:lnTo>
                  <a:pt x="383" y="5"/>
                </a:lnTo>
                <a:lnTo>
                  <a:pt x="427" y="17"/>
                </a:lnTo>
                <a:lnTo>
                  <a:pt x="470" y="33"/>
                </a:lnTo>
                <a:lnTo>
                  <a:pt x="509" y="55"/>
                </a:lnTo>
                <a:lnTo>
                  <a:pt x="542" y="79"/>
                </a:lnTo>
                <a:lnTo>
                  <a:pt x="572" y="109"/>
                </a:lnTo>
                <a:lnTo>
                  <a:pt x="595" y="141"/>
                </a:lnTo>
                <a:lnTo>
                  <a:pt x="613" y="176"/>
                </a:lnTo>
                <a:lnTo>
                  <a:pt x="623" y="212"/>
                </a:lnTo>
                <a:lnTo>
                  <a:pt x="627" y="250"/>
                </a:lnTo>
                <a:lnTo>
                  <a:pt x="623" y="288"/>
                </a:lnTo>
                <a:lnTo>
                  <a:pt x="613" y="323"/>
                </a:lnTo>
                <a:lnTo>
                  <a:pt x="595" y="358"/>
                </a:lnTo>
                <a:lnTo>
                  <a:pt x="572" y="390"/>
                </a:lnTo>
                <a:lnTo>
                  <a:pt x="542" y="420"/>
                </a:lnTo>
                <a:lnTo>
                  <a:pt x="509" y="445"/>
                </a:lnTo>
                <a:lnTo>
                  <a:pt x="470" y="466"/>
                </a:lnTo>
                <a:lnTo>
                  <a:pt x="427" y="483"/>
                </a:lnTo>
                <a:lnTo>
                  <a:pt x="383" y="494"/>
                </a:lnTo>
                <a:lnTo>
                  <a:pt x="337" y="499"/>
                </a:lnTo>
                <a:lnTo>
                  <a:pt x="289" y="499"/>
                </a:lnTo>
                <a:lnTo>
                  <a:pt x="243" y="494"/>
                </a:lnTo>
                <a:lnTo>
                  <a:pt x="199" y="483"/>
                </a:lnTo>
                <a:lnTo>
                  <a:pt x="157" y="466"/>
                </a:lnTo>
                <a:lnTo>
                  <a:pt x="118" y="445"/>
                </a:lnTo>
                <a:lnTo>
                  <a:pt x="84" y="420"/>
                </a:lnTo>
                <a:lnTo>
                  <a:pt x="54" y="390"/>
                </a:lnTo>
                <a:lnTo>
                  <a:pt x="31" y="358"/>
                </a:lnTo>
                <a:lnTo>
                  <a:pt x="14" y="323"/>
                </a:lnTo>
                <a:lnTo>
                  <a:pt x="3" y="288"/>
                </a:lnTo>
                <a:lnTo>
                  <a:pt x="0" y="250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357440" y="1693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52800" y="2836800"/>
            <a:ext cx="496800" cy="496800"/>
          </a:xfrm>
          <a:custGeom>
            <a:avLst/>
            <a:gdLst/>
            <a:ahLst/>
            <a:rect l="l" t="t" r="r" b="b"/>
            <a:pathLst>
              <a:path w="626" h="625">
                <a:moveTo>
                  <a:pt x="0" y="313"/>
                </a:moveTo>
                <a:lnTo>
                  <a:pt x="4" y="265"/>
                </a:lnTo>
                <a:lnTo>
                  <a:pt x="12" y="221"/>
                </a:lnTo>
                <a:lnTo>
                  <a:pt x="30" y="177"/>
                </a:lnTo>
                <a:lnTo>
                  <a:pt x="53" y="136"/>
                </a:lnTo>
                <a:lnTo>
                  <a:pt x="83" y="99"/>
                </a:lnTo>
                <a:lnTo>
                  <a:pt x="117" y="67"/>
                </a:lnTo>
                <a:lnTo>
                  <a:pt x="156" y="41"/>
                </a:lnTo>
                <a:lnTo>
                  <a:pt x="198" y="22"/>
                </a:lnTo>
                <a:lnTo>
                  <a:pt x="242" y="7"/>
                </a:lnTo>
                <a:lnTo>
                  <a:pt x="288" y="0"/>
                </a:lnTo>
                <a:lnTo>
                  <a:pt x="336" y="0"/>
                </a:lnTo>
                <a:lnTo>
                  <a:pt x="382" y="7"/>
                </a:lnTo>
                <a:lnTo>
                  <a:pt x="426" y="22"/>
                </a:lnTo>
                <a:lnTo>
                  <a:pt x="468" y="41"/>
                </a:lnTo>
                <a:lnTo>
                  <a:pt x="507" y="67"/>
                </a:lnTo>
                <a:lnTo>
                  <a:pt x="543" y="99"/>
                </a:lnTo>
                <a:lnTo>
                  <a:pt x="571" y="136"/>
                </a:lnTo>
                <a:lnTo>
                  <a:pt x="594" y="177"/>
                </a:lnTo>
                <a:lnTo>
                  <a:pt x="612" y="221"/>
                </a:lnTo>
                <a:lnTo>
                  <a:pt x="622" y="265"/>
                </a:lnTo>
                <a:lnTo>
                  <a:pt x="626" y="313"/>
                </a:lnTo>
                <a:lnTo>
                  <a:pt x="622" y="359"/>
                </a:lnTo>
                <a:lnTo>
                  <a:pt x="612" y="405"/>
                </a:lnTo>
                <a:lnTo>
                  <a:pt x="594" y="449"/>
                </a:lnTo>
                <a:lnTo>
                  <a:pt x="571" y="489"/>
                </a:lnTo>
                <a:lnTo>
                  <a:pt x="543" y="525"/>
                </a:lnTo>
                <a:lnTo>
                  <a:pt x="507" y="556"/>
                </a:lnTo>
                <a:lnTo>
                  <a:pt x="468" y="583"/>
                </a:lnTo>
                <a:lnTo>
                  <a:pt x="426" y="604"/>
                </a:lnTo>
                <a:lnTo>
                  <a:pt x="382" y="618"/>
                </a:lnTo>
                <a:lnTo>
                  <a:pt x="336" y="625"/>
                </a:lnTo>
                <a:lnTo>
                  <a:pt x="288" y="625"/>
                </a:lnTo>
                <a:lnTo>
                  <a:pt x="242" y="618"/>
                </a:lnTo>
                <a:lnTo>
                  <a:pt x="198" y="604"/>
                </a:lnTo>
                <a:lnTo>
                  <a:pt x="156" y="583"/>
                </a:lnTo>
                <a:lnTo>
                  <a:pt x="117" y="556"/>
                </a:lnTo>
                <a:lnTo>
                  <a:pt x="83" y="525"/>
                </a:lnTo>
                <a:lnTo>
                  <a:pt x="53" y="489"/>
                </a:lnTo>
                <a:lnTo>
                  <a:pt x="30" y="449"/>
                </a:lnTo>
                <a:lnTo>
                  <a:pt x="12" y="405"/>
                </a:lnTo>
                <a:lnTo>
                  <a:pt x="4" y="359"/>
                </a:lnTo>
                <a:lnTo>
                  <a:pt x="0" y="313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81040" y="2982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644480" y="2919240"/>
            <a:ext cx="497160" cy="497160"/>
          </a:xfrm>
          <a:custGeom>
            <a:avLst/>
            <a:gdLst/>
            <a:ahLst/>
            <a:rect l="l" t="t" r="r" b="b"/>
            <a:pathLst>
              <a:path w="625" h="624">
                <a:moveTo>
                  <a:pt x="0" y="312"/>
                </a:moveTo>
                <a:lnTo>
                  <a:pt x="3" y="266"/>
                </a:lnTo>
                <a:lnTo>
                  <a:pt x="12" y="220"/>
                </a:lnTo>
                <a:lnTo>
                  <a:pt x="30" y="176"/>
                </a:lnTo>
                <a:lnTo>
                  <a:pt x="53" y="135"/>
                </a:lnTo>
                <a:lnTo>
                  <a:pt x="83" y="98"/>
                </a:lnTo>
                <a:lnTo>
                  <a:pt x="116" y="67"/>
                </a:lnTo>
                <a:lnTo>
                  <a:pt x="155" y="40"/>
                </a:lnTo>
                <a:lnTo>
                  <a:pt x="198" y="21"/>
                </a:lnTo>
                <a:lnTo>
                  <a:pt x="242" y="7"/>
                </a:lnTo>
                <a:lnTo>
                  <a:pt x="289" y="0"/>
                </a:lnTo>
                <a:lnTo>
                  <a:pt x="335" y="0"/>
                </a:lnTo>
                <a:lnTo>
                  <a:pt x="381" y="7"/>
                </a:lnTo>
                <a:lnTo>
                  <a:pt x="427" y="21"/>
                </a:lnTo>
                <a:lnTo>
                  <a:pt x="468" y="40"/>
                </a:lnTo>
                <a:lnTo>
                  <a:pt x="507" y="67"/>
                </a:lnTo>
                <a:lnTo>
                  <a:pt x="542" y="98"/>
                </a:lnTo>
                <a:lnTo>
                  <a:pt x="570" y="135"/>
                </a:lnTo>
                <a:lnTo>
                  <a:pt x="593" y="176"/>
                </a:lnTo>
                <a:lnTo>
                  <a:pt x="611" y="220"/>
                </a:lnTo>
                <a:lnTo>
                  <a:pt x="622" y="266"/>
                </a:lnTo>
                <a:lnTo>
                  <a:pt x="625" y="312"/>
                </a:lnTo>
                <a:lnTo>
                  <a:pt x="622" y="358"/>
                </a:lnTo>
                <a:lnTo>
                  <a:pt x="611" y="404"/>
                </a:lnTo>
                <a:lnTo>
                  <a:pt x="593" y="448"/>
                </a:lnTo>
                <a:lnTo>
                  <a:pt x="570" y="488"/>
                </a:lnTo>
                <a:lnTo>
                  <a:pt x="542" y="524"/>
                </a:lnTo>
                <a:lnTo>
                  <a:pt x="507" y="555"/>
                </a:lnTo>
                <a:lnTo>
                  <a:pt x="468" y="582"/>
                </a:lnTo>
                <a:lnTo>
                  <a:pt x="427" y="603"/>
                </a:lnTo>
                <a:lnTo>
                  <a:pt x="381" y="617"/>
                </a:lnTo>
                <a:lnTo>
                  <a:pt x="335" y="624"/>
                </a:lnTo>
                <a:lnTo>
                  <a:pt x="289" y="624"/>
                </a:lnTo>
                <a:lnTo>
                  <a:pt x="242" y="617"/>
                </a:lnTo>
                <a:lnTo>
                  <a:pt x="198" y="603"/>
                </a:lnTo>
                <a:lnTo>
                  <a:pt x="155" y="582"/>
                </a:lnTo>
                <a:lnTo>
                  <a:pt x="116" y="555"/>
                </a:lnTo>
                <a:lnTo>
                  <a:pt x="83" y="524"/>
                </a:lnTo>
                <a:lnTo>
                  <a:pt x="53" y="488"/>
                </a:lnTo>
                <a:lnTo>
                  <a:pt x="30" y="448"/>
                </a:lnTo>
                <a:lnTo>
                  <a:pt x="12" y="404"/>
                </a:lnTo>
                <a:lnTo>
                  <a:pt x="3" y="358"/>
                </a:ln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72720" y="3065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3960" y="603360"/>
            <a:ext cx="165240" cy="198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76560" y="615960"/>
            <a:ext cx="47880" cy="173160"/>
          </a:xfrm>
          <a:custGeom>
            <a:avLst/>
            <a:gdLst/>
            <a:ahLst/>
            <a:rect l="l" t="t" r="r" b="b"/>
            <a:pathLst>
              <a:path w="60" h="218">
                <a:moveTo>
                  <a:pt x="0" y="47"/>
                </a:moveTo>
                <a:lnTo>
                  <a:pt x="0" y="8"/>
                </a:lnTo>
                <a:lnTo>
                  <a:pt x="9" y="0"/>
                </a:lnTo>
                <a:lnTo>
                  <a:pt x="53" y="0"/>
                </a:lnTo>
                <a:lnTo>
                  <a:pt x="60" y="8"/>
                </a:lnTo>
                <a:lnTo>
                  <a:pt x="60" y="47"/>
                </a:lnTo>
                <a:lnTo>
                  <a:pt x="53" y="63"/>
                </a:lnTo>
                <a:lnTo>
                  <a:pt x="53" y="157"/>
                </a:lnTo>
                <a:lnTo>
                  <a:pt x="60" y="172"/>
                </a:lnTo>
                <a:lnTo>
                  <a:pt x="60" y="211"/>
                </a:lnTo>
                <a:lnTo>
                  <a:pt x="53" y="218"/>
                </a:lnTo>
                <a:lnTo>
                  <a:pt x="9" y="218"/>
                </a:lnTo>
                <a:lnTo>
                  <a:pt x="0" y="211"/>
                </a:lnTo>
                <a:lnTo>
                  <a:pt x="0" y="172"/>
                </a:lnTo>
                <a:lnTo>
                  <a:pt x="9" y="157"/>
                </a:lnTo>
                <a:lnTo>
                  <a:pt x="9" y="63"/>
                </a:lnTo>
                <a:lnTo>
                  <a:pt x="0" y="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038480" y="615960"/>
            <a:ext cx="76320" cy="173160"/>
          </a:xfrm>
          <a:custGeom>
            <a:avLst/>
            <a:gdLst/>
            <a:ahLst/>
            <a:rect l="l" t="t" r="r" b="b"/>
            <a:pathLst>
              <a:path w="96" h="218">
                <a:moveTo>
                  <a:pt x="0" y="79"/>
                </a:moveTo>
                <a:lnTo>
                  <a:pt x="45" y="79"/>
                </a:lnTo>
                <a:lnTo>
                  <a:pt x="45" y="0"/>
                </a:lnTo>
                <a:lnTo>
                  <a:pt x="0" y="0"/>
                </a:lnTo>
                <a:lnTo>
                  <a:pt x="0" y="79"/>
                </a:lnTo>
                <a:close/>
                <a:moveTo>
                  <a:pt x="53" y="79"/>
                </a:moveTo>
                <a:lnTo>
                  <a:pt x="96" y="79"/>
                </a:lnTo>
                <a:lnTo>
                  <a:pt x="96" y="0"/>
                </a:lnTo>
                <a:lnTo>
                  <a:pt x="53" y="0"/>
                </a:lnTo>
                <a:lnTo>
                  <a:pt x="53" y="79"/>
                </a:lnTo>
                <a:close/>
                <a:moveTo>
                  <a:pt x="0" y="218"/>
                </a:moveTo>
                <a:lnTo>
                  <a:pt x="96" y="218"/>
                </a:lnTo>
                <a:lnTo>
                  <a:pt x="96" y="141"/>
                </a:lnTo>
                <a:lnTo>
                  <a:pt x="0" y="141"/>
                </a:lnTo>
                <a:lnTo>
                  <a:pt x="0" y="21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038480" y="7142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038480" y="70956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038480" y="7016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38480" y="69696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038480" y="69048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81320" y="63036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81320" y="66204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81320" y="64620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63036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38480" y="66204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038480" y="64620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038480" y="7732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038480" y="7588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038480" y="74304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089240" y="727200"/>
            <a:ext cx="180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064040" y="727200"/>
            <a:ext cx="144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17800" y="839880"/>
            <a:ext cx="4590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65680" y="84780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49600" y="701640"/>
            <a:ext cx="414360" cy="108000"/>
          </a:xfrm>
          <a:custGeom>
            <a:avLst/>
            <a:gdLst/>
            <a:ahLst/>
            <a:rect l="l" t="t" r="r" b="b"/>
            <a:pathLst>
              <a:path w="521" h="136">
                <a:moveTo>
                  <a:pt x="521" y="0"/>
                </a:moveTo>
                <a:lnTo>
                  <a:pt x="365" y="0"/>
                </a:lnTo>
                <a:lnTo>
                  <a:pt x="365" y="136"/>
                </a:lnTo>
                <a:lnTo>
                  <a:pt x="0" y="1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AAA-33B1-4FF9-BF22-6C5A498BB179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void regulatory arbitrag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ries banning Internet telephony may deprive their economies of major opportun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VoIP must not be introduced outside the general regulatory framework solely on account of the technology us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conomic efficiency of VoIP could be reduced if the rules of cost orientation are not applied to all segments of the network, wherever necessa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ver there is an access deficit, equitable allocation of the USO costs to all network operators, including VoIP providers, will be decisive for the general growth of the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18C-1AD2-4BC9-AF75-3CC739BBC6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bregional to internat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from a subregional correspondent to a non-subregional international correspond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gateway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bregional to subreg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between two subregional correspond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gateway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9F4-6789-48C9-B488-B96462B3FF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ypes of VoIP call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different kinds of VoIP cal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1: a national end-user calling via link A (computer-to-computer/telephone)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2: a national end-user calling via link B (telephone-to-telephone)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3: an international ISP calling via link A (computer-to-computer termination: the connection must first be established locally)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4: an international ISP calling via link B (computer/telephone-to-telephone termination)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9F7-E104-4EA2-B7C6-010788F9D8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Fraudulent link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VoIP gateway of the ISP or the mobile network is connected to the network through subscriber lines and terminates calls on the latter at the price of a domestic call, the interconnection interface would no longer be in conformity with interconnection rul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be done by deviating normal telephone lines from their normal func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void this, type “A” links should be dedicated outgoing,  and consumption of type “C” links should be regularly monito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D8C-1478-496A-A8F9-06BAAE3CBE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762120" y="255600"/>
            <a:ext cx="7391160" cy="615636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1447920" y="3556080"/>
            <a:ext cx="1447560" cy="558720"/>
          </a:xfrm>
          <a:custGeom>
            <a:avLst/>
            <a:gdLst/>
            <a:ahLst/>
            <a:rect l="l" t="t" r="r" b="b"/>
            <a:pathLst>
              <a:path w="912" h="352">
                <a:moveTo>
                  <a:pt x="96" y="256"/>
                </a:moveTo>
                <a:cubicBezTo>
                  <a:pt x="48" y="228"/>
                  <a:pt x="0" y="200"/>
                  <a:pt x="0" y="160"/>
                </a:cubicBezTo>
                <a:cubicBezTo>
                  <a:pt x="0" y="120"/>
                  <a:pt x="40" y="32"/>
                  <a:pt x="96" y="16"/>
                </a:cubicBezTo>
                <a:cubicBezTo>
                  <a:pt x="152" y="0"/>
                  <a:pt x="240" y="32"/>
                  <a:pt x="336" y="64"/>
                </a:cubicBezTo>
                <a:cubicBezTo>
                  <a:pt x="432" y="96"/>
                  <a:pt x="576" y="160"/>
                  <a:pt x="672" y="208"/>
                </a:cubicBezTo>
                <a:cubicBezTo>
                  <a:pt x="768" y="256"/>
                  <a:pt x="872" y="336"/>
                  <a:pt x="912" y="35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8B3-3626-41EC-A201-0D41BB0B9F2B}" type="slidenum">
              <a:t>7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nalysis of C1 type calls (computer-to- computer/telephone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d user pays the price of a national call in order to access the ISP’s mode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re is an access deficit, the call will be subsidized but since it is an end-to-end domestic call, the Internet access will be treated as a value-added service, so no measures are needed for outgoing VoIP calls using this lin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a business-rate monthly subscription should be applied to the lines of this bundle. To avoid fraud, the lines should be dedicated outg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DC6-3EE7-4C44-B9EC-7C1E46D710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762120" y="255600"/>
            <a:ext cx="7391160" cy="615636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2819520" y="914400"/>
            <a:ext cx="2857320" cy="1828800"/>
          </a:xfrm>
          <a:custGeom>
            <a:avLst/>
            <a:gdLst/>
            <a:ahLst/>
            <a:rect l="l" t="t" r="r" b="b"/>
            <a:pathLst>
              <a:path w="1800" h="1152">
                <a:moveTo>
                  <a:pt x="288" y="0"/>
                </a:moveTo>
                <a:cubicBezTo>
                  <a:pt x="304" y="40"/>
                  <a:pt x="320" y="80"/>
                  <a:pt x="288" y="96"/>
                </a:cubicBezTo>
                <a:cubicBezTo>
                  <a:pt x="256" y="112"/>
                  <a:pt x="128" y="64"/>
                  <a:pt x="96" y="96"/>
                </a:cubicBezTo>
                <a:cubicBezTo>
                  <a:pt x="64" y="128"/>
                  <a:pt x="0" y="184"/>
                  <a:pt x="96" y="288"/>
                </a:cubicBezTo>
                <a:cubicBezTo>
                  <a:pt x="192" y="392"/>
                  <a:pt x="416" y="648"/>
                  <a:pt x="672" y="720"/>
                </a:cubicBezTo>
                <a:cubicBezTo>
                  <a:pt x="928" y="792"/>
                  <a:pt x="1464" y="648"/>
                  <a:pt x="1632" y="720"/>
                </a:cubicBezTo>
                <a:cubicBezTo>
                  <a:pt x="1800" y="792"/>
                  <a:pt x="1740" y="972"/>
                  <a:pt x="1680" y="1152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C1D-A10B-461E-BD7F-B19F5A36AEFB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nalysis of type C2 calls (telephone to telephone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 “B” links obey the interconnection rul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elephone network operator will bear the cost of an outgoing national call, the endogenous cost of which can easily be calculated with COSIT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akes account not only of CAPEX, OPEX and the costs of capital, but also taxes and part of the USO cos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ing on who collects the customer’s payments (direct/cascade method), there may be several types of arrangements between TPH and VoIP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676-B147-4D60-B29D-B786E2015C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816120" y="2422440"/>
            <a:ext cx="5798880" cy="3971880"/>
            <a:chOff x="816120" y="2422440"/>
            <a:chExt cx="5798880" cy="3971880"/>
          </a:xfrm>
        </p:grpSpPr>
        <p:sp>
          <p:nvSpPr>
            <p:cNvPr id="1131" name=""/>
            <p:cNvSpPr/>
            <p:nvPr/>
          </p:nvSpPr>
          <p:spPr>
            <a:xfrm>
              <a:off x="816120" y="2422440"/>
              <a:ext cx="5798880" cy="3971880"/>
            </a:xfrm>
            <a:custGeom>
              <a:avLst/>
              <a:gdLst/>
              <a:ahLst/>
              <a:rect l="l" t="t" r="r" b="b"/>
              <a:pathLst>
                <a:path w="7306" h="5003">
                  <a:moveTo>
                    <a:pt x="0" y="1459"/>
                  </a:moveTo>
                  <a:lnTo>
                    <a:pt x="4592" y="1459"/>
                  </a:lnTo>
                  <a:lnTo>
                    <a:pt x="4592" y="0"/>
                  </a:lnTo>
                  <a:lnTo>
                    <a:pt x="7306" y="0"/>
                  </a:lnTo>
                  <a:lnTo>
                    <a:pt x="7306" y="5003"/>
                  </a:lnTo>
                  <a:lnTo>
                    <a:pt x="0" y="5003"/>
                  </a:lnTo>
                  <a:lnTo>
                    <a:pt x="0" y="1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161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49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827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915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9493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984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177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050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084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11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15236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8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219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252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8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20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539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8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420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5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88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224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5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5890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23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657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905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724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575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92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25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859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892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9256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60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940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027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060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09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12868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6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95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28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636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97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302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6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397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3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465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4987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32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653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00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33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668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00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7338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768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80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835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6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0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936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9703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03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36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7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10500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13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17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5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0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73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066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40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35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08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41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4750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08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416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76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610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643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67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101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745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7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11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4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87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913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94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979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13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04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081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11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14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81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16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249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829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16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498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84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4179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51400" y="3571920"/>
              <a:ext cx="79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459320" y="3538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4459320" y="3505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4459320" y="347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4459320" y="34380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4459320" y="3405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4459320" y="3370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4459320" y="3336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4459320" y="3303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4459320" y="3270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4459320" y="32364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4459320" y="320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4459320" y="3168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4459320" y="3134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4459320" y="3102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4459320" y="30686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4459320" y="30351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4459320" y="2999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459320" y="2967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4459320" y="2933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4459320" y="29005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4459320" y="28670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459320" y="28335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4459320" y="2798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4459320" y="2765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4459320" y="2731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459320" y="26989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4459320" y="26654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4459320" y="2630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4459320" y="2596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459320" y="2563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4459320" y="2530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4459320" y="24966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4459320" y="24638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4459320" y="2428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704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03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5370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705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03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38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2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052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38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721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07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840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8736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06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402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75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08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041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07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10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143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7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210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243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27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311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34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37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411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44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479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5134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4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580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14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648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6815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15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484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83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16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8500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88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9166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951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850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18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5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08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119640" y="242244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15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186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219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2546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288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2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4133880" y="2422440"/>
            <a:ext cx="2482920" cy="3973680"/>
            <a:chOff x="4133880" y="2422440"/>
            <a:chExt cx="2482920" cy="3973680"/>
          </a:xfrm>
        </p:grpSpPr>
        <p:sp>
          <p:nvSpPr>
            <p:cNvPr id="1332" name=""/>
            <p:cNvSpPr/>
            <p:nvPr/>
          </p:nvSpPr>
          <p:spPr>
            <a:xfrm>
              <a:off x="635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8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23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56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48972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3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563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91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615000" y="2432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615000" y="2465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15000" y="2500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15000" y="2533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615000" y="256716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615000" y="2600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615000" y="2633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615000" y="2666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615000" y="2701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615000" y="2735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615000" y="2768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615000" y="2801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15000" y="2835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615000" y="2868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615000" y="2903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615000" y="2936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15000" y="2970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615000" y="3003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15000" y="3036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615000" y="3071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615000" y="3105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615000" y="3138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15000" y="3171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615000" y="3205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615000" y="3238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615000" y="3273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15000" y="3306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15000" y="3340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15000" y="3373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15000" y="3406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15000" y="3441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15000" y="3475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15000" y="3508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15000" y="3541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15000" y="3575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15000" y="3608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15000" y="3643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15000" y="3676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15000" y="3710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15000" y="3743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15000" y="3776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15000" y="3809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15000" y="3844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15000" y="3878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15000" y="3911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15000" y="3944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15000" y="3978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15000" y="4013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15000" y="4046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15000" y="4079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15000" y="4113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15000" y="4146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15000" y="4179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15000" y="4214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15000" y="4248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15000" y="4281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15000" y="4314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15000" y="4348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15000" y="4381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15000" y="4416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15000" y="4449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15000" y="4483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15000" y="4516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15000" y="4549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15000" y="4584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15000" y="4618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15000" y="4651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15000" y="4684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15000" y="4718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15000" y="4751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15000" y="4786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15000" y="4819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15000" y="4853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15000" y="4886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15000" y="4919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15000" y="4952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15000" y="4987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15000" y="5021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15000" y="5054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15000" y="5087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15000" y="5121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15000" y="5156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15000" y="5189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15000" y="5222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15000" y="5256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615000" y="5289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615000" y="5322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615000" y="5357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615000" y="5391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615000" y="5424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615000" y="5457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15000" y="5491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615000" y="5524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615000" y="5559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615000" y="5592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615000" y="5626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615000" y="5659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15000" y="5692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615000" y="5727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615000" y="5761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615000" y="5794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615000" y="5827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15000" y="5861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615000" y="5894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615000" y="5929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15000" y="5962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615000" y="5996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615000" y="6029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15000" y="6062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615000" y="6095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615000" y="6130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615000" y="6164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15000" y="6197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615000" y="6230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15000" y="6264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15000" y="6299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615000" y="6332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615000" y="6365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6590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655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6524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649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645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42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638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635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632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6289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625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622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618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6154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12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608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605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01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598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59526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91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88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585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581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5783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574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716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68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64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5614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558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5548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551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5481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544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5412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538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534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53132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527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524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521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178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514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511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5076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043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5010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497628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494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4908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487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4842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48070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4773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7397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707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4673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638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605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57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4538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4505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470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436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440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4370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43369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430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4268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423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42022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416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413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816120" y="1380960"/>
            <a:ext cx="5441760" cy="5015160"/>
            <a:chOff x="816120" y="1380960"/>
            <a:chExt cx="5441760" cy="5015160"/>
          </a:xfrm>
        </p:grpSpPr>
        <p:sp>
          <p:nvSpPr>
            <p:cNvPr id="1533" name=""/>
            <p:cNvSpPr/>
            <p:nvPr/>
          </p:nvSpPr>
          <p:spPr>
            <a:xfrm flipH="1">
              <a:off x="4100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4067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4033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39985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396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3932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389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865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38307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3796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37634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3730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6972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3661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3629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359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56184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3529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3494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3460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342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3394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3360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332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3292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3258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3225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31910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315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3123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3090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3057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30222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2989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9559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922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889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2854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2820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27871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2754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27208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2685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2652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61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5855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255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2517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2484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245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2417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23839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234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2316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28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2249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22147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218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21474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2114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08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2045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201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1979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946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191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187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184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18108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177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1744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170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167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164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609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157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154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50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147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14061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137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133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130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127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1238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120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117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113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110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06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103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1003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96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93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90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86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83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16120" y="6380280"/>
              <a:ext cx="144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6120" y="6346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816120" y="6311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816120" y="6278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816120" y="6245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816120" y="6211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816120" y="6178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816120" y="6143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816120" y="6109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816120" y="6076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816120" y="6043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816120" y="6010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816120" y="5977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816120" y="5942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816120" y="5908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816120" y="5874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816120" y="5842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816120" y="5808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816120" y="5775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816120" y="5740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816120" y="5707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816120" y="5673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816120" y="5640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816120" y="5607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816120" y="5571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816120" y="5538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816120" y="5505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816120" y="5471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816120" y="5438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816120" y="5405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816120" y="5370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816120" y="5336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816120" y="5303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816120" y="5270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816120" y="5237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816120" y="5203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816120" y="5168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816120" y="5135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816120" y="5102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816120" y="5068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816120" y="5035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816120" y="5000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816120" y="4966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816120" y="4933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816120" y="4900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816120" y="4867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V="1">
              <a:off x="816120" y="4834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816120" y="4799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816120" y="4765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816120" y="4731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16120" y="4699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816120" y="4665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816120" y="4632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816120" y="4597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816120" y="4564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816120" y="4530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816120" y="4497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816120" y="4464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816120" y="4428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816120" y="4395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816120" y="4362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816120" y="4328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816120" y="4295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816120" y="4262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816120" y="4227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816120" y="4193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816120" y="4160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816120" y="4127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816120" y="4094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816120" y="4060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>
              <a:off x="816120" y="4025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816120" y="3992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816120" y="3959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816120" y="3925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816120" y="3892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816120" y="3857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816120" y="3823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816120" y="3790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816120" y="3757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816120" y="3724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816120" y="3691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816120" y="3656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816120" y="3622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816120" y="3588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930960" y="4233960"/>
              <a:ext cx="4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65800" y="4622760"/>
              <a:ext cx="1555560" cy="233280"/>
            </a:xfrm>
            <a:custGeom>
              <a:avLst/>
              <a:gdLst/>
              <a:ahLst/>
              <a:rect l="l" t="t" r="r" b="b"/>
              <a:pathLst>
                <a:path w="1960" h="293">
                  <a:moveTo>
                    <a:pt x="72" y="276"/>
                  </a:moveTo>
                  <a:lnTo>
                    <a:pt x="60" y="272"/>
                  </a:lnTo>
                  <a:lnTo>
                    <a:pt x="47" y="262"/>
                  </a:lnTo>
                  <a:lnTo>
                    <a:pt x="37" y="247"/>
                  </a:lnTo>
                  <a:lnTo>
                    <a:pt x="30" y="226"/>
                  </a:lnTo>
                  <a:lnTo>
                    <a:pt x="23" y="202"/>
                  </a:lnTo>
                  <a:lnTo>
                    <a:pt x="19" y="175"/>
                  </a:lnTo>
                  <a:lnTo>
                    <a:pt x="17" y="147"/>
                  </a:lnTo>
                  <a:lnTo>
                    <a:pt x="19" y="119"/>
                  </a:lnTo>
                  <a:lnTo>
                    <a:pt x="23" y="92"/>
                  </a:lnTo>
                  <a:lnTo>
                    <a:pt x="30" y="67"/>
                  </a:lnTo>
                  <a:lnTo>
                    <a:pt x="37" y="46"/>
                  </a:lnTo>
                  <a:lnTo>
                    <a:pt x="47" y="32"/>
                  </a:lnTo>
                  <a:lnTo>
                    <a:pt x="60" y="22"/>
                  </a:lnTo>
                  <a:lnTo>
                    <a:pt x="72" y="18"/>
                  </a:lnTo>
                  <a:lnTo>
                    <a:pt x="85" y="22"/>
                  </a:lnTo>
                  <a:lnTo>
                    <a:pt x="97" y="32"/>
                  </a:lnTo>
                  <a:lnTo>
                    <a:pt x="106" y="46"/>
                  </a:lnTo>
                  <a:lnTo>
                    <a:pt x="115" y="67"/>
                  </a:lnTo>
                  <a:lnTo>
                    <a:pt x="122" y="92"/>
                  </a:lnTo>
                  <a:lnTo>
                    <a:pt x="125" y="119"/>
                  </a:lnTo>
                  <a:lnTo>
                    <a:pt x="127" y="147"/>
                  </a:lnTo>
                  <a:lnTo>
                    <a:pt x="125" y="175"/>
                  </a:lnTo>
                  <a:lnTo>
                    <a:pt x="122" y="202"/>
                  </a:lnTo>
                  <a:lnTo>
                    <a:pt x="115" y="226"/>
                  </a:lnTo>
                  <a:lnTo>
                    <a:pt x="106" y="247"/>
                  </a:lnTo>
                  <a:lnTo>
                    <a:pt x="97" y="262"/>
                  </a:lnTo>
                  <a:lnTo>
                    <a:pt x="85" y="272"/>
                  </a:lnTo>
                  <a:lnTo>
                    <a:pt x="72" y="276"/>
                  </a:lnTo>
                  <a:close/>
                  <a:moveTo>
                    <a:pt x="72" y="0"/>
                  </a:moveTo>
                  <a:lnTo>
                    <a:pt x="1887" y="0"/>
                  </a:lnTo>
                  <a:lnTo>
                    <a:pt x="1903" y="4"/>
                  </a:lnTo>
                  <a:lnTo>
                    <a:pt x="1917" y="13"/>
                  </a:lnTo>
                  <a:lnTo>
                    <a:pt x="1930" y="29"/>
                  </a:lnTo>
                  <a:lnTo>
                    <a:pt x="1942" y="48"/>
                  </a:lnTo>
                  <a:lnTo>
                    <a:pt x="1951" y="73"/>
                  </a:lnTo>
                  <a:lnTo>
                    <a:pt x="1958" y="101"/>
                  </a:lnTo>
                  <a:lnTo>
                    <a:pt x="1960" y="131"/>
                  </a:lnTo>
                  <a:lnTo>
                    <a:pt x="1960" y="163"/>
                  </a:lnTo>
                  <a:lnTo>
                    <a:pt x="1958" y="193"/>
                  </a:lnTo>
                  <a:lnTo>
                    <a:pt x="1951" y="221"/>
                  </a:lnTo>
                  <a:lnTo>
                    <a:pt x="1942" y="246"/>
                  </a:lnTo>
                  <a:lnTo>
                    <a:pt x="1930" y="265"/>
                  </a:lnTo>
                  <a:lnTo>
                    <a:pt x="1917" y="281"/>
                  </a:lnTo>
                  <a:lnTo>
                    <a:pt x="1903" y="290"/>
                  </a:lnTo>
                  <a:lnTo>
                    <a:pt x="1887" y="293"/>
                  </a:lnTo>
                  <a:lnTo>
                    <a:pt x="72" y="293"/>
                  </a:lnTo>
                  <a:lnTo>
                    <a:pt x="56" y="290"/>
                  </a:lnTo>
                  <a:lnTo>
                    <a:pt x="42" y="281"/>
                  </a:lnTo>
                  <a:lnTo>
                    <a:pt x="28" y="265"/>
                  </a:lnTo>
                  <a:lnTo>
                    <a:pt x="17" y="246"/>
                  </a:lnTo>
                  <a:lnTo>
                    <a:pt x="9" y="221"/>
                  </a:lnTo>
                  <a:lnTo>
                    <a:pt x="1" y="193"/>
                  </a:lnTo>
                  <a:lnTo>
                    <a:pt x="0" y="163"/>
                  </a:lnTo>
                  <a:lnTo>
                    <a:pt x="0" y="131"/>
                  </a:lnTo>
                  <a:lnTo>
                    <a:pt x="1" y="101"/>
                  </a:lnTo>
                  <a:lnTo>
                    <a:pt x="9" y="73"/>
                  </a:lnTo>
                  <a:lnTo>
                    <a:pt x="17" y="48"/>
                  </a:lnTo>
                  <a:lnTo>
                    <a:pt x="28" y="29"/>
                  </a:lnTo>
                  <a:lnTo>
                    <a:pt x="42" y="13"/>
                  </a:lnTo>
                  <a:lnTo>
                    <a:pt x="56" y="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614760" y="4738680"/>
              <a:ext cx="162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862520" y="4738680"/>
              <a:ext cx="379440" cy="777960"/>
            </a:xfrm>
            <a:custGeom>
              <a:avLst/>
              <a:gdLst/>
              <a:ahLst/>
              <a:rect l="l" t="t" r="r" b="b"/>
              <a:pathLst>
                <a:path w="479" h="979">
                  <a:moveTo>
                    <a:pt x="0" y="979"/>
                  </a:moveTo>
                  <a:lnTo>
                    <a:pt x="0" y="0"/>
                  </a:lnTo>
                  <a:lnTo>
                    <a:pt x="47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241960" y="4738680"/>
              <a:ext cx="182520" cy="777960"/>
            </a:xfrm>
            <a:custGeom>
              <a:avLst/>
              <a:gdLst/>
              <a:ahLst/>
              <a:rect l="l" t="t" r="r" b="b"/>
              <a:pathLst>
                <a:path w="230" h="979">
                  <a:moveTo>
                    <a:pt x="230" y="979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5241960" y="4738680"/>
              <a:ext cx="3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241960" y="3656160"/>
              <a:ext cx="253800" cy="1082520"/>
            </a:xfrm>
            <a:custGeom>
              <a:avLst/>
              <a:gdLst/>
              <a:ahLst/>
              <a:rect l="l" t="t" r="r" b="b"/>
              <a:pathLst>
                <a:path w="320" h="1364">
                  <a:moveTo>
                    <a:pt x="320" y="0"/>
                  </a:moveTo>
                  <a:lnTo>
                    <a:pt x="320" y="1364"/>
                  </a:lnTo>
                  <a:lnTo>
                    <a:pt x="0" y="1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113440" y="4738680"/>
              <a:ext cx="128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5241960" y="4738680"/>
              <a:ext cx="1015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635360" y="4675320"/>
              <a:ext cx="1216080" cy="128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705200" y="4683240"/>
              <a:ext cx="1128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P INTERNET BACKB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11120" y="1380960"/>
              <a:ext cx="2573640" cy="1295640"/>
            </a:xfrm>
            <a:custGeom>
              <a:avLst/>
              <a:gdLst/>
              <a:ahLst/>
              <a:rect l="l" t="t" r="r" b="b"/>
              <a:pathLst>
                <a:path w="3241" h="1630">
                  <a:moveTo>
                    <a:pt x="477" y="1210"/>
                  </a:moveTo>
                  <a:lnTo>
                    <a:pt x="514" y="1274"/>
                  </a:lnTo>
                  <a:lnTo>
                    <a:pt x="555" y="1334"/>
                  </a:lnTo>
                  <a:lnTo>
                    <a:pt x="602" y="1389"/>
                  </a:lnTo>
                  <a:lnTo>
                    <a:pt x="654" y="1440"/>
                  </a:lnTo>
                  <a:lnTo>
                    <a:pt x="708" y="1486"/>
                  </a:lnTo>
                  <a:lnTo>
                    <a:pt x="769" y="1525"/>
                  </a:lnTo>
                  <a:lnTo>
                    <a:pt x="830" y="1558"/>
                  </a:lnTo>
                  <a:lnTo>
                    <a:pt x="896" y="1586"/>
                  </a:lnTo>
                  <a:lnTo>
                    <a:pt x="963" y="1608"/>
                  </a:lnTo>
                  <a:lnTo>
                    <a:pt x="1030" y="1622"/>
                  </a:lnTo>
                  <a:lnTo>
                    <a:pt x="1101" y="1630"/>
                  </a:lnTo>
                  <a:lnTo>
                    <a:pt x="1170" y="1630"/>
                  </a:lnTo>
                  <a:lnTo>
                    <a:pt x="1239" y="1625"/>
                  </a:lnTo>
                  <a:lnTo>
                    <a:pt x="1308" y="1613"/>
                  </a:lnTo>
                  <a:lnTo>
                    <a:pt x="1377" y="1593"/>
                  </a:lnTo>
                  <a:lnTo>
                    <a:pt x="1442" y="1567"/>
                  </a:lnTo>
                  <a:lnTo>
                    <a:pt x="1504" y="1535"/>
                  </a:lnTo>
                  <a:lnTo>
                    <a:pt x="1564" y="1496"/>
                  </a:lnTo>
                  <a:lnTo>
                    <a:pt x="1620" y="1452"/>
                  </a:lnTo>
                  <a:lnTo>
                    <a:pt x="1677" y="1496"/>
                  </a:lnTo>
                  <a:lnTo>
                    <a:pt x="1737" y="1535"/>
                  </a:lnTo>
                  <a:lnTo>
                    <a:pt x="1801" y="1567"/>
                  </a:lnTo>
                  <a:lnTo>
                    <a:pt x="1866" y="1593"/>
                  </a:lnTo>
                  <a:lnTo>
                    <a:pt x="1933" y="1613"/>
                  </a:lnTo>
                  <a:lnTo>
                    <a:pt x="2002" y="1625"/>
                  </a:lnTo>
                  <a:lnTo>
                    <a:pt x="2071" y="1630"/>
                  </a:lnTo>
                  <a:lnTo>
                    <a:pt x="2142" y="1630"/>
                  </a:lnTo>
                  <a:lnTo>
                    <a:pt x="2211" y="1622"/>
                  </a:lnTo>
                  <a:lnTo>
                    <a:pt x="2280" y="1608"/>
                  </a:lnTo>
                  <a:lnTo>
                    <a:pt x="2345" y="1586"/>
                  </a:lnTo>
                  <a:lnTo>
                    <a:pt x="2410" y="1558"/>
                  </a:lnTo>
                  <a:lnTo>
                    <a:pt x="2472" y="1525"/>
                  </a:lnTo>
                  <a:lnTo>
                    <a:pt x="2532" y="1486"/>
                  </a:lnTo>
                  <a:lnTo>
                    <a:pt x="2587" y="1440"/>
                  </a:lnTo>
                  <a:lnTo>
                    <a:pt x="2638" y="1389"/>
                  </a:lnTo>
                  <a:lnTo>
                    <a:pt x="2686" y="1334"/>
                  </a:lnTo>
                  <a:lnTo>
                    <a:pt x="2727" y="1274"/>
                  </a:lnTo>
                  <a:lnTo>
                    <a:pt x="2764" y="1210"/>
                  </a:lnTo>
                  <a:lnTo>
                    <a:pt x="2813" y="1219"/>
                  </a:lnTo>
                  <a:lnTo>
                    <a:pt x="2863" y="1223"/>
                  </a:lnTo>
                  <a:lnTo>
                    <a:pt x="2912" y="1219"/>
                  </a:lnTo>
                  <a:lnTo>
                    <a:pt x="2960" y="1209"/>
                  </a:lnTo>
                  <a:lnTo>
                    <a:pt x="3008" y="1191"/>
                  </a:lnTo>
                  <a:lnTo>
                    <a:pt x="3052" y="1168"/>
                  </a:lnTo>
                  <a:lnTo>
                    <a:pt x="3093" y="1138"/>
                  </a:lnTo>
                  <a:lnTo>
                    <a:pt x="3130" y="1103"/>
                  </a:lnTo>
                  <a:lnTo>
                    <a:pt x="3163" y="1062"/>
                  </a:lnTo>
                  <a:lnTo>
                    <a:pt x="3190" y="1018"/>
                  </a:lnTo>
                  <a:lnTo>
                    <a:pt x="3211" y="970"/>
                  </a:lnTo>
                  <a:lnTo>
                    <a:pt x="3227" y="919"/>
                  </a:lnTo>
                  <a:lnTo>
                    <a:pt x="3238" y="868"/>
                  </a:lnTo>
                  <a:lnTo>
                    <a:pt x="3241" y="815"/>
                  </a:lnTo>
                  <a:lnTo>
                    <a:pt x="3238" y="762"/>
                  </a:lnTo>
                  <a:lnTo>
                    <a:pt x="3227" y="709"/>
                  </a:lnTo>
                  <a:lnTo>
                    <a:pt x="3211" y="660"/>
                  </a:lnTo>
                  <a:lnTo>
                    <a:pt x="3190" y="612"/>
                  </a:lnTo>
                  <a:lnTo>
                    <a:pt x="3163" y="568"/>
                  </a:lnTo>
                  <a:lnTo>
                    <a:pt x="3130" y="528"/>
                  </a:lnTo>
                  <a:lnTo>
                    <a:pt x="3093" y="492"/>
                  </a:lnTo>
                  <a:lnTo>
                    <a:pt x="3052" y="462"/>
                  </a:lnTo>
                  <a:lnTo>
                    <a:pt x="3008" y="439"/>
                  </a:lnTo>
                  <a:lnTo>
                    <a:pt x="2960" y="422"/>
                  </a:lnTo>
                  <a:lnTo>
                    <a:pt x="2912" y="411"/>
                  </a:lnTo>
                  <a:lnTo>
                    <a:pt x="2863" y="407"/>
                  </a:lnTo>
                  <a:lnTo>
                    <a:pt x="2813" y="409"/>
                  </a:lnTo>
                  <a:lnTo>
                    <a:pt x="2764" y="420"/>
                  </a:lnTo>
                  <a:lnTo>
                    <a:pt x="2727" y="356"/>
                  </a:lnTo>
                  <a:lnTo>
                    <a:pt x="2686" y="296"/>
                  </a:lnTo>
                  <a:lnTo>
                    <a:pt x="2638" y="242"/>
                  </a:lnTo>
                  <a:lnTo>
                    <a:pt x="2587" y="190"/>
                  </a:lnTo>
                  <a:lnTo>
                    <a:pt x="2532" y="145"/>
                  </a:lnTo>
                  <a:lnTo>
                    <a:pt x="2472" y="106"/>
                  </a:lnTo>
                  <a:lnTo>
                    <a:pt x="2410" y="70"/>
                  </a:lnTo>
                  <a:lnTo>
                    <a:pt x="2345" y="44"/>
                  </a:lnTo>
                  <a:lnTo>
                    <a:pt x="2280" y="23"/>
                  </a:lnTo>
                  <a:lnTo>
                    <a:pt x="2211" y="7"/>
                  </a:lnTo>
                  <a:lnTo>
                    <a:pt x="2142" y="0"/>
                  </a:lnTo>
                  <a:lnTo>
                    <a:pt x="2071" y="0"/>
                  </a:lnTo>
                  <a:lnTo>
                    <a:pt x="2002" y="5"/>
                  </a:lnTo>
                  <a:lnTo>
                    <a:pt x="1933" y="17"/>
                  </a:lnTo>
                  <a:lnTo>
                    <a:pt x="1866" y="37"/>
                  </a:lnTo>
                  <a:lnTo>
                    <a:pt x="1801" y="63"/>
                  </a:lnTo>
                  <a:lnTo>
                    <a:pt x="1737" y="95"/>
                  </a:lnTo>
                  <a:lnTo>
                    <a:pt x="1677" y="134"/>
                  </a:lnTo>
                  <a:lnTo>
                    <a:pt x="1620" y="178"/>
                  </a:lnTo>
                  <a:lnTo>
                    <a:pt x="1564" y="134"/>
                  </a:lnTo>
                  <a:lnTo>
                    <a:pt x="1504" y="95"/>
                  </a:lnTo>
                  <a:lnTo>
                    <a:pt x="1442" y="63"/>
                  </a:lnTo>
                  <a:lnTo>
                    <a:pt x="1377" y="37"/>
                  </a:lnTo>
                  <a:lnTo>
                    <a:pt x="1308" y="17"/>
                  </a:lnTo>
                  <a:lnTo>
                    <a:pt x="1239" y="5"/>
                  </a:lnTo>
                  <a:lnTo>
                    <a:pt x="1170" y="0"/>
                  </a:lnTo>
                  <a:lnTo>
                    <a:pt x="1101" y="0"/>
                  </a:lnTo>
                  <a:lnTo>
                    <a:pt x="1030" y="7"/>
                  </a:lnTo>
                  <a:lnTo>
                    <a:pt x="963" y="23"/>
                  </a:lnTo>
                  <a:lnTo>
                    <a:pt x="896" y="44"/>
                  </a:lnTo>
                  <a:lnTo>
                    <a:pt x="830" y="70"/>
                  </a:lnTo>
                  <a:lnTo>
                    <a:pt x="769" y="106"/>
                  </a:lnTo>
                  <a:lnTo>
                    <a:pt x="708" y="145"/>
                  </a:lnTo>
                  <a:lnTo>
                    <a:pt x="654" y="190"/>
                  </a:lnTo>
                  <a:lnTo>
                    <a:pt x="602" y="242"/>
                  </a:lnTo>
                  <a:lnTo>
                    <a:pt x="555" y="296"/>
                  </a:lnTo>
                  <a:lnTo>
                    <a:pt x="514" y="356"/>
                  </a:lnTo>
                  <a:lnTo>
                    <a:pt x="477" y="420"/>
                  </a:lnTo>
                  <a:lnTo>
                    <a:pt x="427" y="409"/>
                  </a:lnTo>
                  <a:lnTo>
                    <a:pt x="378" y="407"/>
                  </a:lnTo>
                  <a:lnTo>
                    <a:pt x="329" y="411"/>
                  </a:lnTo>
                  <a:lnTo>
                    <a:pt x="281" y="422"/>
                  </a:lnTo>
                  <a:lnTo>
                    <a:pt x="233" y="439"/>
                  </a:lnTo>
                  <a:lnTo>
                    <a:pt x="189" y="462"/>
                  </a:lnTo>
                  <a:lnTo>
                    <a:pt x="148" y="492"/>
                  </a:lnTo>
                  <a:lnTo>
                    <a:pt x="111" y="528"/>
                  </a:lnTo>
                  <a:lnTo>
                    <a:pt x="79" y="568"/>
                  </a:lnTo>
                  <a:lnTo>
                    <a:pt x="51" y="612"/>
                  </a:lnTo>
                  <a:lnTo>
                    <a:pt x="30" y="660"/>
                  </a:lnTo>
                  <a:lnTo>
                    <a:pt x="14" y="709"/>
                  </a:lnTo>
                  <a:lnTo>
                    <a:pt x="3" y="762"/>
                  </a:lnTo>
                  <a:lnTo>
                    <a:pt x="0" y="815"/>
                  </a:lnTo>
                  <a:lnTo>
                    <a:pt x="3" y="868"/>
                  </a:lnTo>
                  <a:lnTo>
                    <a:pt x="14" y="919"/>
                  </a:lnTo>
                  <a:lnTo>
                    <a:pt x="30" y="970"/>
                  </a:lnTo>
                  <a:lnTo>
                    <a:pt x="51" y="1018"/>
                  </a:lnTo>
                  <a:lnTo>
                    <a:pt x="79" y="1062"/>
                  </a:lnTo>
                  <a:lnTo>
                    <a:pt x="111" y="1103"/>
                  </a:lnTo>
                  <a:lnTo>
                    <a:pt x="148" y="1138"/>
                  </a:lnTo>
                  <a:lnTo>
                    <a:pt x="189" y="1168"/>
                  </a:lnTo>
                  <a:lnTo>
                    <a:pt x="233" y="1191"/>
                  </a:lnTo>
                  <a:lnTo>
                    <a:pt x="281" y="1209"/>
                  </a:lnTo>
                  <a:lnTo>
                    <a:pt x="329" y="1219"/>
                  </a:lnTo>
                  <a:lnTo>
                    <a:pt x="378" y="1223"/>
                  </a:lnTo>
                  <a:lnTo>
                    <a:pt x="427" y="1219"/>
                  </a:lnTo>
                  <a:lnTo>
                    <a:pt x="477" y="121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59720" y="18288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NAT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99320" y="2025720"/>
              <a:ext cx="85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95360" y="3879720"/>
              <a:ext cx="166680" cy="1987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07960" y="3892680"/>
              <a:ext cx="49320" cy="17280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6"/>
                  </a:lnTo>
                  <a:lnTo>
                    <a:pt x="62" y="171"/>
                  </a:lnTo>
                  <a:lnTo>
                    <a:pt x="62" y="210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0"/>
                  </a:lnTo>
                  <a:lnTo>
                    <a:pt x="0" y="171"/>
                  </a:lnTo>
                  <a:lnTo>
                    <a:pt x="9" y="156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71680" y="3892680"/>
              <a:ext cx="75960" cy="172800"/>
            </a:xfrm>
            <a:custGeom>
              <a:avLst/>
              <a:gdLst/>
              <a:ahLst/>
              <a:rect l="l" t="t" r="r" b="b"/>
              <a:pathLst>
                <a:path w="96" h="219">
                  <a:moveTo>
                    <a:pt x="0" y="78"/>
                  </a:moveTo>
                  <a:lnTo>
                    <a:pt x="43" y="78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2" y="78"/>
                  </a:moveTo>
                  <a:lnTo>
                    <a:pt x="96" y="78"/>
                  </a:lnTo>
                  <a:lnTo>
                    <a:pt x="96" y="0"/>
                  </a:lnTo>
                  <a:lnTo>
                    <a:pt x="52" y="0"/>
                  </a:lnTo>
                  <a:lnTo>
                    <a:pt x="52" y="78"/>
                  </a:lnTo>
                  <a:close/>
                  <a:moveTo>
                    <a:pt x="0" y="219"/>
                  </a:moveTo>
                  <a:lnTo>
                    <a:pt x="96" y="219"/>
                  </a:lnTo>
                  <a:lnTo>
                    <a:pt x="96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471680" y="3990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1000080" y="272880"/>
            <a:ext cx="7134120" cy="6121440"/>
            <a:chOff x="1000080" y="272880"/>
            <a:chExt cx="7134120" cy="6121440"/>
          </a:xfrm>
        </p:grpSpPr>
        <p:sp>
          <p:nvSpPr>
            <p:cNvPr id="1734" name=""/>
            <p:cNvSpPr/>
            <p:nvPr/>
          </p:nvSpPr>
          <p:spPr>
            <a:xfrm>
              <a:off x="1471680" y="39844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471680" y="39783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471680" y="39718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71680" y="396540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12720" y="390672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12720" y="393876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512720" y="392256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71680" y="390672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71680" y="3938760"/>
              <a:ext cx="33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71680" y="392256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71680" y="404964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71680" y="403560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71680" y="4017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522440" y="4002120"/>
              <a:ext cx="14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96880" y="4002120"/>
              <a:ext cx="18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249200" y="4116240"/>
              <a:ext cx="459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297440" y="412416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52800" y="438120"/>
              <a:ext cx="496800" cy="495360"/>
            </a:xfrm>
            <a:custGeom>
              <a:avLst/>
              <a:gdLst/>
              <a:ahLst/>
              <a:rect l="l" t="t" r="r" b="b"/>
              <a:pathLst>
                <a:path w="626" h="625">
                  <a:moveTo>
                    <a:pt x="136" y="412"/>
                  </a:moveTo>
                  <a:lnTo>
                    <a:pt x="0" y="412"/>
                  </a:lnTo>
                  <a:lnTo>
                    <a:pt x="0" y="625"/>
                  </a:lnTo>
                  <a:lnTo>
                    <a:pt x="626" y="625"/>
                  </a:lnTo>
                  <a:lnTo>
                    <a:pt x="626" y="412"/>
                  </a:lnTo>
                  <a:lnTo>
                    <a:pt x="488" y="412"/>
                  </a:lnTo>
                  <a:lnTo>
                    <a:pt x="488" y="382"/>
                  </a:lnTo>
                  <a:lnTo>
                    <a:pt x="548" y="382"/>
                  </a:lnTo>
                  <a:lnTo>
                    <a:pt x="548" y="0"/>
                  </a:lnTo>
                  <a:lnTo>
                    <a:pt x="78" y="0"/>
                  </a:lnTo>
                  <a:lnTo>
                    <a:pt x="78" y="382"/>
                  </a:lnTo>
                  <a:lnTo>
                    <a:pt x="136" y="382"/>
                  </a:lnTo>
                  <a:lnTo>
                    <a:pt x="136" y="41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60800" y="76356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160800" y="73980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308400" y="779400"/>
              <a:ext cx="201600" cy="138240"/>
            </a:xfrm>
            <a:custGeom>
              <a:avLst/>
              <a:gdLst/>
              <a:ahLst/>
              <a:rect l="l" t="t" r="r" b="b"/>
              <a:pathLst>
                <a:path w="254" h="175">
                  <a:moveTo>
                    <a:pt x="0" y="175"/>
                  </a:moveTo>
                  <a:lnTo>
                    <a:pt x="206" y="175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175"/>
                  </a:lnTo>
                  <a:close/>
                  <a:moveTo>
                    <a:pt x="226" y="28"/>
                  </a:moveTo>
                  <a:lnTo>
                    <a:pt x="254" y="28"/>
                  </a:lnTo>
                  <a:lnTo>
                    <a:pt x="254" y="0"/>
                  </a:lnTo>
                  <a:lnTo>
                    <a:pt x="226" y="0"/>
                  </a:lnTo>
                  <a:lnTo>
                    <a:pt x="22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308400" y="82548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308400" y="87156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316320" y="849240"/>
              <a:ext cx="147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402000" y="833400"/>
              <a:ext cx="4608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68640" y="473040"/>
              <a:ext cx="465120" cy="333360"/>
            </a:xfrm>
            <a:custGeom>
              <a:avLst/>
              <a:gdLst/>
              <a:ahLst/>
              <a:rect l="l" t="t" r="r" b="b"/>
              <a:pathLst>
                <a:path w="587" h="420">
                  <a:moveTo>
                    <a:pt x="492" y="300"/>
                  </a:moveTo>
                  <a:lnTo>
                    <a:pt x="513" y="300"/>
                  </a:lnTo>
                  <a:lnTo>
                    <a:pt x="513" y="292"/>
                  </a:lnTo>
                  <a:lnTo>
                    <a:pt x="492" y="292"/>
                  </a:lnTo>
                  <a:lnTo>
                    <a:pt x="492" y="300"/>
                  </a:lnTo>
                  <a:close/>
                  <a:moveTo>
                    <a:pt x="131" y="248"/>
                  </a:moveTo>
                  <a:lnTo>
                    <a:pt x="131" y="30"/>
                  </a:lnTo>
                  <a:lnTo>
                    <a:pt x="455" y="30"/>
                  </a:lnTo>
                  <a:lnTo>
                    <a:pt x="455" y="248"/>
                  </a:lnTo>
                  <a:lnTo>
                    <a:pt x="131" y="248"/>
                  </a:lnTo>
                  <a:close/>
                  <a:moveTo>
                    <a:pt x="117" y="264"/>
                  </a:moveTo>
                  <a:lnTo>
                    <a:pt x="469" y="264"/>
                  </a:lnTo>
                  <a:lnTo>
                    <a:pt x="469" y="14"/>
                  </a:lnTo>
                  <a:lnTo>
                    <a:pt x="485" y="14"/>
                  </a:lnTo>
                  <a:lnTo>
                    <a:pt x="485" y="0"/>
                  </a:lnTo>
                  <a:lnTo>
                    <a:pt x="103" y="0"/>
                  </a:lnTo>
                  <a:lnTo>
                    <a:pt x="103" y="278"/>
                  </a:lnTo>
                  <a:lnTo>
                    <a:pt x="117" y="278"/>
                  </a:lnTo>
                  <a:lnTo>
                    <a:pt x="117" y="264"/>
                  </a:lnTo>
                  <a:close/>
                  <a:moveTo>
                    <a:pt x="0" y="405"/>
                  </a:moveTo>
                  <a:lnTo>
                    <a:pt x="59" y="405"/>
                  </a:lnTo>
                  <a:lnTo>
                    <a:pt x="59" y="386"/>
                  </a:lnTo>
                  <a:lnTo>
                    <a:pt x="0" y="386"/>
                  </a:lnTo>
                  <a:lnTo>
                    <a:pt x="0" y="405"/>
                  </a:lnTo>
                  <a:close/>
                  <a:moveTo>
                    <a:pt x="342" y="420"/>
                  </a:moveTo>
                  <a:lnTo>
                    <a:pt x="469" y="420"/>
                  </a:lnTo>
                  <a:lnTo>
                    <a:pt x="469" y="411"/>
                  </a:lnTo>
                  <a:lnTo>
                    <a:pt x="342" y="411"/>
                  </a:lnTo>
                  <a:lnTo>
                    <a:pt x="342" y="420"/>
                  </a:lnTo>
                  <a:close/>
                  <a:moveTo>
                    <a:pt x="568" y="395"/>
                  </a:moveTo>
                  <a:lnTo>
                    <a:pt x="587" y="395"/>
                  </a:lnTo>
                  <a:lnTo>
                    <a:pt x="587" y="386"/>
                  </a:lnTo>
                  <a:lnTo>
                    <a:pt x="568" y="386"/>
                  </a:lnTo>
                  <a:lnTo>
                    <a:pt x="568" y="395"/>
                  </a:lnTo>
                  <a:close/>
                  <a:moveTo>
                    <a:pt x="568" y="414"/>
                  </a:moveTo>
                  <a:lnTo>
                    <a:pt x="587" y="414"/>
                  </a:lnTo>
                  <a:lnTo>
                    <a:pt x="587" y="405"/>
                  </a:lnTo>
                  <a:lnTo>
                    <a:pt x="568" y="405"/>
                  </a:lnTo>
                  <a:lnTo>
                    <a:pt x="568" y="4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114720" y="723960"/>
              <a:ext cx="37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32068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33004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300480" y="973080"/>
              <a:ext cx="4302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348360" y="98100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508920" y="10936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440880" y="12049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110360" y="272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110360" y="482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110360" y="558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110360" y="768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110360" y="844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110360" y="1054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110360" y="1130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110360" y="1339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110360" y="1415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110360" y="1625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110360" y="1701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110360" y="1911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110360" y="1987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110360" y="2197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110360" y="2273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110360" y="2482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110360" y="2558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110360" y="2768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110360" y="2844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110360" y="3054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110360" y="3130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10360" y="3340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10360" y="3416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10360" y="3625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110360" y="3701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110360" y="3911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110360" y="3987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110360" y="4197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0360" y="4273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110360" y="4483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110360" y="4559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110360" y="4768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110360" y="4844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110360" y="5054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110360" y="5130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110360" y="5340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110360" y="5416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110360" y="5626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110360" y="5702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110360" y="5911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110360" y="5987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110360" y="6197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110360" y="6273720"/>
              <a:ext cx="1800" cy="120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5400000">
              <a:off x="6785280" y="328140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und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46240" y="901800"/>
              <a:ext cx="164880" cy="198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60640" y="914400"/>
              <a:ext cx="48960" cy="17316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7"/>
                  </a:lnTo>
                  <a:lnTo>
                    <a:pt x="62" y="172"/>
                  </a:lnTo>
                  <a:lnTo>
                    <a:pt x="62" y="212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9" y="157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222200" y="914400"/>
              <a:ext cx="76320" cy="17316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0" y="78"/>
                  </a:moveTo>
                  <a:lnTo>
                    <a:pt x="44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3" y="78"/>
                  </a:moveTo>
                  <a:lnTo>
                    <a:pt x="97" y="78"/>
                  </a:lnTo>
                  <a:lnTo>
                    <a:pt x="97" y="0"/>
                  </a:lnTo>
                  <a:lnTo>
                    <a:pt x="53" y="0"/>
                  </a:lnTo>
                  <a:lnTo>
                    <a:pt x="53" y="78"/>
                  </a:lnTo>
                  <a:close/>
                  <a:moveTo>
                    <a:pt x="0" y="219"/>
                  </a:moveTo>
                  <a:lnTo>
                    <a:pt x="97" y="219"/>
                  </a:lnTo>
                  <a:lnTo>
                    <a:pt x="97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222200" y="1012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222200" y="100656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222200" y="10000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222200" y="99540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222200" y="98748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263600" y="9288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263600" y="96048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263600" y="94464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222200" y="928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222200" y="9604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22200" y="9446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222200" y="10717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222200" y="10573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222200" y="1039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274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247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000080" y="1138320"/>
              <a:ext cx="4590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049760" y="114624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292720" y="5516640"/>
              <a:ext cx="662040" cy="496800"/>
            </a:xfrm>
            <a:custGeom>
              <a:avLst/>
              <a:gdLst/>
              <a:ahLst/>
              <a:rect l="l" t="t" r="r" b="b"/>
              <a:pathLst>
                <a:path w="835" h="625">
                  <a:moveTo>
                    <a:pt x="0" y="625"/>
                  </a:moveTo>
                  <a:lnTo>
                    <a:pt x="0" y="613"/>
                  </a:lnTo>
                  <a:lnTo>
                    <a:pt x="84" y="574"/>
                  </a:lnTo>
                  <a:lnTo>
                    <a:pt x="84" y="0"/>
                  </a:lnTo>
                  <a:lnTo>
                    <a:pt x="306" y="0"/>
                  </a:lnTo>
                  <a:lnTo>
                    <a:pt x="306" y="574"/>
                  </a:lnTo>
                  <a:lnTo>
                    <a:pt x="396" y="613"/>
                  </a:lnTo>
                  <a:lnTo>
                    <a:pt x="396" y="625"/>
                  </a:lnTo>
                  <a:lnTo>
                    <a:pt x="0" y="625"/>
                  </a:lnTo>
                  <a:close/>
                  <a:moveTo>
                    <a:pt x="334" y="539"/>
                  </a:moveTo>
                  <a:lnTo>
                    <a:pt x="412" y="539"/>
                  </a:lnTo>
                  <a:lnTo>
                    <a:pt x="499" y="560"/>
                  </a:lnTo>
                  <a:lnTo>
                    <a:pt x="499" y="604"/>
                  </a:lnTo>
                  <a:lnTo>
                    <a:pt x="412" y="604"/>
                  </a:lnTo>
                  <a:lnTo>
                    <a:pt x="412" y="625"/>
                  </a:lnTo>
                  <a:lnTo>
                    <a:pt x="757" y="625"/>
                  </a:lnTo>
                  <a:lnTo>
                    <a:pt x="757" y="604"/>
                  </a:lnTo>
                  <a:lnTo>
                    <a:pt x="670" y="604"/>
                  </a:lnTo>
                  <a:lnTo>
                    <a:pt x="670" y="560"/>
                  </a:lnTo>
                  <a:lnTo>
                    <a:pt x="757" y="539"/>
                  </a:lnTo>
                  <a:lnTo>
                    <a:pt x="835" y="539"/>
                  </a:lnTo>
                  <a:lnTo>
                    <a:pt x="835" y="157"/>
                  </a:lnTo>
                  <a:lnTo>
                    <a:pt x="334" y="157"/>
                  </a:lnTo>
                  <a:lnTo>
                    <a:pt x="334" y="539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359320" y="597204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535720" y="597204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413320" y="5672160"/>
              <a:ext cx="6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403960" y="5619600"/>
              <a:ext cx="88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381640" y="5537160"/>
              <a:ext cx="131760" cy="29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688000" y="599616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688000" y="596124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19600" y="5943600"/>
              <a:ext cx="27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375160" y="5846760"/>
              <a:ext cx="142920" cy="1350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0" y="104"/>
                  </a:moveTo>
                  <a:lnTo>
                    <a:pt x="14" y="10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4"/>
                  </a:lnTo>
                  <a:close/>
                  <a:moveTo>
                    <a:pt x="28" y="104"/>
                  </a:moveTo>
                  <a:lnTo>
                    <a:pt x="42" y="104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104"/>
                  </a:lnTo>
                  <a:close/>
                  <a:moveTo>
                    <a:pt x="54" y="104"/>
                  </a:moveTo>
                  <a:lnTo>
                    <a:pt x="69" y="104"/>
                  </a:lnTo>
                  <a:lnTo>
                    <a:pt x="69" y="0"/>
                  </a:lnTo>
                  <a:lnTo>
                    <a:pt x="54" y="0"/>
                  </a:lnTo>
                  <a:lnTo>
                    <a:pt x="54" y="104"/>
                  </a:lnTo>
                  <a:close/>
                  <a:moveTo>
                    <a:pt x="83" y="104"/>
                  </a:moveTo>
                  <a:lnTo>
                    <a:pt x="97" y="104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83" y="104"/>
                  </a:lnTo>
                  <a:close/>
                  <a:moveTo>
                    <a:pt x="111" y="104"/>
                  </a:moveTo>
                  <a:lnTo>
                    <a:pt x="125" y="104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111" y="104"/>
                  </a:lnTo>
                  <a:close/>
                  <a:moveTo>
                    <a:pt x="139" y="104"/>
                  </a:moveTo>
                  <a:lnTo>
                    <a:pt x="153" y="104"/>
                  </a:lnTo>
                  <a:lnTo>
                    <a:pt x="153" y="0"/>
                  </a:lnTo>
                  <a:lnTo>
                    <a:pt x="139" y="0"/>
                  </a:lnTo>
                  <a:lnTo>
                    <a:pt x="139" y="104"/>
                  </a:lnTo>
                  <a:close/>
                  <a:moveTo>
                    <a:pt x="166" y="104"/>
                  </a:moveTo>
                  <a:lnTo>
                    <a:pt x="180" y="104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66" y="104"/>
                  </a:lnTo>
                  <a:close/>
                  <a:moveTo>
                    <a:pt x="166" y="169"/>
                  </a:moveTo>
                  <a:lnTo>
                    <a:pt x="180" y="169"/>
                  </a:lnTo>
                  <a:lnTo>
                    <a:pt x="180" y="118"/>
                  </a:lnTo>
                  <a:lnTo>
                    <a:pt x="166" y="118"/>
                  </a:lnTo>
                  <a:lnTo>
                    <a:pt x="166" y="169"/>
                  </a:lnTo>
                  <a:close/>
                  <a:moveTo>
                    <a:pt x="139" y="169"/>
                  </a:moveTo>
                  <a:lnTo>
                    <a:pt x="153" y="169"/>
                  </a:lnTo>
                  <a:lnTo>
                    <a:pt x="153" y="118"/>
                  </a:lnTo>
                  <a:lnTo>
                    <a:pt x="139" y="118"/>
                  </a:lnTo>
                  <a:lnTo>
                    <a:pt x="139" y="169"/>
                  </a:lnTo>
                  <a:close/>
                  <a:moveTo>
                    <a:pt x="111" y="169"/>
                  </a:moveTo>
                  <a:lnTo>
                    <a:pt x="125" y="169"/>
                  </a:lnTo>
                  <a:lnTo>
                    <a:pt x="125" y="118"/>
                  </a:lnTo>
                  <a:lnTo>
                    <a:pt x="111" y="118"/>
                  </a:lnTo>
                  <a:lnTo>
                    <a:pt x="111" y="169"/>
                  </a:lnTo>
                  <a:close/>
                  <a:moveTo>
                    <a:pt x="83" y="169"/>
                  </a:moveTo>
                  <a:lnTo>
                    <a:pt x="97" y="169"/>
                  </a:lnTo>
                  <a:lnTo>
                    <a:pt x="97" y="118"/>
                  </a:lnTo>
                  <a:lnTo>
                    <a:pt x="83" y="118"/>
                  </a:lnTo>
                  <a:lnTo>
                    <a:pt x="83" y="169"/>
                  </a:lnTo>
                  <a:close/>
                  <a:moveTo>
                    <a:pt x="54" y="169"/>
                  </a:moveTo>
                  <a:lnTo>
                    <a:pt x="69" y="169"/>
                  </a:lnTo>
                  <a:lnTo>
                    <a:pt x="69" y="118"/>
                  </a:lnTo>
                  <a:lnTo>
                    <a:pt x="54" y="118"/>
                  </a:lnTo>
                  <a:lnTo>
                    <a:pt x="54" y="169"/>
                  </a:lnTo>
                  <a:close/>
                  <a:moveTo>
                    <a:pt x="28" y="169"/>
                  </a:moveTo>
                  <a:lnTo>
                    <a:pt x="42" y="169"/>
                  </a:lnTo>
                  <a:lnTo>
                    <a:pt x="42" y="118"/>
                  </a:lnTo>
                  <a:lnTo>
                    <a:pt x="28" y="118"/>
                  </a:lnTo>
                  <a:lnTo>
                    <a:pt x="28" y="169"/>
                  </a:lnTo>
                  <a:close/>
                  <a:moveTo>
                    <a:pt x="0" y="169"/>
                  </a:moveTo>
                  <a:lnTo>
                    <a:pt x="14" y="169"/>
                  </a:lnTo>
                  <a:lnTo>
                    <a:pt x="14" y="118"/>
                  </a:lnTo>
                  <a:lnTo>
                    <a:pt x="0" y="1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392800" y="554832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392800" y="5548320"/>
              <a:ext cx="109440" cy="1116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0" y="0"/>
                  </a:moveTo>
                  <a:lnTo>
                    <a:pt x="14" y="14"/>
                  </a:lnTo>
                  <a:lnTo>
                    <a:pt x="125" y="14"/>
                  </a:ln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392800" y="5599080"/>
              <a:ext cx="109440" cy="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392800" y="5651640"/>
              <a:ext cx="1094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392800" y="5703840"/>
              <a:ext cx="109440" cy="39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392800" y="575460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5392800" y="5559480"/>
              <a:ext cx="111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92880" y="5559480"/>
              <a:ext cx="93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397480" y="57387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397480" y="573084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397480" y="5724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397480" y="5715000"/>
              <a:ext cx="7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397480" y="570852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446800" y="5610240"/>
              <a:ext cx="349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478480" y="5680080"/>
              <a:ext cx="15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478480" y="5708520"/>
              <a:ext cx="15840" cy="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478480" y="5718240"/>
              <a:ext cx="15840" cy="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430960" y="5667480"/>
              <a:ext cx="511200" cy="263520"/>
            </a:xfrm>
            <a:custGeom>
              <a:avLst/>
              <a:gdLst/>
              <a:ahLst/>
              <a:rect l="l" t="t" r="r" b="b"/>
              <a:pathLst>
                <a:path w="645" h="334">
                  <a:moveTo>
                    <a:pt x="0" y="14"/>
                  </a:moveTo>
                  <a:lnTo>
                    <a:pt x="42" y="1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  <a:close/>
                  <a:moveTo>
                    <a:pt x="622" y="334"/>
                  </a:moveTo>
                  <a:lnTo>
                    <a:pt x="645" y="334"/>
                  </a:lnTo>
                  <a:lnTo>
                    <a:pt x="645" y="327"/>
                  </a:lnTo>
                  <a:lnTo>
                    <a:pt x="622" y="327"/>
                  </a:lnTo>
                  <a:lnTo>
                    <a:pt x="622" y="334"/>
                  </a:lnTo>
                  <a:close/>
                  <a:moveTo>
                    <a:pt x="238" y="261"/>
                  </a:moveTo>
                  <a:lnTo>
                    <a:pt x="238" y="41"/>
                  </a:lnTo>
                  <a:lnTo>
                    <a:pt x="583" y="41"/>
                  </a:lnTo>
                  <a:lnTo>
                    <a:pt x="583" y="261"/>
                  </a:lnTo>
                  <a:lnTo>
                    <a:pt x="238" y="261"/>
                  </a:lnTo>
                  <a:close/>
                  <a:moveTo>
                    <a:pt x="222" y="275"/>
                  </a:moveTo>
                  <a:lnTo>
                    <a:pt x="599" y="275"/>
                  </a:lnTo>
                  <a:lnTo>
                    <a:pt x="599" y="27"/>
                  </a:lnTo>
                  <a:lnTo>
                    <a:pt x="615" y="27"/>
                  </a:lnTo>
                  <a:lnTo>
                    <a:pt x="615" y="13"/>
                  </a:lnTo>
                  <a:lnTo>
                    <a:pt x="206" y="13"/>
                  </a:lnTo>
                  <a:lnTo>
                    <a:pt x="206" y="23"/>
                  </a:lnTo>
                  <a:lnTo>
                    <a:pt x="206" y="290"/>
                  </a:lnTo>
                  <a:lnTo>
                    <a:pt x="222" y="290"/>
                  </a:lnTo>
                  <a:lnTo>
                    <a:pt x="222" y="2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557680" y="5925960"/>
              <a:ext cx="200160" cy="17640"/>
            </a:xfrm>
            <a:custGeom>
              <a:avLst/>
              <a:gdLst/>
              <a:ahLst/>
              <a:rect l="l" t="t" r="r" b="b"/>
              <a:pathLst>
                <a:path w="251" h="23">
                  <a:moveTo>
                    <a:pt x="0" y="0"/>
                  </a:moveTo>
                  <a:lnTo>
                    <a:pt x="251" y="0"/>
                  </a:lnTo>
                  <a:lnTo>
                    <a:pt x="251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5657760" y="592560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76800" y="6051600"/>
              <a:ext cx="8938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42680" y="6059520"/>
              <a:ext cx="82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net data Serv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14840" y="5516640"/>
              <a:ext cx="495360" cy="496800"/>
            </a:xfrm>
            <a:custGeom>
              <a:avLst/>
              <a:gdLst/>
              <a:ahLst/>
              <a:rect l="l" t="t" r="r" b="b"/>
              <a:pathLst>
                <a:path w="626" h="627">
                  <a:moveTo>
                    <a:pt x="0" y="470"/>
                  </a:moveTo>
                  <a:lnTo>
                    <a:pt x="117" y="470"/>
                  </a:lnTo>
                  <a:lnTo>
                    <a:pt x="214" y="489"/>
                  </a:lnTo>
                  <a:lnTo>
                    <a:pt x="214" y="509"/>
                  </a:lnTo>
                  <a:lnTo>
                    <a:pt x="117" y="509"/>
                  </a:lnTo>
                  <a:lnTo>
                    <a:pt x="117" y="528"/>
                  </a:lnTo>
                  <a:lnTo>
                    <a:pt x="39" y="528"/>
                  </a:lnTo>
                  <a:lnTo>
                    <a:pt x="39" y="627"/>
                  </a:lnTo>
                  <a:lnTo>
                    <a:pt x="587" y="627"/>
                  </a:lnTo>
                  <a:lnTo>
                    <a:pt x="587" y="528"/>
                  </a:lnTo>
                  <a:lnTo>
                    <a:pt x="509" y="528"/>
                  </a:lnTo>
                  <a:lnTo>
                    <a:pt x="509" y="509"/>
                  </a:lnTo>
                  <a:lnTo>
                    <a:pt x="410" y="509"/>
                  </a:lnTo>
                  <a:lnTo>
                    <a:pt x="410" y="489"/>
                  </a:lnTo>
                  <a:lnTo>
                    <a:pt x="509" y="470"/>
                  </a:lnTo>
                  <a:lnTo>
                    <a:pt x="626" y="470"/>
                  </a:lnTo>
                  <a:lnTo>
                    <a:pt x="626" y="0"/>
                  </a:lnTo>
                  <a:lnTo>
                    <a:pt x="0" y="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707000" y="593568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782960" y="5919840"/>
              <a:ext cx="1573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82960" y="5905440"/>
              <a:ext cx="157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707000" y="588960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651200" y="5564160"/>
              <a:ext cx="412920" cy="441360"/>
            </a:xfrm>
            <a:custGeom>
              <a:avLst/>
              <a:gdLst/>
              <a:ahLst/>
              <a:rect l="l" t="t" r="r" b="b"/>
              <a:pathLst>
                <a:path w="519" h="556">
                  <a:moveTo>
                    <a:pt x="49" y="503"/>
                  </a:moveTo>
                  <a:lnTo>
                    <a:pt x="146" y="503"/>
                  </a:lnTo>
                  <a:lnTo>
                    <a:pt x="146" y="489"/>
                  </a:lnTo>
                  <a:lnTo>
                    <a:pt x="49" y="489"/>
                  </a:lnTo>
                  <a:lnTo>
                    <a:pt x="49" y="503"/>
                  </a:lnTo>
                  <a:close/>
                  <a:moveTo>
                    <a:pt x="19" y="556"/>
                  </a:moveTo>
                  <a:lnTo>
                    <a:pt x="39" y="537"/>
                  </a:lnTo>
                  <a:lnTo>
                    <a:pt x="19" y="517"/>
                  </a:lnTo>
                  <a:lnTo>
                    <a:pt x="0" y="537"/>
                  </a:lnTo>
                  <a:lnTo>
                    <a:pt x="19" y="556"/>
                  </a:lnTo>
                  <a:close/>
                  <a:moveTo>
                    <a:pt x="49" y="313"/>
                  </a:moveTo>
                  <a:lnTo>
                    <a:pt x="49" y="39"/>
                  </a:lnTo>
                  <a:lnTo>
                    <a:pt x="480" y="39"/>
                  </a:lnTo>
                  <a:lnTo>
                    <a:pt x="480" y="313"/>
                  </a:lnTo>
                  <a:lnTo>
                    <a:pt x="49" y="313"/>
                  </a:lnTo>
                  <a:close/>
                  <a:moveTo>
                    <a:pt x="30" y="341"/>
                  </a:moveTo>
                  <a:lnTo>
                    <a:pt x="509" y="341"/>
                  </a:lnTo>
                  <a:lnTo>
                    <a:pt x="509" y="20"/>
                  </a:lnTo>
                  <a:lnTo>
                    <a:pt x="519" y="20"/>
                  </a:lnTo>
                  <a:lnTo>
                    <a:pt x="519" y="0"/>
                  </a:lnTo>
                  <a:lnTo>
                    <a:pt x="10" y="0"/>
                  </a:lnTo>
                  <a:lnTo>
                    <a:pt x="10" y="352"/>
                  </a:lnTo>
                  <a:lnTo>
                    <a:pt x="30" y="352"/>
                  </a:lnTo>
                  <a:lnTo>
                    <a:pt x="30" y="341"/>
                  </a:lnTo>
                  <a:close/>
                  <a:moveTo>
                    <a:pt x="489" y="390"/>
                  </a:moveTo>
                  <a:lnTo>
                    <a:pt x="519" y="390"/>
                  </a:lnTo>
                  <a:lnTo>
                    <a:pt x="519" y="382"/>
                  </a:lnTo>
                  <a:lnTo>
                    <a:pt x="489" y="382"/>
                  </a:lnTo>
                  <a:lnTo>
                    <a:pt x="489" y="3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699080" y="5989680"/>
              <a:ext cx="61920" cy="1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645080" y="595296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645080" y="596412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69908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74660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76892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9268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81644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7"/>
                  </a:lnTo>
                  <a:lnTo>
                    <a:pt x="8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8387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86252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8848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9"/>
                  </a:lnTo>
                  <a:lnTo>
                    <a:pt x="11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90860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9323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95468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9784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00076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024520" y="597060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04828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02240" y="6051600"/>
              <a:ext cx="51912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652640" y="605952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s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257880" y="4332240"/>
              <a:ext cx="189000" cy="803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329520" y="5056200"/>
              <a:ext cx="48960" cy="39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329520" y="4370400"/>
              <a:ext cx="48960" cy="42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6281640" y="4331880"/>
              <a:ext cx="180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342120" y="4392720"/>
              <a:ext cx="23760" cy="382320"/>
            </a:xfrm>
            <a:custGeom>
              <a:avLst/>
              <a:gdLst/>
              <a:ahLst/>
              <a:rect l="l" t="t" r="r" b="b"/>
              <a:pathLst>
                <a:path w="30" h="482">
                  <a:moveTo>
                    <a:pt x="30" y="380"/>
                  </a:moveTo>
                  <a:lnTo>
                    <a:pt x="30" y="355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30" y="380"/>
                  </a:lnTo>
                  <a:close/>
                  <a:moveTo>
                    <a:pt x="30" y="431"/>
                  </a:moveTo>
                  <a:lnTo>
                    <a:pt x="30" y="406"/>
                  </a:lnTo>
                  <a:lnTo>
                    <a:pt x="0" y="406"/>
                  </a:lnTo>
                  <a:lnTo>
                    <a:pt x="0" y="431"/>
                  </a:lnTo>
                  <a:lnTo>
                    <a:pt x="30" y="431"/>
                  </a:lnTo>
                  <a:close/>
                  <a:moveTo>
                    <a:pt x="30" y="482"/>
                  </a:moveTo>
                  <a:lnTo>
                    <a:pt x="30" y="456"/>
                  </a:lnTo>
                  <a:lnTo>
                    <a:pt x="0" y="456"/>
                  </a:lnTo>
                  <a:lnTo>
                    <a:pt x="0" y="482"/>
                  </a:lnTo>
                  <a:lnTo>
                    <a:pt x="30" y="482"/>
                  </a:lnTo>
                  <a:close/>
                  <a:moveTo>
                    <a:pt x="30" y="304"/>
                  </a:moveTo>
                  <a:lnTo>
                    <a:pt x="30" y="279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30" y="304"/>
                  </a:lnTo>
                  <a:close/>
                  <a:moveTo>
                    <a:pt x="30" y="228"/>
                  </a:moveTo>
                  <a:lnTo>
                    <a:pt x="30" y="203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30" y="228"/>
                  </a:lnTo>
                  <a:close/>
                  <a:moveTo>
                    <a:pt x="30" y="177"/>
                  </a:moveTo>
                  <a:lnTo>
                    <a:pt x="30" y="152"/>
                  </a:lnTo>
                  <a:lnTo>
                    <a:pt x="0" y="152"/>
                  </a:lnTo>
                  <a:lnTo>
                    <a:pt x="0" y="177"/>
                  </a:lnTo>
                  <a:lnTo>
                    <a:pt x="30" y="177"/>
                  </a:lnTo>
                  <a:close/>
                  <a:moveTo>
                    <a:pt x="30" y="127"/>
                  </a:moveTo>
                  <a:lnTo>
                    <a:pt x="30" y="101"/>
                  </a:lnTo>
                  <a:lnTo>
                    <a:pt x="0" y="101"/>
                  </a:lnTo>
                  <a:lnTo>
                    <a:pt x="0" y="127"/>
                  </a:lnTo>
                  <a:lnTo>
                    <a:pt x="30" y="127"/>
                  </a:lnTo>
                  <a:close/>
                  <a:moveTo>
                    <a:pt x="30" y="76"/>
                  </a:moveTo>
                  <a:lnTo>
                    <a:pt x="30" y="51"/>
                  </a:lnTo>
                  <a:lnTo>
                    <a:pt x="0" y="51"/>
                  </a:lnTo>
                  <a:lnTo>
                    <a:pt x="0" y="76"/>
                  </a:lnTo>
                  <a:lnTo>
                    <a:pt x="30" y="76"/>
                  </a:lnTo>
                  <a:close/>
                  <a:moveTo>
                    <a:pt x="30" y="25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486480" y="4870440"/>
              <a:ext cx="13032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16200000">
              <a:off x="6412320" y="492552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118200" y="1157400"/>
              <a:ext cx="2016000" cy="1207800"/>
            </a:xfrm>
            <a:custGeom>
              <a:avLst/>
              <a:gdLst/>
              <a:ahLst/>
              <a:rect l="l" t="t" r="r" b="b"/>
              <a:pathLst>
                <a:path w="2539" h="1522">
                  <a:moveTo>
                    <a:pt x="373" y="1130"/>
                  </a:moveTo>
                  <a:lnTo>
                    <a:pt x="401" y="1188"/>
                  </a:lnTo>
                  <a:lnTo>
                    <a:pt x="434" y="1245"/>
                  </a:lnTo>
                  <a:lnTo>
                    <a:pt x="470" y="1296"/>
                  </a:lnTo>
                  <a:lnTo>
                    <a:pt x="510" y="1343"/>
                  </a:lnTo>
                  <a:lnTo>
                    <a:pt x="555" y="1386"/>
                  </a:lnTo>
                  <a:lnTo>
                    <a:pt x="601" y="1423"/>
                  </a:lnTo>
                  <a:lnTo>
                    <a:pt x="650" y="1455"/>
                  </a:lnTo>
                  <a:lnTo>
                    <a:pt x="699" y="1479"/>
                  </a:lnTo>
                  <a:lnTo>
                    <a:pt x="752" y="1501"/>
                  </a:lnTo>
                  <a:lnTo>
                    <a:pt x="806" y="1513"/>
                  </a:lnTo>
                  <a:lnTo>
                    <a:pt x="860" y="1520"/>
                  </a:lnTo>
                  <a:lnTo>
                    <a:pt x="915" y="1522"/>
                  </a:lnTo>
                  <a:lnTo>
                    <a:pt x="970" y="1516"/>
                  </a:lnTo>
                  <a:lnTo>
                    <a:pt x="1025" y="1504"/>
                  </a:lnTo>
                  <a:lnTo>
                    <a:pt x="1076" y="1486"/>
                  </a:lnTo>
                  <a:lnTo>
                    <a:pt x="1129" y="1462"/>
                  </a:lnTo>
                  <a:lnTo>
                    <a:pt x="1177" y="1432"/>
                  </a:lnTo>
                  <a:lnTo>
                    <a:pt x="1224" y="1396"/>
                  </a:lnTo>
                  <a:lnTo>
                    <a:pt x="1269" y="1356"/>
                  </a:lnTo>
                  <a:lnTo>
                    <a:pt x="1313" y="1396"/>
                  </a:lnTo>
                  <a:lnTo>
                    <a:pt x="1360" y="1432"/>
                  </a:lnTo>
                  <a:lnTo>
                    <a:pt x="1410" y="1462"/>
                  </a:lnTo>
                  <a:lnTo>
                    <a:pt x="1461" y="1486"/>
                  </a:lnTo>
                  <a:lnTo>
                    <a:pt x="1514" y="1504"/>
                  </a:lnTo>
                  <a:lnTo>
                    <a:pt x="1567" y="1516"/>
                  </a:lnTo>
                  <a:lnTo>
                    <a:pt x="1622" y="1522"/>
                  </a:lnTo>
                  <a:lnTo>
                    <a:pt x="1677" y="1520"/>
                  </a:lnTo>
                  <a:lnTo>
                    <a:pt x="1732" y="1513"/>
                  </a:lnTo>
                  <a:lnTo>
                    <a:pt x="1785" y="1501"/>
                  </a:lnTo>
                  <a:lnTo>
                    <a:pt x="1838" y="1479"/>
                  </a:lnTo>
                  <a:lnTo>
                    <a:pt x="1889" y="1455"/>
                  </a:lnTo>
                  <a:lnTo>
                    <a:pt x="1937" y="1423"/>
                  </a:lnTo>
                  <a:lnTo>
                    <a:pt x="1983" y="1386"/>
                  </a:lnTo>
                  <a:lnTo>
                    <a:pt x="2027" y="1343"/>
                  </a:lnTo>
                  <a:lnTo>
                    <a:pt x="2067" y="1296"/>
                  </a:lnTo>
                  <a:lnTo>
                    <a:pt x="2103" y="1245"/>
                  </a:lnTo>
                  <a:lnTo>
                    <a:pt x="2136" y="1188"/>
                  </a:lnTo>
                  <a:lnTo>
                    <a:pt x="2165" y="1130"/>
                  </a:lnTo>
                  <a:lnTo>
                    <a:pt x="2203" y="1139"/>
                  </a:lnTo>
                  <a:lnTo>
                    <a:pt x="2242" y="1142"/>
                  </a:lnTo>
                  <a:lnTo>
                    <a:pt x="2281" y="1137"/>
                  </a:lnTo>
                  <a:lnTo>
                    <a:pt x="2318" y="1128"/>
                  </a:lnTo>
                  <a:lnTo>
                    <a:pt x="2355" y="1112"/>
                  </a:lnTo>
                  <a:lnTo>
                    <a:pt x="2391" y="1089"/>
                  </a:lnTo>
                  <a:lnTo>
                    <a:pt x="2423" y="1061"/>
                  </a:lnTo>
                  <a:lnTo>
                    <a:pt x="2453" y="1029"/>
                  </a:lnTo>
                  <a:lnTo>
                    <a:pt x="2477" y="992"/>
                  </a:lnTo>
                  <a:lnTo>
                    <a:pt x="2499" y="950"/>
                  </a:lnTo>
                  <a:lnTo>
                    <a:pt x="2516" y="906"/>
                  </a:lnTo>
                  <a:lnTo>
                    <a:pt x="2529" y="860"/>
                  </a:lnTo>
                  <a:lnTo>
                    <a:pt x="2536" y="811"/>
                  </a:lnTo>
                  <a:lnTo>
                    <a:pt x="2539" y="761"/>
                  </a:lnTo>
                  <a:lnTo>
                    <a:pt x="2536" y="712"/>
                  </a:lnTo>
                  <a:lnTo>
                    <a:pt x="2529" y="662"/>
                  </a:lnTo>
                  <a:lnTo>
                    <a:pt x="2516" y="616"/>
                  </a:lnTo>
                  <a:lnTo>
                    <a:pt x="2499" y="572"/>
                  </a:lnTo>
                  <a:lnTo>
                    <a:pt x="2477" y="530"/>
                  </a:lnTo>
                  <a:lnTo>
                    <a:pt x="2453" y="493"/>
                  </a:lnTo>
                  <a:lnTo>
                    <a:pt x="2423" y="461"/>
                  </a:lnTo>
                  <a:lnTo>
                    <a:pt x="2391" y="433"/>
                  </a:lnTo>
                  <a:lnTo>
                    <a:pt x="2355" y="410"/>
                  </a:lnTo>
                  <a:lnTo>
                    <a:pt x="2318" y="394"/>
                  </a:lnTo>
                  <a:lnTo>
                    <a:pt x="2281" y="383"/>
                  </a:lnTo>
                  <a:lnTo>
                    <a:pt x="2242" y="380"/>
                  </a:lnTo>
                  <a:lnTo>
                    <a:pt x="2203" y="383"/>
                  </a:lnTo>
                  <a:lnTo>
                    <a:pt x="2165" y="392"/>
                  </a:lnTo>
                  <a:lnTo>
                    <a:pt x="2136" y="334"/>
                  </a:lnTo>
                  <a:lnTo>
                    <a:pt x="2103" y="278"/>
                  </a:lnTo>
                  <a:lnTo>
                    <a:pt x="2067" y="226"/>
                  </a:lnTo>
                  <a:lnTo>
                    <a:pt x="2027" y="179"/>
                  </a:lnTo>
                  <a:lnTo>
                    <a:pt x="1983" y="136"/>
                  </a:lnTo>
                  <a:lnTo>
                    <a:pt x="1937" y="99"/>
                  </a:lnTo>
                  <a:lnTo>
                    <a:pt x="1889" y="68"/>
                  </a:lnTo>
                  <a:lnTo>
                    <a:pt x="1838" y="43"/>
                  </a:lnTo>
                  <a:lnTo>
                    <a:pt x="1785" y="22"/>
                  </a:lnTo>
                  <a:lnTo>
                    <a:pt x="1732" y="9"/>
                  </a:lnTo>
                  <a:lnTo>
                    <a:pt x="1677" y="2"/>
                  </a:lnTo>
                  <a:lnTo>
                    <a:pt x="1622" y="0"/>
                  </a:lnTo>
                  <a:lnTo>
                    <a:pt x="1567" y="6"/>
                  </a:lnTo>
                  <a:lnTo>
                    <a:pt x="1514" y="18"/>
                  </a:lnTo>
                  <a:lnTo>
                    <a:pt x="1461" y="36"/>
                  </a:lnTo>
                  <a:lnTo>
                    <a:pt x="1410" y="60"/>
                  </a:lnTo>
                  <a:lnTo>
                    <a:pt x="1360" y="90"/>
                  </a:lnTo>
                  <a:lnTo>
                    <a:pt x="1313" y="126"/>
                  </a:lnTo>
                  <a:lnTo>
                    <a:pt x="1269" y="166"/>
                  </a:lnTo>
                  <a:lnTo>
                    <a:pt x="1224" y="126"/>
                  </a:lnTo>
                  <a:lnTo>
                    <a:pt x="1177" y="90"/>
                  </a:lnTo>
                  <a:lnTo>
                    <a:pt x="1129" y="60"/>
                  </a:lnTo>
                  <a:lnTo>
                    <a:pt x="1076" y="36"/>
                  </a:lnTo>
                  <a:lnTo>
                    <a:pt x="1025" y="18"/>
                  </a:lnTo>
                  <a:lnTo>
                    <a:pt x="970" y="6"/>
                  </a:lnTo>
                  <a:lnTo>
                    <a:pt x="915" y="0"/>
                  </a:lnTo>
                  <a:lnTo>
                    <a:pt x="860" y="2"/>
                  </a:lnTo>
                  <a:lnTo>
                    <a:pt x="806" y="9"/>
                  </a:lnTo>
                  <a:lnTo>
                    <a:pt x="752" y="22"/>
                  </a:lnTo>
                  <a:lnTo>
                    <a:pt x="699" y="43"/>
                  </a:lnTo>
                  <a:lnTo>
                    <a:pt x="650" y="68"/>
                  </a:lnTo>
                  <a:lnTo>
                    <a:pt x="601" y="99"/>
                  </a:lnTo>
                  <a:lnTo>
                    <a:pt x="555" y="136"/>
                  </a:lnTo>
                  <a:lnTo>
                    <a:pt x="510" y="179"/>
                  </a:lnTo>
                  <a:lnTo>
                    <a:pt x="470" y="226"/>
                  </a:lnTo>
                  <a:lnTo>
                    <a:pt x="434" y="278"/>
                  </a:lnTo>
                  <a:lnTo>
                    <a:pt x="401" y="334"/>
                  </a:lnTo>
                  <a:lnTo>
                    <a:pt x="373" y="392"/>
                  </a:lnTo>
                  <a:lnTo>
                    <a:pt x="334" y="383"/>
                  </a:lnTo>
                  <a:lnTo>
                    <a:pt x="295" y="380"/>
                  </a:lnTo>
                  <a:lnTo>
                    <a:pt x="256" y="383"/>
                  </a:lnTo>
                  <a:lnTo>
                    <a:pt x="219" y="394"/>
                  </a:lnTo>
                  <a:lnTo>
                    <a:pt x="182" y="410"/>
                  </a:lnTo>
                  <a:lnTo>
                    <a:pt x="146" y="433"/>
                  </a:lnTo>
                  <a:lnTo>
                    <a:pt x="114" y="461"/>
                  </a:lnTo>
                  <a:lnTo>
                    <a:pt x="86" y="493"/>
                  </a:lnTo>
                  <a:lnTo>
                    <a:pt x="60" y="530"/>
                  </a:lnTo>
                  <a:lnTo>
                    <a:pt x="39" y="572"/>
                  </a:lnTo>
                  <a:lnTo>
                    <a:pt x="21" y="616"/>
                  </a:lnTo>
                  <a:lnTo>
                    <a:pt x="8" y="662"/>
                  </a:lnTo>
                  <a:lnTo>
                    <a:pt x="1" y="712"/>
                  </a:lnTo>
                  <a:lnTo>
                    <a:pt x="0" y="761"/>
                  </a:lnTo>
                  <a:lnTo>
                    <a:pt x="1" y="811"/>
                  </a:lnTo>
                  <a:lnTo>
                    <a:pt x="8" y="860"/>
                  </a:lnTo>
                  <a:lnTo>
                    <a:pt x="21" y="906"/>
                  </a:lnTo>
                  <a:lnTo>
                    <a:pt x="39" y="950"/>
                  </a:lnTo>
                  <a:lnTo>
                    <a:pt x="60" y="992"/>
                  </a:lnTo>
                  <a:lnTo>
                    <a:pt x="86" y="1029"/>
                  </a:lnTo>
                  <a:lnTo>
                    <a:pt x="114" y="1061"/>
                  </a:lnTo>
                  <a:lnTo>
                    <a:pt x="146" y="1089"/>
                  </a:lnTo>
                  <a:lnTo>
                    <a:pt x="182" y="1112"/>
                  </a:lnTo>
                  <a:lnTo>
                    <a:pt x="219" y="1128"/>
                  </a:lnTo>
                  <a:lnTo>
                    <a:pt x="256" y="1137"/>
                  </a:lnTo>
                  <a:lnTo>
                    <a:pt x="295" y="1142"/>
                  </a:lnTo>
                  <a:lnTo>
                    <a:pt x="334" y="1139"/>
                  </a:lnTo>
                  <a:lnTo>
                    <a:pt x="373" y="113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863760" y="16588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562120" y="5423040"/>
              <a:ext cx="8128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595240" y="5430960"/>
              <a:ext cx="65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IT Voice 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12760" y="554364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621880" y="565452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CP/IP capabil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4160" y="4094280"/>
              <a:ext cx="1290600" cy="1290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324160" y="4094280"/>
              <a:ext cx="1290600" cy="1263600"/>
            </a:xfrm>
            <a:custGeom>
              <a:avLst/>
              <a:gdLst/>
              <a:ahLst/>
              <a:rect l="l" t="t" r="r" b="b"/>
              <a:pathLst>
                <a:path w="1628" h="1592">
                  <a:moveTo>
                    <a:pt x="0" y="1592"/>
                  </a:moveTo>
                  <a:lnTo>
                    <a:pt x="813" y="1592"/>
                  </a:lnTo>
                  <a:lnTo>
                    <a:pt x="813" y="0"/>
                  </a:lnTo>
                  <a:lnTo>
                    <a:pt x="0" y="0"/>
                  </a:lnTo>
                  <a:lnTo>
                    <a:pt x="0" y="1592"/>
                  </a:lnTo>
                  <a:close/>
                  <a:moveTo>
                    <a:pt x="813" y="1592"/>
                  </a:moveTo>
                  <a:lnTo>
                    <a:pt x="1628" y="1592"/>
                  </a:lnTo>
                  <a:lnTo>
                    <a:pt x="1628" y="0"/>
                  </a:lnTo>
                  <a:lnTo>
                    <a:pt x="813" y="0"/>
                  </a:lnTo>
                  <a:lnTo>
                    <a:pt x="813" y="1592"/>
                  </a:lnTo>
                  <a:close/>
                  <a:moveTo>
                    <a:pt x="126" y="542"/>
                  </a:moveTo>
                  <a:lnTo>
                    <a:pt x="689" y="542"/>
                  </a:lnTo>
                  <a:lnTo>
                    <a:pt x="689" y="373"/>
                  </a:lnTo>
                  <a:lnTo>
                    <a:pt x="126" y="373"/>
                  </a:lnTo>
                  <a:lnTo>
                    <a:pt x="126" y="542"/>
                  </a:lnTo>
                  <a:close/>
                  <a:moveTo>
                    <a:pt x="126" y="881"/>
                  </a:moveTo>
                  <a:lnTo>
                    <a:pt x="689" y="881"/>
                  </a:lnTo>
                  <a:lnTo>
                    <a:pt x="689" y="593"/>
                  </a:lnTo>
                  <a:lnTo>
                    <a:pt x="126" y="593"/>
                  </a:lnTo>
                  <a:lnTo>
                    <a:pt x="126" y="881"/>
                  </a:lnTo>
                  <a:close/>
                  <a:moveTo>
                    <a:pt x="938" y="542"/>
                  </a:moveTo>
                  <a:lnTo>
                    <a:pt x="1502" y="542"/>
                  </a:lnTo>
                  <a:lnTo>
                    <a:pt x="1502" y="373"/>
                  </a:lnTo>
                  <a:lnTo>
                    <a:pt x="938" y="373"/>
                  </a:lnTo>
                  <a:lnTo>
                    <a:pt x="938" y="542"/>
                  </a:lnTo>
                  <a:close/>
                  <a:moveTo>
                    <a:pt x="938" y="763"/>
                  </a:moveTo>
                  <a:lnTo>
                    <a:pt x="1502" y="763"/>
                  </a:lnTo>
                  <a:lnTo>
                    <a:pt x="1502" y="593"/>
                  </a:lnTo>
                  <a:lnTo>
                    <a:pt x="938" y="593"/>
                  </a:lnTo>
                  <a:lnTo>
                    <a:pt x="938" y="76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24160" y="4202280"/>
              <a:ext cx="1290600" cy="10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5600" y="5369040"/>
              <a:ext cx="1287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68560" y="2676600"/>
              <a:ext cx="7920" cy="1266840"/>
            </a:xfrm>
            <a:custGeom>
              <a:avLst/>
              <a:gdLst/>
              <a:ahLst/>
              <a:rect l="l" t="t" r="r" b="b"/>
              <a:pathLst>
                <a:path w="11" h="1598">
                  <a:moveTo>
                    <a:pt x="11" y="0"/>
                  </a:moveTo>
                  <a:lnTo>
                    <a:pt x="11" y="158"/>
                  </a:lnTo>
                  <a:lnTo>
                    <a:pt x="0" y="158"/>
                  </a:lnTo>
                  <a:lnTo>
                    <a:pt x="0" y="15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22480" y="2676600"/>
              <a:ext cx="109800" cy="16344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69" y="0"/>
                  </a:lnTo>
                  <a:lnTo>
                    <a:pt x="138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14560" y="3929040"/>
              <a:ext cx="108000" cy="16524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138" y="0"/>
                  </a:moveTo>
                  <a:lnTo>
                    <a:pt x="69" y="206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584440" y="3303720"/>
              <a:ext cx="7714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594880" y="3311640"/>
              <a:ext cx="70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2 or SS7 circui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122800" y="2754360"/>
              <a:ext cx="746280" cy="495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146560" y="3146400"/>
              <a:ext cx="698760" cy="8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146560" y="2773440"/>
              <a:ext cx="698760" cy="333360"/>
            </a:xfrm>
            <a:custGeom>
              <a:avLst/>
              <a:gdLst/>
              <a:ahLst/>
              <a:rect l="l" t="t" r="r" b="b"/>
              <a:pathLst>
                <a:path w="880" h="418">
                  <a:moveTo>
                    <a:pt x="777" y="14"/>
                  </a:moveTo>
                  <a:lnTo>
                    <a:pt x="779" y="5"/>
                  </a:lnTo>
                  <a:lnTo>
                    <a:pt x="786" y="2"/>
                  </a:lnTo>
                  <a:lnTo>
                    <a:pt x="797" y="2"/>
                  </a:lnTo>
                  <a:lnTo>
                    <a:pt x="804" y="5"/>
                  </a:lnTo>
                  <a:lnTo>
                    <a:pt x="806" y="14"/>
                  </a:lnTo>
                  <a:lnTo>
                    <a:pt x="804" y="21"/>
                  </a:lnTo>
                  <a:lnTo>
                    <a:pt x="797" y="26"/>
                  </a:lnTo>
                  <a:lnTo>
                    <a:pt x="786" y="26"/>
                  </a:lnTo>
                  <a:lnTo>
                    <a:pt x="779" y="21"/>
                  </a:lnTo>
                  <a:lnTo>
                    <a:pt x="777" y="14"/>
                  </a:lnTo>
                  <a:close/>
                  <a:moveTo>
                    <a:pt x="659" y="14"/>
                  </a:moveTo>
                  <a:lnTo>
                    <a:pt x="662" y="5"/>
                  </a:lnTo>
                  <a:lnTo>
                    <a:pt x="669" y="2"/>
                  </a:lnTo>
                  <a:lnTo>
                    <a:pt x="678" y="2"/>
                  </a:lnTo>
                  <a:lnTo>
                    <a:pt x="685" y="5"/>
                  </a:lnTo>
                  <a:lnTo>
                    <a:pt x="689" y="14"/>
                  </a:lnTo>
                  <a:lnTo>
                    <a:pt x="685" y="21"/>
                  </a:lnTo>
                  <a:lnTo>
                    <a:pt x="678" y="26"/>
                  </a:lnTo>
                  <a:lnTo>
                    <a:pt x="669" y="26"/>
                  </a:lnTo>
                  <a:lnTo>
                    <a:pt x="662" y="21"/>
                  </a:lnTo>
                  <a:lnTo>
                    <a:pt x="659" y="14"/>
                  </a:lnTo>
                  <a:close/>
                  <a:moveTo>
                    <a:pt x="542" y="14"/>
                  </a:moveTo>
                  <a:lnTo>
                    <a:pt x="544" y="5"/>
                  </a:lnTo>
                  <a:lnTo>
                    <a:pt x="553" y="2"/>
                  </a:lnTo>
                  <a:lnTo>
                    <a:pt x="562" y="2"/>
                  </a:lnTo>
                  <a:lnTo>
                    <a:pt x="569" y="5"/>
                  </a:lnTo>
                  <a:lnTo>
                    <a:pt x="570" y="14"/>
                  </a:lnTo>
                  <a:lnTo>
                    <a:pt x="569" y="21"/>
                  </a:lnTo>
                  <a:lnTo>
                    <a:pt x="562" y="26"/>
                  </a:lnTo>
                  <a:lnTo>
                    <a:pt x="553" y="26"/>
                  </a:lnTo>
                  <a:lnTo>
                    <a:pt x="544" y="21"/>
                  </a:lnTo>
                  <a:lnTo>
                    <a:pt x="542" y="14"/>
                  </a:lnTo>
                  <a:close/>
                  <a:moveTo>
                    <a:pt x="424" y="14"/>
                  </a:moveTo>
                  <a:lnTo>
                    <a:pt x="427" y="5"/>
                  </a:lnTo>
                  <a:lnTo>
                    <a:pt x="434" y="2"/>
                  </a:lnTo>
                  <a:lnTo>
                    <a:pt x="443" y="2"/>
                  </a:lnTo>
                  <a:lnTo>
                    <a:pt x="450" y="5"/>
                  </a:lnTo>
                  <a:lnTo>
                    <a:pt x="454" y="14"/>
                  </a:lnTo>
                  <a:lnTo>
                    <a:pt x="450" y="21"/>
                  </a:lnTo>
                  <a:lnTo>
                    <a:pt x="443" y="26"/>
                  </a:lnTo>
                  <a:lnTo>
                    <a:pt x="434" y="26"/>
                  </a:lnTo>
                  <a:lnTo>
                    <a:pt x="427" y="21"/>
                  </a:lnTo>
                  <a:lnTo>
                    <a:pt x="424" y="14"/>
                  </a:lnTo>
                  <a:close/>
                  <a:moveTo>
                    <a:pt x="307" y="14"/>
                  </a:moveTo>
                  <a:lnTo>
                    <a:pt x="311" y="5"/>
                  </a:lnTo>
                  <a:lnTo>
                    <a:pt x="318" y="2"/>
                  </a:lnTo>
                  <a:lnTo>
                    <a:pt x="327" y="2"/>
                  </a:lnTo>
                  <a:lnTo>
                    <a:pt x="334" y="5"/>
                  </a:lnTo>
                  <a:lnTo>
                    <a:pt x="337" y="14"/>
                  </a:lnTo>
                  <a:lnTo>
                    <a:pt x="334" y="21"/>
                  </a:lnTo>
                  <a:lnTo>
                    <a:pt x="327" y="26"/>
                  </a:lnTo>
                  <a:lnTo>
                    <a:pt x="318" y="26"/>
                  </a:lnTo>
                  <a:lnTo>
                    <a:pt x="311" y="21"/>
                  </a:lnTo>
                  <a:lnTo>
                    <a:pt x="307" y="14"/>
                  </a:lnTo>
                  <a:close/>
                  <a:moveTo>
                    <a:pt x="189" y="14"/>
                  </a:moveTo>
                  <a:lnTo>
                    <a:pt x="192" y="5"/>
                  </a:lnTo>
                  <a:lnTo>
                    <a:pt x="199" y="2"/>
                  </a:lnTo>
                  <a:lnTo>
                    <a:pt x="208" y="2"/>
                  </a:lnTo>
                  <a:lnTo>
                    <a:pt x="217" y="5"/>
                  </a:lnTo>
                  <a:lnTo>
                    <a:pt x="219" y="14"/>
                  </a:lnTo>
                  <a:lnTo>
                    <a:pt x="217" y="21"/>
                  </a:lnTo>
                  <a:lnTo>
                    <a:pt x="208" y="26"/>
                  </a:lnTo>
                  <a:lnTo>
                    <a:pt x="199" y="26"/>
                  </a:lnTo>
                  <a:lnTo>
                    <a:pt x="192" y="21"/>
                  </a:lnTo>
                  <a:lnTo>
                    <a:pt x="189" y="14"/>
                  </a:lnTo>
                  <a:close/>
                  <a:moveTo>
                    <a:pt x="72" y="14"/>
                  </a:moveTo>
                  <a:lnTo>
                    <a:pt x="76" y="5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99" y="5"/>
                  </a:lnTo>
                  <a:lnTo>
                    <a:pt x="102" y="14"/>
                  </a:lnTo>
                  <a:lnTo>
                    <a:pt x="99" y="21"/>
                  </a:lnTo>
                  <a:lnTo>
                    <a:pt x="92" y="26"/>
                  </a:lnTo>
                  <a:lnTo>
                    <a:pt x="83" y="26"/>
                  </a:lnTo>
                  <a:lnTo>
                    <a:pt x="76" y="21"/>
                  </a:lnTo>
                  <a:lnTo>
                    <a:pt x="72" y="14"/>
                  </a:lnTo>
                  <a:close/>
                  <a:moveTo>
                    <a:pt x="116" y="418"/>
                  </a:moveTo>
                  <a:lnTo>
                    <a:pt x="175" y="418"/>
                  </a:lnTo>
                  <a:lnTo>
                    <a:pt x="175" y="0"/>
                  </a:lnTo>
                  <a:lnTo>
                    <a:pt x="116" y="0"/>
                  </a:lnTo>
                  <a:lnTo>
                    <a:pt x="116" y="418"/>
                  </a:lnTo>
                  <a:close/>
                  <a:moveTo>
                    <a:pt x="233" y="418"/>
                  </a:moveTo>
                  <a:lnTo>
                    <a:pt x="293" y="418"/>
                  </a:lnTo>
                  <a:lnTo>
                    <a:pt x="293" y="0"/>
                  </a:lnTo>
                  <a:lnTo>
                    <a:pt x="233" y="0"/>
                  </a:lnTo>
                  <a:lnTo>
                    <a:pt x="233" y="418"/>
                  </a:lnTo>
                  <a:close/>
                  <a:moveTo>
                    <a:pt x="351" y="418"/>
                  </a:moveTo>
                  <a:lnTo>
                    <a:pt x="410" y="418"/>
                  </a:lnTo>
                  <a:lnTo>
                    <a:pt x="410" y="0"/>
                  </a:lnTo>
                  <a:lnTo>
                    <a:pt x="351" y="0"/>
                  </a:lnTo>
                  <a:lnTo>
                    <a:pt x="351" y="418"/>
                  </a:lnTo>
                  <a:close/>
                  <a:moveTo>
                    <a:pt x="468" y="418"/>
                  </a:moveTo>
                  <a:lnTo>
                    <a:pt x="526" y="418"/>
                  </a:lnTo>
                  <a:lnTo>
                    <a:pt x="526" y="0"/>
                  </a:lnTo>
                  <a:lnTo>
                    <a:pt x="468" y="0"/>
                  </a:lnTo>
                  <a:lnTo>
                    <a:pt x="468" y="418"/>
                  </a:lnTo>
                  <a:close/>
                  <a:moveTo>
                    <a:pt x="586" y="418"/>
                  </a:moveTo>
                  <a:lnTo>
                    <a:pt x="645" y="418"/>
                  </a:lnTo>
                  <a:lnTo>
                    <a:pt x="645" y="0"/>
                  </a:lnTo>
                  <a:lnTo>
                    <a:pt x="586" y="0"/>
                  </a:lnTo>
                  <a:lnTo>
                    <a:pt x="586" y="418"/>
                  </a:lnTo>
                  <a:close/>
                  <a:moveTo>
                    <a:pt x="703" y="418"/>
                  </a:moveTo>
                  <a:lnTo>
                    <a:pt x="761" y="418"/>
                  </a:lnTo>
                  <a:lnTo>
                    <a:pt x="761" y="0"/>
                  </a:lnTo>
                  <a:lnTo>
                    <a:pt x="703" y="0"/>
                  </a:lnTo>
                  <a:lnTo>
                    <a:pt x="703" y="418"/>
                  </a:lnTo>
                  <a:close/>
                  <a:moveTo>
                    <a:pt x="821" y="418"/>
                  </a:moveTo>
                  <a:lnTo>
                    <a:pt x="880" y="418"/>
                  </a:lnTo>
                  <a:lnTo>
                    <a:pt x="880" y="0"/>
                  </a:lnTo>
                  <a:lnTo>
                    <a:pt x="821" y="0"/>
                  </a:lnTo>
                  <a:lnTo>
                    <a:pt x="821" y="418"/>
                  </a:lnTo>
                  <a:close/>
                  <a:moveTo>
                    <a:pt x="0" y="418"/>
                  </a:moveTo>
                  <a:lnTo>
                    <a:pt x="58" y="418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168880" y="3166920"/>
              <a:ext cx="652320" cy="41400"/>
            </a:xfrm>
            <a:custGeom>
              <a:avLst/>
              <a:gdLst/>
              <a:ahLst/>
              <a:rect l="l" t="t" r="r" b="b"/>
              <a:pathLst>
                <a:path w="822" h="51">
                  <a:moveTo>
                    <a:pt x="705" y="51"/>
                  </a:moveTo>
                  <a:lnTo>
                    <a:pt x="822" y="51"/>
                  </a:lnTo>
                  <a:lnTo>
                    <a:pt x="822" y="0"/>
                  </a:lnTo>
                  <a:lnTo>
                    <a:pt x="705" y="0"/>
                  </a:lnTo>
                  <a:lnTo>
                    <a:pt x="705" y="51"/>
                  </a:lnTo>
                  <a:close/>
                  <a:moveTo>
                    <a:pt x="528" y="51"/>
                  </a:moveTo>
                  <a:lnTo>
                    <a:pt x="647" y="51"/>
                  </a:lnTo>
                  <a:lnTo>
                    <a:pt x="647" y="0"/>
                  </a:lnTo>
                  <a:lnTo>
                    <a:pt x="528" y="0"/>
                  </a:lnTo>
                  <a:lnTo>
                    <a:pt x="528" y="51"/>
                  </a:lnTo>
                  <a:close/>
                  <a:moveTo>
                    <a:pt x="352" y="51"/>
                  </a:moveTo>
                  <a:lnTo>
                    <a:pt x="470" y="51"/>
                  </a:lnTo>
                  <a:lnTo>
                    <a:pt x="470" y="0"/>
                  </a:lnTo>
                  <a:lnTo>
                    <a:pt x="352" y="0"/>
                  </a:lnTo>
                  <a:lnTo>
                    <a:pt x="352" y="51"/>
                  </a:lnTo>
                  <a:close/>
                  <a:moveTo>
                    <a:pt x="177" y="51"/>
                  </a:moveTo>
                  <a:lnTo>
                    <a:pt x="293" y="51"/>
                  </a:lnTo>
                  <a:lnTo>
                    <a:pt x="293" y="0"/>
                  </a:lnTo>
                  <a:lnTo>
                    <a:pt x="177" y="0"/>
                  </a:lnTo>
                  <a:lnTo>
                    <a:pt x="177" y="51"/>
                  </a:lnTo>
                  <a:close/>
                  <a:moveTo>
                    <a:pt x="0" y="51"/>
                  </a:moveTo>
                  <a:lnTo>
                    <a:pt x="118" y="51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065560" y="3287880"/>
              <a:ext cx="3780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109480" y="329724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181480" y="3505320"/>
              <a:ext cx="638280" cy="150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213520" y="3562200"/>
              <a:ext cx="31680" cy="39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52920" y="3562200"/>
              <a:ext cx="3333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181480" y="3524400"/>
              <a:ext cx="638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68760" y="3571920"/>
              <a:ext cx="303480" cy="20520"/>
            </a:xfrm>
            <a:custGeom>
              <a:avLst/>
              <a:gdLst/>
              <a:ahLst/>
              <a:rect l="l" t="t" r="r" b="b"/>
              <a:pathLst>
                <a:path w="382" h="25">
                  <a:moveTo>
                    <a:pt x="80" y="25"/>
                  </a:moveTo>
                  <a:lnTo>
                    <a:pt x="101" y="25"/>
                  </a:lnTo>
                  <a:lnTo>
                    <a:pt x="101" y="0"/>
                  </a:lnTo>
                  <a:lnTo>
                    <a:pt x="80" y="0"/>
                  </a:lnTo>
                  <a:lnTo>
                    <a:pt x="80" y="25"/>
                  </a:lnTo>
                  <a:close/>
                  <a:moveTo>
                    <a:pt x="41" y="25"/>
                  </a:moveTo>
                  <a:lnTo>
                    <a:pt x="60" y="25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41" y="25"/>
                  </a:lnTo>
                  <a:close/>
                  <a:moveTo>
                    <a:pt x="0" y="25"/>
                  </a:moveTo>
                  <a:lnTo>
                    <a:pt x="20" y="2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5"/>
                  </a:lnTo>
                  <a:close/>
                  <a:moveTo>
                    <a:pt x="142" y="25"/>
                  </a:moveTo>
                  <a:lnTo>
                    <a:pt x="161" y="25"/>
                  </a:lnTo>
                  <a:lnTo>
                    <a:pt x="161" y="0"/>
                  </a:lnTo>
                  <a:lnTo>
                    <a:pt x="142" y="0"/>
                  </a:lnTo>
                  <a:lnTo>
                    <a:pt x="142" y="25"/>
                  </a:lnTo>
                  <a:close/>
                  <a:moveTo>
                    <a:pt x="202" y="25"/>
                  </a:moveTo>
                  <a:lnTo>
                    <a:pt x="221" y="25"/>
                  </a:lnTo>
                  <a:lnTo>
                    <a:pt x="221" y="0"/>
                  </a:lnTo>
                  <a:lnTo>
                    <a:pt x="202" y="0"/>
                  </a:lnTo>
                  <a:lnTo>
                    <a:pt x="202" y="25"/>
                  </a:lnTo>
                  <a:close/>
                  <a:moveTo>
                    <a:pt x="241" y="25"/>
                  </a:moveTo>
                  <a:lnTo>
                    <a:pt x="262" y="25"/>
                  </a:lnTo>
                  <a:lnTo>
                    <a:pt x="262" y="0"/>
                  </a:lnTo>
                  <a:lnTo>
                    <a:pt x="241" y="0"/>
                  </a:lnTo>
                  <a:lnTo>
                    <a:pt x="241" y="25"/>
                  </a:lnTo>
                  <a:close/>
                  <a:moveTo>
                    <a:pt x="281" y="25"/>
                  </a:moveTo>
                  <a:lnTo>
                    <a:pt x="303" y="25"/>
                  </a:lnTo>
                  <a:lnTo>
                    <a:pt x="303" y="0"/>
                  </a:lnTo>
                  <a:lnTo>
                    <a:pt x="281" y="0"/>
                  </a:lnTo>
                  <a:lnTo>
                    <a:pt x="281" y="25"/>
                  </a:lnTo>
                  <a:close/>
                  <a:moveTo>
                    <a:pt x="322" y="25"/>
                  </a:moveTo>
                  <a:lnTo>
                    <a:pt x="341" y="25"/>
                  </a:lnTo>
                  <a:lnTo>
                    <a:pt x="341" y="0"/>
                  </a:lnTo>
                  <a:lnTo>
                    <a:pt x="322" y="0"/>
                  </a:lnTo>
                  <a:lnTo>
                    <a:pt x="322" y="25"/>
                  </a:lnTo>
                  <a:close/>
                  <a:moveTo>
                    <a:pt x="363" y="25"/>
                  </a:moveTo>
                  <a:lnTo>
                    <a:pt x="382" y="25"/>
                  </a:lnTo>
                  <a:lnTo>
                    <a:pt x="382" y="0"/>
                  </a:lnTo>
                  <a:lnTo>
                    <a:pt x="363" y="0"/>
                  </a:lnTo>
                  <a:lnTo>
                    <a:pt x="36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065560" y="3693960"/>
              <a:ext cx="297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06600" y="370188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95760" y="3249720"/>
              <a:ext cx="180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884760" y="2028960"/>
              <a:ext cx="1611000" cy="636480"/>
            </a:xfrm>
            <a:custGeom>
              <a:avLst/>
              <a:gdLst/>
              <a:ahLst/>
              <a:rect l="l" t="t" r="r" b="b"/>
              <a:pathLst>
                <a:path w="2031" h="801">
                  <a:moveTo>
                    <a:pt x="0" y="0"/>
                  </a:moveTo>
                  <a:lnTo>
                    <a:pt x="2031" y="0"/>
                  </a:lnTo>
                  <a:lnTo>
                    <a:pt x="2031" y="80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464080" y="2657520"/>
              <a:ext cx="65160" cy="968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1" y="0"/>
                  </a:moveTo>
                  <a:lnTo>
                    <a:pt x="41" y="121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45160" y="1852560"/>
              <a:ext cx="5680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96640" y="186048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62880" y="1973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60080" y="20844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48320" y="2365200"/>
              <a:ext cx="381240" cy="2373480"/>
            </a:xfrm>
            <a:custGeom>
              <a:avLst/>
              <a:gdLst/>
              <a:ahLst/>
              <a:rect l="l" t="t" r="r" b="b"/>
              <a:pathLst>
                <a:path w="479" h="2991">
                  <a:moveTo>
                    <a:pt x="479" y="0"/>
                  </a:moveTo>
                  <a:lnTo>
                    <a:pt x="479" y="2991"/>
                  </a:lnTo>
                  <a:lnTo>
                    <a:pt x="0" y="299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11120" y="1000080"/>
              <a:ext cx="908280" cy="380880"/>
            </a:xfrm>
            <a:custGeom>
              <a:avLst/>
              <a:gdLst/>
              <a:ahLst/>
              <a:rect l="l" t="t" r="r" b="b"/>
              <a:pathLst>
                <a:path w="1143" h="478">
                  <a:moveTo>
                    <a:pt x="0" y="0"/>
                  </a:moveTo>
                  <a:lnTo>
                    <a:pt x="1143" y="0"/>
                  </a:lnTo>
                  <a:lnTo>
                    <a:pt x="1143" y="4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1649520" y="2765520"/>
            <a:ext cx="569880" cy="1212840"/>
          </a:xfrm>
          <a:custGeom>
            <a:avLst/>
            <a:gdLst/>
            <a:ahLst/>
            <a:rect l="l" t="t" r="r" b="b"/>
            <a:pathLst>
              <a:path w="717" h="1529">
                <a:moveTo>
                  <a:pt x="717" y="0"/>
                </a:moveTo>
                <a:lnTo>
                  <a:pt x="717" y="1529"/>
                </a:lnTo>
                <a:lnTo>
                  <a:pt x="0" y="15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187720" y="2676600"/>
            <a:ext cx="63360" cy="96840"/>
          </a:xfrm>
          <a:custGeom>
            <a:avLst/>
            <a:gdLst/>
            <a:ahLst/>
            <a:rect l="l" t="t" r="r" b="b"/>
            <a:pathLst>
              <a:path w="81" h="122">
                <a:moveTo>
                  <a:pt x="0" y="122"/>
                </a:moveTo>
                <a:lnTo>
                  <a:pt x="40" y="0"/>
                </a:lnTo>
                <a:lnTo>
                  <a:pt x="81" y="12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562040" y="3946680"/>
            <a:ext cx="96840" cy="6480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22" y="81"/>
                </a:moveTo>
                <a:lnTo>
                  <a:pt x="0" y="41"/>
                </a:lnTo>
                <a:lnTo>
                  <a:pt x="122" y="0"/>
                </a:lnTo>
                <a:lnTo>
                  <a:pt x="122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976480" y="933480"/>
            <a:ext cx="324000" cy="447480"/>
          </a:xfrm>
          <a:custGeom>
            <a:avLst/>
            <a:gdLst/>
            <a:ahLst/>
            <a:rect l="l" t="t" r="r" b="b"/>
            <a:pathLst>
              <a:path w="408" h="563">
                <a:moveTo>
                  <a:pt x="408" y="0"/>
                </a:moveTo>
                <a:lnTo>
                  <a:pt x="408" y="157"/>
                </a:lnTo>
                <a:lnTo>
                  <a:pt x="0" y="157"/>
                </a:lnTo>
                <a:lnTo>
                  <a:pt x="0" y="56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146240" y="4738680"/>
            <a:ext cx="663480" cy="662040"/>
          </a:xfrm>
          <a:custGeom>
            <a:avLst/>
            <a:gdLst/>
            <a:ahLst/>
            <a:rect l="l" t="t" r="r" b="b"/>
            <a:pathLst>
              <a:path w="836" h="833">
                <a:moveTo>
                  <a:pt x="251" y="492"/>
                </a:moveTo>
                <a:lnTo>
                  <a:pt x="585" y="492"/>
                </a:lnTo>
                <a:lnTo>
                  <a:pt x="585" y="455"/>
                </a:lnTo>
                <a:lnTo>
                  <a:pt x="251" y="455"/>
                </a:lnTo>
                <a:lnTo>
                  <a:pt x="251" y="492"/>
                </a:lnTo>
                <a:close/>
                <a:moveTo>
                  <a:pt x="85" y="455"/>
                </a:moveTo>
                <a:lnTo>
                  <a:pt x="751" y="455"/>
                </a:lnTo>
                <a:lnTo>
                  <a:pt x="751" y="0"/>
                </a:lnTo>
                <a:lnTo>
                  <a:pt x="85" y="0"/>
                </a:lnTo>
                <a:lnTo>
                  <a:pt x="85" y="455"/>
                </a:lnTo>
                <a:close/>
                <a:moveTo>
                  <a:pt x="168" y="607"/>
                </a:moveTo>
                <a:lnTo>
                  <a:pt x="668" y="607"/>
                </a:lnTo>
                <a:lnTo>
                  <a:pt x="668" y="492"/>
                </a:lnTo>
                <a:lnTo>
                  <a:pt x="168" y="492"/>
                </a:lnTo>
                <a:lnTo>
                  <a:pt x="168" y="607"/>
                </a:lnTo>
                <a:close/>
                <a:moveTo>
                  <a:pt x="628" y="607"/>
                </a:moveTo>
                <a:lnTo>
                  <a:pt x="244" y="607"/>
                </a:lnTo>
                <a:lnTo>
                  <a:pt x="0" y="607"/>
                </a:lnTo>
                <a:lnTo>
                  <a:pt x="0" y="833"/>
                </a:lnTo>
                <a:lnTo>
                  <a:pt x="836" y="833"/>
                </a:lnTo>
                <a:lnTo>
                  <a:pt x="836" y="607"/>
                </a:lnTo>
                <a:lnTo>
                  <a:pt x="628" y="607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362240" y="5265720"/>
            <a:ext cx="99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163520" y="5237280"/>
            <a:ext cx="50760" cy="2844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4" y="9"/>
                </a:lnTo>
                <a:lnTo>
                  <a:pt x="13" y="4"/>
                </a:lnTo>
                <a:lnTo>
                  <a:pt x="25" y="0"/>
                </a:lnTo>
                <a:lnTo>
                  <a:pt x="39" y="0"/>
                </a:lnTo>
                <a:lnTo>
                  <a:pt x="52" y="4"/>
                </a:lnTo>
                <a:lnTo>
                  <a:pt x="61" y="9"/>
                </a:lnTo>
                <a:lnTo>
                  <a:pt x="64" y="18"/>
                </a:lnTo>
                <a:lnTo>
                  <a:pt x="61" y="27"/>
                </a:lnTo>
                <a:lnTo>
                  <a:pt x="52" y="32"/>
                </a:lnTo>
                <a:lnTo>
                  <a:pt x="39" y="37"/>
                </a:lnTo>
                <a:lnTo>
                  <a:pt x="25" y="37"/>
                </a:lnTo>
                <a:lnTo>
                  <a:pt x="13" y="32"/>
                </a:lnTo>
                <a:lnTo>
                  <a:pt x="4" y="27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279440" y="4799160"/>
            <a:ext cx="397080" cy="2412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163520" y="5356080"/>
            <a:ext cx="628920" cy="3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727280" y="5235480"/>
            <a:ext cx="31680" cy="4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146240" y="529596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146240" y="532620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34604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47780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1544760" y="522108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76520" y="522144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219320" y="5440320"/>
            <a:ext cx="51732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268280" y="5448240"/>
            <a:ext cx="46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809720" y="4738680"/>
            <a:ext cx="514440" cy="552600"/>
          </a:xfrm>
          <a:custGeom>
            <a:avLst/>
            <a:gdLst/>
            <a:ahLst/>
            <a:rect l="l" t="t" r="r" b="b"/>
            <a:pathLst>
              <a:path w="647" h="695">
                <a:moveTo>
                  <a:pt x="647" y="0"/>
                </a:moveTo>
                <a:lnTo>
                  <a:pt x="492" y="0"/>
                </a:lnTo>
                <a:lnTo>
                  <a:pt x="492" y="695"/>
                </a:lnTo>
                <a:lnTo>
                  <a:pt x="0" y="6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219400" y="1380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274840" y="1474920"/>
            <a:ext cx="3348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328840" y="15685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384280" y="16621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38280" y="1755720"/>
            <a:ext cx="349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494080" y="18493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49520" y="19447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603520" y="20383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658960" y="2131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714760" y="2225520"/>
            <a:ext cx="3312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770200" y="2320920"/>
            <a:ext cx="3348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824200" y="2416320"/>
            <a:ext cx="3492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879640" y="2509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935440" y="2604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76480" y="138096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065400" y="1442880"/>
            <a:ext cx="54000" cy="3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154320" y="150660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241800" y="1571760"/>
            <a:ext cx="55440" cy="3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330720" y="1633680"/>
            <a:ext cx="540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419640" y="1697040"/>
            <a:ext cx="536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508200" y="176040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597120" y="1824120"/>
            <a:ext cx="540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686040" y="188748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774960" y="1951200"/>
            <a:ext cx="558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63880" y="2014560"/>
            <a:ext cx="208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29200" y="391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29200" y="423864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29200" y="439092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29200" y="454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129200" y="487044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29200" y="502128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129200" y="517212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29200" y="550080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29200" y="5651640"/>
            <a:ext cx="144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129200" y="1595520"/>
            <a:ext cx="496800" cy="396720"/>
          </a:xfrm>
          <a:custGeom>
            <a:avLst/>
            <a:gdLst/>
            <a:ahLst/>
            <a:rect l="l" t="t" r="r" b="b"/>
            <a:pathLst>
              <a:path w="627" h="499">
                <a:moveTo>
                  <a:pt x="0" y="250"/>
                </a:moveTo>
                <a:lnTo>
                  <a:pt x="3" y="212"/>
                </a:lnTo>
                <a:lnTo>
                  <a:pt x="14" y="176"/>
                </a:lnTo>
                <a:lnTo>
                  <a:pt x="31" y="141"/>
                </a:lnTo>
                <a:lnTo>
                  <a:pt x="54" y="109"/>
                </a:lnTo>
                <a:lnTo>
                  <a:pt x="84" y="79"/>
                </a:lnTo>
                <a:lnTo>
                  <a:pt x="118" y="55"/>
                </a:lnTo>
                <a:lnTo>
                  <a:pt x="157" y="33"/>
                </a:lnTo>
                <a:lnTo>
                  <a:pt x="199" y="17"/>
                </a:lnTo>
                <a:lnTo>
                  <a:pt x="243" y="5"/>
                </a:lnTo>
                <a:lnTo>
                  <a:pt x="289" y="0"/>
                </a:lnTo>
                <a:lnTo>
                  <a:pt x="337" y="0"/>
                </a:lnTo>
                <a:lnTo>
                  <a:pt x="383" y="5"/>
                </a:lnTo>
                <a:lnTo>
                  <a:pt x="427" y="17"/>
                </a:lnTo>
                <a:lnTo>
                  <a:pt x="470" y="33"/>
                </a:lnTo>
                <a:lnTo>
                  <a:pt x="509" y="55"/>
                </a:lnTo>
                <a:lnTo>
                  <a:pt x="542" y="79"/>
                </a:lnTo>
                <a:lnTo>
                  <a:pt x="572" y="109"/>
                </a:lnTo>
                <a:lnTo>
                  <a:pt x="595" y="141"/>
                </a:lnTo>
                <a:lnTo>
                  <a:pt x="613" y="176"/>
                </a:lnTo>
                <a:lnTo>
                  <a:pt x="623" y="212"/>
                </a:lnTo>
                <a:lnTo>
                  <a:pt x="627" y="250"/>
                </a:lnTo>
                <a:lnTo>
                  <a:pt x="623" y="288"/>
                </a:lnTo>
                <a:lnTo>
                  <a:pt x="613" y="323"/>
                </a:lnTo>
                <a:lnTo>
                  <a:pt x="595" y="358"/>
                </a:lnTo>
                <a:lnTo>
                  <a:pt x="572" y="390"/>
                </a:lnTo>
                <a:lnTo>
                  <a:pt x="542" y="420"/>
                </a:lnTo>
                <a:lnTo>
                  <a:pt x="509" y="445"/>
                </a:lnTo>
                <a:lnTo>
                  <a:pt x="470" y="466"/>
                </a:lnTo>
                <a:lnTo>
                  <a:pt x="427" y="483"/>
                </a:lnTo>
                <a:lnTo>
                  <a:pt x="383" y="494"/>
                </a:lnTo>
                <a:lnTo>
                  <a:pt x="337" y="499"/>
                </a:lnTo>
                <a:lnTo>
                  <a:pt x="289" y="499"/>
                </a:lnTo>
                <a:lnTo>
                  <a:pt x="243" y="494"/>
                </a:lnTo>
                <a:lnTo>
                  <a:pt x="199" y="483"/>
                </a:lnTo>
                <a:lnTo>
                  <a:pt x="157" y="466"/>
                </a:lnTo>
                <a:lnTo>
                  <a:pt x="118" y="445"/>
                </a:lnTo>
                <a:lnTo>
                  <a:pt x="84" y="420"/>
                </a:lnTo>
                <a:lnTo>
                  <a:pt x="54" y="390"/>
                </a:lnTo>
                <a:lnTo>
                  <a:pt x="31" y="358"/>
                </a:lnTo>
                <a:lnTo>
                  <a:pt x="14" y="323"/>
                </a:lnTo>
                <a:lnTo>
                  <a:pt x="3" y="288"/>
                </a:lnTo>
                <a:lnTo>
                  <a:pt x="0" y="250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357440" y="1693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052800" y="2836800"/>
            <a:ext cx="496800" cy="496800"/>
          </a:xfrm>
          <a:custGeom>
            <a:avLst/>
            <a:gdLst/>
            <a:ahLst/>
            <a:rect l="l" t="t" r="r" b="b"/>
            <a:pathLst>
              <a:path w="626" h="625">
                <a:moveTo>
                  <a:pt x="0" y="313"/>
                </a:moveTo>
                <a:lnTo>
                  <a:pt x="4" y="265"/>
                </a:lnTo>
                <a:lnTo>
                  <a:pt x="12" y="221"/>
                </a:lnTo>
                <a:lnTo>
                  <a:pt x="30" y="177"/>
                </a:lnTo>
                <a:lnTo>
                  <a:pt x="53" y="136"/>
                </a:lnTo>
                <a:lnTo>
                  <a:pt x="83" y="99"/>
                </a:lnTo>
                <a:lnTo>
                  <a:pt x="117" y="67"/>
                </a:lnTo>
                <a:lnTo>
                  <a:pt x="156" y="41"/>
                </a:lnTo>
                <a:lnTo>
                  <a:pt x="198" y="22"/>
                </a:lnTo>
                <a:lnTo>
                  <a:pt x="242" y="7"/>
                </a:lnTo>
                <a:lnTo>
                  <a:pt x="288" y="0"/>
                </a:lnTo>
                <a:lnTo>
                  <a:pt x="336" y="0"/>
                </a:lnTo>
                <a:lnTo>
                  <a:pt x="382" y="7"/>
                </a:lnTo>
                <a:lnTo>
                  <a:pt x="426" y="22"/>
                </a:lnTo>
                <a:lnTo>
                  <a:pt x="468" y="41"/>
                </a:lnTo>
                <a:lnTo>
                  <a:pt x="507" y="67"/>
                </a:lnTo>
                <a:lnTo>
                  <a:pt x="543" y="99"/>
                </a:lnTo>
                <a:lnTo>
                  <a:pt x="571" y="136"/>
                </a:lnTo>
                <a:lnTo>
                  <a:pt x="594" y="177"/>
                </a:lnTo>
                <a:lnTo>
                  <a:pt x="612" y="221"/>
                </a:lnTo>
                <a:lnTo>
                  <a:pt x="622" y="265"/>
                </a:lnTo>
                <a:lnTo>
                  <a:pt x="626" y="313"/>
                </a:lnTo>
                <a:lnTo>
                  <a:pt x="622" y="359"/>
                </a:lnTo>
                <a:lnTo>
                  <a:pt x="612" y="405"/>
                </a:lnTo>
                <a:lnTo>
                  <a:pt x="594" y="449"/>
                </a:lnTo>
                <a:lnTo>
                  <a:pt x="571" y="489"/>
                </a:lnTo>
                <a:lnTo>
                  <a:pt x="543" y="525"/>
                </a:lnTo>
                <a:lnTo>
                  <a:pt x="507" y="556"/>
                </a:lnTo>
                <a:lnTo>
                  <a:pt x="468" y="583"/>
                </a:lnTo>
                <a:lnTo>
                  <a:pt x="426" y="604"/>
                </a:lnTo>
                <a:lnTo>
                  <a:pt x="382" y="618"/>
                </a:lnTo>
                <a:lnTo>
                  <a:pt x="336" y="625"/>
                </a:lnTo>
                <a:lnTo>
                  <a:pt x="288" y="625"/>
                </a:lnTo>
                <a:lnTo>
                  <a:pt x="242" y="618"/>
                </a:lnTo>
                <a:lnTo>
                  <a:pt x="198" y="604"/>
                </a:lnTo>
                <a:lnTo>
                  <a:pt x="156" y="583"/>
                </a:lnTo>
                <a:lnTo>
                  <a:pt x="117" y="556"/>
                </a:lnTo>
                <a:lnTo>
                  <a:pt x="83" y="525"/>
                </a:lnTo>
                <a:lnTo>
                  <a:pt x="53" y="489"/>
                </a:lnTo>
                <a:lnTo>
                  <a:pt x="30" y="449"/>
                </a:lnTo>
                <a:lnTo>
                  <a:pt x="12" y="405"/>
                </a:lnTo>
                <a:lnTo>
                  <a:pt x="4" y="359"/>
                </a:lnTo>
                <a:lnTo>
                  <a:pt x="0" y="313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281040" y="2982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644480" y="2919240"/>
            <a:ext cx="497160" cy="497160"/>
          </a:xfrm>
          <a:custGeom>
            <a:avLst/>
            <a:gdLst/>
            <a:ahLst/>
            <a:rect l="l" t="t" r="r" b="b"/>
            <a:pathLst>
              <a:path w="625" h="624">
                <a:moveTo>
                  <a:pt x="0" y="312"/>
                </a:moveTo>
                <a:lnTo>
                  <a:pt x="3" y="266"/>
                </a:lnTo>
                <a:lnTo>
                  <a:pt x="12" y="220"/>
                </a:lnTo>
                <a:lnTo>
                  <a:pt x="30" y="176"/>
                </a:lnTo>
                <a:lnTo>
                  <a:pt x="53" y="135"/>
                </a:lnTo>
                <a:lnTo>
                  <a:pt x="83" y="98"/>
                </a:lnTo>
                <a:lnTo>
                  <a:pt x="116" y="67"/>
                </a:lnTo>
                <a:lnTo>
                  <a:pt x="155" y="40"/>
                </a:lnTo>
                <a:lnTo>
                  <a:pt x="198" y="21"/>
                </a:lnTo>
                <a:lnTo>
                  <a:pt x="242" y="7"/>
                </a:lnTo>
                <a:lnTo>
                  <a:pt x="289" y="0"/>
                </a:lnTo>
                <a:lnTo>
                  <a:pt x="335" y="0"/>
                </a:lnTo>
                <a:lnTo>
                  <a:pt x="381" y="7"/>
                </a:lnTo>
                <a:lnTo>
                  <a:pt x="427" y="21"/>
                </a:lnTo>
                <a:lnTo>
                  <a:pt x="468" y="40"/>
                </a:lnTo>
                <a:lnTo>
                  <a:pt x="507" y="67"/>
                </a:lnTo>
                <a:lnTo>
                  <a:pt x="542" y="98"/>
                </a:lnTo>
                <a:lnTo>
                  <a:pt x="570" y="135"/>
                </a:lnTo>
                <a:lnTo>
                  <a:pt x="593" y="176"/>
                </a:lnTo>
                <a:lnTo>
                  <a:pt x="611" y="220"/>
                </a:lnTo>
                <a:lnTo>
                  <a:pt x="622" y="266"/>
                </a:lnTo>
                <a:lnTo>
                  <a:pt x="625" y="312"/>
                </a:lnTo>
                <a:lnTo>
                  <a:pt x="622" y="358"/>
                </a:lnTo>
                <a:lnTo>
                  <a:pt x="611" y="404"/>
                </a:lnTo>
                <a:lnTo>
                  <a:pt x="593" y="448"/>
                </a:lnTo>
                <a:lnTo>
                  <a:pt x="570" y="488"/>
                </a:lnTo>
                <a:lnTo>
                  <a:pt x="542" y="524"/>
                </a:lnTo>
                <a:lnTo>
                  <a:pt x="507" y="555"/>
                </a:lnTo>
                <a:lnTo>
                  <a:pt x="468" y="582"/>
                </a:lnTo>
                <a:lnTo>
                  <a:pt x="427" y="603"/>
                </a:lnTo>
                <a:lnTo>
                  <a:pt x="381" y="617"/>
                </a:lnTo>
                <a:lnTo>
                  <a:pt x="335" y="624"/>
                </a:lnTo>
                <a:lnTo>
                  <a:pt x="289" y="624"/>
                </a:lnTo>
                <a:lnTo>
                  <a:pt x="242" y="617"/>
                </a:lnTo>
                <a:lnTo>
                  <a:pt x="198" y="603"/>
                </a:lnTo>
                <a:lnTo>
                  <a:pt x="155" y="582"/>
                </a:lnTo>
                <a:lnTo>
                  <a:pt x="116" y="555"/>
                </a:lnTo>
                <a:lnTo>
                  <a:pt x="83" y="524"/>
                </a:lnTo>
                <a:lnTo>
                  <a:pt x="53" y="488"/>
                </a:lnTo>
                <a:lnTo>
                  <a:pt x="30" y="448"/>
                </a:lnTo>
                <a:lnTo>
                  <a:pt x="12" y="404"/>
                </a:lnTo>
                <a:lnTo>
                  <a:pt x="3" y="358"/>
                </a:ln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72720" y="3065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963960" y="603360"/>
            <a:ext cx="165240" cy="198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976560" y="615960"/>
            <a:ext cx="47880" cy="173160"/>
          </a:xfrm>
          <a:custGeom>
            <a:avLst/>
            <a:gdLst/>
            <a:ahLst/>
            <a:rect l="l" t="t" r="r" b="b"/>
            <a:pathLst>
              <a:path w="60" h="218">
                <a:moveTo>
                  <a:pt x="0" y="47"/>
                </a:moveTo>
                <a:lnTo>
                  <a:pt x="0" y="8"/>
                </a:lnTo>
                <a:lnTo>
                  <a:pt x="9" y="0"/>
                </a:lnTo>
                <a:lnTo>
                  <a:pt x="53" y="0"/>
                </a:lnTo>
                <a:lnTo>
                  <a:pt x="60" y="8"/>
                </a:lnTo>
                <a:lnTo>
                  <a:pt x="60" y="47"/>
                </a:lnTo>
                <a:lnTo>
                  <a:pt x="53" y="63"/>
                </a:lnTo>
                <a:lnTo>
                  <a:pt x="53" y="157"/>
                </a:lnTo>
                <a:lnTo>
                  <a:pt x="60" y="172"/>
                </a:lnTo>
                <a:lnTo>
                  <a:pt x="60" y="211"/>
                </a:lnTo>
                <a:lnTo>
                  <a:pt x="53" y="218"/>
                </a:lnTo>
                <a:lnTo>
                  <a:pt x="9" y="218"/>
                </a:lnTo>
                <a:lnTo>
                  <a:pt x="0" y="211"/>
                </a:lnTo>
                <a:lnTo>
                  <a:pt x="0" y="172"/>
                </a:lnTo>
                <a:lnTo>
                  <a:pt x="9" y="157"/>
                </a:lnTo>
                <a:lnTo>
                  <a:pt x="9" y="63"/>
                </a:lnTo>
                <a:lnTo>
                  <a:pt x="0" y="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038480" y="615960"/>
            <a:ext cx="76320" cy="173160"/>
          </a:xfrm>
          <a:custGeom>
            <a:avLst/>
            <a:gdLst/>
            <a:ahLst/>
            <a:rect l="l" t="t" r="r" b="b"/>
            <a:pathLst>
              <a:path w="96" h="218">
                <a:moveTo>
                  <a:pt x="0" y="79"/>
                </a:moveTo>
                <a:lnTo>
                  <a:pt x="45" y="79"/>
                </a:lnTo>
                <a:lnTo>
                  <a:pt x="45" y="0"/>
                </a:lnTo>
                <a:lnTo>
                  <a:pt x="0" y="0"/>
                </a:lnTo>
                <a:lnTo>
                  <a:pt x="0" y="79"/>
                </a:lnTo>
                <a:close/>
                <a:moveTo>
                  <a:pt x="53" y="79"/>
                </a:moveTo>
                <a:lnTo>
                  <a:pt x="96" y="79"/>
                </a:lnTo>
                <a:lnTo>
                  <a:pt x="96" y="0"/>
                </a:lnTo>
                <a:lnTo>
                  <a:pt x="53" y="0"/>
                </a:lnTo>
                <a:lnTo>
                  <a:pt x="53" y="79"/>
                </a:lnTo>
                <a:close/>
                <a:moveTo>
                  <a:pt x="0" y="218"/>
                </a:moveTo>
                <a:lnTo>
                  <a:pt x="96" y="218"/>
                </a:lnTo>
                <a:lnTo>
                  <a:pt x="96" y="141"/>
                </a:lnTo>
                <a:lnTo>
                  <a:pt x="0" y="141"/>
                </a:lnTo>
                <a:lnTo>
                  <a:pt x="0" y="21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038480" y="7142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038480" y="70956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038480" y="7016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038480" y="69696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038480" y="69048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081320" y="63036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081320" y="66204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081320" y="64620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38480" y="63036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038480" y="66204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038480" y="64620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038480" y="7732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038480" y="7588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038480" y="74304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089240" y="727200"/>
            <a:ext cx="180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064040" y="727200"/>
            <a:ext cx="144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817800" y="839880"/>
            <a:ext cx="4590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865680" y="84780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549600" y="701640"/>
            <a:ext cx="414360" cy="108000"/>
          </a:xfrm>
          <a:custGeom>
            <a:avLst/>
            <a:gdLst/>
            <a:ahLst/>
            <a:rect l="l" t="t" r="r" b="b"/>
            <a:pathLst>
              <a:path w="521" h="136">
                <a:moveTo>
                  <a:pt x="521" y="0"/>
                </a:moveTo>
                <a:lnTo>
                  <a:pt x="365" y="0"/>
                </a:lnTo>
                <a:lnTo>
                  <a:pt x="365" y="136"/>
                </a:lnTo>
                <a:lnTo>
                  <a:pt x="0" y="1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295280" y="927000"/>
            <a:ext cx="1879560" cy="3111480"/>
          </a:xfrm>
          <a:custGeom>
            <a:avLst/>
            <a:gdLst/>
            <a:ahLst/>
            <a:rect l="l" t="t" r="r" b="b"/>
            <a:pathLst>
              <a:path w="1184" h="1960">
                <a:moveTo>
                  <a:pt x="0" y="40"/>
                </a:moveTo>
                <a:cubicBezTo>
                  <a:pt x="240" y="20"/>
                  <a:pt x="480" y="0"/>
                  <a:pt x="576" y="40"/>
                </a:cubicBezTo>
                <a:cubicBezTo>
                  <a:pt x="672" y="80"/>
                  <a:pt x="488" y="104"/>
                  <a:pt x="576" y="280"/>
                </a:cubicBezTo>
                <a:cubicBezTo>
                  <a:pt x="664" y="456"/>
                  <a:pt x="1024" y="816"/>
                  <a:pt x="1104" y="1096"/>
                </a:cubicBezTo>
                <a:cubicBezTo>
                  <a:pt x="1184" y="1376"/>
                  <a:pt x="1032" y="1824"/>
                  <a:pt x="1056" y="196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45C-EDA2-424A-B85F-18FD3A316CBF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nalysis of type C3 calls (computer-to-computer termination: the connection must first be established locally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rder to avoid fraud of any kind, telephone calls from the VoIP provider to the TPH provider will have to be prohib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if the call is generated by the local TPH customer, a VoIP incoming international call may be generated (e.g. netmeeting calls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is case the VoIP is a value-added servi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implications for interconnection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BD5-1E40-4AEF-873F-D957BDC347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816120" y="2422440"/>
            <a:ext cx="5798880" cy="3971880"/>
            <a:chOff x="816120" y="2422440"/>
            <a:chExt cx="5798880" cy="3971880"/>
          </a:xfrm>
        </p:grpSpPr>
        <p:sp>
          <p:nvSpPr>
            <p:cNvPr id="2020" name=""/>
            <p:cNvSpPr/>
            <p:nvPr/>
          </p:nvSpPr>
          <p:spPr>
            <a:xfrm>
              <a:off x="816120" y="2422440"/>
              <a:ext cx="5798880" cy="3971880"/>
            </a:xfrm>
            <a:custGeom>
              <a:avLst/>
              <a:gdLst/>
              <a:ahLst/>
              <a:rect l="l" t="t" r="r" b="b"/>
              <a:pathLst>
                <a:path w="7306" h="5003">
                  <a:moveTo>
                    <a:pt x="0" y="1459"/>
                  </a:moveTo>
                  <a:lnTo>
                    <a:pt x="4592" y="1459"/>
                  </a:lnTo>
                  <a:lnTo>
                    <a:pt x="4592" y="0"/>
                  </a:lnTo>
                  <a:lnTo>
                    <a:pt x="7306" y="0"/>
                  </a:lnTo>
                  <a:lnTo>
                    <a:pt x="7306" y="5003"/>
                  </a:lnTo>
                  <a:lnTo>
                    <a:pt x="0" y="5003"/>
                  </a:lnTo>
                  <a:lnTo>
                    <a:pt x="0" y="1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161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49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827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15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9493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984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0177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050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084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11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15236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18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219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52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28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320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3539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38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420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488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5224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5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5890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623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657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6905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724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75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792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825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859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892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9256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60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9940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027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060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09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12868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16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195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228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2636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297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3302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36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397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43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465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4987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532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5653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600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633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6668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00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7338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768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80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835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90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936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9703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03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36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07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0500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13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7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205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2400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273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3066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340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3735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408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41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4750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508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5416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576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610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643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7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7101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745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77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11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84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87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913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94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979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13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4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081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11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14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81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216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249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2829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316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3498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384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4179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451400" y="3571920"/>
              <a:ext cx="79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4459320" y="3538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4459320" y="3505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V="1">
              <a:off x="4459320" y="347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4459320" y="34380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4459320" y="3405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4459320" y="3370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4459320" y="3336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4459320" y="3303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4459320" y="3270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4459320" y="32364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V="1">
              <a:off x="4459320" y="320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4459320" y="3168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4459320" y="3134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4459320" y="3102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V="1">
              <a:off x="4459320" y="30686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4459320" y="30351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V="1">
              <a:off x="4459320" y="2999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V="1">
              <a:off x="4459320" y="2967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4459320" y="2933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4459320" y="29005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4459320" y="28670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4459320" y="28335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4459320" y="2798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4459320" y="2765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4459320" y="2731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4459320" y="26989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4459320" y="26654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4459320" y="2630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4459320" y="2596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4459320" y="2563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4459320" y="2530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4459320" y="24966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4459320" y="24638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4459320" y="2428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4704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503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5370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5705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603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638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672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7052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738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7721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807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840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8736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906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9402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975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008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041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07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10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143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17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210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243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27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11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4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37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11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44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479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5134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54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580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614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648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6815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715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7484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783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816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8500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8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166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51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50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018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5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8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119640" y="242244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15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186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19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546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288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32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4133880" y="2422440"/>
            <a:ext cx="2482920" cy="3973680"/>
            <a:chOff x="4133880" y="2422440"/>
            <a:chExt cx="2482920" cy="3973680"/>
          </a:xfrm>
        </p:grpSpPr>
        <p:sp>
          <p:nvSpPr>
            <p:cNvPr id="2221" name=""/>
            <p:cNvSpPr/>
            <p:nvPr/>
          </p:nvSpPr>
          <p:spPr>
            <a:xfrm>
              <a:off x="635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388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23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456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8972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523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5563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91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615000" y="2432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615000" y="2465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615000" y="2500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615000" y="2533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615000" y="256716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615000" y="2600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615000" y="2633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615000" y="2666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615000" y="2701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615000" y="2735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615000" y="2768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615000" y="2801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615000" y="2835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615000" y="2868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615000" y="2903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615000" y="2936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615000" y="2970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615000" y="3003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615000" y="3036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615000" y="3071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615000" y="3105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615000" y="3138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615000" y="3171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615000" y="3205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615000" y="3238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615000" y="3273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615000" y="3306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615000" y="3340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615000" y="3373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615000" y="3406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615000" y="3441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615000" y="3475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615000" y="3508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615000" y="3541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615000" y="3575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615000" y="3608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615000" y="3643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615000" y="3676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615000" y="3710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615000" y="3743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615000" y="3776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615000" y="3809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615000" y="3844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615000" y="3878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615000" y="3911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615000" y="3944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615000" y="3978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615000" y="4013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615000" y="4046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615000" y="4079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615000" y="4113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615000" y="4146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15000" y="4179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615000" y="4214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615000" y="4248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615000" y="4281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615000" y="4314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615000" y="4348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615000" y="4381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615000" y="4416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615000" y="4449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615000" y="4483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615000" y="4516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615000" y="4549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615000" y="4584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615000" y="4618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615000" y="4651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615000" y="4684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15000" y="4718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615000" y="4751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615000" y="4786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615000" y="4819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615000" y="4853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15000" y="4886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615000" y="4919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615000" y="4952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615000" y="4987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615000" y="5021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15000" y="5054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615000" y="5087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615000" y="5121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615000" y="5156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615000" y="5189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615000" y="5222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615000" y="5256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5000" y="5289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615000" y="5322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615000" y="5357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615000" y="5391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615000" y="5424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615000" y="5457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615000" y="5491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615000" y="5524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615000" y="5559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615000" y="5592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615000" y="5626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615000" y="5659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615000" y="5692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615000" y="5727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615000" y="5761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615000" y="5794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615000" y="5827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615000" y="5861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615000" y="5894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615000" y="5929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615000" y="5962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615000" y="5996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615000" y="6029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615000" y="6062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615000" y="6095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615000" y="6130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615000" y="6164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615000" y="6197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615000" y="6230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615000" y="6264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615000" y="6299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615000" y="6332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615000" y="6365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6590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655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>
              <a:off x="6524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649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645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642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638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>
              <a:off x="635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>
              <a:off x="632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6289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625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622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618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6154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612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608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>
              <a:off x="605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601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598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9526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>
              <a:off x="591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588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585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581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5783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574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5716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568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564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5614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558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5548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551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5481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544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5412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538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534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53132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527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524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521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5178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514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511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5076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5043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5010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497628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494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908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487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42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48070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4773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47397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4707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4673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4638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4605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457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4538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4505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4470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4436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440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4370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43369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430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4268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>
              <a:off x="423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H="1">
              <a:off x="42022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416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H="1">
              <a:off x="413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1" name=""/>
          <p:cNvGrpSpPr/>
          <p:nvPr/>
        </p:nvGrpSpPr>
        <p:grpSpPr>
          <a:xfrm>
            <a:off x="816120" y="1380960"/>
            <a:ext cx="5441760" cy="5015160"/>
            <a:chOff x="816120" y="1380960"/>
            <a:chExt cx="5441760" cy="5015160"/>
          </a:xfrm>
        </p:grpSpPr>
        <p:sp>
          <p:nvSpPr>
            <p:cNvPr id="2422" name=""/>
            <p:cNvSpPr/>
            <p:nvPr/>
          </p:nvSpPr>
          <p:spPr>
            <a:xfrm flipH="1">
              <a:off x="4100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4067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4033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39985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>
              <a:off x="396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>
              <a:off x="3932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389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3865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8307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3796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37634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3730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36972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>
              <a:off x="3661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3629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359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356184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H="1">
              <a:off x="3529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3494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3460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>
              <a:off x="342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3394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>
              <a:off x="3360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332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H="1">
              <a:off x="3292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3258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3225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31910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315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3123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>
              <a:off x="3090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3057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30222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2989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>
              <a:off x="29559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2922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2889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2854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2820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27871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2754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27208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2685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2652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261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5855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>
              <a:off x="255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2517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2484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245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2417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23839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234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2316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228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H="1">
              <a:off x="2249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22147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218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21474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H="1">
              <a:off x="2114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208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>
              <a:off x="2045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201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1979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>
              <a:off x="1946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H="1">
              <a:off x="191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187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H="1">
              <a:off x="184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18108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H="1">
              <a:off x="177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H="1">
              <a:off x="1744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170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167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H="1">
              <a:off x="164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>
              <a:off x="1609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>
              <a:off x="157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154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H="1">
              <a:off x="150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147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144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>
              <a:off x="14061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137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>
              <a:off x="133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H="1">
              <a:off x="130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127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1238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120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>
              <a:off x="117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113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10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06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103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H="1">
              <a:off x="1003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H="1">
              <a:off x="96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H="1">
              <a:off x="93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H="1">
              <a:off x="90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86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83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16120" y="6380280"/>
              <a:ext cx="144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V="1">
              <a:off x="816120" y="6346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816120" y="6311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816120" y="6278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816120" y="6245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816120" y="6211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816120" y="6178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816120" y="6143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816120" y="6109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816120" y="6076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816120" y="6043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816120" y="6010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816120" y="5977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816120" y="5942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816120" y="5908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816120" y="5874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V="1">
              <a:off x="816120" y="5842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816120" y="5808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816120" y="5775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816120" y="5740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816120" y="5707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816120" y="5673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816120" y="5640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V="1">
              <a:off x="816120" y="5607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816120" y="5571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816120" y="5538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816120" y="5505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816120" y="5471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816120" y="5438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816120" y="5405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816120" y="5370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816120" y="5336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816120" y="5303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816120" y="5270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816120" y="5237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816120" y="5203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V="1">
              <a:off x="816120" y="5168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V="1">
              <a:off x="816120" y="5135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816120" y="5102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816120" y="5068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816120" y="5035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816120" y="5000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816120" y="4966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816120" y="4933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816120" y="4900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816120" y="4867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816120" y="4834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816120" y="4799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816120" y="4765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816120" y="4731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816120" y="4699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816120" y="4665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816120" y="4632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816120" y="4597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V="1">
              <a:off x="816120" y="4564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816120" y="4530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816120" y="4497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816120" y="4464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816120" y="4428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816120" y="4395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816120" y="4362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816120" y="4328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816120" y="4295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816120" y="4262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816120" y="4227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816120" y="4193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816120" y="4160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816120" y="4127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816120" y="4094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816120" y="4060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816120" y="4025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816120" y="3992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816120" y="3959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816120" y="3925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816120" y="3892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816120" y="3857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816120" y="3823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816120" y="3790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816120" y="3757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816120" y="3724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V="1">
              <a:off x="816120" y="3691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V="1">
              <a:off x="816120" y="3656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816120" y="3622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816120" y="3588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930960" y="4233960"/>
              <a:ext cx="4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465800" y="4622760"/>
              <a:ext cx="1555560" cy="233280"/>
            </a:xfrm>
            <a:custGeom>
              <a:avLst/>
              <a:gdLst/>
              <a:ahLst/>
              <a:rect l="l" t="t" r="r" b="b"/>
              <a:pathLst>
                <a:path w="1960" h="293">
                  <a:moveTo>
                    <a:pt x="72" y="276"/>
                  </a:moveTo>
                  <a:lnTo>
                    <a:pt x="60" y="272"/>
                  </a:lnTo>
                  <a:lnTo>
                    <a:pt x="47" y="262"/>
                  </a:lnTo>
                  <a:lnTo>
                    <a:pt x="37" y="247"/>
                  </a:lnTo>
                  <a:lnTo>
                    <a:pt x="30" y="226"/>
                  </a:lnTo>
                  <a:lnTo>
                    <a:pt x="23" y="202"/>
                  </a:lnTo>
                  <a:lnTo>
                    <a:pt x="19" y="175"/>
                  </a:lnTo>
                  <a:lnTo>
                    <a:pt x="17" y="147"/>
                  </a:lnTo>
                  <a:lnTo>
                    <a:pt x="19" y="119"/>
                  </a:lnTo>
                  <a:lnTo>
                    <a:pt x="23" y="92"/>
                  </a:lnTo>
                  <a:lnTo>
                    <a:pt x="30" y="67"/>
                  </a:lnTo>
                  <a:lnTo>
                    <a:pt x="37" y="46"/>
                  </a:lnTo>
                  <a:lnTo>
                    <a:pt x="47" y="32"/>
                  </a:lnTo>
                  <a:lnTo>
                    <a:pt x="60" y="22"/>
                  </a:lnTo>
                  <a:lnTo>
                    <a:pt x="72" y="18"/>
                  </a:lnTo>
                  <a:lnTo>
                    <a:pt x="85" y="22"/>
                  </a:lnTo>
                  <a:lnTo>
                    <a:pt x="97" y="32"/>
                  </a:lnTo>
                  <a:lnTo>
                    <a:pt x="106" y="46"/>
                  </a:lnTo>
                  <a:lnTo>
                    <a:pt x="115" y="67"/>
                  </a:lnTo>
                  <a:lnTo>
                    <a:pt x="122" y="92"/>
                  </a:lnTo>
                  <a:lnTo>
                    <a:pt x="125" y="119"/>
                  </a:lnTo>
                  <a:lnTo>
                    <a:pt x="127" y="147"/>
                  </a:lnTo>
                  <a:lnTo>
                    <a:pt x="125" y="175"/>
                  </a:lnTo>
                  <a:lnTo>
                    <a:pt x="122" y="202"/>
                  </a:lnTo>
                  <a:lnTo>
                    <a:pt x="115" y="226"/>
                  </a:lnTo>
                  <a:lnTo>
                    <a:pt x="106" y="247"/>
                  </a:lnTo>
                  <a:lnTo>
                    <a:pt x="97" y="262"/>
                  </a:lnTo>
                  <a:lnTo>
                    <a:pt x="85" y="272"/>
                  </a:lnTo>
                  <a:lnTo>
                    <a:pt x="72" y="276"/>
                  </a:lnTo>
                  <a:close/>
                  <a:moveTo>
                    <a:pt x="72" y="0"/>
                  </a:moveTo>
                  <a:lnTo>
                    <a:pt x="1887" y="0"/>
                  </a:lnTo>
                  <a:lnTo>
                    <a:pt x="1903" y="4"/>
                  </a:lnTo>
                  <a:lnTo>
                    <a:pt x="1917" y="13"/>
                  </a:lnTo>
                  <a:lnTo>
                    <a:pt x="1930" y="29"/>
                  </a:lnTo>
                  <a:lnTo>
                    <a:pt x="1942" y="48"/>
                  </a:lnTo>
                  <a:lnTo>
                    <a:pt x="1951" y="73"/>
                  </a:lnTo>
                  <a:lnTo>
                    <a:pt x="1958" y="101"/>
                  </a:lnTo>
                  <a:lnTo>
                    <a:pt x="1960" y="131"/>
                  </a:lnTo>
                  <a:lnTo>
                    <a:pt x="1960" y="163"/>
                  </a:lnTo>
                  <a:lnTo>
                    <a:pt x="1958" y="193"/>
                  </a:lnTo>
                  <a:lnTo>
                    <a:pt x="1951" y="221"/>
                  </a:lnTo>
                  <a:lnTo>
                    <a:pt x="1942" y="246"/>
                  </a:lnTo>
                  <a:lnTo>
                    <a:pt x="1930" y="265"/>
                  </a:lnTo>
                  <a:lnTo>
                    <a:pt x="1917" y="281"/>
                  </a:lnTo>
                  <a:lnTo>
                    <a:pt x="1903" y="290"/>
                  </a:lnTo>
                  <a:lnTo>
                    <a:pt x="1887" y="293"/>
                  </a:lnTo>
                  <a:lnTo>
                    <a:pt x="72" y="293"/>
                  </a:lnTo>
                  <a:lnTo>
                    <a:pt x="56" y="290"/>
                  </a:lnTo>
                  <a:lnTo>
                    <a:pt x="42" y="281"/>
                  </a:lnTo>
                  <a:lnTo>
                    <a:pt x="28" y="265"/>
                  </a:lnTo>
                  <a:lnTo>
                    <a:pt x="17" y="246"/>
                  </a:lnTo>
                  <a:lnTo>
                    <a:pt x="9" y="221"/>
                  </a:lnTo>
                  <a:lnTo>
                    <a:pt x="1" y="193"/>
                  </a:lnTo>
                  <a:lnTo>
                    <a:pt x="0" y="163"/>
                  </a:lnTo>
                  <a:lnTo>
                    <a:pt x="0" y="131"/>
                  </a:lnTo>
                  <a:lnTo>
                    <a:pt x="1" y="101"/>
                  </a:lnTo>
                  <a:lnTo>
                    <a:pt x="9" y="73"/>
                  </a:lnTo>
                  <a:lnTo>
                    <a:pt x="17" y="48"/>
                  </a:lnTo>
                  <a:lnTo>
                    <a:pt x="28" y="29"/>
                  </a:lnTo>
                  <a:lnTo>
                    <a:pt x="42" y="13"/>
                  </a:lnTo>
                  <a:lnTo>
                    <a:pt x="56" y="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614760" y="4738680"/>
              <a:ext cx="162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862520" y="4738680"/>
              <a:ext cx="379440" cy="777960"/>
            </a:xfrm>
            <a:custGeom>
              <a:avLst/>
              <a:gdLst/>
              <a:ahLst/>
              <a:rect l="l" t="t" r="r" b="b"/>
              <a:pathLst>
                <a:path w="479" h="979">
                  <a:moveTo>
                    <a:pt x="0" y="979"/>
                  </a:moveTo>
                  <a:lnTo>
                    <a:pt x="0" y="0"/>
                  </a:lnTo>
                  <a:lnTo>
                    <a:pt x="47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241960" y="4738680"/>
              <a:ext cx="182520" cy="777960"/>
            </a:xfrm>
            <a:custGeom>
              <a:avLst/>
              <a:gdLst/>
              <a:ahLst/>
              <a:rect l="l" t="t" r="r" b="b"/>
              <a:pathLst>
                <a:path w="230" h="979">
                  <a:moveTo>
                    <a:pt x="230" y="979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5241960" y="4738680"/>
              <a:ext cx="3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241960" y="3656160"/>
              <a:ext cx="253800" cy="1082520"/>
            </a:xfrm>
            <a:custGeom>
              <a:avLst/>
              <a:gdLst/>
              <a:ahLst/>
              <a:rect l="l" t="t" r="r" b="b"/>
              <a:pathLst>
                <a:path w="320" h="1364">
                  <a:moveTo>
                    <a:pt x="320" y="0"/>
                  </a:moveTo>
                  <a:lnTo>
                    <a:pt x="320" y="1364"/>
                  </a:lnTo>
                  <a:lnTo>
                    <a:pt x="0" y="1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113440" y="4738680"/>
              <a:ext cx="128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5241960" y="4738680"/>
              <a:ext cx="1015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635360" y="4675320"/>
              <a:ext cx="1216080" cy="128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705200" y="4683240"/>
              <a:ext cx="1128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P INTERNET BACKB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311120" y="1380960"/>
              <a:ext cx="2573640" cy="1295640"/>
            </a:xfrm>
            <a:custGeom>
              <a:avLst/>
              <a:gdLst/>
              <a:ahLst/>
              <a:rect l="l" t="t" r="r" b="b"/>
              <a:pathLst>
                <a:path w="3241" h="1630">
                  <a:moveTo>
                    <a:pt x="477" y="1210"/>
                  </a:moveTo>
                  <a:lnTo>
                    <a:pt x="514" y="1274"/>
                  </a:lnTo>
                  <a:lnTo>
                    <a:pt x="555" y="1334"/>
                  </a:lnTo>
                  <a:lnTo>
                    <a:pt x="602" y="1389"/>
                  </a:lnTo>
                  <a:lnTo>
                    <a:pt x="654" y="1440"/>
                  </a:lnTo>
                  <a:lnTo>
                    <a:pt x="708" y="1486"/>
                  </a:lnTo>
                  <a:lnTo>
                    <a:pt x="769" y="1525"/>
                  </a:lnTo>
                  <a:lnTo>
                    <a:pt x="830" y="1558"/>
                  </a:lnTo>
                  <a:lnTo>
                    <a:pt x="896" y="1586"/>
                  </a:lnTo>
                  <a:lnTo>
                    <a:pt x="963" y="1608"/>
                  </a:lnTo>
                  <a:lnTo>
                    <a:pt x="1030" y="1622"/>
                  </a:lnTo>
                  <a:lnTo>
                    <a:pt x="1101" y="1630"/>
                  </a:lnTo>
                  <a:lnTo>
                    <a:pt x="1170" y="1630"/>
                  </a:lnTo>
                  <a:lnTo>
                    <a:pt x="1239" y="1625"/>
                  </a:lnTo>
                  <a:lnTo>
                    <a:pt x="1308" y="1613"/>
                  </a:lnTo>
                  <a:lnTo>
                    <a:pt x="1377" y="1593"/>
                  </a:lnTo>
                  <a:lnTo>
                    <a:pt x="1442" y="1567"/>
                  </a:lnTo>
                  <a:lnTo>
                    <a:pt x="1504" y="1535"/>
                  </a:lnTo>
                  <a:lnTo>
                    <a:pt x="1564" y="1496"/>
                  </a:lnTo>
                  <a:lnTo>
                    <a:pt x="1620" y="1452"/>
                  </a:lnTo>
                  <a:lnTo>
                    <a:pt x="1677" y="1496"/>
                  </a:lnTo>
                  <a:lnTo>
                    <a:pt x="1737" y="1535"/>
                  </a:lnTo>
                  <a:lnTo>
                    <a:pt x="1801" y="1567"/>
                  </a:lnTo>
                  <a:lnTo>
                    <a:pt x="1866" y="1593"/>
                  </a:lnTo>
                  <a:lnTo>
                    <a:pt x="1933" y="1613"/>
                  </a:lnTo>
                  <a:lnTo>
                    <a:pt x="2002" y="1625"/>
                  </a:lnTo>
                  <a:lnTo>
                    <a:pt x="2071" y="1630"/>
                  </a:lnTo>
                  <a:lnTo>
                    <a:pt x="2142" y="1630"/>
                  </a:lnTo>
                  <a:lnTo>
                    <a:pt x="2211" y="1622"/>
                  </a:lnTo>
                  <a:lnTo>
                    <a:pt x="2280" y="1608"/>
                  </a:lnTo>
                  <a:lnTo>
                    <a:pt x="2345" y="1586"/>
                  </a:lnTo>
                  <a:lnTo>
                    <a:pt x="2410" y="1558"/>
                  </a:lnTo>
                  <a:lnTo>
                    <a:pt x="2472" y="1525"/>
                  </a:lnTo>
                  <a:lnTo>
                    <a:pt x="2532" y="1486"/>
                  </a:lnTo>
                  <a:lnTo>
                    <a:pt x="2587" y="1440"/>
                  </a:lnTo>
                  <a:lnTo>
                    <a:pt x="2638" y="1389"/>
                  </a:lnTo>
                  <a:lnTo>
                    <a:pt x="2686" y="1334"/>
                  </a:lnTo>
                  <a:lnTo>
                    <a:pt x="2727" y="1274"/>
                  </a:lnTo>
                  <a:lnTo>
                    <a:pt x="2764" y="1210"/>
                  </a:lnTo>
                  <a:lnTo>
                    <a:pt x="2813" y="1219"/>
                  </a:lnTo>
                  <a:lnTo>
                    <a:pt x="2863" y="1223"/>
                  </a:lnTo>
                  <a:lnTo>
                    <a:pt x="2912" y="1219"/>
                  </a:lnTo>
                  <a:lnTo>
                    <a:pt x="2960" y="1209"/>
                  </a:lnTo>
                  <a:lnTo>
                    <a:pt x="3008" y="1191"/>
                  </a:lnTo>
                  <a:lnTo>
                    <a:pt x="3052" y="1168"/>
                  </a:lnTo>
                  <a:lnTo>
                    <a:pt x="3093" y="1138"/>
                  </a:lnTo>
                  <a:lnTo>
                    <a:pt x="3130" y="1103"/>
                  </a:lnTo>
                  <a:lnTo>
                    <a:pt x="3163" y="1062"/>
                  </a:lnTo>
                  <a:lnTo>
                    <a:pt x="3190" y="1018"/>
                  </a:lnTo>
                  <a:lnTo>
                    <a:pt x="3211" y="970"/>
                  </a:lnTo>
                  <a:lnTo>
                    <a:pt x="3227" y="919"/>
                  </a:lnTo>
                  <a:lnTo>
                    <a:pt x="3238" y="868"/>
                  </a:lnTo>
                  <a:lnTo>
                    <a:pt x="3241" y="815"/>
                  </a:lnTo>
                  <a:lnTo>
                    <a:pt x="3238" y="762"/>
                  </a:lnTo>
                  <a:lnTo>
                    <a:pt x="3227" y="709"/>
                  </a:lnTo>
                  <a:lnTo>
                    <a:pt x="3211" y="660"/>
                  </a:lnTo>
                  <a:lnTo>
                    <a:pt x="3190" y="612"/>
                  </a:lnTo>
                  <a:lnTo>
                    <a:pt x="3163" y="568"/>
                  </a:lnTo>
                  <a:lnTo>
                    <a:pt x="3130" y="528"/>
                  </a:lnTo>
                  <a:lnTo>
                    <a:pt x="3093" y="492"/>
                  </a:lnTo>
                  <a:lnTo>
                    <a:pt x="3052" y="462"/>
                  </a:lnTo>
                  <a:lnTo>
                    <a:pt x="3008" y="439"/>
                  </a:lnTo>
                  <a:lnTo>
                    <a:pt x="2960" y="422"/>
                  </a:lnTo>
                  <a:lnTo>
                    <a:pt x="2912" y="411"/>
                  </a:lnTo>
                  <a:lnTo>
                    <a:pt x="2863" y="407"/>
                  </a:lnTo>
                  <a:lnTo>
                    <a:pt x="2813" y="409"/>
                  </a:lnTo>
                  <a:lnTo>
                    <a:pt x="2764" y="420"/>
                  </a:lnTo>
                  <a:lnTo>
                    <a:pt x="2727" y="356"/>
                  </a:lnTo>
                  <a:lnTo>
                    <a:pt x="2686" y="296"/>
                  </a:lnTo>
                  <a:lnTo>
                    <a:pt x="2638" y="242"/>
                  </a:lnTo>
                  <a:lnTo>
                    <a:pt x="2587" y="190"/>
                  </a:lnTo>
                  <a:lnTo>
                    <a:pt x="2532" y="145"/>
                  </a:lnTo>
                  <a:lnTo>
                    <a:pt x="2472" y="106"/>
                  </a:lnTo>
                  <a:lnTo>
                    <a:pt x="2410" y="70"/>
                  </a:lnTo>
                  <a:lnTo>
                    <a:pt x="2345" y="44"/>
                  </a:lnTo>
                  <a:lnTo>
                    <a:pt x="2280" y="23"/>
                  </a:lnTo>
                  <a:lnTo>
                    <a:pt x="2211" y="7"/>
                  </a:lnTo>
                  <a:lnTo>
                    <a:pt x="2142" y="0"/>
                  </a:lnTo>
                  <a:lnTo>
                    <a:pt x="2071" y="0"/>
                  </a:lnTo>
                  <a:lnTo>
                    <a:pt x="2002" y="5"/>
                  </a:lnTo>
                  <a:lnTo>
                    <a:pt x="1933" y="17"/>
                  </a:lnTo>
                  <a:lnTo>
                    <a:pt x="1866" y="37"/>
                  </a:lnTo>
                  <a:lnTo>
                    <a:pt x="1801" y="63"/>
                  </a:lnTo>
                  <a:lnTo>
                    <a:pt x="1737" y="95"/>
                  </a:lnTo>
                  <a:lnTo>
                    <a:pt x="1677" y="134"/>
                  </a:lnTo>
                  <a:lnTo>
                    <a:pt x="1620" y="178"/>
                  </a:lnTo>
                  <a:lnTo>
                    <a:pt x="1564" y="134"/>
                  </a:lnTo>
                  <a:lnTo>
                    <a:pt x="1504" y="95"/>
                  </a:lnTo>
                  <a:lnTo>
                    <a:pt x="1442" y="63"/>
                  </a:lnTo>
                  <a:lnTo>
                    <a:pt x="1377" y="37"/>
                  </a:lnTo>
                  <a:lnTo>
                    <a:pt x="1308" y="17"/>
                  </a:lnTo>
                  <a:lnTo>
                    <a:pt x="1239" y="5"/>
                  </a:lnTo>
                  <a:lnTo>
                    <a:pt x="1170" y="0"/>
                  </a:lnTo>
                  <a:lnTo>
                    <a:pt x="1101" y="0"/>
                  </a:lnTo>
                  <a:lnTo>
                    <a:pt x="1030" y="7"/>
                  </a:lnTo>
                  <a:lnTo>
                    <a:pt x="963" y="23"/>
                  </a:lnTo>
                  <a:lnTo>
                    <a:pt x="896" y="44"/>
                  </a:lnTo>
                  <a:lnTo>
                    <a:pt x="830" y="70"/>
                  </a:lnTo>
                  <a:lnTo>
                    <a:pt x="769" y="106"/>
                  </a:lnTo>
                  <a:lnTo>
                    <a:pt x="708" y="145"/>
                  </a:lnTo>
                  <a:lnTo>
                    <a:pt x="654" y="190"/>
                  </a:lnTo>
                  <a:lnTo>
                    <a:pt x="602" y="242"/>
                  </a:lnTo>
                  <a:lnTo>
                    <a:pt x="555" y="296"/>
                  </a:lnTo>
                  <a:lnTo>
                    <a:pt x="514" y="356"/>
                  </a:lnTo>
                  <a:lnTo>
                    <a:pt x="477" y="420"/>
                  </a:lnTo>
                  <a:lnTo>
                    <a:pt x="427" y="409"/>
                  </a:lnTo>
                  <a:lnTo>
                    <a:pt x="378" y="407"/>
                  </a:lnTo>
                  <a:lnTo>
                    <a:pt x="329" y="411"/>
                  </a:lnTo>
                  <a:lnTo>
                    <a:pt x="281" y="422"/>
                  </a:lnTo>
                  <a:lnTo>
                    <a:pt x="233" y="439"/>
                  </a:lnTo>
                  <a:lnTo>
                    <a:pt x="189" y="462"/>
                  </a:lnTo>
                  <a:lnTo>
                    <a:pt x="148" y="492"/>
                  </a:lnTo>
                  <a:lnTo>
                    <a:pt x="111" y="528"/>
                  </a:lnTo>
                  <a:lnTo>
                    <a:pt x="79" y="568"/>
                  </a:lnTo>
                  <a:lnTo>
                    <a:pt x="51" y="612"/>
                  </a:lnTo>
                  <a:lnTo>
                    <a:pt x="30" y="660"/>
                  </a:lnTo>
                  <a:lnTo>
                    <a:pt x="14" y="709"/>
                  </a:lnTo>
                  <a:lnTo>
                    <a:pt x="3" y="762"/>
                  </a:lnTo>
                  <a:lnTo>
                    <a:pt x="0" y="815"/>
                  </a:lnTo>
                  <a:lnTo>
                    <a:pt x="3" y="868"/>
                  </a:lnTo>
                  <a:lnTo>
                    <a:pt x="14" y="919"/>
                  </a:lnTo>
                  <a:lnTo>
                    <a:pt x="30" y="970"/>
                  </a:lnTo>
                  <a:lnTo>
                    <a:pt x="51" y="1018"/>
                  </a:lnTo>
                  <a:lnTo>
                    <a:pt x="79" y="1062"/>
                  </a:lnTo>
                  <a:lnTo>
                    <a:pt x="111" y="1103"/>
                  </a:lnTo>
                  <a:lnTo>
                    <a:pt x="148" y="1138"/>
                  </a:lnTo>
                  <a:lnTo>
                    <a:pt x="189" y="1168"/>
                  </a:lnTo>
                  <a:lnTo>
                    <a:pt x="233" y="1191"/>
                  </a:lnTo>
                  <a:lnTo>
                    <a:pt x="281" y="1209"/>
                  </a:lnTo>
                  <a:lnTo>
                    <a:pt x="329" y="1219"/>
                  </a:lnTo>
                  <a:lnTo>
                    <a:pt x="378" y="1223"/>
                  </a:lnTo>
                  <a:lnTo>
                    <a:pt x="427" y="1219"/>
                  </a:lnTo>
                  <a:lnTo>
                    <a:pt x="477" y="121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359720" y="18288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NAT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399320" y="2025720"/>
              <a:ext cx="85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395360" y="3879720"/>
              <a:ext cx="166680" cy="1987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407960" y="3892680"/>
              <a:ext cx="49320" cy="17280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6"/>
                  </a:lnTo>
                  <a:lnTo>
                    <a:pt x="62" y="171"/>
                  </a:lnTo>
                  <a:lnTo>
                    <a:pt x="62" y="210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0"/>
                  </a:lnTo>
                  <a:lnTo>
                    <a:pt x="0" y="171"/>
                  </a:lnTo>
                  <a:lnTo>
                    <a:pt x="9" y="156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471680" y="3892680"/>
              <a:ext cx="75960" cy="172800"/>
            </a:xfrm>
            <a:custGeom>
              <a:avLst/>
              <a:gdLst/>
              <a:ahLst/>
              <a:rect l="l" t="t" r="r" b="b"/>
              <a:pathLst>
                <a:path w="96" h="219">
                  <a:moveTo>
                    <a:pt x="0" y="78"/>
                  </a:moveTo>
                  <a:lnTo>
                    <a:pt x="43" y="78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2" y="78"/>
                  </a:moveTo>
                  <a:lnTo>
                    <a:pt x="96" y="78"/>
                  </a:lnTo>
                  <a:lnTo>
                    <a:pt x="96" y="0"/>
                  </a:lnTo>
                  <a:lnTo>
                    <a:pt x="52" y="0"/>
                  </a:lnTo>
                  <a:lnTo>
                    <a:pt x="52" y="78"/>
                  </a:lnTo>
                  <a:close/>
                  <a:moveTo>
                    <a:pt x="0" y="219"/>
                  </a:moveTo>
                  <a:lnTo>
                    <a:pt x="96" y="219"/>
                  </a:lnTo>
                  <a:lnTo>
                    <a:pt x="96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471680" y="3990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2" name=""/>
          <p:cNvGrpSpPr/>
          <p:nvPr/>
        </p:nvGrpSpPr>
        <p:grpSpPr>
          <a:xfrm>
            <a:off x="1000080" y="272880"/>
            <a:ext cx="7134120" cy="6121440"/>
            <a:chOff x="1000080" y="272880"/>
            <a:chExt cx="7134120" cy="6121440"/>
          </a:xfrm>
        </p:grpSpPr>
        <p:sp>
          <p:nvSpPr>
            <p:cNvPr id="2623" name=""/>
            <p:cNvSpPr/>
            <p:nvPr/>
          </p:nvSpPr>
          <p:spPr>
            <a:xfrm>
              <a:off x="1471680" y="39844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471680" y="39783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471680" y="39718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471680" y="396540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512720" y="390672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512720" y="393876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512720" y="392256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471680" y="390672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471680" y="3938760"/>
              <a:ext cx="33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471680" y="392256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471680" y="404964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471680" y="403560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471680" y="4017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522440" y="4002120"/>
              <a:ext cx="14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496880" y="4002120"/>
              <a:ext cx="18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249200" y="4116240"/>
              <a:ext cx="459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297440" y="412416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052800" y="438120"/>
              <a:ext cx="496800" cy="495360"/>
            </a:xfrm>
            <a:custGeom>
              <a:avLst/>
              <a:gdLst/>
              <a:ahLst/>
              <a:rect l="l" t="t" r="r" b="b"/>
              <a:pathLst>
                <a:path w="626" h="625">
                  <a:moveTo>
                    <a:pt x="136" y="412"/>
                  </a:moveTo>
                  <a:lnTo>
                    <a:pt x="0" y="412"/>
                  </a:lnTo>
                  <a:lnTo>
                    <a:pt x="0" y="625"/>
                  </a:lnTo>
                  <a:lnTo>
                    <a:pt x="626" y="625"/>
                  </a:lnTo>
                  <a:lnTo>
                    <a:pt x="626" y="412"/>
                  </a:lnTo>
                  <a:lnTo>
                    <a:pt x="488" y="412"/>
                  </a:lnTo>
                  <a:lnTo>
                    <a:pt x="488" y="382"/>
                  </a:lnTo>
                  <a:lnTo>
                    <a:pt x="548" y="382"/>
                  </a:lnTo>
                  <a:lnTo>
                    <a:pt x="548" y="0"/>
                  </a:lnTo>
                  <a:lnTo>
                    <a:pt x="78" y="0"/>
                  </a:lnTo>
                  <a:lnTo>
                    <a:pt x="78" y="382"/>
                  </a:lnTo>
                  <a:lnTo>
                    <a:pt x="136" y="382"/>
                  </a:lnTo>
                  <a:lnTo>
                    <a:pt x="136" y="41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160800" y="76356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160800" y="73980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308400" y="779400"/>
              <a:ext cx="201600" cy="138240"/>
            </a:xfrm>
            <a:custGeom>
              <a:avLst/>
              <a:gdLst/>
              <a:ahLst/>
              <a:rect l="l" t="t" r="r" b="b"/>
              <a:pathLst>
                <a:path w="254" h="175">
                  <a:moveTo>
                    <a:pt x="0" y="175"/>
                  </a:moveTo>
                  <a:lnTo>
                    <a:pt x="206" y="175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175"/>
                  </a:lnTo>
                  <a:close/>
                  <a:moveTo>
                    <a:pt x="226" y="28"/>
                  </a:moveTo>
                  <a:lnTo>
                    <a:pt x="254" y="28"/>
                  </a:lnTo>
                  <a:lnTo>
                    <a:pt x="254" y="0"/>
                  </a:lnTo>
                  <a:lnTo>
                    <a:pt x="226" y="0"/>
                  </a:lnTo>
                  <a:lnTo>
                    <a:pt x="22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308400" y="82548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308400" y="87156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6320" y="849240"/>
              <a:ext cx="147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402000" y="833400"/>
              <a:ext cx="4608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068640" y="473040"/>
              <a:ext cx="465120" cy="333360"/>
            </a:xfrm>
            <a:custGeom>
              <a:avLst/>
              <a:gdLst/>
              <a:ahLst/>
              <a:rect l="l" t="t" r="r" b="b"/>
              <a:pathLst>
                <a:path w="587" h="420">
                  <a:moveTo>
                    <a:pt x="492" y="300"/>
                  </a:moveTo>
                  <a:lnTo>
                    <a:pt x="513" y="300"/>
                  </a:lnTo>
                  <a:lnTo>
                    <a:pt x="513" y="292"/>
                  </a:lnTo>
                  <a:lnTo>
                    <a:pt x="492" y="292"/>
                  </a:lnTo>
                  <a:lnTo>
                    <a:pt x="492" y="300"/>
                  </a:lnTo>
                  <a:close/>
                  <a:moveTo>
                    <a:pt x="131" y="248"/>
                  </a:moveTo>
                  <a:lnTo>
                    <a:pt x="131" y="30"/>
                  </a:lnTo>
                  <a:lnTo>
                    <a:pt x="455" y="30"/>
                  </a:lnTo>
                  <a:lnTo>
                    <a:pt x="455" y="248"/>
                  </a:lnTo>
                  <a:lnTo>
                    <a:pt x="131" y="248"/>
                  </a:lnTo>
                  <a:close/>
                  <a:moveTo>
                    <a:pt x="117" y="264"/>
                  </a:moveTo>
                  <a:lnTo>
                    <a:pt x="469" y="264"/>
                  </a:lnTo>
                  <a:lnTo>
                    <a:pt x="469" y="14"/>
                  </a:lnTo>
                  <a:lnTo>
                    <a:pt x="485" y="14"/>
                  </a:lnTo>
                  <a:lnTo>
                    <a:pt x="485" y="0"/>
                  </a:lnTo>
                  <a:lnTo>
                    <a:pt x="103" y="0"/>
                  </a:lnTo>
                  <a:lnTo>
                    <a:pt x="103" y="278"/>
                  </a:lnTo>
                  <a:lnTo>
                    <a:pt x="117" y="278"/>
                  </a:lnTo>
                  <a:lnTo>
                    <a:pt x="117" y="264"/>
                  </a:lnTo>
                  <a:close/>
                  <a:moveTo>
                    <a:pt x="0" y="405"/>
                  </a:moveTo>
                  <a:lnTo>
                    <a:pt x="59" y="405"/>
                  </a:lnTo>
                  <a:lnTo>
                    <a:pt x="59" y="386"/>
                  </a:lnTo>
                  <a:lnTo>
                    <a:pt x="0" y="386"/>
                  </a:lnTo>
                  <a:lnTo>
                    <a:pt x="0" y="405"/>
                  </a:lnTo>
                  <a:close/>
                  <a:moveTo>
                    <a:pt x="342" y="420"/>
                  </a:moveTo>
                  <a:lnTo>
                    <a:pt x="469" y="420"/>
                  </a:lnTo>
                  <a:lnTo>
                    <a:pt x="469" y="411"/>
                  </a:lnTo>
                  <a:lnTo>
                    <a:pt x="342" y="411"/>
                  </a:lnTo>
                  <a:lnTo>
                    <a:pt x="342" y="420"/>
                  </a:lnTo>
                  <a:close/>
                  <a:moveTo>
                    <a:pt x="568" y="395"/>
                  </a:moveTo>
                  <a:lnTo>
                    <a:pt x="587" y="395"/>
                  </a:lnTo>
                  <a:lnTo>
                    <a:pt x="587" y="386"/>
                  </a:lnTo>
                  <a:lnTo>
                    <a:pt x="568" y="386"/>
                  </a:lnTo>
                  <a:lnTo>
                    <a:pt x="568" y="395"/>
                  </a:lnTo>
                  <a:close/>
                  <a:moveTo>
                    <a:pt x="568" y="414"/>
                  </a:moveTo>
                  <a:lnTo>
                    <a:pt x="587" y="414"/>
                  </a:lnTo>
                  <a:lnTo>
                    <a:pt x="587" y="405"/>
                  </a:lnTo>
                  <a:lnTo>
                    <a:pt x="568" y="405"/>
                  </a:lnTo>
                  <a:lnTo>
                    <a:pt x="568" y="4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114720" y="723960"/>
              <a:ext cx="37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32068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33004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00480" y="973080"/>
              <a:ext cx="4302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348360" y="98100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508920" y="10936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440880" y="12049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110360" y="272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110360" y="482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110360" y="558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110360" y="768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110360" y="844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110360" y="1054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110360" y="1130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110360" y="1339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110360" y="1415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110360" y="1625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110360" y="1701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110360" y="1911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110360" y="1987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110360" y="2197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110360" y="2273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110360" y="2482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110360" y="2558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110360" y="2768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110360" y="2844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110360" y="3054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110360" y="3130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110360" y="3340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110360" y="3416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110360" y="3625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110360" y="3701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110360" y="3911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110360" y="3987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110360" y="4197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110360" y="4273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110360" y="4483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110360" y="4559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110360" y="4768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110360" y="4844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110360" y="5054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110360" y="5130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110360" y="5340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110360" y="5416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110360" y="5626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110360" y="5702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10360" y="5911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110360" y="5987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110360" y="6197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110360" y="6273720"/>
              <a:ext cx="1800" cy="120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rot="5400000">
              <a:off x="6785280" y="328140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und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146240" y="901800"/>
              <a:ext cx="164880" cy="198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160640" y="914400"/>
              <a:ext cx="48960" cy="17316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7"/>
                  </a:lnTo>
                  <a:lnTo>
                    <a:pt x="62" y="172"/>
                  </a:lnTo>
                  <a:lnTo>
                    <a:pt x="62" y="212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9" y="157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222200" y="914400"/>
              <a:ext cx="76320" cy="17316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0" y="78"/>
                  </a:moveTo>
                  <a:lnTo>
                    <a:pt x="44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3" y="78"/>
                  </a:moveTo>
                  <a:lnTo>
                    <a:pt x="97" y="78"/>
                  </a:lnTo>
                  <a:lnTo>
                    <a:pt x="97" y="0"/>
                  </a:lnTo>
                  <a:lnTo>
                    <a:pt x="53" y="0"/>
                  </a:lnTo>
                  <a:lnTo>
                    <a:pt x="53" y="78"/>
                  </a:lnTo>
                  <a:close/>
                  <a:moveTo>
                    <a:pt x="0" y="219"/>
                  </a:moveTo>
                  <a:lnTo>
                    <a:pt x="97" y="219"/>
                  </a:lnTo>
                  <a:lnTo>
                    <a:pt x="97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222200" y="1012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222200" y="100656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222200" y="10000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222200" y="99540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222200" y="98748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263600" y="9288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263600" y="96048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263600" y="94464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222200" y="928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222200" y="9604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222200" y="9446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222200" y="10717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222200" y="10573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222200" y="1039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274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247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000080" y="1138320"/>
              <a:ext cx="4590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049760" y="114624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292720" y="5516640"/>
              <a:ext cx="662040" cy="496800"/>
            </a:xfrm>
            <a:custGeom>
              <a:avLst/>
              <a:gdLst/>
              <a:ahLst/>
              <a:rect l="l" t="t" r="r" b="b"/>
              <a:pathLst>
                <a:path w="835" h="625">
                  <a:moveTo>
                    <a:pt x="0" y="625"/>
                  </a:moveTo>
                  <a:lnTo>
                    <a:pt x="0" y="613"/>
                  </a:lnTo>
                  <a:lnTo>
                    <a:pt x="84" y="574"/>
                  </a:lnTo>
                  <a:lnTo>
                    <a:pt x="84" y="0"/>
                  </a:lnTo>
                  <a:lnTo>
                    <a:pt x="306" y="0"/>
                  </a:lnTo>
                  <a:lnTo>
                    <a:pt x="306" y="574"/>
                  </a:lnTo>
                  <a:lnTo>
                    <a:pt x="396" y="613"/>
                  </a:lnTo>
                  <a:lnTo>
                    <a:pt x="396" y="625"/>
                  </a:lnTo>
                  <a:lnTo>
                    <a:pt x="0" y="625"/>
                  </a:lnTo>
                  <a:close/>
                  <a:moveTo>
                    <a:pt x="334" y="539"/>
                  </a:moveTo>
                  <a:lnTo>
                    <a:pt x="412" y="539"/>
                  </a:lnTo>
                  <a:lnTo>
                    <a:pt x="499" y="560"/>
                  </a:lnTo>
                  <a:lnTo>
                    <a:pt x="499" y="604"/>
                  </a:lnTo>
                  <a:lnTo>
                    <a:pt x="412" y="604"/>
                  </a:lnTo>
                  <a:lnTo>
                    <a:pt x="412" y="625"/>
                  </a:lnTo>
                  <a:lnTo>
                    <a:pt x="757" y="625"/>
                  </a:lnTo>
                  <a:lnTo>
                    <a:pt x="757" y="604"/>
                  </a:lnTo>
                  <a:lnTo>
                    <a:pt x="670" y="604"/>
                  </a:lnTo>
                  <a:lnTo>
                    <a:pt x="670" y="560"/>
                  </a:lnTo>
                  <a:lnTo>
                    <a:pt x="757" y="539"/>
                  </a:lnTo>
                  <a:lnTo>
                    <a:pt x="835" y="539"/>
                  </a:lnTo>
                  <a:lnTo>
                    <a:pt x="835" y="157"/>
                  </a:lnTo>
                  <a:lnTo>
                    <a:pt x="334" y="157"/>
                  </a:lnTo>
                  <a:lnTo>
                    <a:pt x="334" y="539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359320" y="597204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535720" y="597204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413320" y="5672160"/>
              <a:ext cx="6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03960" y="5619600"/>
              <a:ext cx="88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381640" y="5537160"/>
              <a:ext cx="131760" cy="29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688000" y="599616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688000" y="596124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619600" y="5943600"/>
              <a:ext cx="27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375160" y="5846760"/>
              <a:ext cx="142920" cy="1350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0" y="104"/>
                  </a:moveTo>
                  <a:lnTo>
                    <a:pt x="14" y="10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4"/>
                  </a:lnTo>
                  <a:close/>
                  <a:moveTo>
                    <a:pt x="28" y="104"/>
                  </a:moveTo>
                  <a:lnTo>
                    <a:pt x="42" y="104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104"/>
                  </a:lnTo>
                  <a:close/>
                  <a:moveTo>
                    <a:pt x="54" y="104"/>
                  </a:moveTo>
                  <a:lnTo>
                    <a:pt x="69" y="104"/>
                  </a:lnTo>
                  <a:lnTo>
                    <a:pt x="69" y="0"/>
                  </a:lnTo>
                  <a:lnTo>
                    <a:pt x="54" y="0"/>
                  </a:lnTo>
                  <a:lnTo>
                    <a:pt x="54" y="104"/>
                  </a:lnTo>
                  <a:close/>
                  <a:moveTo>
                    <a:pt x="83" y="104"/>
                  </a:moveTo>
                  <a:lnTo>
                    <a:pt x="97" y="104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83" y="104"/>
                  </a:lnTo>
                  <a:close/>
                  <a:moveTo>
                    <a:pt x="111" y="104"/>
                  </a:moveTo>
                  <a:lnTo>
                    <a:pt x="125" y="104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111" y="104"/>
                  </a:lnTo>
                  <a:close/>
                  <a:moveTo>
                    <a:pt x="139" y="104"/>
                  </a:moveTo>
                  <a:lnTo>
                    <a:pt x="153" y="104"/>
                  </a:lnTo>
                  <a:lnTo>
                    <a:pt x="153" y="0"/>
                  </a:lnTo>
                  <a:lnTo>
                    <a:pt x="139" y="0"/>
                  </a:lnTo>
                  <a:lnTo>
                    <a:pt x="139" y="104"/>
                  </a:lnTo>
                  <a:close/>
                  <a:moveTo>
                    <a:pt x="166" y="104"/>
                  </a:moveTo>
                  <a:lnTo>
                    <a:pt x="180" y="104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66" y="104"/>
                  </a:lnTo>
                  <a:close/>
                  <a:moveTo>
                    <a:pt x="166" y="169"/>
                  </a:moveTo>
                  <a:lnTo>
                    <a:pt x="180" y="169"/>
                  </a:lnTo>
                  <a:lnTo>
                    <a:pt x="180" y="118"/>
                  </a:lnTo>
                  <a:lnTo>
                    <a:pt x="166" y="118"/>
                  </a:lnTo>
                  <a:lnTo>
                    <a:pt x="166" y="169"/>
                  </a:lnTo>
                  <a:close/>
                  <a:moveTo>
                    <a:pt x="139" y="169"/>
                  </a:moveTo>
                  <a:lnTo>
                    <a:pt x="153" y="169"/>
                  </a:lnTo>
                  <a:lnTo>
                    <a:pt x="153" y="118"/>
                  </a:lnTo>
                  <a:lnTo>
                    <a:pt x="139" y="118"/>
                  </a:lnTo>
                  <a:lnTo>
                    <a:pt x="139" y="169"/>
                  </a:lnTo>
                  <a:close/>
                  <a:moveTo>
                    <a:pt x="111" y="169"/>
                  </a:moveTo>
                  <a:lnTo>
                    <a:pt x="125" y="169"/>
                  </a:lnTo>
                  <a:lnTo>
                    <a:pt x="125" y="118"/>
                  </a:lnTo>
                  <a:lnTo>
                    <a:pt x="111" y="118"/>
                  </a:lnTo>
                  <a:lnTo>
                    <a:pt x="111" y="169"/>
                  </a:lnTo>
                  <a:close/>
                  <a:moveTo>
                    <a:pt x="83" y="169"/>
                  </a:moveTo>
                  <a:lnTo>
                    <a:pt x="97" y="169"/>
                  </a:lnTo>
                  <a:lnTo>
                    <a:pt x="97" y="118"/>
                  </a:lnTo>
                  <a:lnTo>
                    <a:pt x="83" y="118"/>
                  </a:lnTo>
                  <a:lnTo>
                    <a:pt x="83" y="169"/>
                  </a:lnTo>
                  <a:close/>
                  <a:moveTo>
                    <a:pt x="54" y="169"/>
                  </a:moveTo>
                  <a:lnTo>
                    <a:pt x="69" y="169"/>
                  </a:lnTo>
                  <a:lnTo>
                    <a:pt x="69" y="118"/>
                  </a:lnTo>
                  <a:lnTo>
                    <a:pt x="54" y="118"/>
                  </a:lnTo>
                  <a:lnTo>
                    <a:pt x="54" y="169"/>
                  </a:lnTo>
                  <a:close/>
                  <a:moveTo>
                    <a:pt x="28" y="169"/>
                  </a:moveTo>
                  <a:lnTo>
                    <a:pt x="42" y="169"/>
                  </a:lnTo>
                  <a:lnTo>
                    <a:pt x="42" y="118"/>
                  </a:lnTo>
                  <a:lnTo>
                    <a:pt x="28" y="118"/>
                  </a:lnTo>
                  <a:lnTo>
                    <a:pt x="28" y="169"/>
                  </a:lnTo>
                  <a:close/>
                  <a:moveTo>
                    <a:pt x="0" y="169"/>
                  </a:moveTo>
                  <a:lnTo>
                    <a:pt x="14" y="169"/>
                  </a:lnTo>
                  <a:lnTo>
                    <a:pt x="14" y="118"/>
                  </a:lnTo>
                  <a:lnTo>
                    <a:pt x="0" y="1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392800" y="554832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392800" y="5548320"/>
              <a:ext cx="109440" cy="1116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0" y="0"/>
                  </a:moveTo>
                  <a:lnTo>
                    <a:pt x="14" y="14"/>
                  </a:lnTo>
                  <a:lnTo>
                    <a:pt x="125" y="14"/>
                  </a:ln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392800" y="5599080"/>
              <a:ext cx="109440" cy="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392800" y="5651640"/>
              <a:ext cx="1094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392800" y="5703840"/>
              <a:ext cx="109440" cy="39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392800" y="575460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5392800" y="5559480"/>
              <a:ext cx="111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492880" y="5559480"/>
              <a:ext cx="93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397480" y="57387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397480" y="573084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397480" y="5724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397480" y="5715000"/>
              <a:ext cx="7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397480" y="570852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446800" y="5610240"/>
              <a:ext cx="349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478480" y="5680080"/>
              <a:ext cx="15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478480" y="5708520"/>
              <a:ext cx="15840" cy="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478480" y="5718240"/>
              <a:ext cx="15840" cy="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430960" y="5667480"/>
              <a:ext cx="511200" cy="263520"/>
            </a:xfrm>
            <a:custGeom>
              <a:avLst/>
              <a:gdLst/>
              <a:ahLst/>
              <a:rect l="l" t="t" r="r" b="b"/>
              <a:pathLst>
                <a:path w="645" h="334">
                  <a:moveTo>
                    <a:pt x="0" y="14"/>
                  </a:moveTo>
                  <a:lnTo>
                    <a:pt x="42" y="1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  <a:close/>
                  <a:moveTo>
                    <a:pt x="622" y="334"/>
                  </a:moveTo>
                  <a:lnTo>
                    <a:pt x="645" y="334"/>
                  </a:lnTo>
                  <a:lnTo>
                    <a:pt x="645" y="327"/>
                  </a:lnTo>
                  <a:lnTo>
                    <a:pt x="622" y="327"/>
                  </a:lnTo>
                  <a:lnTo>
                    <a:pt x="622" y="334"/>
                  </a:lnTo>
                  <a:close/>
                  <a:moveTo>
                    <a:pt x="238" y="261"/>
                  </a:moveTo>
                  <a:lnTo>
                    <a:pt x="238" y="41"/>
                  </a:lnTo>
                  <a:lnTo>
                    <a:pt x="583" y="41"/>
                  </a:lnTo>
                  <a:lnTo>
                    <a:pt x="583" y="261"/>
                  </a:lnTo>
                  <a:lnTo>
                    <a:pt x="238" y="261"/>
                  </a:lnTo>
                  <a:close/>
                  <a:moveTo>
                    <a:pt x="222" y="275"/>
                  </a:moveTo>
                  <a:lnTo>
                    <a:pt x="599" y="275"/>
                  </a:lnTo>
                  <a:lnTo>
                    <a:pt x="599" y="27"/>
                  </a:lnTo>
                  <a:lnTo>
                    <a:pt x="615" y="27"/>
                  </a:lnTo>
                  <a:lnTo>
                    <a:pt x="615" y="13"/>
                  </a:lnTo>
                  <a:lnTo>
                    <a:pt x="206" y="13"/>
                  </a:lnTo>
                  <a:lnTo>
                    <a:pt x="206" y="23"/>
                  </a:lnTo>
                  <a:lnTo>
                    <a:pt x="206" y="290"/>
                  </a:lnTo>
                  <a:lnTo>
                    <a:pt x="222" y="290"/>
                  </a:lnTo>
                  <a:lnTo>
                    <a:pt x="222" y="2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557680" y="5925960"/>
              <a:ext cx="200160" cy="17640"/>
            </a:xfrm>
            <a:custGeom>
              <a:avLst/>
              <a:gdLst/>
              <a:ahLst/>
              <a:rect l="l" t="t" r="r" b="b"/>
              <a:pathLst>
                <a:path w="251" h="23">
                  <a:moveTo>
                    <a:pt x="0" y="0"/>
                  </a:moveTo>
                  <a:lnTo>
                    <a:pt x="251" y="0"/>
                  </a:lnTo>
                  <a:lnTo>
                    <a:pt x="251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5657760" y="592560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176800" y="6051600"/>
              <a:ext cx="8938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242680" y="6059520"/>
              <a:ext cx="82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net data Serv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614840" y="5516640"/>
              <a:ext cx="495360" cy="496800"/>
            </a:xfrm>
            <a:custGeom>
              <a:avLst/>
              <a:gdLst/>
              <a:ahLst/>
              <a:rect l="l" t="t" r="r" b="b"/>
              <a:pathLst>
                <a:path w="626" h="627">
                  <a:moveTo>
                    <a:pt x="0" y="470"/>
                  </a:moveTo>
                  <a:lnTo>
                    <a:pt x="117" y="470"/>
                  </a:lnTo>
                  <a:lnTo>
                    <a:pt x="214" y="489"/>
                  </a:lnTo>
                  <a:lnTo>
                    <a:pt x="214" y="509"/>
                  </a:lnTo>
                  <a:lnTo>
                    <a:pt x="117" y="509"/>
                  </a:lnTo>
                  <a:lnTo>
                    <a:pt x="117" y="528"/>
                  </a:lnTo>
                  <a:lnTo>
                    <a:pt x="39" y="528"/>
                  </a:lnTo>
                  <a:lnTo>
                    <a:pt x="39" y="627"/>
                  </a:lnTo>
                  <a:lnTo>
                    <a:pt x="587" y="627"/>
                  </a:lnTo>
                  <a:lnTo>
                    <a:pt x="587" y="528"/>
                  </a:lnTo>
                  <a:lnTo>
                    <a:pt x="509" y="528"/>
                  </a:lnTo>
                  <a:lnTo>
                    <a:pt x="509" y="509"/>
                  </a:lnTo>
                  <a:lnTo>
                    <a:pt x="410" y="509"/>
                  </a:lnTo>
                  <a:lnTo>
                    <a:pt x="410" y="489"/>
                  </a:lnTo>
                  <a:lnTo>
                    <a:pt x="509" y="470"/>
                  </a:lnTo>
                  <a:lnTo>
                    <a:pt x="626" y="470"/>
                  </a:lnTo>
                  <a:lnTo>
                    <a:pt x="626" y="0"/>
                  </a:lnTo>
                  <a:lnTo>
                    <a:pt x="0" y="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707000" y="593568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782960" y="5919840"/>
              <a:ext cx="1573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782960" y="5905440"/>
              <a:ext cx="157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707000" y="588960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651200" y="5564160"/>
              <a:ext cx="412920" cy="441360"/>
            </a:xfrm>
            <a:custGeom>
              <a:avLst/>
              <a:gdLst/>
              <a:ahLst/>
              <a:rect l="l" t="t" r="r" b="b"/>
              <a:pathLst>
                <a:path w="519" h="556">
                  <a:moveTo>
                    <a:pt x="49" y="503"/>
                  </a:moveTo>
                  <a:lnTo>
                    <a:pt x="146" y="503"/>
                  </a:lnTo>
                  <a:lnTo>
                    <a:pt x="146" y="489"/>
                  </a:lnTo>
                  <a:lnTo>
                    <a:pt x="49" y="489"/>
                  </a:lnTo>
                  <a:lnTo>
                    <a:pt x="49" y="503"/>
                  </a:lnTo>
                  <a:close/>
                  <a:moveTo>
                    <a:pt x="19" y="556"/>
                  </a:moveTo>
                  <a:lnTo>
                    <a:pt x="39" y="537"/>
                  </a:lnTo>
                  <a:lnTo>
                    <a:pt x="19" y="517"/>
                  </a:lnTo>
                  <a:lnTo>
                    <a:pt x="0" y="537"/>
                  </a:lnTo>
                  <a:lnTo>
                    <a:pt x="19" y="556"/>
                  </a:lnTo>
                  <a:close/>
                  <a:moveTo>
                    <a:pt x="49" y="313"/>
                  </a:moveTo>
                  <a:lnTo>
                    <a:pt x="49" y="39"/>
                  </a:lnTo>
                  <a:lnTo>
                    <a:pt x="480" y="39"/>
                  </a:lnTo>
                  <a:lnTo>
                    <a:pt x="480" y="313"/>
                  </a:lnTo>
                  <a:lnTo>
                    <a:pt x="49" y="313"/>
                  </a:lnTo>
                  <a:close/>
                  <a:moveTo>
                    <a:pt x="30" y="341"/>
                  </a:moveTo>
                  <a:lnTo>
                    <a:pt x="509" y="341"/>
                  </a:lnTo>
                  <a:lnTo>
                    <a:pt x="509" y="20"/>
                  </a:lnTo>
                  <a:lnTo>
                    <a:pt x="519" y="20"/>
                  </a:lnTo>
                  <a:lnTo>
                    <a:pt x="519" y="0"/>
                  </a:lnTo>
                  <a:lnTo>
                    <a:pt x="10" y="0"/>
                  </a:lnTo>
                  <a:lnTo>
                    <a:pt x="10" y="352"/>
                  </a:lnTo>
                  <a:lnTo>
                    <a:pt x="30" y="352"/>
                  </a:lnTo>
                  <a:lnTo>
                    <a:pt x="30" y="341"/>
                  </a:lnTo>
                  <a:close/>
                  <a:moveTo>
                    <a:pt x="489" y="390"/>
                  </a:moveTo>
                  <a:lnTo>
                    <a:pt x="519" y="390"/>
                  </a:lnTo>
                  <a:lnTo>
                    <a:pt x="519" y="382"/>
                  </a:lnTo>
                  <a:lnTo>
                    <a:pt x="489" y="382"/>
                  </a:lnTo>
                  <a:lnTo>
                    <a:pt x="489" y="3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699080" y="5989680"/>
              <a:ext cx="61920" cy="1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645080" y="595296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645080" y="596412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69908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74660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76892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79268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81644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7"/>
                  </a:lnTo>
                  <a:lnTo>
                    <a:pt x="8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8387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86252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8848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9"/>
                  </a:lnTo>
                  <a:lnTo>
                    <a:pt x="11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90860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9323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95468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9784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00076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024520" y="597060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04828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602240" y="6051600"/>
              <a:ext cx="51912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52640" y="605952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s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257880" y="4332240"/>
              <a:ext cx="189000" cy="803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329520" y="5056200"/>
              <a:ext cx="48960" cy="39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329520" y="4370400"/>
              <a:ext cx="48960" cy="42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6281640" y="4331880"/>
              <a:ext cx="180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342120" y="4392720"/>
              <a:ext cx="23760" cy="382320"/>
            </a:xfrm>
            <a:custGeom>
              <a:avLst/>
              <a:gdLst/>
              <a:ahLst/>
              <a:rect l="l" t="t" r="r" b="b"/>
              <a:pathLst>
                <a:path w="30" h="482">
                  <a:moveTo>
                    <a:pt x="30" y="380"/>
                  </a:moveTo>
                  <a:lnTo>
                    <a:pt x="30" y="355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30" y="380"/>
                  </a:lnTo>
                  <a:close/>
                  <a:moveTo>
                    <a:pt x="30" y="431"/>
                  </a:moveTo>
                  <a:lnTo>
                    <a:pt x="30" y="406"/>
                  </a:lnTo>
                  <a:lnTo>
                    <a:pt x="0" y="406"/>
                  </a:lnTo>
                  <a:lnTo>
                    <a:pt x="0" y="431"/>
                  </a:lnTo>
                  <a:lnTo>
                    <a:pt x="30" y="431"/>
                  </a:lnTo>
                  <a:close/>
                  <a:moveTo>
                    <a:pt x="30" y="482"/>
                  </a:moveTo>
                  <a:lnTo>
                    <a:pt x="30" y="456"/>
                  </a:lnTo>
                  <a:lnTo>
                    <a:pt x="0" y="456"/>
                  </a:lnTo>
                  <a:lnTo>
                    <a:pt x="0" y="482"/>
                  </a:lnTo>
                  <a:lnTo>
                    <a:pt x="30" y="482"/>
                  </a:lnTo>
                  <a:close/>
                  <a:moveTo>
                    <a:pt x="30" y="304"/>
                  </a:moveTo>
                  <a:lnTo>
                    <a:pt x="30" y="279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30" y="304"/>
                  </a:lnTo>
                  <a:close/>
                  <a:moveTo>
                    <a:pt x="30" y="228"/>
                  </a:moveTo>
                  <a:lnTo>
                    <a:pt x="30" y="203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30" y="228"/>
                  </a:lnTo>
                  <a:close/>
                  <a:moveTo>
                    <a:pt x="30" y="177"/>
                  </a:moveTo>
                  <a:lnTo>
                    <a:pt x="30" y="152"/>
                  </a:lnTo>
                  <a:lnTo>
                    <a:pt x="0" y="152"/>
                  </a:lnTo>
                  <a:lnTo>
                    <a:pt x="0" y="177"/>
                  </a:lnTo>
                  <a:lnTo>
                    <a:pt x="30" y="177"/>
                  </a:lnTo>
                  <a:close/>
                  <a:moveTo>
                    <a:pt x="30" y="127"/>
                  </a:moveTo>
                  <a:lnTo>
                    <a:pt x="30" y="101"/>
                  </a:lnTo>
                  <a:lnTo>
                    <a:pt x="0" y="101"/>
                  </a:lnTo>
                  <a:lnTo>
                    <a:pt x="0" y="127"/>
                  </a:lnTo>
                  <a:lnTo>
                    <a:pt x="30" y="127"/>
                  </a:lnTo>
                  <a:close/>
                  <a:moveTo>
                    <a:pt x="30" y="76"/>
                  </a:moveTo>
                  <a:lnTo>
                    <a:pt x="30" y="51"/>
                  </a:lnTo>
                  <a:lnTo>
                    <a:pt x="0" y="51"/>
                  </a:lnTo>
                  <a:lnTo>
                    <a:pt x="0" y="76"/>
                  </a:lnTo>
                  <a:lnTo>
                    <a:pt x="30" y="76"/>
                  </a:lnTo>
                  <a:close/>
                  <a:moveTo>
                    <a:pt x="30" y="25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486480" y="4870440"/>
              <a:ext cx="13032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rot="16200000">
              <a:off x="6412320" y="492552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118200" y="1157400"/>
              <a:ext cx="2016000" cy="1207800"/>
            </a:xfrm>
            <a:custGeom>
              <a:avLst/>
              <a:gdLst/>
              <a:ahLst/>
              <a:rect l="l" t="t" r="r" b="b"/>
              <a:pathLst>
                <a:path w="2539" h="1522">
                  <a:moveTo>
                    <a:pt x="373" y="1130"/>
                  </a:moveTo>
                  <a:lnTo>
                    <a:pt x="401" y="1188"/>
                  </a:lnTo>
                  <a:lnTo>
                    <a:pt x="434" y="1245"/>
                  </a:lnTo>
                  <a:lnTo>
                    <a:pt x="470" y="1296"/>
                  </a:lnTo>
                  <a:lnTo>
                    <a:pt x="510" y="1343"/>
                  </a:lnTo>
                  <a:lnTo>
                    <a:pt x="555" y="1386"/>
                  </a:lnTo>
                  <a:lnTo>
                    <a:pt x="601" y="1423"/>
                  </a:lnTo>
                  <a:lnTo>
                    <a:pt x="650" y="1455"/>
                  </a:lnTo>
                  <a:lnTo>
                    <a:pt x="699" y="1479"/>
                  </a:lnTo>
                  <a:lnTo>
                    <a:pt x="752" y="1501"/>
                  </a:lnTo>
                  <a:lnTo>
                    <a:pt x="806" y="1513"/>
                  </a:lnTo>
                  <a:lnTo>
                    <a:pt x="860" y="1520"/>
                  </a:lnTo>
                  <a:lnTo>
                    <a:pt x="915" y="1522"/>
                  </a:lnTo>
                  <a:lnTo>
                    <a:pt x="970" y="1516"/>
                  </a:lnTo>
                  <a:lnTo>
                    <a:pt x="1025" y="1504"/>
                  </a:lnTo>
                  <a:lnTo>
                    <a:pt x="1076" y="1486"/>
                  </a:lnTo>
                  <a:lnTo>
                    <a:pt x="1129" y="1462"/>
                  </a:lnTo>
                  <a:lnTo>
                    <a:pt x="1177" y="1432"/>
                  </a:lnTo>
                  <a:lnTo>
                    <a:pt x="1224" y="1396"/>
                  </a:lnTo>
                  <a:lnTo>
                    <a:pt x="1269" y="1356"/>
                  </a:lnTo>
                  <a:lnTo>
                    <a:pt x="1313" y="1396"/>
                  </a:lnTo>
                  <a:lnTo>
                    <a:pt x="1360" y="1432"/>
                  </a:lnTo>
                  <a:lnTo>
                    <a:pt x="1410" y="1462"/>
                  </a:lnTo>
                  <a:lnTo>
                    <a:pt x="1461" y="1486"/>
                  </a:lnTo>
                  <a:lnTo>
                    <a:pt x="1514" y="1504"/>
                  </a:lnTo>
                  <a:lnTo>
                    <a:pt x="1567" y="1516"/>
                  </a:lnTo>
                  <a:lnTo>
                    <a:pt x="1622" y="1522"/>
                  </a:lnTo>
                  <a:lnTo>
                    <a:pt x="1677" y="1520"/>
                  </a:lnTo>
                  <a:lnTo>
                    <a:pt x="1732" y="1513"/>
                  </a:lnTo>
                  <a:lnTo>
                    <a:pt x="1785" y="1501"/>
                  </a:lnTo>
                  <a:lnTo>
                    <a:pt x="1838" y="1479"/>
                  </a:lnTo>
                  <a:lnTo>
                    <a:pt x="1889" y="1455"/>
                  </a:lnTo>
                  <a:lnTo>
                    <a:pt x="1937" y="1423"/>
                  </a:lnTo>
                  <a:lnTo>
                    <a:pt x="1983" y="1386"/>
                  </a:lnTo>
                  <a:lnTo>
                    <a:pt x="2027" y="1343"/>
                  </a:lnTo>
                  <a:lnTo>
                    <a:pt x="2067" y="1296"/>
                  </a:lnTo>
                  <a:lnTo>
                    <a:pt x="2103" y="1245"/>
                  </a:lnTo>
                  <a:lnTo>
                    <a:pt x="2136" y="1188"/>
                  </a:lnTo>
                  <a:lnTo>
                    <a:pt x="2165" y="1130"/>
                  </a:lnTo>
                  <a:lnTo>
                    <a:pt x="2203" y="1139"/>
                  </a:lnTo>
                  <a:lnTo>
                    <a:pt x="2242" y="1142"/>
                  </a:lnTo>
                  <a:lnTo>
                    <a:pt x="2281" y="1137"/>
                  </a:lnTo>
                  <a:lnTo>
                    <a:pt x="2318" y="1128"/>
                  </a:lnTo>
                  <a:lnTo>
                    <a:pt x="2355" y="1112"/>
                  </a:lnTo>
                  <a:lnTo>
                    <a:pt x="2391" y="1089"/>
                  </a:lnTo>
                  <a:lnTo>
                    <a:pt x="2423" y="1061"/>
                  </a:lnTo>
                  <a:lnTo>
                    <a:pt x="2453" y="1029"/>
                  </a:lnTo>
                  <a:lnTo>
                    <a:pt x="2477" y="992"/>
                  </a:lnTo>
                  <a:lnTo>
                    <a:pt x="2499" y="950"/>
                  </a:lnTo>
                  <a:lnTo>
                    <a:pt x="2516" y="906"/>
                  </a:lnTo>
                  <a:lnTo>
                    <a:pt x="2529" y="860"/>
                  </a:lnTo>
                  <a:lnTo>
                    <a:pt x="2536" y="811"/>
                  </a:lnTo>
                  <a:lnTo>
                    <a:pt x="2539" y="761"/>
                  </a:lnTo>
                  <a:lnTo>
                    <a:pt x="2536" y="712"/>
                  </a:lnTo>
                  <a:lnTo>
                    <a:pt x="2529" y="662"/>
                  </a:lnTo>
                  <a:lnTo>
                    <a:pt x="2516" y="616"/>
                  </a:lnTo>
                  <a:lnTo>
                    <a:pt x="2499" y="572"/>
                  </a:lnTo>
                  <a:lnTo>
                    <a:pt x="2477" y="530"/>
                  </a:lnTo>
                  <a:lnTo>
                    <a:pt x="2453" y="493"/>
                  </a:lnTo>
                  <a:lnTo>
                    <a:pt x="2423" y="461"/>
                  </a:lnTo>
                  <a:lnTo>
                    <a:pt x="2391" y="433"/>
                  </a:lnTo>
                  <a:lnTo>
                    <a:pt x="2355" y="410"/>
                  </a:lnTo>
                  <a:lnTo>
                    <a:pt x="2318" y="394"/>
                  </a:lnTo>
                  <a:lnTo>
                    <a:pt x="2281" y="383"/>
                  </a:lnTo>
                  <a:lnTo>
                    <a:pt x="2242" y="380"/>
                  </a:lnTo>
                  <a:lnTo>
                    <a:pt x="2203" y="383"/>
                  </a:lnTo>
                  <a:lnTo>
                    <a:pt x="2165" y="392"/>
                  </a:lnTo>
                  <a:lnTo>
                    <a:pt x="2136" y="334"/>
                  </a:lnTo>
                  <a:lnTo>
                    <a:pt x="2103" y="278"/>
                  </a:lnTo>
                  <a:lnTo>
                    <a:pt x="2067" y="226"/>
                  </a:lnTo>
                  <a:lnTo>
                    <a:pt x="2027" y="179"/>
                  </a:lnTo>
                  <a:lnTo>
                    <a:pt x="1983" y="136"/>
                  </a:lnTo>
                  <a:lnTo>
                    <a:pt x="1937" y="99"/>
                  </a:lnTo>
                  <a:lnTo>
                    <a:pt x="1889" y="68"/>
                  </a:lnTo>
                  <a:lnTo>
                    <a:pt x="1838" y="43"/>
                  </a:lnTo>
                  <a:lnTo>
                    <a:pt x="1785" y="22"/>
                  </a:lnTo>
                  <a:lnTo>
                    <a:pt x="1732" y="9"/>
                  </a:lnTo>
                  <a:lnTo>
                    <a:pt x="1677" y="2"/>
                  </a:lnTo>
                  <a:lnTo>
                    <a:pt x="1622" y="0"/>
                  </a:lnTo>
                  <a:lnTo>
                    <a:pt x="1567" y="6"/>
                  </a:lnTo>
                  <a:lnTo>
                    <a:pt x="1514" y="18"/>
                  </a:lnTo>
                  <a:lnTo>
                    <a:pt x="1461" y="36"/>
                  </a:lnTo>
                  <a:lnTo>
                    <a:pt x="1410" y="60"/>
                  </a:lnTo>
                  <a:lnTo>
                    <a:pt x="1360" y="90"/>
                  </a:lnTo>
                  <a:lnTo>
                    <a:pt x="1313" y="126"/>
                  </a:lnTo>
                  <a:lnTo>
                    <a:pt x="1269" y="166"/>
                  </a:lnTo>
                  <a:lnTo>
                    <a:pt x="1224" y="126"/>
                  </a:lnTo>
                  <a:lnTo>
                    <a:pt x="1177" y="90"/>
                  </a:lnTo>
                  <a:lnTo>
                    <a:pt x="1129" y="60"/>
                  </a:lnTo>
                  <a:lnTo>
                    <a:pt x="1076" y="36"/>
                  </a:lnTo>
                  <a:lnTo>
                    <a:pt x="1025" y="18"/>
                  </a:lnTo>
                  <a:lnTo>
                    <a:pt x="970" y="6"/>
                  </a:lnTo>
                  <a:lnTo>
                    <a:pt x="915" y="0"/>
                  </a:lnTo>
                  <a:lnTo>
                    <a:pt x="860" y="2"/>
                  </a:lnTo>
                  <a:lnTo>
                    <a:pt x="806" y="9"/>
                  </a:lnTo>
                  <a:lnTo>
                    <a:pt x="752" y="22"/>
                  </a:lnTo>
                  <a:lnTo>
                    <a:pt x="699" y="43"/>
                  </a:lnTo>
                  <a:lnTo>
                    <a:pt x="650" y="68"/>
                  </a:lnTo>
                  <a:lnTo>
                    <a:pt x="601" y="99"/>
                  </a:lnTo>
                  <a:lnTo>
                    <a:pt x="555" y="136"/>
                  </a:lnTo>
                  <a:lnTo>
                    <a:pt x="510" y="179"/>
                  </a:lnTo>
                  <a:lnTo>
                    <a:pt x="470" y="226"/>
                  </a:lnTo>
                  <a:lnTo>
                    <a:pt x="434" y="278"/>
                  </a:lnTo>
                  <a:lnTo>
                    <a:pt x="401" y="334"/>
                  </a:lnTo>
                  <a:lnTo>
                    <a:pt x="373" y="392"/>
                  </a:lnTo>
                  <a:lnTo>
                    <a:pt x="334" y="383"/>
                  </a:lnTo>
                  <a:lnTo>
                    <a:pt x="295" y="380"/>
                  </a:lnTo>
                  <a:lnTo>
                    <a:pt x="256" y="383"/>
                  </a:lnTo>
                  <a:lnTo>
                    <a:pt x="219" y="394"/>
                  </a:lnTo>
                  <a:lnTo>
                    <a:pt x="182" y="410"/>
                  </a:lnTo>
                  <a:lnTo>
                    <a:pt x="146" y="433"/>
                  </a:lnTo>
                  <a:lnTo>
                    <a:pt x="114" y="461"/>
                  </a:lnTo>
                  <a:lnTo>
                    <a:pt x="86" y="493"/>
                  </a:lnTo>
                  <a:lnTo>
                    <a:pt x="60" y="530"/>
                  </a:lnTo>
                  <a:lnTo>
                    <a:pt x="39" y="572"/>
                  </a:lnTo>
                  <a:lnTo>
                    <a:pt x="21" y="616"/>
                  </a:lnTo>
                  <a:lnTo>
                    <a:pt x="8" y="662"/>
                  </a:lnTo>
                  <a:lnTo>
                    <a:pt x="1" y="712"/>
                  </a:lnTo>
                  <a:lnTo>
                    <a:pt x="0" y="761"/>
                  </a:lnTo>
                  <a:lnTo>
                    <a:pt x="1" y="811"/>
                  </a:lnTo>
                  <a:lnTo>
                    <a:pt x="8" y="860"/>
                  </a:lnTo>
                  <a:lnTo>
                    <a:pt x="21" y="906"/>
                  </a:lnTo>
                  <a:lnTo>
                    <a:pt x="39" y="950"/>
                  </a:lnTo>
                  <a:lnTo>
                    <a:pt x="60" y="992"/>
                  </a:lnTo>
                  <a:lnTo>
                    <a:pt x="86" y="1029"/>
                  </a:lnTo>
                  <a:lnTo>
                    <a:pt x="114" y="1061"/>
                  </a:lnTo>
                  <a:lnTo>
                    <a:pt x="146" y="1089"/>
                  </a:lnTo>
                  <a:lnTo>
                    <a:pt x="182" y="1112"/>
                  </a:lnTo>
                  <a:lnTo>
                    <a:pt x="219" y="1128"/>
                  </a:lnTo>
                  <a:lnTo>
                    <a:pt x="256" y="1137"/>
                  </a:lnTo>
                  <a:lnTo>
                    <a:pt x="295" y="1142"/>
                  </a:lnTo>
                  <a:lnTo>
                    <a:pt x="334" y="1139"/>
                  </a:lnTo>
                  <a:lnTo>
                    <a:pt x="373" y="113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863760" y="16588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562120" y="5423040"/>
              <a:ext cx="8128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595240" y="5430960"/>
              <a:ext cx="65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IT Voice 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912760" y="554364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621880" y="565452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CP/IP capabil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324160" y="4094280"/>
              <a:ext cx="1290600" cy="1290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324160" y="4094280"/>
              <a:ext cx="1290600" cy="1263600"/>
            </a:xfrm>
            <a:custGeom>
              <a:avLst/>
              <a:gdLst/>
              <a:ahLst/>
              <a:rect l="l" t="t" r="r" b="b"/>
              <a:pathLst>
                <a:path w="1628" h="1592">
                  <a:moveTo>
                    <a:pt x="0" y="1592"/>
                  </a:moveTo>
                  <a:lnTo>
                    <a:pt x="813" y="1592"/>
                  </a:lnTo>
                  <a:lnTo>
                    <a:pt x="813" y="0"/>
                  </a:lnTo>
                  <a:lnTo>
                    <a:pt x="0" y="0"/>
                  </a:lnTo>
                  <a:lnTo>
                    <a:pt x="0" y="1592"/>
                  </a:lnTo>
                  <a:close/>
                  <a:moveTo>
                    <a:pt x="813" y="1592"/>
                  </a:moveTo>
                  <a:lnTo>
                    <a:pt x="1628" y="1592"/>
                  </a:lnTo>
                  <a:lnTo>
                    <a:pt x="1628" y="0"/>
                  </a:lnTo>
                  <a:lnTo>
                    <a:pt x="813" y="0"/>
                  </a:lnTo>
                  <a:lnTo>
                    <a:pt x="813" y="1592"/>
                  </a:lnTo>
                  <a:close/>
                  <a:moveTo>
                    <a:pt x="126" y="542"/>
                  </a:moveTo>
                  <a:lnTo>
                    <a:pt x="689" y="542"/>
                  </a:lnTo>
                  <a:lnTo>
                    <a:pt x="689" y="373"/>
                  </a:lnTo>
                  <a:lnTo>
                    <a:pt x="126" y="373"/>
                  </a:lnTo>
                  <a:lnTo>
                    <a:pt x="126" y="542"/>
                  </a:lnTo>
                  <a:close/>
                  <a:moveTo>
                    <a:pt x="126" y="881"/>
                  </a:moveTo>
                  <a:lnTo>
                    <a:pt x="689" y="881"/>
                  </a:lnTo>
                  <a:lnTo>
                    <a:pt x="689" y="593"/>
                  </a:lnTo>
                  <a:lnTo>
                    <a:pt x="126" y="593"/>
                  </a:lnTo>
                  <a:lnTo>
                    <a:pt x="126" y="881"/>
                  </a:lnTo>
                  <a:close/>
                  <a:moveTo>
                    <a:pt x="938" y="542"/>
                  </a:moveTo>
                  <a:lnTo>
                    <a:pt x="1502" y="542"/>
                  </a:lnTo>
                  <a:lnTo>
                    <a:pt x="1502" y="373"/>
                  </a:lnTo>
                  <a:lnTo>
                    <a:pt x="938" y="373"/>
                  </a:lnTo>
                  <a:lnTo>
                    <a:pt x="938" y="542"/>
                  </a:lnTo>
                  <a:close/>
                  <a:moveTo>
                    <a:pt x="938" y="763"/>
                  </a:moveTo>
                  <a:lnTo>
                    <a:pt x="1502" y="763"/>
                  </a:lnTo>
                  <a:lnTo>
                    <a:pt x="1502" y="593"/>
                  </a:lnTo>
                  <a:lnTo>
                    <a:pt x="938" y="593"/>
                  </a:lnTo>
                  <a:lnTo>
                    <a:pt x="938" y="76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324160" y="4202280"/>
              <a:ext cx="1290600" cy="10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325600" y="5369040"/>
              <a:ext cx="1287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968560" y="2676600"/>
              <a:ext cx="7920" cy="1266840"/>
            </a:xfrm>
            <a:custGeom>
              <a:avLst/>
              <a:gdLst/>
              <a:ahLst/>
              <a:rect l="l" t="t" r="r" b="b"/>
              <a:pathLst>
                <a:path w="11" h="1598">
                  <a:moveTo>
                    <a:pt x="11" y="0"/>
                  </a:moveTo>
                  <a:lnTo>
                    <a:pt x="11" y="158"/>
                  </a:lnTo>
                  <a:lnTo>
                    <a:pt x="0" y="158"/>
                  </a:lnTo>
                  <a:lnTo>
                    <a:pt x="0" y="15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922480" y="2676600"/>
              <a:ext cx="109800" cy="16344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69" y="0"/>
                  </a:lnTo>
                  <a:lnTo>
                    <a:pt x="138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914560" y="3929040"/>
              <a:ext cx="108000" cy="16524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138" y="0"/>
                  </a:moveTo>
                  <a:lnTo>
                    <a:pt x="69" y="206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584440" y="3303720"/>
              <a:ext cx="7714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594880" y="3311640"/>
              <a:ext cx="70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2 or SS7 circui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122800" y="2754360"/>
              <a:ext cx="746280" cy="495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146560" y="3146400"/>
              <a:ext cx="698760" cy="8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146560" y="2773440"/>
              <a:ext cx="698760" cy="333360"/>
            </a:xfrm>
            <a:custGeom>
              <a:avLst/>
              <a:gdLst/>
              <a:ahLst/>
              <a:rect l="l" t="t" r="r" b="b"/>
              <a:pathLst>
                <a:path w="880" h="418">
                  <a:moveTo>
                    <a:pt x="777" y="14"/>
                  </a:moveTo>
                  <a:lnTo>
                    <a:pt x="779" y="5"/>
                  </a:lnTo>
                  <a:lnTo>
                    <a:pt x="786" y="2"/>
                  </a:lnTo>
                  <a:lnTo>
                    <a:pt x="797" y="2"/>
                  </a:lnTo>
                  <a:lnTo>
                    <a:pt x="804" y="5"/>
                  </a:lnTo>
                  <a:lnTo>
                    <a:pt x="806" y="14"/>
                  </a:lnTo>
                  <a:lnTo>
                    <a:pt x="804" y="21"/>
                  </a:lnTo>
                  <a:lnTo>
                    <a:pt x="797" y="26"/>
                  </a:lnTo>
                  <a:lnTo>
                    <a:pt x="786" y="26"/>
                  </a:lnTo>
                  <a:lnTo>
                    <a:pt x="779" y="21"/>
                  </a:lnTo>
                  <a:lnTo>
                    <a:pt x="777" y="14"/>
                  </a:lnTo>
                  <a:close/>
                  <a:moveTo>
                    <a:pt x="659" y="14"/>
                  </a:moveTo>
                  <a:lnTo>
                    <a:pt x="662" y="5"/>
                  </a:lnTo>
                  <a:lnTo>
                    <a:pt x="669" y="2"/>
                  </a:lnTo>
                  <a:lnTo>
                    <a:pt x="678" y="2"/>
                  </a:lnTo>
                  <a:lnTo>
                    <a:pt x="685" y="5"/>
                  </a:lnTo>
                  <a:lnTo>
                    <a:pt x="689" y="14"/>
                  </a:lnTo>
                  <a:lnTo>
                    <a:pt x="685" y="21"/>
                  </a:lnTo>
                  <a:lnTo>
                    <a:pt x="678" y="26"/>
                  </a:lnTo>
                  <a:lnTo>
                    <a:pt x="669" y="26"/>
                  </a:lnTo>
                  <a:lnTo>
                    <a:pt x="662" y="21"/>
                  </a:lnTo>
                  <a:lnTo>
                    <a:pt x="659" y="14"/>
                  </a:lnTo>
                  <a:close/>
                  <a:moveTo>
                    <a:pt x="542" y="14"/>
                  </a:moveTo>
                  <a:lnTo>
                    <a:pt x="544" y="5"/>
                  </a:lnTo>
                  <a:lnTo>
                    <a:pt x="553" y="2"/>
                  </a:lnTo>
                  <a:lnTo>
                    <a:pt x="562" y="2"/>
                  </a:lnTo>
                  <a:lnTo>
                    <a:pt x="569" y="5"/>
                  </a:lnTo>
                  <a:lnTo>
                    <a:pt x="570" y="14"/>
                  </a:lnTo>
                  <a:lnTo>
                    <a:pt x="569" y="21"/>
                  </a:lnTo>
                  <a:lnTo>
                    <a:pt x="562" y="26"/>
                  </a:lnTo>
                  <a:lnTo>
                    <a:pt x="553" y="26"/>
                  </a:lnTo>
                  <a:lnTo>
                    <a:pt x="544" y="21"/>
                  </a:lnTo>
                  <a:lnTo>
                    <a:pt x="542" y="14"/>
                  </a:lnTo>
                  <a:close/>
                  <a:moveTo>
                    <a:pt x="424" y="14"/>
                  </a:moveTo>
                  <a:lnTo>
                    <a:pt x="427" y="5"/>
                  </a:lnTo>
                  <a:lnTo>
                    <a:pt x="434" y="2"/>
                  </a:lnTo>
                  <a:lnTo>
                    <a:pt x="443" y="2"/>
                  </a:lnTo>
                  <a:lnTo>
                    <a:pt x="450" y="5"/>
                  </a:lnTo>
                  <a:lnTo>
                    <a:pt x="454" y="14"/>
                  </a:lnTo>
                  <a:lnTo>
                    <a:pt x="450" y="21"/>
                  </a:lnTo>
                  <a:lnTo>
                    <a:pt x="443" y="26"/>
                  </a:lnTo>
                  <a:lnTo>
                    <a:pt x="434" y="26"/>
                  </a:lnTo>
                  <a:lnTo>
                    <a:pt x="427" y="21"/>
                  </a:lnTo>
                  <a:lnTo>
                    <a:pt x="424" y="14"/>
                  </a:lnTo>
                  <a:close/>
                  <a:moveTo>
                    <a:pt x="307" y="14"/>
                  </a:moveTo>
                  <a:lnTo>
                    <a:pt x="311" y="5"/>
                  </a:lnTo>
                  <a:lnTo>
                    <a:pt x="318" y="2"/>
                  </a:lnTo>
                  <a:lnTo>
                    <a:pt x="327" y="2"/>
                  </a:lnTo>
                  <a:lnTo>
                    <a:pt x="334" y="5"/>
                  </a:lnTo>
                  <a:lnTo>
                    <a:pt x="337" y="14"/>
                  </a:lnTo>
                  <a:lnTo>
                    <a:pt x="334" y="21"/>
                  </a:lnTo>
                  <a:lnTo>
                    <a:pt x="327" y="26"/>
                  </a:lnTo>
                  <a:lnTo>
                    <a:pt x="318" y="26"/>
                  </a:lnTo>
                  <a:lnTo>
                    <a:pt x="311" y="21"/>
                  </a:lnTo>
                  <a:lnTo>
                    <a:pt x="307" y="14"/>
                  </a:lnTo>
                  <a:close/>
                  <a:moveTo>
                    <a:pt x="189" y="14"/>
                  </a:moveTo>
                  <a:lnTo>
                    <a:pt x="192" y="5"/>
                  </a:lnTo>
                  <a:lnTo>
                    <a:pt x="199" y="2"/>
                  </a:lnTo>
                  <a:lnTo>
                    <a:pt x="208" y="2"/>
                  </a:lnTo>
                  <a:lnTo>
                    <a:pt x="217" y="5"/>
                  </a:lnTo>
                  <a:lnTo>
                    <a:pt x="219" y="14"/>
                  </a:lnTo>
                  <a:lnTo>
                    <a:pt x="217" y="21"/>
                  </a:lnTo>
                  <a:lnTo>
                    <a:pt x="208" y="26"/>
                  </a:lnTo>
                  <a:lnTo>
                    <a:pt x="199" y="26"/>
                  </a:lnTo>
                  <a:lnTo>
                    <a:pt x="192" y="21"/>
                  </a:lnTo>
                  <a:lnTo>
                    <a:pt x="189" y="14"/>
                  </a:lnTo>
                  <a:close/>
                  <a:moveTo>
                    <a:pt x="72" y="14"/>
                  </a:moveTo>
                  <a:lnTo>
                    <a:pt x="76" y="5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99" y="5"/>
                  </a:lnTo>
                  <a:lnTo>
                    <a:pt x="102" y="14"/>
                  </a:lnTo>
                  <a:lnTo>
                    <a:pt x="99" y="21"/>
                  </a:lnTo>
                  <a:lnTo>
                    <a:pt x="92" y="26"/>
                  </a:lnTo>
                  <a:lnTo>
                    <a:pt x="83" y="26"/>
                  </a:lnTo>
                  <a:lnTo>
                    <a:pt x="76" y="21"/>
                  </a:lnTo>
                  <a:lnTo>
                    <a:pt x="72" y="14"/>
                  </a:lnTo>
                  <a:close/>
                  <a:moveTo>
                    <a:pt x="116" y="418"/>
                  </a:moveTo>
                  <a:lnTo>
                    <a:pt x="175" y="418"/>
                  </a:lnTo>
                  <a:lnTo>
                    <a:pt x="175" y="0"/>
                  </a:lnTo>
                  <a:lnTo>
                    <a:pt x="116" y="0"/>
                  </a:lnTo>
                  <a:lnTo>
                    <a:pt x="116" y="418"/>
                  </a:lnTo>
                  <a:close/>
                  <a:moveTo>
                    <a:pt x="233" y="418"/>
                  </a:moveTo>
                  <a:lnTo>
                    <a:pt x="293" y="418"/>
                  </a:lnTo>
                  <a:lnTo>
                    <a:pt x="293" y="0"/>
                  </a:lnTo>
                  <a:lnTo>
                    <a:pt x="233" y="0"/>
                  </a:lnTo>
                  <a:lnTo>
                    <a:pt x="233" y="418"/>
                  </a:lnTo>
                  <a:close/>
                  <a:moveTo>
                    <a:pt x="351" y="418"/>
                  </a:moveTo>
                  <a:lnTo>
                    <a:pt x="410" y="418"/>
                  </a:lnTo>
                  <a:lnTo>
                    <a:pt x="410" y="0"/>
                  </a:lnTo>
                  <a:lnTo>
                    <a:pt x="351" y="0"/>
                  </a:lnTo>
                  <a:lnTo>
                    <a:pt x="351" y="418"/>
                  </a:lnTo>
                  <a:close/>
                  <a:moveTo>
                    <a:pt x="468" y="418"/>
                  </a:moveTo>
                  <a:lnTo>
                    <a:pt x="526" y="418"/>
                  </a:lnTo>
                  <a:lnTo>
                    <a:pt x="526" y="0"/>
                  </a:lnTo>
                  <a:lnTo>
                    <a:pt x="468" y="0"/>
                  </a:lnTo>
                  <a:lnTo>
                    <a:pt x="468" y="418"/>
                  </a:lnTo>
                  <a:close/>
                  <a:moveTo>
                    <a:pt x="586" y="418"/>
                  </a:moveTo>
                  <a:lnTo>
                    <a:pt x="645" y="418"/>
                  </a:lnTo>
                  <a:lnTo>
                    <a:pt x="645" y="0"/>
                  </a:lnTo>
                  <a:lnTo>
                    <a:pt x="586" y="0"/>
                  </a:lnTo>
                  <a:lnTo>
                    <a:pt x="586" y="418"/>
                  </a:lnTo>
                  <a:close/>
                  <a:moveTo>
                    <a:pt x="703" y="418"/>
                  </a:moveTo>
                  <a:lnTo>
                    <a:pt x="761" y="418"/>
                  </a:lnTo>
                  <a:lnTo>
                    <a:pt x="761" y="0"/>
                  </a:lnTo>
                  <a:lnTo>
                    <a:pt x="703" y="0"/>
                  </a:lnTo>
                  <a:lnTo>
                    <a:pt x="703" y="418"/>
                  </a:lnTo>
                  <a:close/>
                  <a:moveTo>
                    <a:pt x="821" y="418"/>
                  </a:moveTo>
                  <a:lnTo>
                    <a:pt x="880" y="418"/>
                  </a:lnTo>
                  <a:lnTo>
                    <a:pt x="880" y="0"/>
                  </a:lnTo>
                  <a:lnTo>
                    <a:pt x="821" y="0"/>
                  </a:lnTo>
                  <a:lnTo>
                    <a:pt x="821" y="418"/>
                  </a:lnTo>
                  <a:close/>
                  <a:moveTo>
                    <a:pt x="0" y="418"/>
                  </a:moveTo>
                  <a:lnTo>
                    <a:pt x="58" y="418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168880" y="3166920"/>
              <a:ext cx="652320" cy="41400"/>
            </a:xfrm>
            <a:custGeom>
              <a:avLst/>
              <a:gdLst/>
              <a:ahLst/>
              <a:rect l="l" t="t" r="r" b="b"/>
              <a:pathLst>
                <a:path w="822" h="51">
                  <a:moveTo>
                    <a:pt x="705" y="51"/>
                  </a:moveTo>
                  <a:lnTo>
                    <a:pt x="822" y="51"/>
                  </a:lnTo>
                  <a:lnTo>
                    <a:pt x="822" y="0"/>
                  </a:lnTo>
                  <a:lnTo>
                    <a:pt x="705" y="0"/>
                  </a:lnTo>
                  <a:lnTo>
                    <a:pt x="705" y="51"/>
                  </a:lnTo>
                  <a:close/>
                  <a:moveTo>
                    <a:pt x="528" y="51"/>
                  </a:moveTo>
                  <a:lnTo>
                    <a:pt x="647" y="51"/>
                  </a:lnTo>
                  <a:lnTo>
                    <a:pt x="647" y="0"/>
                  </a:lnTo>
                  <a:lnTo>
                    <a:pt x="528" y="0"/>
                  </a:lnTo>
                  <a:lnTo>
                    <a:pt x="528" y="51"/>
                  </a:lnTo>
                  <a:close/>
                  <a:moveTo>
                    <a:pt x="352" y="51"/>
                  </a:moveTo>
                  <a:lnTo>
                    <a:pt x="470" y="51"/>
                  </a:lnTo>
                  <a:lnTo>
                    <a:pt x="470" y="0"/>
                  </a:lnTo>
                  <a:lnTo>
                    <a:pt x="352" y="0"/>
                  </a:lnTo>
                  <a:lnTo>
                    <a:pt x="352" y="51"/>
                  </a:lnTo>
                  <a:close/>
                  <a:moveTo>
                    <a:pt x="177" y="51"/>
                  </a:moveTo>
                  <a:lnTo>
                    <a:pt x="293" y="51"/>
                  </a:lnTo>
                  <a:lnTo>
                    <a:pt x="293" y="0"/>
                  </a:lnTo>
                  <a:lnTo>
                    <a:pt x="177" y="0"/>
                  </a:lnTo>
                  <a:lnTo>
                    <a:pt x="177" y="51"/>
                  </a:lnTo>
                  <a:close/>
                  <a:moveTo>
                    <a:pt x="0" y="51"/>
                  </a:moveTo>
                  <a:lnTo>
                    <a:pt x="118" y="51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065560" y="3287880"/>
              <a:ext cx="3780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109480" y="329724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181480" y="3505320"/>
              <a:ext cx="638280" cy="150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213520" y="3562200"/>
              <a:ext cx="31680" cy="39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452920" y="3562200"/>
              <a:ext cx="3333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81480" y="3524400"/>
              <a:ext cx="638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468760" y="3571920"/>
              <a:ext cx="303480" cy="20520"/>
            </a:xfrm>
            <a:custGeom>
              <a:avLst/>
              <a:gdLst/>
              <a:ahLst/>
              <a:rect l="l" t="t" r="r" b="b"/>
              <a:pathLst>
                <a:path w="382" h="25">
                  <a:moveTo>
                    <a:pt x="80" y="25"/>
                  </a:moveTo>
                  <a:lnTo>
                    <a:pt x="101" y="25"/>
                  </a:lnTo>
                  <a:lnTo>
                    <a:pt x="101" y="0"/>
                  </a:lnTo>
                  <a:lnTo>
                    <a:pt x="80" y="0"/>
                  </a:lnTo>
                  <a:lnTo>
                    <a:pt x="80" y="25"/>
                  </a:lnTo>
                  <a:close/>
                  <a:moveTo>
                    <a:pt x="41" y="25"/>
                  </a:moveTo>
                  <a:lnTo>
                    <a:pt x="60" y="25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41" y="25"/>
                  </a:lnTo>
                  <a:close/>
                  <a:moveTo>
                    <a:pt x="0" y="25"/>
                  </a:moveTo>
                  <a:lnTo>
                    <a:pt x="20" y="2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5"/>
                  </a:lnTo>
                  <a:close/>
                  <a:moveTo>
                    <a:pt x="142" y="25"/>
                  </a:moveTo>
                  <a:lnTo>
                    <a:pt x="161" y="25"/>
                  </a:lnTo>
                  <a:lnTo>
                    <a:pt x="161" y="0"/>
                  </a:lnTo>
                  <a:lnTo>
                    <a:pt x="142" y="0"/>
                  </a:lnTo>
                  <a:lnTo>
                    <a:pt x="142" y="25"/>
                  </a:lnTo>
                  <a:close/>
                  <a:moveTo>
                    <a:pt x="202" y="25"/>
                  </a:moveTo>
                  <a:lnTo>
                    <a:pt x="221" y="25"/>
                  </a:lnTo>
                  <a:lnTo>
                    <a:pt x="221" y="0"/>
                  </a:lnTo>
                  <a:lnTo>
                    <a:pt x="202" y="0"/>
                  </a:lnTo>
                  <a:lnTo>
                    <a:pt x="202" y="25"/>
                  </a:lnTo>
                  <a:close/>
                  <a:moveTo>
                    <a:pt x="241" y="25"/>
                  </a:moveTo>
                  <a:lnTo>
                    <a:pt x="262" y="25"/>
                  </a:lnTo>
                  <a:lnTo>
                    <a:pt x="262" y="0"/>
                  </a:lnTo>
                  <a:lnTo>
                    <a:pt x="241" y="0"/>
                  </a:lnTo>
                  <a:lnTo>
                    <a:pt x="241" y="25"/>
                  </a:lnTo>
                  <a:close/>
                  <a:moveTo>
                    <a:pt x="281" y="25"/>
                  </a:moveTo>
                  <a:lnTo>
                    <a:pt x="303" y="25"/>
                  </a:lnTo>
                  <a:lnTo>
                    <a:pt x="303" y="0"/>
                  </a:lnTo>
                  <a:lnTo>
                    <a:pt x="281" y="0"/>
                  </a:lnTo>
                  <a:lnTo>
                    <a:pt x="281" y="25"/>
                  </a:lnTo>
                  <a:close/>
                  <a:moveTo>
                    <a:pt x="322" y="25"/>
                  </a:moveTo>
                  <a:lnTo>
                    <a:pt x="341" y="25"/>
                  </a:lnTo>
                  <a:lnTo>
                    <a:pt x="341" y="0"/>
                  </a:lnTo>
                  <a:lnTo>
                    <a:pt x="322" y="0"/>
                  </a:lnTo>
                  <a:lnTo>
                    <a:pt x="322" y="25"/>
                  </a:lnTo>
                  <a:close/>
                  <a:moveTo>
                    <a:pt x="363" y="25"/>
                  </a:moveTo>
                  <a:lnTo>
                    <a:pt x="382" y="25"/>
                  </a:lnTo>
                  <a:lnTo>
                    <a:pt x="382" y="0"/>
                  </a:lnTo>
                  <a:lnTo>
                    <a:pt x="363" y="0"/>
                  </a:lnTo>
                  <a:lnTo>
                    <a:pt x="36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065560" y="3693960"/>
              <a:ext cx="297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6600" y="370188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495760" y="3249720"/>
              <a:ext cx="180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884760" y="2028960"/>
              <a:ext cx="1611000" cy="636480"/>
            </a:xfrm>
            <a:custGeom>
              <a:avLst/>
              <a:gdLst/>
              <a:ahLst/>
              <a:rect l="l" t="t" r="r" b="b"/>
              <a:pathLst>
                <a:path w="2031" h="801">
                  <a:moveTo>
                    <a:pt x="0" y="0"/>
                  </a:moveTo>
                  <a:lnTo>
                    <a:pt x="2031" y="0"/>
                  </a:lnTo>
                  <a:lnTo>
                    <a:pt x="2031" y="80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464080" y="2657520"/>
              <a:ext cx="65160" cy="968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1" y="0"/>
                  </a:moveTo>
                  <a:lnTo>
                    <a:pt x="41" y="121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45160" y="1852560"/>
              <a:ext cx="5680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96640" y="186048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862880" y="1973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60080" y="20844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448320" y="2365200"/>
              <a:ext cx="381240" cy="2373480"/>
            </a:xfrm>
            <a:custGeom>
              <a:avLst/>
              <a:gdLst/>
              <a:ahLst/>
              <a:rect l="l" t="t" r="r" b="b"/>
              <a:pathLst>
                <a:path w="479" h="2991">
                  <a:moveTo>
                    <a:pt x="479" y="0"/>
                  </a:moveTo>
                  <a:lnTo>
                    <a:pt x="479" y="2991"/>
                  </a:lnTo>
                  <a:lnTo>
                    <a:pt x="0" y="299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311120" y="1000080"/>
              <a:ext cx="908280" cy="380880"/>
            </a:xfrm>
            <a:custGeom>
              <a:avLst/>
              <a:gdLst/>
              <a:ahLst/>
              <a:rect l="l" t="t" r="r" b="b"/>
              <a:pathLst>
                <a:path w="1143" h="478">
                  <a:moveTo>
                    <a:pt x="0" y="0"/>
                  </a:moveTo>
                  <a:lnTo>
                    <a:pt x="1143" y="0"/>
                  </a:lnTo>
                  <a:lnTo>
                    <a:pt x="1143" y="4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3" name=""/>
          <p:cNvSpPr/>
          <p:nvPr/>
        </p:nvSpPr>
        <p:spPr>
          <a:xfrm>
            <a:off x="1649520" y="2765520"/>
            <a:ext cx="569880" cy="1212840"/>
          </a:xfrm>
          <a:custGeom>
            <a:avLst/>
            <a:gdLst/>
            <a:ahLst/>
            <a:rect l="l" t="t" r="r" b="b"/>
            <a:pathLst>
              <a:path w="717" h="1529">
                <a:moveTo>
                  <a:pt x="717" y="0"/>
                </a:moveTo>
                <a:lnTo>
                  <a:pt x="717" y="1529"/>
                </a:lnTo>
                <a:lnTo>
                  <a:pt x="0" y="15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187720" y="2676600"/>
            <a:ext cx="63360" cy="96840"/>
          </a:xfrm>
          <a:custGeom>
            <a:avLst/>
            <a:gdLst/>
            <a:ahLst/>
            <a:rect l="l" t="t" r="r" b="b"/>
            <a:pathLst>
              <a:path w="81" h="122">
                <a:moveTo>
                  <a:pt x="0" y="122"/>
                </a:moveTo>
                <a:lnTo>
                  <a:pt x="40" y="0"/>
                </a:lnTo>
                <a:lnTo>
                  <a:pt x="81" y="12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562040" y="3946680"/>
            <a:ext cx="96840" cy="6480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22" y="81"/>
                </a:moveTo>
                <a:lnTo>
                  <a:pt x="0" y="41"/>
                </a:lnTo>
                <a:lnTo>
                  <a:pt x="122" y="0"/>
                </a:lnTo>
                <a:lnTo>
                  <a:pt x="122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976480" y="933480"/>
            <a:ext cx="324000" cy="447480"/>
          </a:xfrm>
          <a:custGeom>
            <a:avLst/>
            <a:gdLst/>
            <a:ahLst/>
            <a:rect l="l" t="t" r="r" b="b"/>
            <a:pathLst>
              <a:path w="408" h="563">
                <a:moveTo>
                  <a:pt x="408" y="0"/>
                </a:moveTo>
                <a:lnTo>
                  <a:pt x="408" y="157"/>
                </a:lnTo>
                <a:lnTo>
                  <a:pt x="0" y="157"/>
                </a:lnTo>
                <a:lnTo>
                  <a:pt x="0" y="56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146240" y="4738680"/>
            <a:ext cx="663480" cy="662040"/>
          </a:xfrm>
          <a:custGeom>
            <a:avLst/>
            <a:gdLst/>
            <a:ahLst/>
            <a:rect l="l" t="t" r="r" b="b"/>
            <a:pathLst>
              <a:path w="836" h="833">
                <a:moveTo>
                  <a:pt x="251" y="492"/>
                </a:moveTo>
                <a:lnTo>
                  <a:pt x="585" y="492"/>
                </a:lnTo>
                <a:lnTo>
                  <a:pt x="585" y="455"/>
                </a:lnTo>
                <a:lnTo>
                  <a:pt x="251" y="455"/>
                </a:lnTo>
                <a:lnTo>
                  <a:pt x="251" y="492"/>
                </a:lnTo>
                <a:close/>
                <a:moveTo>
                  <a:pt x="85" y="455"/>
                </a:moveTo>
                <a:lnTo>
                  <a:pt x="751" y="455"/>
                </a:lnTo>
                <a:lnTo>
                  <a:pt x="751" y="0"/>
                </a:lnTo>
                <a:lnTo>
                  <a:pt x="85" y="0"/>
                </a:lnTo>
                <a:lnTo>
                  <a:pt x="85" y="455"/>
                </a:lnTo>
                <a:close/>
                <a:moveTo>
                  <a:pt x="168" y="607"/>
                </a:moveTo>
                <a:lnTo>
                  <a:pt x="668" y="607"/>
                </a:lnTo>
                <a:lnTo>
                  <a:pt x="668" y="492"/>
                </a:lnTo>
                <a:lnTo>
                  <a:pt x="168" y="492"/>
                </a:lnTo>
                <a:lnTo>
                  <a:pt x="168" y="607"/>
                </a:lnTo>
                <a:close/>
                <a:moveTo>
                  <a:pt x="628" y="607"/>
                </a:moveTo>
                <a:lnTo>
                  <a:pt x="244" y="607"/>
                </a:lnTo>
                <a:lnTo>
                  <a:pt x="0" y="607"/>
                </a:lnTo>
                <a:lnTo>
                  <a:pt x="0" y="833"/>
                </a:lnTo>
                <a:lnTo>
                  <a:pt x="836" y="833"/>
                </a:lnTo>
                <a:lnTo>
                  <a:pt x="836" y="607"/>
                </a:lnTo>
                <a:lnTo>
                  <a:pt x="628" y="607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362240" y="5265720"/>
            <a:ext cx="99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1163520" y="5237280"/>
            <a:ext cx="50760" cy="2844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4" y="9"/>
                </a:lnTo>
                <a:lnTo>
                  <a:pt x="13" y="4"/>
                </a:lnTo>
                <a:lnTo>
                  <a:pt x="25" y="0"/>
                </a:lnTo>
                <a:lnTo>
                  <a:pt x="39" y="0"/>
                </a:lnTo>
                <a:lnTo>
                  <a:pt x="52" y="4"/>
                </a:lnTo>
                <a:lnTo>
                  <a:pt x="61" y="9"/>
                </a:lnTo>
                <a:lnTo>
                  <a:pt x="64" y="18"/>
                </a:lnTo>
                <a:lnTo>
                  <a:pt x="61" y="27"/>
                </a:lnTo>
                <a:lnTo>
                  <a:pt x="52" y="32"/>
                </a:lnTo>
                <a:lnTo>
                  <a:pt x="39" y="37"/>
                </a:lnTo>
                <a:lnTo>
                  <a:pt x="25" y="37"/>
                </a:lnTo>
                <a:lnTo>
                  <a:pt x="13" y="32"/>
                </a:lnTo>
                <a:lnTo>
                  <a:pt x="4" y="27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279440" y="4799160"/>
            <a:ext cx="397080" cy="2412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163520" y="5356080"/>
            <a:ext cx="628920" cy="3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727280" y="5235480"/>
            <a:ext cx="31680" cy="4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146240" y="529596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146240" y="532620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34604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47780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 flipV="1">
            <a:off x="1544760" y="522108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676520" y="522144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219320" y="5440320"/>
            <a:ext cx="51732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268280" y="5448240"/>
            <a:ext cx="46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809720" y="4738680"/>
            <a:ext cx="514440" cy="552600"/>
          </a:xfrm>
          <a:custGeom>
            <a:avLst/>
            <a:gdLst/>
            <a:ahLst/>
            <a:rect l="l" t="t" r="r" b="b"/>
            <a:pathLst>
              <a:path w="647" h="695">
                <a:moveTo>
                  <a:pt x="647" y="0"/>
                </a:moveTo>
                <a:lnTo>
                  <a:pt x="492" y="0"/>
                </a:lnTo>
                <a:lnTo>
                  <a:pt x="492" y="695"/>
                </a:lnTo>
                <a:lnTo>
                  <a:pt x="0" y="6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2219400" y="1380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2274840" y="1474920"/>
            <a:ext cx="3348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2328840" y="15685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2384280" y="16621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438280" y="1755720"/>
            <a:ext cx="349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2494080" y="18493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549520" y="19447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603520" y="20383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658960" y="2131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714760" y="2225520"/>
            <a:ext cx="3312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770200" y="2320920"/>
            <a:ext cx="3348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824200" y="2416320"/>
            <a:ext cx="3492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879640" y="2509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935440" y="2604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976480" y="138096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065400" y="1442880"/>
            <a:ext cx="54000" cy="3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154320" y="150660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41800" y="1571760"/>
            <a:ext cx="55440" cy="3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330720" y="1633680"/>
            <a:ext cx="540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3419640" y="1697040"/>
            <a:ext cx="536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508200" y="176040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597120" y="1824120"/>
            <a:ext cx="540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686040" y="188748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3774960" y="1951200"/>
            <a:ext cx="558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863880" y="2014560"/>
            <a:ext cx="208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4129200" y="391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129200" y="423864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29200" y="439092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129200" y="454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129200" y="487044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129200" y="502128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129200" y="517212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129200" y="550080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4129200" y="5651640"/>
            <a:ext cx="144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129200" y="1595520"/>
            <a:ext cx="496800" cy="396720"/>
          </a:xfrm>
          <a:custGeom>
            <a:avLst/>
            <a:gdLst/>
            <a:ahLst/>
            <a:rect l="l" t="t" r="r" b="b"/>
            <a:pathLst>
              <a:path w="627" h="499">
                <a:moveTo>
                  <a:pt x="0" y="250"/>
                </a:moveTo>
                <a:lnTo>
                  <a:pt x="3" y="212"/>
                </a:lnTo>
                <a:lnTo>
                  <a:pt x="14" y="176"/>
                </a:lnTo>
                <a:lnTo>
                  <a:pt x="31" y="141"/>
                </a:lnTo>
                <a:lnTo>
                  <a:pt x="54" y="109"/>
                </a:lnTo>
                <a:lnTo>
                  <a:pt x="84" y="79"/>
                </a:lnTo>
                <a:lnTo>
                  <a:pt x="118" y="55"/>
                </a:lnTo>
                <a:lnTo>
                  <a:pt x="157" y="33"/>
                </a:lnTo>
                <a:lnTo>
                  <a:pt x="199" y="17"/>
                </a:lnTo>
                <a:lnTo>
                  <a:pt x="243" y="5"/>
                </a:lnTo>
                <a:lnTo>
                  <a:pt x="289" y="0"/>
                </a:lnTo>
                <a:lnTo>
                  <a:pt x="337" y="0"/>
                </a:lnTo>
                <a:lnTo>
                  <a:pt x="383" y="5"/>
                </a:lnTo>
                <a:lnTo>
                  <a:pt x="427" y="17"/>
                </a:lnTo>
                <a:lnTo>
                  <a:pt x="470" y="33"/>
                </a:lnTo>
                <a:lnTo>
                  <a:pt x="509" y="55"/>
                </a:lnTo>
                <a:lnTo>
                  <a:pt x="542" y="79"/>
                </a:lnTo>
                <a:lnTo>
                  <a:pt x="572" y="109"/>
                </a:lnTo>
                <a:lnTo>
                  <a:pt x="595" y="141"/>
                </a:lnTo>
                <a:lnTo>
                  <a:pt x="613" y="176"/>
                </a:lnTo>
                <a:lnTo>
                  <a:pt x="623" y="212"/>
                </a:lnTo>
                <a:lnTo>
                  <a:pt x="627" y="250"/>
                </a:lnTo>
                <a:lnTo>
                  <a:pt x="623" y="288"/>
                </a:lnTo>
                <a:lnTo>
                  <a:pt x="613" y="323"/>
                </a:lnTo>
                <a:lnTo>
                  <a:pt x="595" y="358"/>
                </a:lnTo>
                <a:lnTo>
                  <a:pt x="572" y="390"/>
                </a:lnTo>
                <a:lnTo>
                  <a:pt x="542" y="420"/>
                </a:lnTo>
                <a:lnTo>
                  <a:pt x="509" y="445"/>
                </a:lnTo>
                <a:lnTo>
                  <a:pt x="470" y="466"/>
                </a:lnTo>
                <a:lnTo>
                  <a:pt x="427" y="483"/>
                </a:lnTo>
                <a:lnTo>
                  <a:pt x="383" y="494"/>
                </a:lnTo>
                <a:lnTo>
                  <a:pt x="337" y="499"/>
                </a:lnTo>
                <a:lnTo>
                  <a:pt x="289" y="499"/>
                </a:lnTo>
                <a:lnTo>
                  <a:pt x="243" y="494"/>
                </a:lnTo>
                <a:lnTo>
                  <a:pt x="199" y="483"/>
                </a:lnTo>
                <a:lnTo>
                  <a:pt x="157" y="466"/>
                </a:lnTo>
                <a:lnTo>
                  <a:pt x="118" y="445"/>
                </a:lnTo>
                <a:lnTo>
                  <a:pt x="84" y="420"/>
                </a:lnTo>
                <a:lnTo>
                  <a:pt x="54" y="390"/>
                </a:lnTo>
                <a:lnTo>
                  <a:pt x="31" y="358"/>
                </a:lnTo>
                <a:lnTo>
                  <a:pt x="14" y="323"/>
                </a:lnTo>
                <a:lnTo>
                  <a:pt x="3" y="288"/>
                </a:lnTo>
                <a:lnTo>
                  <a:pt x="0" y="250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357440" y="1693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3052800" y="2836800"/>
            <a:ext cx="496800" cy="496800"/>
          </a:xfrm>
          <a:custGeom>
            <a:avLst/>
            <a:gdLst/>
            <a:ahLst/>
            <a:rect l="l" t="t" r="r" b="b"/>
            <a:pathLst>
              <a:path w="626" h="625">
                <a:moveTo>
                  <a:pt x="0" y="313"/>
                </a:moveTo>
                <a:lnTo>
                  <a:pt x="4" y="265"/>
                </a:lnTo>
                <a:lnTo>
                  <a:pt x="12" y="221"/>
                </a:lnTo>
                <a:lnTo>
                  <a:pt x="30" y="177"/>
                </a:lnTo>
                <a:lnTo>
                  <a:pt x="53" y="136"/>
                </a:lnTo>
                <a:lnTo>
                  <a:pt x="83" y="99"/>
                </a:lnTo>
                <a:lnTo>
                  <a:pt x="117" y="67"/>
                </a:lnTo>
                <a:lnTo>
                  <a:pt x="156" y="41"/>
                </a:lnTo>
                <a:lnTo>
                  <a:pt x="198" y="22"/>
                </a:lnTo>
                <a:lnTo>
                  <a:pt x="242" y="7"/>
                </a:lnTo>
                <a:lnTo>
                  <a:pt x="288" y="0"/>
                </a:lnTo>
                <a:lnTo>
                  <a:pt x="336" y="0"/>
                </a:lnTo>
                <a:lnTo>
                  <a:pt x="382" y="7"/>
                </a:lnTo>
                <a:lnTo>
                  <a:pt x="426" y="22"/>
                </a:lnTo>
                <a:lnTo>
                  <a:pt x="468" y="41"/>
                </a:lnTo>
                <a:lnTo>
                  <a:pt x="507" y="67"/>
                </a:lnTo>
                <a:lnTo>
                  <a:pt x="543" y="99"/>
                </a:lnTo>
                <a:lnTo>
                  <a:pt x="571" y="136"/>
                </a:lnTo>
                <a:lnTo>
                  <a:pt x="594" y="177"/>
                </a:lnTo>
                <a:lnTo>
                  <a:pt x="612" y="221"/>
                </a:lnTo>
                <a:lnTo>
                  <a:pt x="622" y="265"/>
                </a:lnTo>
                <a:lnTo>
                  <a:pt x="626" y="313"/>
                </a:lnTo>
                <a:lnTo>
                  <a:pt x="622" y="359"/>
                </a:lnTo>
                <a:lnTo>
                  <a:pt x="612" y="405"/>
                </a:lnTo>
                <a:lnTo>
                  <a:pt x="594" y="449"/>
                </a:lnTo>
                <a:lnTo>
                  <a:pt x="571" y="489"/>
                </a:lnTo>
                <a:lnTo>
                  <a:pt x="543" y="525"/>
                </a:lnTo>
                <a:lnTo>
                  <a:pt x="507" y="556"/>
                </a:lnTo>
                <a:lnTo>
                  <a:pt x="468" y="583"/>
                </a:lnTo>
                <a:lnTo>
                  <a:pt x="426" y="604"/>
                </a:lnTo>
                <a:lnTo>
                  <a:pt x="382" y="618"/>
                </a:lnTo>
                <a:lnTo>
                  <a:pt x="336" y="625"/>
                </a:lnTo>
                <a:lnTo>
                  <a:pt x="288" y="625"/>
                </a:lnTo>
                <a:lnTo>
                  <a:pt x="242" y="618"/>
                </a:lnTo>
                <a:lnTo>
                  <a:pt x="198" y="604"/>
                </a:lnTo>
                <a:lnTo>
                  <a:pt x="156" y="583"/>
                </a:lnTo>
                <a:lnTo>
                  <a:pt x="117" y="556"/>
                </a:lnTo>
                <a:lnTo>
                  <a:pt x="83" y="525"/>
                </a:lnTo>
                <a:lnTo>
                  <a:pt x="53" y="489"/>
                </a:lnTo>
                <a:lnTo>
                  <a:pt x="30" y="449"/>
                </a:lnTo>
                <a:lnTo>
                  <a:pt x="12" y="405"/>
                </a:lnTo>
                <a:lnTo>
                  <a:pt x="4" y="359"/>
                </a:lnTo>
                <a:lnTo>
                  <a:pt x="0" y="313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281040" y="2982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644480" y="2919240"/>
            <a:ext cx="497160" cy="497160"/>
          </a:xfrm>
          <a:custGeom>
            <a:avLst/>
            <a:gdLst/>
            <a:ahLst/>
            <a:rect l="l" t="t" r="r" b="b"/>
            <a:pathLst>
              <a:path w="625" h="624">
                <a:moveTo>
                  <a:pt x="0" y="312"/>
                </a:moveTo>
                <a:lnTo>
                  <a:pt x="3" y="266"/>
                </a:lnTo>
                <a:lnTo>
                  <a:pt x="12" y="220"/>
                </a:lnTo>
                <a:lnTo>
                  <a:pt x="30" y="176"/>
                </a:lnTo>
                <a:lnTo>
                  <a:pt x="53" y="135"/>
                </a:lnTo>
                <a:lnTo>
                  <a:pt x="83" y="98"/>
                </a:lnTo>
                <a:lnTo>
                  <a:pt x="116" y="67"/>
                </a:lnTo>
                <a:lnTo>
                  <a:pt x="155" y="40"/>
                </a:lnTo>
                <a:lnTo>
                  <a:pt x="198" y="21"/>
                </a:lnTo>
                <a:lnTo>
                  <a:pt x="242" y="7"/>
                </a:lnTo>
                <a:lnTo>
                  <a:pt x="289" y="0"/>
                </a:lnTo>
                <a:lnTo>
                  <a:pt x="335" y="0"/>
                </a:lnTo>
                <a:lnTo>
                  <a:pt x="381" y="7"/>
                </a:lnTo>
                <a:lnTo>
                  <a:pt x="427" y="21"/>
                </a:lnTo>
                <a:lnTo>
                  <a:pt x="468" y="40"/>
                </a:lnTo>
                <a:lnTo>
                  <a:pt x="507" y="67"/>
                </a:lnTo>
                <a:lnTo>
                  <a:pt x="542" y="98"/>
                </a:lnTo>
                <a:lnTo>
                  <a:pt x="570" y="135"/>
                </a:lnTo>
                <a:lnTo>
                  <a:pt x="593" y="176"/>
                </a:lnTo>
                <a:lnTo>
                  <a:pt x="611" y="220"/>
                </a:lnTo>
                <a:lnTo>
                  <a:pt x="622" y="266"/>
                </a:lnTo>
                <a:lnTo>
                  <a:pt x="625" y="312"/>
                </a:lnTo>
                <a:lnTo>
                  <a:pt x="622" y="358"/>
                </a:lnTo>
                <a:lnTo>
                  <a:pt x="611" y="404"/>
                </a:lnTo>
                <a:lnTo>
                  <a:pt x="593" y="448"/>
                </a:lnTo>
                <a:lnTo>
                  <a:pt x="570" y="488"/>
                </a:lnTo>
                <a:lnTo>
                  <a:pt x="542" y="524"/>
                </a:lnTo>
                <a:lnTo>
                  <a:pt x="507" y="555"/>
                </a:lnTo>
                <a:lnTo>
                  <a:pt x="468" y="582"/>
                </a:lnTo>
                <a:lnTo>
                  <a:pt x="427" y="603"/>
                </a:lnTo>
                <a:lnTo>
                  <a:pt x="381" y="617"/>
                </a:lnTo>
                <a:lnTo>
                  <a:pt x="335" y="624"/>
                </a:lnTo>
                <a:lnTo>
                  <a:pt x="289" y="624"/>
                </a:lnTo>
                <a:lnTo>
                  <a:pt x="242" y="617"/>
                </a:lnTo>
                <a:lnTo>
                  <a:pt x="198" y="603"/>
                </a:lnTo>
                <a:lnTo>
                  <a:pt x="155" y="582"/>
                </a:lnTo>
                <a:lnTo>
                  <a:pt x="116" y="555"/>
                </a:lnTo>
                <a:lnTo>
                  <a:pt x="83" y="524"/>
                </a:lnTo>
                <a:lnTo>
                  <a:pt x="53" y="488"/>
                </a:lnTo>
                <a:lnTo>
                  <a:pt x="30" y="448"/>
                </a:lnTo>
                <a:lnTo>
                  <a:pt x="12" y="404"/>
                </a:lnTo>
                <a:lnTo>
                  <a:pt x="3" y="358"/>
                </a:ln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872720" y="3065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963960" y="603360"/>
            <a:ext cx="165240" cy="198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976560" y="615960"/>
            <a:ext cx="47880" cy="173160"/>
          </a:xfrm>
          <a:custGeom>
            <a:avLst/>
            <a:gdLst/>
            <a:ahLst/>
            <a:rect l="l" t="t" r="r" b="b"/>
            <a:pathLst>
              <a:path w="60" h="218">
                <a:moveTo>
                  <a:pt x="0" y="47"/>
                </a:moveTo>
                <a:lnTo>
                  <a:pt x="0" y="8"/>
                </a:lnTo>
                <a:lnTo>
                  <a:pt x="9" y="0"/>
                </a:lnTo>
                <a:lnTo>
                  <a:pt x="53" y="0"/>
                </a:lnTo>
                <a:lnTo>
                  <a:pt x="60" y="8"/>
                </a:lnTo>
                <a:lnTo>
                  <a:pt x="60" y="47"/>
                </a:lnTo>
                <a:lnTo>
                  <a:pt x="53" y="63"/>
                </a:lnTo>
                <a:lnTo>
                  <a:pt x="53" y="157"/>
                </a:lnTo>
                <a:lnTo>
                  <a:pt x="60" y="172"/>
                </a:lnTo>
                <a:lnTo>
                  <a:pt x="60" y="211"/>
                </a:lnTo>
                <a:lnTo>
                  <a:pt x="53" y="218"/>
                </a:lnTo>
                <a:lnTo>
                  <a:pt x="9" y="218"/>
                </a:lnTo>
                <a:lnTo>
                  <a:pt x="0" y="211"/>
                </a:lnTo>
                <a:lnTo>
                  <a:pt x="0" y="172"/>
                </a:lnTo>
                <a:lnTo>
                  <a:pt x="9" y="157"/>
                </a:lnTo>
                <a:lnTo>
                  <a:pt x="9" y="63"/>
                </a:lnTo>
                <a:lnTo>
                  <a:pt x="0" y="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4038480" y="615960"/>
            <a:ext cx="76320" cy="173160"/>
          </a:xfrm>
          <a:custGeom>
            <a:avLst/>
            <a:gdLst/>
            <a:ahLst/>
            <a:rect l="l" t="t" r="r" b="b"/>
            <a:pathLst>
              <a:path w="96" h="218">
                <a:moveTo>
                  <a:pt x="0" y="79"/>
                </a:moveTo>
                <a:lnTo>
                  <a:pt x="45" y="79"/>
                </a:lnTo>
                <a:lnTo>
                  <a:pt x="45" y="0"/>
                </a:lnTo>
                <a:lnTo>
                  <a:pt x="0" y="0"/>
                </a:lnTo>
                <a:lnTo>
                  <a:pt x="0" y="79"/>
                </a:lnTo>
                <a:close/>
                <a:moveTo>
                  <a:pt x="53" y="79"/>
                </a:moveTo>
                <a:lnTo>
                  <a:pt x="96" y="79"/>
                </a:lnTo>
                <a:lnTo>
                  <a:pt x="96" y="0"/>
                </a:lnTo>
                <a:lnTo>
                  <a:pt x="53" y="0"/>
                </a:lnTo>
                <a:lnTo>
                  <a:pt x="53" y="79"/>
                </a:lnTo>
                <a:close/>
                <a:moveTo>
                  <a:pt x="0" y="218"/>
                </a:moveTo>
                <a:lnTo>
                  <a:pt x="96" y="218"/>
                </a:lnTo>
                <a:lnTo>
                  <a:pt x="96" y="141"/>
                </a:lnTo>
                <a:lnTo>
                  <a:pt x="0" y="141"/>
                </a:lnTo>
                <a:lnTo>
                  <a:pt x="0" y="21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4038480" y="7142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038480" y="70956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038480" y="7016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038480" y="69696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4038480" y="69048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081320" y="63036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081320" y="66204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081320" y="64620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038480" y="63036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038480" y="66204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038480" y="64620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038480" y="7732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038480" y="7588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4038480" y="74304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089240" y="727200"/>
            <a:ext cx="180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064040" y="727200"/>
            <a:ext cx="144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3817800" y="839880"/>
            <a:ext cx="4590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3865680" y="84780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3549600" y="701640"/>
            <a:ext cx="414360" cy="108000"/>
          </a:xfrm>
          <a:custGeom>
            <a:avLst/>
            <a:gdLst/>
            <a:ahLst/>
            <a:rect l="l" t="t" r="r" b="b"/>
            <a:pathLst>
              <a:path w="521" h="136">
                <a:moveTo>
                  <a:pt x="521" y="0"/>
                </a:moveTo>
                <a:lnTo>
                  <a:pt x="365" y="0"/>
                </a:lnTo>
                <a:lnTo>
                  <a:pt x="365" y="136"/>
                </a:lnTo>
                <a:lnTo>
                  <a:pt x="0" y="1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3886200" y="1828800"/>
            <a:ext cx="1955880" cy="914400"/>
          </a:xfrm>
          <a:custGeom>
            <a:avLst/>
            <a:gdLst/>
            <a:ahLst/>
            <a:rect l="l" t="t" r="r" b="b"/>
            <a:pathLst>
              <a:path w="1232" h="576">
                <a:moveTo>
                  <a:pt x="1056" y="576"/>
                </a:moveTo>
                <a:cubicBezTo>
                  <a:pt x="1144" y="384"/>
                  <a:pt x="1232" y="192"/>
                  <a:pt x="1056" y="96"/>
                </a:cubicBezTo>
                <a:cubicBezTo>
                  <a:pt x="880" y="0"/>
                  <a:pt x="184" y="16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3886200" y="16765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809880" y="175248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2882880" y="990720"/>
            <a:ext cx="2793960" cy="1752480"/>
          </a:xfrm>
          <a:custGeom>
            <a:avLst/>
            <a:gdLst/>
            <a:ahLst/>
            <a:rect l="l" t="t" r="r" b="b"/>
            <a:pathLst>
              <a:path w="1760" h="1104">
                <a:moveTo>
                  <a:pt x="296" y="0"/>
                </a:moveTo>
                <a:cubicBezTo>
                  <a:pt x="148" y="64"/>
                  <a:pt x="0" y="128"/>
                  <a:pt x="56" y="240"/>
                </a:cubicBezTo>
                <a:cubicBezTo>
                  <a:pt x="112" y="352"/>
                  <a:pt x="376" y="600"/>
                  <a:pt x="632" y="672"/>
                </a:cubicBezTo>
                <a:cubicBezTo>
                  <a:pt x="888" y="744"/>
                  <a:pt x="1424" y="600"/>
                  <a:pt x="1592" y="672"/>
                </a:cubicBezTo>
                <a:cubicBezTo>
                  <a:pt x="1760" y="744"/>
                  <a:pt x="1700" y="924"/>
                  <a:pt x="1640" y="110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130-0764-4912-B625-F58380A4632E}" type="slidenum">
              <a:t>7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Analysis of type C4 calls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(computer/telephone-to-telephone termination)</a:t>
            </a:r>
            <a:endParaRPr b="1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 call termin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PH operator will receive the price of an incoming national call, depending on where the latter termin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single transit if the call terminates in the tariff area where the interconnection point is located;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double transit if it terminates outside that area.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ITU can easily calculate the bases of these tariff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is type of call is terminated on the TPH network via a type “C” link, the result will be a fraudulent situation because the price of domestic calls will in all likelihood be largely subsidized wherever there is an access deficit (see COSIT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382-C157-4EC9-9BC0-DD54A1D0A34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ational to na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from an international correspondent to an operator without an international gateway located within the same political borders as the operator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international gateway for which the calculations are m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ational to interna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A call from an operator without an international gateway located within the same political borders as the operator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international gatew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hich the calculations are made, to an international correspo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A6D-5CF4-46AD-8E97-7D438B6B9D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1" name=""/>
          <p:cNvGrpSpPr/>
          <p:nvPr/>
        </p:nvGrpSpPr>
        <p:grpSpPr>
          <a:xfrm>
            <a:off x="816120" y="2422440"/>
            <a:ext cx="5798880" cy="3971880"/>
            <a:chOff x="816120" y="2422440"/>
            <a:chExt cx="5798880" cy="3971880"/>
          </a:xfrm>
        </p:grpSpPr>
        <p:sp>
          <p:nvSpPr>
            <p:cNvPr id="2912" name=""/>
            <p:cNvSpPr/>
            <p:nvPr/>
          </p:nvSpPr>
          <p:spPr>
            <a:xfrm>
              <a:off x="816120" y="2422440"/>
              <a:ext cx="5798880" cy="3971880"/>
            </a:xfrm>
            <a:custGeom>
              <a:avLst/>
              <a:gdLst/>
              <a:ahLst/>
              <a:rect l="l" t="t" r="r" b="b"/>
              <a:pathLst>
                <a:path w="7306" h="5003">
                  <a:moveTo>
                    <a:pt x="0" y="1459"/>
                  </a:moveTo>
                  <a:lnTo>
                    <a:pt x="4592" y="1459"/>
                  </a:lnTo>
                  <a:lnTo>
                    <a:pt x="4592" y="0"/>
                  </a:lnTo>
                  <a:lnTo>
                    <a:pt x="7306" y="0"/>
                  </a:lnTo>
                  <a:lnTo>
                    <a:pt x="7306" y="5003"/>
                  </a:lnTo>
                  <a:lnTo>
                    <a:pt x="0" y="5003"/>
                  </a:lnTo>
                  <a:lnTo>
                    <a:pt x="0" y="1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161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49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827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915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9493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984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0177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1050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084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11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15236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18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219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1252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128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320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3539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138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420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145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1488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15224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155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15890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1623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657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16905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724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7575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792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825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1859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892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9256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960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19940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027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60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09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12868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16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195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228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2636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297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3302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236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397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43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465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4987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32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5653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600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2633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6668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00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27338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768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80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835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86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90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936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9703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003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036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07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310500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13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17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205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2400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273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3066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3340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735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3408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3441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4750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3508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35416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576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610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643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67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7101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745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77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811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84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87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3913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394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3979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013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04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081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11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14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181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216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249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2829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316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3498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384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179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51400" y="3571920"/>
              <a:ext cx="79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4459320" y="3538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V="1">
              <a:off x="4459320" y="3505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4459320" y="347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V="1">
              <a:off x="4459320" y="34380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V="1">
              <a:off x="4459320" y="3405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V="1">
              <a:off x="4459320" y="3370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4459320" y="3336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V="1">
              <a:off x="4459320" y="3303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4459320" y="3270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4459320" y="32364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4459320" y="320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V="1">
              <a:off x="4459320" y="3168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4459320" y="3134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V="1">
              <a:off x="4459320" y="3102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4459320" y="30686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4459320" y="30351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V="1">
              <a:off x="4459320" y="2999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4459320" y="2967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4459320" y="2933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V="1">
              <a:off x="4459320" y="29005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V="1">
              <a:off x="4459320" y="28670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V="1">
              <a:off x="4459320" y="28335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4459320" y="2798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V="1">
              <a:off x="4459320" y="2765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4459320" y="2731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459320" y="26989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V="1">
              <a:off x="4459320" y="26654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V="1">
              <a:off x="4459320" y="2630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4459320" y="2596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4459320" y="2563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4459320" y="2530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V="1">
              <a:off x="4459320" y="24966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V="1">
              <a:off x="4459320" y="24638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V="1">
              <a:off x="4459320" y="2428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4704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503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5370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5705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603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638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672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7052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738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7721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07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840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8736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906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9402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975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008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041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07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10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143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17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210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243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27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311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34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37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411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44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479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5134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54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580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614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648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6815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715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7484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783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816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8500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88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9166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951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9850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018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05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08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119640" y="242244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15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186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219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2546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288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32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2" name=""/>
          <p:cNvGrpSpPr/>
          <p:nvPr/>
        </p:nvGrpSpPr>
        <p:grpSpPr>
          <a:xfrm>
            <a:off x="4133880" y="2422440"/>
            <a:ext cx="2482920" cy="3973680"/>
            <a:chOff x="4133880" y="2422440"/>
            <a:chExt cx="2482920" cy="3973680"/>
          </a:xfrm>
        </p:grpSpPr>
        <p:sp>
          <p:nvSpPr>
            <p:cNvPr id="3113" name=""/>
            <p:cNvSpPr/>
            <p:nvPr/>
          </p:nvSpPr>
          <p:spPr>
            <a:xfrm>
              <a:off x="635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388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423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456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48972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523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563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591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615000" y="2432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615000" y="2465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615000" y="2500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615000" y="2533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615000" y="256716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615000" y="2600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615000" y="2633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615000" y="2666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615000" y="2701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615000" y="2735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615000" y="2768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615000" y="2801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615000" y="2835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615000" y="2868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615000" y="2903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615000" y="2936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615000" y="2970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615000" y="3003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615000" y="3036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615000" y="3071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615000" y="3105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615000" y="3138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615000" y="3171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615000" y="3205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615000" y="3238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615000" y="3273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615000" y="3306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615000" y="3340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615000" y="3373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615000" y="3406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615000" y="3441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615000" y="3475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615000" y="3508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615000" y="3541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615000" y="3575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615000" y="3608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615000" y="3643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615000" y="3676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615000" y="3710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615000" y="3743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615000" y="3776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615000" y="3809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615000" y="3844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615000" y="3878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615000" y="3911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615000" y="3944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615000" y="3978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615000" y="4013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615000" y="4046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6615000" y="4079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615000" y="4113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615000" y="4146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6615000" y="4179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615000" y="4214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615000" y="4248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615000" y="4281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615000" y="4314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615000" y="4348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615000" y="4381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615000" y="4416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615000" y="4449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615000" y="4483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615000" y="4516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615000" y="4549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615000" y="4584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615000" y="4618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615000" y="4651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615000" y="4684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6615000" y="4718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6615000" y="4751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615000" y="4786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615000" y="4819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615000" y="4853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615000" y="4886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615000" y="4919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615000" y="4952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615000" y="4987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615000" y="5021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615000" y="5054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615000" y="5087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615000" y="5121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6615000" y="5156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615000" y="5189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615000" y="5222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615000" y="5256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615000" y="5289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615000" y="5322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615000" y="5357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615000" y="5391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615000" y="5424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615000" y="5457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615000" y="5491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615000" y="5524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615000" y="5559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615000" y="5592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615000" y="5626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615000" y="5659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615000" y="5692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615000" y="5727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615000" y="5761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615000" y="5794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615000" y="5827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6615000" y="5861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615000" y="5894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615000" y="5929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6615000" y="5962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615000" y="5996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615000" y="6029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615000" y="6062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615000" y="6095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615000" y="6130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615000" y="6164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615000" y="6197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615000" y="6230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615000" y="6264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615000" y="6299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6615000" y="6332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615000" y="6365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H="1">
              <a:off x="6590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H="1">
              <a:off x="655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H="1">
              <a:off x="6524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>
              <a:off x="649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H="1">
              <a:off x="645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H="1">
              <a:off x="642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638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H="1">
              <a:off x="635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632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>
              <a:off x="6289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 flipH="1">
              <a:off x="625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H="1">
              <a:off x="622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H="1">
              <a:off x="618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H="1">
              <a:off x="6154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H="1">
              <a:off x="612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H="1">
              <a:off x="608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H="1">
              <a:off x="605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H="1">
              <a:off x="601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>
              <a:off x="598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H="1">
              <a:off x="59526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 flipH="1">
              <a:off x="591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588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H="1">
              <a:off x="585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581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5783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>
              <a:off x="574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>
              <a:off x="5716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568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H="1">
              <a:off x="564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>
              <a:off x="5614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58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 flipH="1">
              <a:off x="5548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 flipH="1">
              <a:off x="551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481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544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 flipH="1">
              <a:off x="5412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538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 flipH="1">
              <a:off x="534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53132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H="1">
              <a:off x="527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>
              <a:off x="524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H="1">
              <a:off x="521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5178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H="1">
              <a:off x="514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H="1">
              <a:off x="511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H="1">
              <a:off x="5076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5043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H="1">
              <a:off x="5010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497628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>
              <a:off x="494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H="1">
              <a:off x="4908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>
              <a:off x="487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H="1">
              <a:off x="4842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>
              <a:off x="48070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H="1">
              <a:off x="4773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47397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4707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4673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>
              <a:off x="4638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H="1">
              <a:off x="4605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H="1">
              <a:off x="457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H="1">
              <a:off x="4538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H="1">
              <a:off x="4505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 flipH="1">
              <a:off x="4470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H="1">
              <a:off x="4436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H="1">
              <a:off x="440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H="1">
              <a:off x="4370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H="1">
              <a:off x="43369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>
              <a:off x="430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H="1">
              <a:off x="4268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H="1">
              <a:off x="423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flipH="1">
              <a:off x="42022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H="1">
              <a:off x="416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>
              <a:off x="413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3" name=""/>
          <p:cNvGrpSpPr/>
          <p:nvPr/>
        </p:nvGrpSpPr>
        <p:grpSpPr>
          <a:xfrm>
            <a:off x="816120" y="1380960"/>
            <a:ext cx="5441760" cy="5015160"/>
            <a:chOff x="816120" y="1380960"/>
            <a:chExt cx="5441760" cy="5015160"/>
          </a:xfrm>
        </p:grpSpPr>
        <p:sp>
          <p:nvSpPr>
            <p:cNvPr id="3314" name=""/>
            <p:cNvSpPr/>
            <p:nvPr/>
          </p:nvSpPr>
          <p:spPr>
            <a:xfrm flipH="1">
              <a:off x="4100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H="1">
              <a:off x="4067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H="1">
              <a:off x="4033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>
              <a:off x="39985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 flipH="1">
              <a:off x="396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H="1">
              <a:off x="3932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 flipH="1">
              <a:off x="389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H="1">
              <a:off x="3865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H="1">
              <a:off x="38307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 flipH="1">
              <a:off x="3796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H="1">
              <a:off x="37634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3730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 flipH="1">
              <a:off x="36972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H="1">
              <a:off x="3661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H="1">
              <a:off x="3629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 flipH="1">
              <a:off x="359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H="1">
              <a:off x="356184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H="1">
              <a:off x="3529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 flipH="1">
              <a:off x="3494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H="1">
              <a:off x="3460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 flipH="1">
              <a:off x="342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H="1">
              <a:off x="3394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H="1">
              <a:off x="3360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H="1">
              <a:off x="332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H="1">
              <a:off x="3292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H="1">
              <a:off x="3258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 flipH="1">
              <a:off x="3225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 flipH="1">
              <a:off x="31910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H="1">
              <a:off x="315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H="1">
              <a:off x="3123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H="1">
              <a:off x="3090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H="1">
              <a:off x="3057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 flipH="1">
              <a:off x="30222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 flipH="1">
              <a:off x="2989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H="1">
              <a:off x="29559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H="1">
              <a:off x="2922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H="1">
              <a:off x="2889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H="1">
              <a:off x="2854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2820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H="1">
              <a:off x="27871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2754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H="1">
              <a:off x="27208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2685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H="1">
              <a:off x="2652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H="1">
              <a:off x="261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H="1">
              <a:off x="25855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H="1">
              <a:off x="255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H="1">
              <a:off x="2517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H="1">
              <a:off x="2484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H="1">
              <a:off x="245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H="1">
              <a:off x="2417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H="1">
              <a:off x="23839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H="1">
              <a:off x="234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2316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H="1">
              <a:off x="228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>
              <a:off x="2249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H="1">
              <a:off x="22147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H="1">
              <a:off x="218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H="1">
              <a:off x="21474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H="1">
              <a:off x="2114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 flipH="1">
              <a:off x="208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H="1">
              <a:off x="2045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 flipH="1">
              <a:off x="201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H="1">
              <a:off x="1979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H="1">
              <a:off x="1946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H="1">
              <a:off x="191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>
              <a:off x="187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>
              <a:off x="184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18108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 flipH="1">
              <a:off x="177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H="1">
              <a:off x="1744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170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H="1">
              <a:off x="167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H="1">
              <a:off x="164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1609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H="1">
              <a:off x="157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H="1">
              <a:off x="154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150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 flipH="1">
              <a:off x="147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H="1">
              <a:off x="144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H="1">
              <a:off x="14061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H="1">
              <a:off x="137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>
              <a:off x="133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H="1">
              <a:off x="130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H="1">
              <a:off x="127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>
              <a:off x="1238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 flipH="1">
              <a:off x="120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117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H="1">
              <a:off x="113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H="1">
              <a:off x="110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>
              <a:off x="106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H="1">
              <a:off x="103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H="1">
              <a:off x="1003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 flipH="1">
              <a:off x="96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 flipH="1">
              <a:off x="93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flipH="1">
              <a:off x="90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H="1">
              <a:off x="86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83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16120" y="6380280"/>
              <a:ext cx="144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 flipV="1">
              <a:off x="816120" y="6346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 flipV="1">
              <a:off x="816120" y="6311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V="1">
              <a:off x="816120" y="6278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V="1">
              <a:off x="816120" y="6245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V="1">
              <a:off x="816120" y="6211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816120" y="6178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V="1">
              <a:off x="816120" y="6143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V="1">
              <a:off x="816120" y="6109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V="1">
              <a:off x="816120" y="6076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816120" y="6043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816120" y="6010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816120" y="5977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V="1">
              <a:off x="816120" y="5942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V="1">
              <a:off x="816120" y="5908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816120" y="5874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V="1">
              <a:off x="816120" y="5842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816120" y="5808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V="1">
              <a:off x="816120" y="5775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 flipV="1">
              <a:off x="816120" y="5740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 flipV="1">
              <a:off x="816120" y="5707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816120" y="5673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 flipV="1">
              <a:off x="816120" y="5640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 flipV="1">
              <a:off x="816120" y="5607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 flipV="1">
              <a:off x="816120" y="5571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 flipV="1">
              <a:off x="816120" y="5538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V="1">
              <a:off x="816120" y="5505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V="1">
              <a:off x="816120" y="5471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816120" y="5438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V="1">
              <a:off x="816120" y="5405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V="1">
              <a:off x="816120" y="5370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V="1">
              <a:off x="816120" y="5336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816120" y="5303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816120" y="5270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816120" y="5237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 flipV="1">
              <a:off x="816120" y="5203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816120" y="5168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816120" y="5135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816120" y="5102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816120" y="5068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 flipV="1">
              <a:off x="816120" y="5035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816120" y="5000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V="1">
              <a:off x="816120" y="4966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816120" y="4933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816120" y="4900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816120" y="4867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V="1">
              <a:off x="816120" y="4834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816120" y="4799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V="1">
              <a:off x="816120" y="4765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V="1">
              <a:off x="816120" y="4731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816120" y="4699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816120" y="4665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V="1">
              <a:off x="816120" y="4632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V="1">
              <a:off x="816120" y="4597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V="1">
              <a:off x="816120" y="4564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V="1">
              <a:off x="816120" y="4530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 flipV="1">
              <a:off x="816120" y="4497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816120" y="4464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816120" y="4428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V="1">
              <a:off x="816120" y="4395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V="1">
              <a:off x="816120" y="4362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816120" y="4328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816120" y="4295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V="1">
              <a:off x="816120" y="4262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V="1">
              <a:off x="816120" y="4227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816120" y="4193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V="1">
              <a:off x="816120" y="4160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816120" y="4127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816120" y="4094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V="1">
              <a:off x="816120" y="4060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V="1">
              <a:off x="816120" y="4025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816120" y="3992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V="1">
              <a:off x="816120" y="3959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V="1">
              <a:off x="816120" y="3925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816120" y="3892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816120" y="3857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V="1">
              <a:off x="816120" y="3823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 flipV="1">
              <a:off x="816120" y="3790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flipV="1">
              <a:off x="816120" y="3757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V="1">
              <a:off x="816120" y="3724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V="1">
              <a:off x="816120" y="3691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816120" y="3656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V="1">
              <a:off x="816120" y="3622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V="1">
              <a:off x="816120" y="3588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930960" y="4233960"/>
              <a:ext cx="4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4465800" y="4622760"/>
              <a:ext cx="1555560" cy="233280"/>
            </a:xfrm>
            <a:custGeom>
              <a:avLst/>
              <a:gdLst/>
              <a:ahLst/>
              <a:rect l="l" t="t" r="r" b="b"/>
              <a:pathLst>
                <a:path w="1960" h="293">
                  <a:moveTo>
                    <a:pt x="72" y="276"/>
                  </a:moveTo>
                  <a:lnTo>
                    <a:pt x="60" y="272"/>
                  </a:lnTo>
                  <a:lnTo>
                    <a:pt x="47" y="262"/>
                  </a:lnTo>
                  <a:lnTo>
                    <a:pt x="37" y="247"/>
                  </a:lnTo>
                  <a:lnTo>
                    <a:pt x="30" y="226"/>
                  </a:lnTo>
                  <a:lnTo>
                    <a:pt x="23" y="202"/>
                  </a:lnTo>
                  <a:lnTo>
                    <a:pt x="19" y="175"/>
                  </a:lnTo>
                  <a:lnTo>
                    <a:pt x="17" y="147"/>
                  </a:lnTo>
                  <a:lnTo>
                    <a:pt x="19" y="119"/>
                  </a:lnTo>
                  <a:lnTo>
                    <a:pt x="23" y="92"/>
                  </a:lnTo>
                  <a:lnTo>
                    <a:pt x="30" y="67"/>
                  </a:lnTo>
                  <a:lnTo>
                    <a:pt x="37" y="46"/>
                  </a:lnTo>
                  <a:lnTo>
                    <a:pt x="47" y="32"/>
                  </a:lnTo>
                  <a:lnTo>
                    <a:pt x="60" y="22"/>
                  </a:lnTo>
                  <a:lnTo>
                    <a:pt x="72" y="18"/>
                  </a:lnTo>
                  <a:lnTo>
                    <a:pt x="85" y="22"/>
                  </a:lnTo>
                  <a:lnTo>
                    <a:pt x="97" y="32"/>
                  </a:lnTo>
                  <a:lnTo>
                    <a:pt x="106" y="46"/>
                  </a:lnTo>
                  <a:lnTo>
                    <a:pt x="115" y="67"/>
                  </a:lnTo>
                  <a:lnTo>
                    <a:pt x="122" y="92"/>
                  </a:lnTo>
                  <a:lnTo>
                    <a:pt x="125" y="119"/>
                  </a:lnTo>
                  <a:lnTo>
                    <a:pt x="127" y="147"/>
                  </a:lnTo>
                  <a:lnTo>
                    <a:pt x="125" y="175"/>
                  </a:lnTo>
                  <a:lnTo>
                    <a:pt x="122" y="202"/>
                  </a:lnTo>
                  <a:lnTo>
                    <a:pt x="115" y="226"/>
                  </a:lnTo>
                  <a:lnTo>
                    <a:pt x="106" y="247"/>
                  </a:lnTo>
                  <a:lnTo>
                    <a:pt x="97" y="262"/>
                  </a:lnTo>
                  <a:lnTo>
                    <a:pt x="85" y="272"/>
                  </a:lnTo>
                  <a:lnTo>
                    <a:pt x="72" y="276"/>
                  </a:lnTo>
                  <a:close/>
                  <a:moveTo>
                    <a:pt x="72" y="0"/>
                  </a:moveTo>
                  <a:lnTo>
                    <a:pt x="1887" y="0"/>
                  </a:lnTo>
                  <a:lnTo>
                    <a:pt x="1903" y="4"/>
                  </a:lnTo>
                  <a:lnTo>
                    <a:pt x="1917" y="13"/>
                  </a:lnTo>
                  <a:lnTo>
                    <a:pt x="1930" y="29"/>
                  </a:lnTo>
                  <a:lnTo>
                    <a:pt x="1942" y="48"/>
                  </a:lnTo>
                  <a:lnTo>
                    <a:pt x="1951" y="73"/>
                  </a:lnTo>
                  <a:lnTo>
                    <a:pt x="1958" y="101"/>
                  </a:lnTo>
                  <a:lnTo>
                    <a:pt x="1960" y="131"/>
                  </a:lnTo>
                  <a:lnTo>
                    <a:pt x="1960" y="163"/>
                  </a:lnTo>
                  <a:lnTo>
                    <a:pt x="1958" y="193"/>
                  </a:lnTo>
                  <a:lnTo>
                    <a:pt x="1951" y="221"/>
                  </a:lnTo>
                  <a:lnTo>
                    <a:pt x="1942" y="246"/>
                  </a:lnTo>
                  <a:lnTo>
                    <a:pt x="1930" y="265"/>
                  </a:lnTo>
                  <a:lnTo>
                    <a:pt x="1917" y="281"/>
                  </a:lnTo>
                  <a:lnTo>
                    <a:pt x="1903" y="290"/>
                  </a:lnTo>
                  <a:lnTo>
                    <a:pt x="1887" y="293"/>
                  </a:lnTo>
                  <a:lnTo>
                    <a:pt x="72" y="293"/>
                  </a:lnTo>
                  <a:lnTo>
                    <a:pt x="56" y="290"/>
                  </a:lnTo>
                  <a:lnTo>
                    <a:pt x="42" y="281"/>
                  </a:lnTo>
                  <a:lnTo>
                    <a:pt x="28" y="265"/>
                  </a:lnTo>
                  <a:lnTo>
                    <a:pt x="17" y="246"/>
                  </a:lnTo>
                  <a:lnTo>
                    <a:pt x="9" y="221"/>
                  </a:lnTo>
                  <a:lnTo>
                    <a:pt x="1" y="193"/>
                  </a:lnTo>
                  <a:lnTo>
                    <a:pt x="0" y="163"/>
                  </a:lnTo>
                  <a:lnTo>
                    <a:pt x="0" y="131"/>
                  </a:lnTo>
                  <a:lnTo>
                    <a:pt x="1" y="101"/>
                  </a:lnTo>
                  <a:lnTo>
                    <a:pt x="9" y="73"/>
                  </a:lnTo>
                  <a:lnTo>
                    <a:pt x="17" y="48"/>
                  </a:lnTo>
                  <a:lnTo>
                    <a:pt x="28" y="29"/>
                  </a:lnTo>
                  <a:lnTo>
                    <a:pt x="42" y="13"/>
                  </a:lnTo>
                  <a:lnTo>
                    <a:pt x="56" y="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3614760" y="4738680"/>
              <a:ext cx="162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862520" y="4738680"/>
              <a:ext cx="379440" cy="777960"/>
            </a:xfrm>
            <a:custGeom>
              <a:avLst/>
              <a:gdLst/>
              <a:ahLst/>
              <a:rect l="l" t="t" r="r" b="b"/>
              <a:pathLst>
                <a:path w="479" h="979">
                  <a:moveTo>
                    <a:pt x="0" y="979"/>
                  </a:moveTo>
                  <a:lnTo>
                    <a:pt x="0" y="0"/>
                  </a:lnTo>
                  <a:lnTo>
                    <a:pt x="47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5241960" y="4738680"/>
              <a:ext cx="182520" cy="777960"/>
            </a:xfrm>
            <a:custGeom>
              <a:avLst/>
              <a:gdLst/>
              <a:ahLst/>
              <a:rect l="l" t="t" r="r" b="b"/>
              <a:pathLst>
                <a:path w="230" h="979">
                  <a:moveTo>
                    <a:pt x="230" y="979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241960" y="4738680"/>
              <a:ext cx="3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5241960" y="3656160"/>
              <a:ext cx="253800" cy="1082520"/>
            </a:xfrm>
            <a:custGeom>
              <a:avLst/>
              <a:gdLst/>
              <a:ahLst/>
              <a:rect l="l" t="t" r="r" b="b"/>
              <a:pathLst>
                <a:path w="320" h="1364">
                  <a:moveTo>
                    <a:pt x="320" y="0"/>
                  </a:moveTo>
                  <a:lnTo>
                    <a:pt x="320" y="1364"/>
                  </a:lnTo>
                  <a:lnTo>
                    <a:pt x="0" y="1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113440" y="4738680"/>
              <a:ext cx="128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241960" y="4738680"/>
              <a:ext cx="1015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635360" y="4675320"/>
              <a:ext cx="1216080" cy="128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705200" y="4683240"/>
              <a:ext cx="1128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P INTERNET BACKB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311120" y="1380960"/>
              <a:ext cx="2573640" cy="1295640"/>
            </a:xfrm>
            <a:custGeom>
              <a:avLst/>
              <a:gdLst/>
              <a:ahLst/>
              <a:rect l="l" t="t" r="r" b="b"/>
              <a:pathLst>
                <a:path w="3241" h="1630">
                  <a:moveTo>
                    <a:pt x="477" y="1210"/>
                  </a:moveTo>
                  <a:lnTo>
                    <a:pt x="514" y="1274"/>
                  </a:lnTo>
                  <a:lnTo>
                    <a:pt x="555" y="1334"/>
                  </a:lnTo>
                  <a:lnTo>
                    <a:pt x="602" y="1389"/>
                  </a:lnTo>
                  <a:lnTo>
                    <a:pt x="654" y="1440"/>
                  </a:lnTo>
                  <a:lnTo>
                    <a:pt x="708" y="1486"/>
                  </a:lnTo>
                  <a:lnTo>
                    <a:pt x="769" y="1525"/>
                  </a:lnTo>
                  <a:lnTo>
                    <a:pt x="830" y="1558"/>
                  </a:lnTo>
                  <a:lnTo>
                    <a:pt x="896" y="1586"/>
                  </a:lnTo>
                  <a:lnTo>
                    <a:pt x="963" y="1608"/>
                  </a:lnTo>
                  <a:lnTo>
                    <a:pt x="1030" y="1622"/>
                  </a:lnTo>
                  <a:lnTo>
                    <a:pt x="1101" y="1630"/>
                  </a:lnTo>
                  <a:lnTo>
                    <a:pt x="1170" y="1630"/>
                  </a:lnTo>
                  <a:lnTo>
                    <a:pt x="1239" y="1625"/>
                  </a:lnTo>
                  <a:lnTo>
                    <a:pt x="1308" y="1613"/>
                  </a:lnTo>
                  <a:lnTo>
                    <a:pt x="1377" y="1593"/>
                  </a:lnTo>
                  <a:lnTo>
                    <a:pt x="1442" y="1567"/>
                  </a:lnTo>
                  <a:lnTo>
                    <a:pt x="1504" y="1535"/>
                  </a:lnTo>
                  <a:lnTo>
                    <a:pt x="1564" y="1496"/>
                  </a:lnTo>
                  <a:lnTo>
                    <a:pt x="1620" y="1452"/>
                  </a:lnTo>
                  <a:lnTo>
                    <a:pt x="1677" y="1496"/>
                  </a:lnTo>
                  <a:lnTo>
                    <a:pt x="1737" y="1535"/>
                  </a:lnTo>
                  <a:lnTo>
                    <a:pt x="1801" y="1567"/>
                  </a:lnTo>
                  <a:lnTo>
                    <a:pt x="1866" y="1593"/>
                  </a:lnTo>
                  <a:lnTo>
                    <a:pt x="1933" y="1613"/>
                  </a:lnTo>
                  <a:lnTo>
                    <a:pt x="2002" y="1625"/>
                  </a:lnTo>
                  <a:lnTo>
                    <a:pt x="2071" y="1630"/>
                  </a:lnTo>
                  <a:lnTo>
                    <a:pt x="2142" y="1630"/>
                  </a:lnTo>
                  <a:lnTo>
                    <a:pt x="2211" y="1622"/>
                  </a:lnTo>
                  <a:lnTo>
                    <a:pt x="2280" y="1608"/>
                  </a:lnTo>
                  <a:lnTo>
                    <a:pt x="2345" y="1586"/>
                  </a:lnTo>
                  <a:lnTo>
                    <a:pt x="2410" y="1558"/>
                  </a:lnTo>
                  <a:lnTo>
                    <a:pt x="2472" y="1525"/>
                  </a:lnTo>
                  <a:lnTo>
                    <a:pt x="2532" y="1486"/>
                  </a:lnTo>
                  <a:lnTo>
                    <a:pt x="2587" y="1440"/>
                  </a:lnTo>
                  <a:lnTo>
                    <a:pt x="2638" y="1389"/>
                  </a:lnTo>
                  <a:lnTo>
                    <a:pt x="2686" y="1334"/>
                  </a:lnTo>
                  <a:lnTo>
                    <a:pt x="2727" y="1274"/>
                  </a:lnTo>
                  <a:lnTo>
                    <a:pt x="2764" y="1210"/>
                  </a:lnTo>
                  <a:lnTo>
                    <a:pt x="2813" y="1219"/>
                  </a:lnTo>
                  <a:lnTo>
                    <a:pt x="2863" y="1223"/>
                  </a:lnTo>
                  <a:lnTo>
                    <a:pt x="2912" y="1219"/>
                  </a:lnTo>
                  <a:lnTo>
                    <a:pt x="2960" y="1209"/>
                  </a:lnTo>
                  <a:lnTo>
                    <a:pt x="3008" y="1191"/>
                  </a:lnTo>
                  <a:lnTo>
                    <a:pt x="3052" y="1168"/>
                  </a:lnTo>
                  <a:lnTo>
                    <a:pt x="3093" y="1138"/>
                  </a:lnTo>
                  <a:lnTo>
                    <a:pt x="3130" y="1103"/>
                  </a:lnTo>
                  <a:lnTo>
                    <a:pt x="3163" y="1062"/>
                  </a:lnTo>
                  <a:lnTo>
                    <a:pt x="3190" y="1018"/>
                  </a:lnTo>
                  <a:lnTo>
                    <a:pt x="3211" y="970"/>
                  </a:lnTo>
                  <a:lnTo>
                    <a:pt x="3227" y="919"/>
                  </a:lnTo>
                  <a:lnTo>
                    <a:pt x="3238" y="868"/>
                  </a:lnTo>
                  <a:lnTo>
                    <a:pt x="3241" y="815"/>
                  </a:lnTo>
                  <a:lnTo>
                    <a:pt x="3238" y="762"/>
                  </a:lnTo>
                  <a:lnTo>
                    <a:pt x="3227" y="709"/>
                  </a:lnTo>
                  <a:lnTo>
                    <a:pt x="3211" y="660"/>
                  </a:lnTo>
                  <a:lnTo>
                    <a:pt x="3190" y="612"/>
                  </a:lnTo>
                  <a:lnTo>
                    <a:pt x="3163" y="568"/>
                  </a:lnTo>
                  <a:lnTo>
                    <a:pt x="3130" y="528"/>
                  </a:lnTo>
                  <a:lnTo>
                    <a:pt x="3093" y="492"/>
                  </a:lnTo>
                  <a:lnTo>
                    <a:pt x="3052" y="462"/>
                  </a:lnTo>
                  <a:lnTo>
                    <a:pt x="3008" y="439"/>
                  </a:lnTo>
                  <a:lnTo>
                    <a:pt x="2960" y="422"/>
                  </a:lnTo>
                  <a:lnTo>
                    <a:pt x="2912" y="411"/>
                  </a:lnTo>
                  <a:lnTo>
                    <a:pt x="2863" y="407"/>
                  </a:lnTo>
                  <a:lnTo>
                    <a:pt x="2813" y="409"/>
                  </a:lnTo>
                  <a:lnTo>
                    <a:pt x="2764" y="420"/>
                  </a:lnTo>
                  <a:lnTo>
                    <a:pt x="2727" y="356"/>
                  </a:lnTo>
                  <a:lnTo>
                    <a:pt x="2686" y="296"/>
                  </a:lnTo>
                  <a:lnTo>
                    <a:pt x="2638" y="242"/>
                  </a:lnTo>
                  <a:lnTo>
                    <a:pt x="2587" y="190"/>
                  </a:lnTo>
                  <a:lnTo>
                    <a:pt x="2532" y="145"/>
                  </a:lnTo>
                  <a:lnTo>
                    <a:pt x="2472" y="106"/>
                  </a:lnTo>
                  <a:lnTo>
                    <a:pt x="2410" y="70"/>
                  </a:lnTo>
                  <a:lnTo>
                    <a:pt x="2345" y="44"/>
                  </a:lnTo>
                  <a:lnTo>
                    <a:pt x="2280" y="23"/>
                  </a:lnTo>
                  <a:lnTo>
                    <a:pt x="2211" y="7"/>
                  </a:lnTo>
                  <a:lnTo>
                    <a:pt x="2142" y="0"/>
                  </a:lnTo>
                  <a:lnTo>
                    <a:pt x="2071" y="0"/>
                  </a:lnTo>
                  <a:lnTo>
                    <a:pt x="2002" y="5"/>
                  </a:lnTo>
                  <a:lnTo>
                    <a:pt x="1933" y="17"/>
                  </a:lnTo>
                  <a:lnTo>
                    <a:pt x="1866" y="37"/>
                  </a:lnTo>
                  <a:lnTo>
                    <a:pt x="1801" y="63"/>
                  </a:lnTo>
                  <a:lnTo>
                    <a:pt x="1737" y="95"/>
                  </a:lnTo>
                  <a:lnTo>
                    <a:pt x="1677" y="134"/>
                  </a:lnTo>
                  <a:lnTo>
                    <a:pt x="1620" y="178"/>
                  </a:lnTo>
                  <a:lnTo>
                    <a:pt x="1564" y="134"/>
                  </a:lnTo>
                  <a:lnTo>
                    <a:pt x="1504" y="95"/>
                  </a:lnTo>
                  <a:lnTo>
                    <a:pt x="1442" y="63"/>
                  </a:lnTo>
                  <a:lnTo>
                    <a:pt x="1377" y="37"/>
                  </a:lnTo>
                  <a:lnTo>
                    <a:pt x="1308" y="17"/>
                  </a:lnTo>
                  <a:lnTo>
                    <a:pt x="1239" y="5"/>
                  </a:lnTo>
                  <a:lnTo>
                    <a:pt x="1170" y="0"/>
                  </a:lnTo>
                  <a:lnTo>
                    <a:pt x="1101" y="0"/>
                  </a:lnTo>
                  <a:lnTo>
                    <a:pt x="1030" y="7"/>
                  </a:lnTo>
                  <a:lnTo>
                    <a:pt x="963" y="23"/>
                  </a:lnTo>
                  <a:lnTo>
                    <a:pt x="896" y="44"/>
                  </a:lnTo>
                  <a:lnTo>
                    <a:pt x="830" y="70"/>
                  </a:lnTo>
                  <a:lnTo>
                    <a:pt x="769" y="106"/>
                  </a:lnTo>
                  <a:lnTo>
                    <a:pt x="708" y="145"/>
                  </a:lnTo>
                  <a:lnTo>
                    <a:pt x="654" y="190"/>
                  </a:lnTo>
                  <a:lnTo>
                    <a:pt x="602" y="242"/>
                  </a:lnTo>
                  <a:lnTo>
                    <a:pt x="555" y="296"/>
                  </a:lnTo>
                  <a:lnTo>
                    <a:pt x="514" y="356"/>
                  </a:lnTo>
                  <a:lnTo>
                    <a:pt x="477" y="420"/>
                  </a:lnTo>
                  <a:lnTo>
                    <a:pt x="427" y="409"/>
                  </a:lnTo>
                  <a:lnTo>
                    <a:pt x="378" y="407"/>
                  </a:lnTo>
                  <a:lnTo>
                    <a:pt x="329" y="411"/>
                  </a:lnTo>
                  <a:lnTo>
                    <a:pt x="281" y="422"/>
                  </a:lnTo>
                  <a:lnTo>
                    <a:pt x="233" y="439"/>
                  </a:lnTo>
                  <a:lnTo>
                    <a:pt x="189" y="462"/>
                  </a:lnTo>
                  <a:lnTo>
                    <a:pt x="148" y="492"/>
                  </a:lnTo>
                  <a:lnTo>
                    <a:pt x="111" y="528"/>
                  </a:lnTo>
                  <a:lnTo>
                    <a:pt x="79" y="568"/>
                  </a:lnTo>
                  <a:lnTo>
                    <a:pt x="51" y="612"/>
                  </a:lnTo>
                  <a:lnTo>
                    <a:pt x="30" y="660"/>
                  </a:lnTo>
                  <a:lnTo>
                    <a:pt x="14" y="709"/>
                  </a:lnTo>
                  <a:lnTo>
                    <a:pt x="3" y="762"/>
                  </a:lnTo>
                  <a:lnTo>
                    <a:pt x="0" y="815"/>
                  </a:lnTo>
                  <a:lnTo>
                    <a:pt x="3" y="868"/>
                  </a:lnTo>
                  <a:lnTo>
                    <a:pt x="14" y="919"/>
                  </a:lnTo>
                  <a:lnTo>
                    <a:pt x="30" y="970"/>
                  </a:lnTo>
                  <a:lnTo>
                    <a:pt x="51" y="1018"/>
                  </a:lnTo>
                  <a:lnTo>
                    <a:pt x="79" y="1062"/>
                  </a:lnTo>
                  <a:lnTo>
                    <a:pt x="111" y="1103"/>
                  </a:lnTo>
                  <a:lnTo>
                    <a:pt x="148" y="1138"/>
                  </a:lnTo>
                  <a:lnTo>
                    <a:pt x="189" y="1168"/>
                  </a:lnTo>
                  <a:lnTo>
                    <a:pt x="233" y="1191"/>
                  </a:lnTo>
                  <a:lnTo>
                    <a:pt x="281" y="1209"/>
                  </a:lnTo>
                  <a:lnTo>
                    <a:pt x="329" y="1219"/>
                  </a:lnTo>
                  <a:lnTo>
                    <a:pt x="378" y="1223"/>
                  </a:lnTo>
                  <a:lnTo>
                    <a:pt x="427" y="1219"/>
                  </a:lnTo>
                  <a:lnTo>
                    <a:pt x="477" y="121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359720" y="18288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NAT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399320" y="2025720"/>
              <a:ext cx="85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395360" y="3879720"/>
              <a:ext cx="166680" cy="1987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407960" y="3892680"/>
              <a:ext cx="49320" cy="17280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6"/>
                  </a:lnTo>
                  <a:lnTo>
                    <a:pt x="62" y="171"/>
                  </a:lnTo>
                  <a:lnTo>
                    <a:pt x="62" y="210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0"/>
                  </a:lnTo>
                  <a:lnTo>
                    <a:pt x="0" y="171"/>
                  </a:lnTo>
                  <a:lnTo>
                    <a:pt x="9" y="156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471680" y="3892680"/>
              <a:ext cx="75960" cy="172800"/>
            </a:xfrm>
            <a:custGeom>
              <a:avLst/>
              <a:gdLst/>
              <a:ahLst/>
              <a:rect l="l" t="t" r="r" b="b"/>
              <a:pathLst>
                <a:path w="96" h="219">
                  <a:moveTo>
                    <a:pt x="0" y="78"/>
                  </a:moveTo>
                  <a:lnTo>
                    <a:pt x="43" y="78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2" y="78"/>
                  </a:moveTo>
                  <a:lnTo>
                    <a:pt x="96" y="78"/>
                  </a:lnTo>
                  <a:lnTo>
                    <a:pt x="96" y="0"/>
                  </a:lnTo>
                  <a:lnTo>
                    <a:pt x="52" y="0"/>
                  </a:lnTo>
                  <a:lnTo>
                    <a:pt x="52" y="78"/>
                  </a:lnTo>
                  <a:close/>
                  <a:moveTo>
                    <a:pt x="0" y="219"/>
                  </a:moveTo>
                  <a:lnTo>
                    <a:pt x="96" y="219"/>
                  </a:lnTo>
                  <a:lnTo>
                    <a:pt x="96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471680" y="3990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1000080" y="272880"/>
            <a:ext cx="7134120" cy="6121440"/>
            <a:chOff x="1000080" y="272880"/>
            <a:chExt cx="7134120" cy="6121440"/>
          </a:xfrm>
        </p:grpSpPr>
        <p:sp>
          <p:nvSpPr>
            <p:cNvPr id="3515" name=""/>
            <p:cNvSpPr/>
            <p:nvPr/>
          </p:nvSpPr>
          <p:spPr>
            <a:xfrm>
              <a:off x="1471680" y="39844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471680" y="39783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471680" y="39718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471680" y="396540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512720" y="390672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512720" y="393876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512720" y="392256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471680" y="390672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471680" y="3938760"/>
              <a:ext cx="33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471680" y="392256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471680" y="404964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1471680" y="403560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471680" y="4017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522440" y="4002120"/>
              <a:ext cx="14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496880" y="4002120"/>
              <a:ext cx="18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249200" y="4116240"/>
              <a:ext cx="459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297440" y="412416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052800" y="438120"/>
              <a:ext cx="496800" cy="495360"/>
            </a:xfrm>
            <a:custGeom>
              <a:avLst/>
              <a:gdLst/>
              <a:ahLst/>
              <a:rect l="l" t="t" r="r" b="b"/>
              <a:pathLst>
                <a:path w="626" h="625">
                  <a:moveTo>
                    <a:pt x="136" y="412"/>
                  </a:moveTo>
                  <a:lnTo>
                    <a:pt x="0" y="412"/>
                  </a:lnTo>
                  <a:lnTo>
                    <a:pt x="0" y="625"/>
                  </a:lnTo>
                  <a:lnTo>
                    <a:pt x="626" y="625"/>
                  </a:lnTo>
                  <a:lnTo>
                    <a:pt x="626" y="412"/>
                  </a:lnTo>
                  <a:lnTo>
                    <a:pt x="488" y="412"/>
                  </a:lnTo>
                  <a:lnTo>
                    <a:pt x="488" y="382"/>
                  </a:lnTo>
                  <a:lnTo>
                    <a:pt x="548" y="382"/>
                  </a:lnTo>
                  <a:lnTo>
                    <a:pt x="548" y="0"/>
                  </a:lnTo>
                  <a:lnTo>
                    <a:pt x="78" y="0"/>
                  </a:lnTo>
                  <a:lnTo>
                    <a:pt x="78" y="382"/>
                  </a:lnTo>
                  <a:lnTo>
                    <a:pt x="136" y="382"/>
                  </a:lnTo>
                  <a:lnTo>
                    <a:pt x="136" y="41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160800" y="76356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160800" y="73980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308400" y="779400"/>
              <a:ext cx="201600" cy="138240"/>
            </a:xfrm>
            <a:custGeom>
              <a:avLst/>
              <a:gdLst/>
              <a:ahLst/>
              <a:rect l="l" t="t" r="r" b="b"/>
              <a:pathLst>
                <a:path w="254" h="175">
                  <a:moveTo>
                    <a:pt x="0" y="175"/>
                  </a:moveTo>
                  <a:lnTo>
                    <a:pt x="206" y="175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175"/>
                  </a:lnTo>
                  <a:close/>
                  <a:moveTo>
                    <a:pt x="226" y="28"/>
                  </a:moveTo>
                  <a:lnTo>
                    <a:pt x="254" y="28"/>
                  </a:lnTo>
                  <a:lnTo>
                    <a:pt x="254" y="0"/>
                  </a:lnTo>
                  <a:lnTo>
                    <a:pt x="226" y="0"/>
                  </a:lnTo>
                  <a:lnTo>
                    <a:pt x="22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308400" y="82548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308400" y="87156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316320" y="849240"/>
              <a:ext cx="147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402000" y="833400"/>
              <a:ext cx="4608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3068640" y="473040"/>
              <a:ext cx="465120" cy="333360"/>
            </a:xfrm>
            <a:custGeom>
              <a:avLst/>
              <a:gdLst/>
              <a:ahLst/>
              <a:rect l="l" t="t" r="r" b="b"/>
              <a:pathLst>
                <a:path w="587" h="420">
                  <a:moveTo>
                    <a:pt x="492" y="300"/>
                  </a:moveTo>
                  <a:lnTo>
                    <a:pt x="513" y="300"/>
                  </a:lnTo>
                  <a:lnTo>
                    <a:pt x="513" y="292"/>
                  </a:lnTo>
                  <a:lnTo>
                    <a:pt x="492" y="292"/>
                  </a:lnTo>
                  <a:lnTo>
                    <a:pt x="492" y="300"/>
                  </a:lnTo>
                  <a:close/>
                  <a:moveTo>
                    <a:pt x="131" y="248"/>
                  </a:moveTo>
                  <a:lnTo>
                    <a:pt x="131" y="30"/>
                  </a:lnTo>
                  <a:lnTo>
                    <a:pt x="455" y="30"/>
                  </a:lnTo>
                  <a:lnTo>
                    <a:pt x="455" y="248"/>
                  </a:lnTo>
                  <a:lnTo>
                    <a:pt x="131" y="248"/>
                  </a:lnTo>
                  <a:close/>
                  <a:moveTo>
                    <a:pt x="117" y="264"/>
                  </a:moveTo>
                  <a:lnTo>
                    <a:pt x="469" y="264"/>
                  </a:lnTo>
                  <a:lnTo>
                    <a:pt x="469" y="14"/>
                  </a:lnTo>
                  <a:lnTo>
                    <a:pt x="485" y="14"/>
                  </a:lnTo>
                  <a:lnTo>
                    <a:pt x="485" y="0"/>
                  </a:lnTo>
                  <a:lnTo>
                    <a:pt x="103" y="0"/>
                  </a:lnTo>
                  <a:lnTo>
                    <a:pt x="103" y="278"/>
                  </a:lnTo>
                  <a:lnTo>
                    <a:pt x="117" y="278"/>
                  </a:lnTo>
                  <a:lnTo>
                    <a:pt x="117" y="264"/>
                  </a:lnTo>
                  <a:close/>
                  <a:moveTo>
                    <a:pt x="0" y="405"/>
                  </a:moveTo>
                  <a:lnTo>
                    <a:pt x="59" y="405"/>
                  </a:lnTo>
                  <a:lnTo>
                    <a:pt x="59" y="386"/>
                  </a:lnTo>
                  <a:lnTo>
                    <a:pt x="0" y="386"/>
                  </a:lnTo>
                  <a:lnTo>
                    <a:pt x="0" y="405"/>
                  </a:lnTo>
                  <a:close/>
                  <a:moveTo>
                    <a:pt x="342" y="420"/>
                  </a:moveTo>
                  <a:lnTo>
                    <a:pt x="469" y="420"/>
                  </a:lnTo>
                  <a:lnTo>
                    <a:pt x="469" y="411"/>
                  </a:lnTo>
                  <a:lnTo>
                    <a:pt x="342" y="411"/>
                  </a:lnTo>
                  <a:lnTo>
                    <a:pt x="342" y="420"/>
                  </a:lnTo>
                  <a:close/>
                  <a:moveTo>
                    <a:pt x="568" y="395"/>
                  </a:moveTo>
                  <a:lnTo>
                    <a:pt x="587" y="395"/>
                  </a:lnTo>
                  <a:lnTo>
                    <a:pt x="587" y="386"/>
                  </a:lnTo>
                  <a:lnTo>
                    <a:pt x="568" y="386"/>
                  </a:lnTo>
                  <a:lnTo>
                    <a:pt x="568" y="395"/>
                  </a:lnTo>
                  <a:close/>
                  <a:moveTo>
                    <a:pt x="568" y="414"/>
                  </a:moveTo>
                  <a:lnTo>
                    <a:pt x="587" y="414"/>
                  </a:lnTo>
                  <a:lnTo>
                    <a:pt x="587" y="405"/>
                  </a:lnTo>
                  <a:lnTo>
                    <a:pt x="568" y="405"/>
                  </a:lnTo>
                  <a:lnTo>
                    <a:pt x="568" y="4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114720" y="723960"/>
              <a:ext cx="37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32068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33004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3300480" y="973080"/>
              <a:ext cx="4302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348360" y="98100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508920" y="10936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440880" y="12049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110360" y="272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110360" y="482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110360" y="558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110360" y="768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110360" y="844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110360" y="1054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110360" y="1130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110360" y="1339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110360" y="1415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110360" y="1625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110360" y="1701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110360" y="1911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110360" y="1987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0360" y="2197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0360" y="2273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10360" y="2482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10360" y="2558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10360" y="2768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10360" y="2844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10360" y="3054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10360" y="3130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10360" y="3340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10360" y="3416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110360" y="3625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110360" y="3701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110360" y="3911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110360" y="3987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110360" y="4197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110360" y="4273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7110360" y="4483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110360" y="4559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110360" y="4768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110360" y="4844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7110360" y="5054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110360" y="5130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110360" y="5340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110360" y="5416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110360" y="5626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110360" y="5702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110360" y="5911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110360" y="5987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110360" y="6197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110360" y="6273720"/>
              <a:ext cx="1800" cy="120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rot="5400000">
              <a:off x="6785280" y="328140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und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1146240" y="901800"/>
              <a:ext cx="164880" cy="198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160640" y="914400"/>
              <a:ext cx="48960" cy="17316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7"/>
                  </a:lnTo>
                  <a:lnTo>
                    <a:pt x="62" y="172"/>
                  </a:lnTo>
                  <a:lnTo>
                    <a:pt x="62" y="212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9" y="157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222200" y="914400"/>
              <a:ext cx="76320" cy="17316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0" y="78"/>
                  </a:moveTo>
                  <a:lnTo>
                    <a:pt x="44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3" y="78"/>
                  </a:moveTo>
                  <a:lnTo>
                    <a:pt x="97" y="78"/>
                  </a:lnTo>
                  <a:lnTo>
                    <a:pt x="97" y="0"/>
                  </a:lnTo>
                  <a:lnTo>
                    <a:pt x="53" y="0"/>
                  </a:lnTo>
                  <a:lnTo>
                    <a:pt x="53" y="78"/>
                  </a:lnTo>
                  <a:close/>
                  <a:moveTo>
                    <a:pt x="0" y="219"/>
                  </a:moveTo>
                  <a:lnTo>
                    <a:pt x="97" y="219"/>
                  </a:lnTo>
                  <a:lnTo>
                    <a:pt x="97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1222200" y="1012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1222200" y="100656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222200" y="10000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1222200" y="99540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222200" y="98748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263600" y="9288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263600" y="96048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263600" y="94464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222200" y="928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222200" y="9604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1222200" y="9446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1222200" y="10717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1222200" y="10573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222200" y="1039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1274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1247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000080" y="1138320"/>
              <a:ext cx="4590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049760" y="114624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5292720" y="5516640"/>
              <a:ext cx="662040" cy="496800"/>
            </a:xfrm>
            <a:custGeom>
              <a:avLst/>
              <a:gdLst/>
              <a:ahLst/>
              <a:rect l="l" t="t" r="r" b="b"/>
              <a:pathLst>
                <a:path w="835" h="625">
                  <a:moveTo>
                    <a:pt x="0" y="625"/>
                  </a:moveTo>
                  <a:lnTo>
                    <a:pt x="0" y="613"/>
                  </a:lnTo>
                  <a:lnTo>
                    <a:pt x="84" y="574"/>
                  </a:lnTo>
                  <a:lnTo>
                    <a:pt x="84" y="0"/>
                  </a:lnTo>
                  <a:lnTo>
                    <a:pt x="306" y="0"/>
                  </a:lnTo>
                  <a:lnTo>
                    <a:pt x="306" y="574"/>
                  </a:lnTo>
                  <a:lnTo>
                    <a:pt x="396" y="613"/>
                  </a:lnTo>
                  <a:lnTo>
                    <a:pt x="396" y="625"/>
                  </a:lnTo>
                  <a:lnTo>
                    <a:pt x="0" y="625"/>
                  </a:lnTo>
                  <a:close/>
                  <a:moveTo>
                    <a:pt x="334" y="539"/>
                  </a:moveTo>
                  <a:lnTo>
                    <a:pt x="412" y="539"/>
                  </a:lnTo>
                  <a:lnTo>
                    <a:pt x="499" y="560"/>
                  </a:lnTo>
                  <a:lnTo>
                    <a:pt x="499" y="604"/>
                  </a:lnTo>
                  <a:lnTo>
                    <a:pt x="412" y="604"/>
                  </a:lnTo>
                  <a:lnTo>
                    <a:pt x="412" y="625"/>
                  </a:lnTo>
                  <a:lnTo>
                    <a:pt x="757" y="625"/>
                  </a:lnTo>
                  <a:lnTo>
                    <a:pt x="757" y="604"/>
                  </a:lnTo>
                  <a:lnTo>
                    <a:pt x="670" y="604"/>
                  </a:lnTo>
                  <a:lnTo>
                    <a:pt x="670" y="560"/>
                  </a:lnTo>
                  <a:lnTo>
                    <a:pt x="757" y="539"/>
                  </a:lnTo>
                  <a:lnTo>
                    <a:pt x="835" y="539"/>
                  </a:lnTo>
                  <a:lnTo>
                    <a:pt x="835" y="157"/>
                  </a:lnTo>
                  <a:lnTo>
                    <a:pt x="334" y="157"/>
                  </a:lnTo>
                  <a:lnTo>
                    <a:pt x="334" y="539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359320" y="597204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535720" y="597204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5413320" y="5672160"/>
              <a:ext cx="6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403960" y="5619600"/>
              <a:ext cx="88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381640" y="5537160"/>
              <a:ext cx="131760" cy="29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5688000" y="599616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688000" y="596124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619600" y="5943600"/>
              <a:ext cx="27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5375160" y="5846760"/>
              <a:ext cx="142920" cy="1350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0" y="104"/>
                  </a:moveTo>
                  <a:lnTo>
                    <a:pt x="14" y="10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4"/>
                  </a:lnTo>
                  <a:close/>
                  <a:moveTo>
                    <a:pt x="28" y="104"/>
                  </a:moveTo>
                  <a:lnTo>
                    <a:pt x="42" y="104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104"/>
                  </a:lnTo>
                  <a:close/>
                  <a:moveTo>
                    <a:pt x="54" y="104"/>
                  </a:moveTo>
                  <a:lnTo>
                    <a:pt x="69" y="104"/>
                  </a:lnTo>
                  <a:lnTo>
                    <a:pt x="69" y="0"/>
                  </a:lnTo>
                  <a:lnTo>
                    <a:pt x="54" y="0"/>
                  </a:lnTo>
                  <a:lnTo>
                    <a:pt x="54" y="104"/>
                  </a:lnTo>
                  <a:close/>
                  <a:moveTo>
                    <a:pt x="83" y="104"/>
                  </a:moveTo>
                  <a:lnTo>
                    <a:pt x="97" y="104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83" y="104"/>
                  </a:lnTo>
                  <a:close/>
                  <a:moveTo>
                    <a:pt x="111" y="104"/>
                  </a:moveTo>
                  <a:lnTo>
                    <a:pt x="125" y="104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111" y="104"/>
                  </a:lnTo>
                  <a:close/>
                  <a:moveTo>
                    <a:pt x="139" y="104"/>
                  </a:moveTo>
                  <a:lnTo>
                    <a:pt x="153" y="104"/>
                  </a:lnTo>
                  <a:lnTo>
                    <a:pt x="153" y="0"/>
                  </a:lnTo>
                  <a:lnTo>
                    <a:pt x="139" y="0"/>
                  </a:lnTo>
                  <a:lnTo>
                    <a:pt x="139" y="104"/>
                  </a:lnTo>
                  <a:close/>
                  <a:moveTo>
                    <a:pt x="166" y="104"/>
                  </a:moveTo>
                  <a:lnTo>
                    <a:pt x="180" y="104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66" y="104"/>
                  </a:lnTo>
                  <a:close/>
                  <a:moveTo>
                    <a:pt x="166" y="169"/>
                  </a:moveTo>
                  <a:lnTo>
                    <a:pt x="180" y="169"/>
                  </a:lnTo>
                  <a:lnTo>
                    <a:pt x="180" y="118"/>
                  </a:lnTo>
                  <a:lnTo>
                    <a:pt x="166" y="118"/>
                  </a:lnTo>
                  <a:lnTo>
                    <a:pt x="166" y="169"/>
                  </a:lnTo>
                  <a:close/>
                  <a:moveTo>
                    <a:pt x="139" y="169"/>
                  </a:moveTo>
                  <a:lnTo>
                    <a:pt x="153" y="169"/>
                  </a:lnTo>
                  <a:lnTo>
                    <a:pt x="153" y="118"/>
                  </a:lnTo>
                  <a:lnTo>
                    <a:pt x="139" y="118"/>
                  </a:lnTo>
                  <a:lnTo>
                    <a:pt x="139" y="169"/>
                  </a:lnTo>
                  <a:close/>
                  <a:moveTo>
                    <a:pt x="111" y="169"/>
                  </a:moveTo>
                  <a:lnTo>
                    <a:pt x="125" y="169"/>
                  </a:lnTo>
                  <a:lnTo>
                    <a:pt x="125" y="118"/>
                  </a:lnTo>
                  <a:lnTo>
                    <a:pt x="111" y="118"/>
                  </a:lnTo>
                  <a:lnTo>
                    <a:pt x="111" y="169"/>
                  </a:lnTo>
                  <a:close/>
                  <a:moveTo>
                    <a:pt x="83" y="169"/>
                  </a:moveTo>
                  <a:lnTo>
                    <a:pt x="97" y="169"/>
                  </a:lnTo>
                  <a:lnTo>
                    <a:pt x="97" y="118"/>
                  </a:lnTo>
                  <a:lnTo>
                    <a:pt x="83" y="118"/>
                  </a:lnTo>
                  <a:lnTo>
                    <a:pt x="83" y="169"/>
                  </a:lnTo>
                  <a:close/>
                  <a:moveTo>
                    <a:pt x="54" y="169"/>
                  </a:moveTo>
                  <a:lnTo>
                    <a:pt x="69" y="169"/>
                  </a:lnTo>
                  <a:lnTo>
                    <a:pt x="69" y="118"/>
                  </a:lnTo>
                  <a:lnTo>
                    <a:pt x="54" y="118"/>
                  </a:lnTo>
                  <a:lnTo>
                    <a:pt x="54" y="169"/>
                  </a:lnTo>
                  <a:close/>
                  <a:moveTo>
                    <a:pt x="28" y="169"/>
                  </a:moveTo>
                  <a:lnTo>
                    <a:pt x="42" y="169"/>
                  </a:lnTo>
                  <a:lnTo>
                    <a:pt x="42" y="118"/>
                  </a:lnTo>
                  <a:lnTo>
                    <a:pt x="28" y="118"/>
                  </a:lnTo>
                  <a:lnTo>
                    <a:pt x="28" y="169"/>
                  </a:lnTo>
                  <a:close/>
                  <a:moveTo>
                    <a:pt x="0" y="169"/>
                  </a:moveTo>
                  <a:lnTo>
                    <a:pt x="14" y="169"/>
                  </a:lnTo>
                  <a:lnTo>
                    <a:pt x="14" y="118"/>
                  </a:lnTo>
                  <a:lnTo>
                    <a:pt x="0" y="1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5392800" y="554832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5392800" y="5548320"/>
              <a:ext cx="109440" cy="1116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0" y="0"/>
                  </a:moveTo>
                  <a:lnTo>
                    <a:pt x="14" y="14"/>
                  </a:lnTo>
                  <a:lnTo>
                    <a:pt x="125" y="14"/>
                  </a:ln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5392800" y="5599080"/>
              <a:ext cx="109440" cy="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392800" y="5651640"/>
              <a:ext cx="1094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392800" y="5703840"/>
              <a:ext cx="109440" cy="39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392800" y="575460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5392800" y="5559480"/>
              <a:ext cx="111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492880" y="5559480"/>
              <a:ext cx="93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5397480" y="57387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5397480" y="573084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5397480" y="5724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397480" y="5715000"/>
              <a:ext cx="7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397480" y="570852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446800" y="5610240"/>
              <a:ext cx="349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478480" y="5680080"/>
              <a:ext cx="15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5478480" y="5708520"/>
              <a:ext cx="15840" cy="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478480" y="5718240"/>
              <a:ext cx="15840" cy="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5430960" y="5667480"/>
              <a:ext cx="511200" cy="263520"/>
            </a:xfrm>
            <a:custGeom>
              <a:avLst/>
              <a:gdLst/>
              <a:ahLst/>
              <a:rect l="l" t="t" r="r" b="b"/>
              <a:pathLst>
                <a:path w="645" h="334">
                  <a:moveTo>
                    <a:pt x="0" y="14"/>
                  </a:moveTo>
                  <a:lnTo>
                    <a:pt x="42" y="1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  <a:close/>
                  <a:moveTo>
                    <a:pt x="622" y="334"/>
                  </a:moveTo>
                  <a:lnTo>
                    <a:pt x="645" y="334"/>
                  </a:lnTo>
                  <a:lnTo>
                    <a:pt x="645" y="327"/>
                  </a:lnTo>
                  <a:lnTo>
                    <a:pt x="622" y="327"/>
                  </a:lnTo>
                  <a:lnTo>
                    <a:pt x="622" y="334"/>
                  </a:lnTo>
                  <a:close/>
                  <a:moveTo>
                    <a:pt x="238" y="261"/>
                  </a:moveTo>
                  <a:lnTo>
                    <a:pt x="238" y="41"/>
                  </a:lnTo>
                  <a:lnTo>
                    <a:pt x="583" y="41"/>
                  </a:lnTo>
                  <a:lnTo>
                    <a:pt x="583" y="261"/>
                  </a:lnTo>
                  <a:lnTo>
                    <a:pt x="238" y="261"/>
                  </a:lnTo>
                  <a:close/>
                  <a:moveTo>
                    <a:pt x="222" y="275"/>
                  </a:moveTo>
                  <a:lnTo>
                    <a:pt x="599" y="275"/>
                  </a:lnTo>
                  <a:lnTo>
                    <a:pt x="599" y="27"/>
                  </a:lnTo>
                  <a:lnTo>
                    <a:pt x="615" y="27"/>
                  </a:lnTo>
                  <a:lnTo>
                    <a:pt x="615" y="13"/>
                  </a:lnTo>
                  <a:lnTo>
                    <a:pt x="206" y="13"/>
                  </a:lnTo>
                  <a:lnTo>
                    <a:pt x="206" y="23"/>
                  </a:lnTo>
                  <a:lnTo>
                    <a:pt x="206" y="290"/>
                  </a:lnTo>
                  <a:lnTo>
                    <a:pt x="222" y="290"/>
                  </a:lnTo>
                  <a:lnTo>
                    <a:pt x="222" y="2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557680" y="5925960"/>
              <a:ext cx="200160" cy="17640"/>
            </a:xfrm>
            <a:custGeom>
              <a:avLst/>
              <a:gdLst/>
              <a:ahLst/>
              <a:rect l="l" t="t" r="r" b="b"/>
              <a:pathLst>
                <a:path w="251" h="23">
                  <a:moveTo>
                    <a:pt x="0" y="0"/>
                  </a:moveTo>
                  <a:lnTo>
                    <a:pt x="251" y="0"/>
                  </a:lnTo>
                  <a:lnTo>
                    <a:pt x="251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 flipV="1">
              <a:off x="5657760" y="592560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176800" y="6051600"/>
              <a:ext cx="8938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242680" y="6059520"/>
              <a:ext cx="82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net data Serv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614840" y="5516640"/>
              <a:ext cx="495360" cy="496800"/>
            </a:xfrm>
            <a:custGeom>
              <a:avLst/>
              <a:gdLst/>
              <a:ahLst/>
              <a:rect l="l" t="t" r="r" b="b"/>
              <a:pathLst>
                <a:path w="626" h="627">
                  <a:moveTo>
                    <a:pt x="0" y="470"/>
                  </a:moveTo>
                  <a:lnTo>
                    <a:pt x="117" y="470"/>
                  </a:lnTo>
                  <a:lnTo>
                    <a:pt x="214" y="489"/>
                  </a:lnTo>
                  <a:lnTo>
                    <a:pt x="214" y="509"/>
                  </a:lnTo>
                  <a:lnTo>
                    <a:pt x="117" y="509"/>
                  </a:lnTo>
                  <a:lnTo>
                    <a:pt x="117" y="528"/>
                  </a:lnTo>
                  <a:lnTo>
                    <a:pt x="39" y="528"/>
                  </a:lnTo>
                  <a:lnTo>
                    <a:pt x="39" y="627"/>
                  </a:lnTo>
                  <a:lnTo>
                    <a:pt x="587" y="627"/>
                  </a:lnTo>
                  <a:lnTo>
                    <a:pt x="587" y="528"/>
                  </a:lnTo>
                  <a:lnTo>
                    <a:pt x="509" y="528"/>
                  </a:lnTo>
                  <a:lnTo>
                    <a:pt x="509" y="509"/>
                  </a:lnTo>
                  <a:lnTo>
                    <a:pt x="410" y="509"/>
                  </a:lnTo>
                  <a:lnTo>
                    <a:pt x="410" y="489"/>
                  </a:lnTo>
                  <a:lnTo>
                    <a:pt x="509" y="470"/>
                  </a:lnTo>
                  <a:lnTo>
                    <a:pt x="626" y="470"/>
                  </a:lnTo>
                  <a:lnTo>
                    <a:pt x="626" y="0"/>
                  </a:lnTo>
                  <a:lnTo>
                    <a:pt x="0" y="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707000" y="593568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782960" y="5919840"/>
              <a:ext cx="1573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782960" y="5905440"/>
              <a:ext cx="157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707000" y="588960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651200" y="5564160"/>
              <a:ext cx="412920" cy="441360"/>
            </a:xfrm>
            <a:custGeom>
              <a:avLst/>
              <a:gdLst/>
              <a:ahLst/>
              <a:rect l="l" t="t" r="r" b="b"/>
              <a:pathLst>
                <a:path w="519" h="556">
                  <a:moveTo>
                    <a:pt x="49" y="503"/>
                  </a:moveTo>
                  <a:lnTo>
                    <a:pt x="146" y="503"/>
                  </a:lnTo>
                  <a:lnTo>
                    <a:pt x="146" y="489"/>
                  </a:lnTo>
                  <a:lnTo>
                    <a:pt x="49" y="489"/>
                  </a:lnTo>
                  <a:lnTo>
                    <a:pt x="49" y="503"/>
                  </a:lnTo>
                  <a:close/>
                  <a:moveTo>
                    <a:pt x="19" y="556"/>
                  </a:moveTo>
                  <a:lnTo>
                    <a:pt x="39" y="537"/>
                  </a:lnTo>
                  <a:lnTo>
                    <a:pt x="19" y="517"/>
                  </a:lnTo>
                  <a:lnTo>
                    <a:pt x="0" y="537"/>
                  </a:lnTo>
                  <a:lnTo>
                    <a:pt x="19" y="556"/>
                  </a:lnTo>
                  <a:close/>
                  <a:moveTo>
                    <a:pt x="49" y="313"/>
                  </a:moveTo>
                  <a:lnTo>
                    <a:pt x="49" y="39"/>
                  </a:lnTo>
                  <a:lnTo>
                    <a:pt x="480" y="39"/>
                  </a:lnTo>
                  <a:lnTo>
                    <a:pt x="480" y="313"/>
                  </a:lnTo>
                  <a:lnTo>
                    <a:pt x="49" y="313"/>
                  </a:lnTo>
                  <a:close/>
                  <a:moveTo>
                    <a:pt x="30" y="341"/>
                  </a:moveTo>
                  <a:lnTo>
                    <a:pt x="509" y="341"/>
                  </a:lnTo>
                  <a:lnTo>
                    <a:pt x="509" y="20"/>
                  </a:lnTo>
                  <a:lnTo>
                    <a:pt x="519" y="20"/>
                  </a:lnTo>
                  <a:lnTo>
                    <a:pt x="519" y="0"/>
                  </a:lnTo>
                  <a:lnTo>
                    <a:pt x="10" y="0"/>
                  </a:lnTo>
                  <a:lnTo>
                    <a:pt x="10" y="352"/>
                  </a:lnTo>
                  <a:lnTo>
                    <a:pt x="30" y="352"/>
                  </a:lnTo>
                  <a:lnTo>
                    <a:pt x="30" y="341"/>
                  </a:lnTo>
                  <a:close/>
                  <a:moveTo>
                    <a:pt x="489" y="390"/>
                  </a:moveTo>
                  <a:lnTo>
                    <a:pt x="519" y="390"/>
                  </a:lnTo>
                  <a:lnTo>
                    <a:pt x="519" y="382"/>
                  </a:lnTo>
                  <a:lnTo>
                    <a:pt x="489" y="382"/>
                  </a:lnTo>
                  <a:lnTo>
                    <a:pt x="489" y="3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699080" y="5989680"/>
              <a:ext cx="61920" cy="1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645080" y="595296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645080" y="596412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69908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74660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476892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479268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481644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7"/>
                  </a:lnTo>
                  <a:lnTo>
                    <a:pt x="8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48387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486252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48848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9"/>
                  </a:lnTo>
                  <a:lnTo>
                    <a:pt x="11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490860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9323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95468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49784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00076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024520" y="597060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04828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602240" y="6051600"/>
              <a:ext cx="51912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4652640" y="605952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s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257880" y="4332240"/>
              <a:ext cx="189000" cy="803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329520" y="5056200"/>
              <a:ext cx="48960" cy="39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329520" y="4370400"/>
              <a:ext cx="48960" cy="42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281640" y="4331880"/>
              <a:ext cx="180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342120" y="4392720"/>
              <a:ext cx="23760" cy="382320"/>
            </a:xfrm>
            <a:custGeom>
              <a:avLst/>
              <a:gdLst/>
              <a:ahLst/>
              <a:rect l="l" t="t" r="r" b="b"/>
              <a:pathLst>
                <a:path w="30" h="482">
                  <a:moveTo>
                    <a:pt x="30" y="380"/>
                  </a:moveTo>
                  <a:lnTo>
                    <a:pt x="30" y="355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30" y="380"/>
                  </a:lnTo>
                  <a:close/>
                  <a:moveTo>
                    <a:pt x="30" y="431"/>
                  </a:moveTo>
                  <a:lnTo>
                    <a:pt x="30" y="406"/>
                  </a:lnTo>
                  <a:lnTo>
                    <a:pt x="0" y="406"/>
                  </a:lnTo>
                  <a:lnTo>
                    <a:pt x="0" y="431"/>
                  </a:lnTo>
                  <a:lnTo>
                    <a:pt x="30" y="431"/>
                  </a:lnTo>
                  <a:close/>
                  <a:moveTo>
                    <a:pt x="30" y="482"/>
                  </a:moveTo>
                  <a:lnTo>
                    <a:pt x="30" y="456"/>
                  </a:lnTo>
                  <a:lnTo>
                    <a:pt x="0" y="456"/>
                  </a:lnTo>
                  <a:lnTo>
                    <a:pt x="0" y="482"/>
                  </a:lnTo>
                  <a:lnTo>
                    <a:pt x="30" y="482"/>
                  </a:lnTo>
                  <a:close/>
                  <a:moveTo>
                    <a:pt x="30" y="304"/>
                  </a:moveTo>
                  <a:lnTo>
                    <a:pt x="30" y="279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30" y="304"/>
                  </a:lnTo>
                  <a:close/>
                  <a:moveTo>
                    <a:pt x="30" y="228"/>
                  </a:moveTo>
                  <a:lnTo>
                    <a:pt x="30" y="203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30" y="228"/>
                  </a:lnTo>
                  <a:close/>
                  <a:moveTo>
                    <a:pt x="30" y="177"/>
                  </a:moveTo>
                  <a:lnTo>
                    <a:pt x="30" y="152"/>
                  </a:lnTo>
                  <a:lnTo>
                    <a:pt x="0" y="152"/>
                  </a:lnTo>
                  <a:lnTo>
                    <a:pt x="0" y="177"/>
                  </a:lnTo>
                  <a:lnTo>
                    <a:pt x="30" y="177"/>
                  </a:lnTo>
                  <a:close/>
                  <a:moveTo>
                    <a:pt x="30" y="127"/>
                  </a:moveTo>
                  <a:lnTo>
                    <a:pt x="30" y="101"/>
                  </a:lnTo>
                  <a:lnTo>
                    <a:pt x="0" y="101"/>
                  </a:lnTo>
                  <a:lnTo>
                    <a:pt x="0" y="127"/>
                  </a:lnTo>
                  <a:lnTo>
                    <a:pt x="30" y="127"/>
                  </a:lnTo>
                  <a:close/>
                  <a:moveTo>
                    <a:pt x="30" y="76"/>
                  </a:moveTo>
                  <a:lnTo>
                    <a:pt x="30" y="51"/>
                  </a:lnTo>
                  <a:lnTo>
                    <a:pt x="0" y="51"/>
                  </a:lnTo>
                  <a:lnTo>
                    <a:pt x="0" y="76"/>
                  </a:lnTo>
                  <a:lnTo>
                    <a:pt x="30" y="76"/>
                  </a:lnTo>
                  <a:close/>
                  <a:moveTo>
                    <a:pt x="30" y="25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486480" y="4870440"/>
              <a:ext cx="13032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 rot="16200000">
              <a:off x="6412320" y="492552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118200" y="1157400"/>
              <a:ext cx="2016000" cy="1207800"/>
            </a:xfrm>
            <a:custGeom>
              <a:avLst/>
              <a:gdLst/>
              <a:ahLst/>
              <a:rect l="l" t="t" r="r" b="b"/>
              <a:pathLst>
                <a:path w="2539" h="1522">
                  <a:moveTo>
                    <a:pt x="373" y="1130"/>
                  </a:moveTo>
                  <a:lnTo>
                    <a:pt x="401" y="1188"/>
                  </a:lnTo>
                  <a:lnTo>
                    <a:pt x="434" y="1245"/>
                  </a:lnTo>
                  <a:lnTo>
                    <a:pt x="470" y="1296"/>
                  </a:lnTo>
                  <a:lnTo>
                    <a:pt x="510" y="1343"/>
                  </a:lnTo>
                  <a:lnTo>
                    <a:pt x="555" y="1386"/>
                  </a:lnTo>
                  <a:lnTo>
                    <a:pt x="601" y="1423"/>
                  </a:lnTo>
                  <a:lnTo>
                    <a:pt x="650" y="1455"/>
                  </a:lnTo>
                  <a:lnTo>
                    <a:pt x="699" y="1479"/>
                  </a:lnTo>
                  <a:lnTo>
                    <a:pt x="752" y="1501"/>
                  </a:lnTo>
                  <a:lnTo>
                    <a:pt x="806" y="1513"/>
                  </a:lnTo>
                  <a:lnTo>
                    <a:pt x="860" y="1520"/>
                  </a:lnTo>
                  <a:lnTo>
                    <a:pt x="915" y="1522"/>
                  </a:lnTo>
                  <a:lnTo>
                    <a:pt x="970" y="1516"/>
                  </a:lnTo>
                  <a:lnTo>
                    <a:pt x="1025" y="1504"/>
                  </a:lnTo>
                  <a:lnTo>
                    <a:pt x="1076" y="1486"/>
                  </a:lnTo>
                  <a:lnTo>
                    <a:pt x="1129" y="1462"/>
                  </a:lnTo>
                  <a:lnTo>
                    <a:pt x="1177" y="1432"/>
                  </a:lnTo>
                  <a:lnTo>
                    <a:pt x="1224" y="1396"/>
                  </a:lnTo>
                  <a:lnTo>
                    <a:pt x="1269" y="1356"/>
                  </a:lnTo>
                  <a:lnTo>
                    <a:pt x="1313" y="1396"/>
                  </a:lnTo>
                  <a:lnTo>
                    <a:pt x="1360" y="1432"/>
                  </a:lnTo>
                  <a:lnTo>
                    <a:pt x="1410" y="1462"/>
                  </a:lnTo>
                  <a:lnTo>
                    <a:pt x="1461" y="1486"/>
                  </a:lnTo>
                  <a:lnTo>
                    <a:pt x="1514" y="1504"/>
                  </a:lnTo>
                  <a:lnTo>
                    <a:pt x="1567" y="1516"/>
                  </a:lnTo>
                  <a:lnTo>
                    <a:pt x="1622" y="1522"/>
                  </a:lnTo>
                  <a:lnTo>
                    <a:pt x="1677" y="1520"/>
                  </a:lnTo>
                  <a:lnTo>
                    <a:pt x="1732" y="1513"/>
                  </a:lnTo>
                  <a:lnTo>
                    <a:pt x="1785" y="1501"/>
                  </a:lnTo>
                  <a:lnTo>
                    <a:pt x="1838" y="1479"/>
                  </a:lnTo>
                  <a:lnTo>
                    <a:pt x="1889" y="1455"/>
                  </a:lnTo>
                  <a:lnTo>
                    <a:pt x="1937" y="1423"/>
                  </a:lnTo>
                  <a:lnTo>
                    <a:pt x="1983" y="1386"/>
                  </a:lnTo>
                  <a:lnTo>
                    <a:pt x="2027" y="1343"/>
                  </a:lnTo>
                  <a:lnTo>
                    <a:pt x="2067" y="1296"/>
                  </a:lnTo>
                  <a:lnTo>
                    <a:pt x="2103" y="1245"/>
                  </a:lnTo>
                  <a:lnTo>
                    <a:pt x="2136" y="1188"/>
                  </a:lnTo>
                  <a:lnTo>
                    <a:pt x="2165" y="1130"/>
                  </a:lnTo>
                  <a:lnTo>
                    <a:pt x="2203" y="1139"/>
                  </a:lnTo>
                  <a:lnTo>
                    <a:pt x="2242" y="1142"/>
                  </a:lnTo>
                  <a:lnTo>
                    <a:pt x="2281" y="1137"/>
                  </a:lnTo>
                  <a:lnTo>
                    <a:pt x="2318" y="1128"/>
                  </a:lnTo>
                  <a:lnTo>
                    <a:pt x="2355" y="1112"/>
                  </a:lnTo>
                  <a:lnTo>
                    <a:pt x="2391" y="1089"/>
                  </a:lnTo>
                  <a:lnTo>
                    <a:pt x="2423" y="1061"/>
                  </a:lnTo>
                  <a:lnTo>
                    <a:pt x="2453" y="1029"/>
                  </a:lnTo>
                  <a:lnTo>
                    <a:pt x="2477" y="992"/>
                  </a:lnTo>
                  <a:lnTo>
                    <a:pt x="2499" y="950"/>
                  </a:lnTo>
                  <a:lnTo>
                    <a:pt x="2516" y="906"/>
                  </a:lnTo>
                  <a:lnTo>
                    <a:pt x="2529" y="860"/>
                  </a:lnTo>
                  <a:lnTo>
                    <a:pt x="2536" y="811"/>
                  </a:lnTo>
                  <a:lnTo>
                    <a:pt x="2539" y="761"/>
                  </a:lnTo>
                  <a:lnTo>
                    <a:pt x="2536" y="712"/>
                  </a:lnTo>
                  <a:lnTo>
                    <a:pt x="2529" y="662"/>
                  </a:lnTo>
                  <a:lnTo>
                    <a:pt x="2516" y="616"/>
                  </a:lnTo>
                  <a:lnTo>
                    <a:pt x="2499" y="572"/>
                  </a:lnTo>
                  <a:lnTo>
                    <a:pt x="2477" y="530"/>
                  </a:lnTo>
                  <a:lnTo>
                    <a:pt x="2453" y="493"/>
                  </a:lnTo>
                  <a:lnTo>
                    <a:pt x="2423" y="461"/>
                  </a:lnTo>
                  <a:lnTo>
                    <a:pt x="2391" y="433"/>
                  </a:lnTo>
                  <a:lnTo>
                    <a:pt x="2355" y="410"/>
                  </a:lnTo>
                  <a:lnTo>
                    <a:pt x="2318" y="394"/>
                  </a:lnTo>
                  <a:lnTo>
                    <a:pt x="2281" y="383"/>
                  </a:lnTo>
                  <a:lnTo>
                    <a:pt x="2242" y="380"/>
                  </a:lnTo>
                  <a:lnTo>
                    <a:pt x="2203" y="383"/>
                  </a:lnTo>
                  <a:lnTo>
                    <a:pt x="2165" y="392"/>
                  </a:lnTo>
                  <a:lnTo>
                    <a:pt x="2136" y="334"/>
                  </a:lnTo>
                  <a:lnTo>
                    <a:pt x="2103" y="278"/>
                  </a:lnTo>
                  <a:lnTo>
                    <a:pt x="2067" y="226"/>
                  </a:lnTo>
                  <a:lnTo>
                    <a:pt x="2027" y="179"/>
                  </a:lnTo>
                  <a:lnTo>
                    <a:pt x="1983" y="136"/>
                  </a:lnTo>
                  <a:lnTo>
                    <a:pt x="1937" y="99"/>
                  </a:lnTo>
                  <a:lnTo>
                    <a:pt x="1889" y="68"/>
                  </a:lnTo>
                  <a:lnTo>
                    <a:pt x="1838" y="43"/>
                  </a:lnTo>
                  <a:lnTo>
                    <a:pt x="1785" y="22"/>
                  </a:lnTo>
                  <a:lnTo>
                    <a:pt x="1732" y="9"/>
                  </a:lnTo>
                  <a:lnTo>
                    <a:pt x="1677" y="2"/>
                  </a:lnTo>
                  <a:lnTo>
                    <a:pt x="1622" y="0"/>
                  </a:lnTo>
                  <a:lnTo>
                    <a:pt x="1567" y="6"/>
                  </a:lnTo>
                  <a:lnTo>
                    <a:pt x="1514" y="18"/>
                  </a:lnTo>
                  <a:lnTo>
                    <a:pt x="1461" y="36"/>
                  </a:lnTo>
                  <a:lnTo>
                    <a:pt x="1410" y="60"/>
                  </a:lnTo>
                  <a:lnTo>
                    <a:pt x="1360" y="90"/>
                  </a:lnTo>
                  <a:lnTo>
                    <a:pt x="1313" y="126"/>
                  </a:lnTo>
                  <a:lnTo>
                    <a:pt x="1269" y="166"/>
                  </a:lnTo>
                  <a:lnTo>
                    <a:pt x="1224" y="126"/>
                  </a:lnTo>
                  <a:lnTo>
                    <a:pt x="1177" y="90"/>
                  </a:lnTo>
                  <a:lnTo>
                    <a:pt x="1129" y="60"/>
                  </a:lnTo>
                  <a:lnTo>
                    <a:pt x="1076" y="36"/>
                  </a:lnTo>
                  <a:lnTo>
                    <a:pt x="1025" y="18"/>
                  </a:lnTo>
                  <a:lnTo>
                    <a:pt x="970" y="6"/>
                  </a:lnTo>
                  <a:lnTo>
                    <a:pt x="915" y="0"/>
                  </a:lnTo>
                  <a:lnTo>
                    <a:pt x="860" y="2"/>
                  </a:lnTo>
                  <a:lnTo>
                    <a:pt x="806" y="9"/>
                  </a:lnTo>
                  <a:lnTo>
                    <a:pt x="752" y="22"/>
                  </a:lnTo>
                  <a:lnTo>
                    <a:pt x="699" y="43"/>
                  </a:lnTo>
                  <a:lnTo>
                    <a:pt x="650" y="68"/>
                  </a:lnTo>
                  <a:lnTo>
                    <a:pt x="601" y="99"/>
                  </a:lnTo>
                  <a:lnTo>
                    <a:pt x="555" y="136"/>
                  </a:lnTo>
                  <a:lnTo>
                    <a:pt x="510" y="179"/>
                  </a:lnTo>
                  <a:lnTo>
                    <a:pt x="470" y="226"/>
                  </a:lnTo>
                  <a:lnTo>
                    <a:pt x="434" y="278"/>
                  </a:lnTo>
                  <a:lnTo>
                    <a:pt x="401" y="334"/>
                  </a:lnTo>
                  <a:lnTo>
                    <a:pt x="373" y="392"/>
                  </a:lnTo>
                  <a:lnTo>
                    <a:pt x="334" y="383"/>
                  </a:lnTo>
                  <a:lnTo>
                    <a:pt x="295" y="380"/>
                  </a:lnTo>
                  <a:lnTo>
                    <a:pt x="256" y="383"/>
                  </a:lnTo>
                  <a:lnTo>
                    <a:pt x="219" y="394"/>
                  </a:lnTo>
                  <a:lnTo>
                    <a:pt x="182" y="410"/>
                  </a:lnTo>
                  <a:lnTo>
                    <a:pt x="146" y="433"/>
                  </a:lnTo>
                  <a:lnTo>
                    <a:pt x="114" y="461"/>
                  </a:lnTo>
                  <a:lnTo>
                    <a:pt x="86" y="493"/>
                  </a:lnTo>
                  <a:lnTo>
                    <a:pt x="60" y="530"/>
                  </a:lnTo>
                  <a:lnTo>
                    <a:pt x="39" y="572"/>
                  </a:lnTo>
                  <a:lnTo>
                    <a:pt x="21" y="616"/>
                  </a:lnTo>
                  <a:lnTo>
                    <a:pt x="8" y="662"/>
                  </a:lnTo>
                  <a:lnTo>
                    <a:pt x="1" y="712"/>
                  </a:lnTo>
                  <a:lnTo>
                    <a:pt x="0" y="761"/>
                  </a:lnTo>
                  <a:lnTo>
                    <a:pt x="1" y="811"/>
                  </a:lnTo>
                  <a:lnTo>
                    <a:pt x="8" y="860"/>
                  </a:lnTo>
                  <a:lnTo>
                    <a:pt x="21" y="906"/>
                  </a:lnTo>
                  <a:lnTo>
                    <a:pt x="39" y="950"/>
                  </a:lnTo>
                  <a:lnTo>
                    <a:pt x="60" y="992"/>
                  </a:lnTo>
                  <a:lnTo>
                    <a:pt x="86" y="1029"/>
                  </a:lnTo>
                  <a:lnTo>
                    <a:pt x="114" y="1061"/>
                  </a:lnTo>
                  <a:lnTo>
                    <a:pt x="146" y="1089"/>
                  </a:lnTo>
                  <a:lnTo>
                    <a:pt x="182" y="1112"/>
                  </a:lnTo>
                  <a:lnTo>
                    <a:pt x="219" y="1128"/>
                  </a:lnTo>
                  <a:lnTo>
                    <a:pt x="256" y="1137"/>
                  </a:lnTo>
                  <a:lnTo>
                    <a:pt x="295" y="1142"/>
                  </a:lnTo>
                  <a:lnTo>
                    <a:pt x="334" y="1139"/>
                  </a:lnTo>
                  <a:lnTo>
                    <a:pt x="373" y="113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6863760" y="16588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562120" y="5423040"/>
              <a:ext cx="8128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595240" y="5430960"/>
              <a:ext cx="65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IT Voice 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912760" y="554364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621880" y="565452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CP/IP capabil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2324160" y="4094280"/>
              <a:ext cx="1290600" cy="1290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324160" y="4094280"/>
              <a:ext cx="1290600" cy="1263600"/>
            </a:xfrm>
            <a:custGeom>
              <a:avLst/>
              <a:gdLst/>
              <a:ahLst/>
              <a:rect l="l" t="t" r="r" b="b"/>
              <a:pathLst>
                <a:path w="1628" h="1592">
                  <a:moveTo>
                    <a:pt x="0" y="1592"/>
                  </a:moveTo>
                  <a:lnTo>
                    <a:pt x="813" y="1592"/>
                  </a:lnTo>
                  <a:lnTo>
                    <a:pt x="813" y="0"/>
                  </a:lnTo>
                  <a:lnTo>
                    <a:pt x="0" y="0"/>
                  </a:lnTo>
                  <a:lnTo>
                    <a:pt x="0" y="1592"/>
                  </a:lnTo>
                  <a:close/>
                  <a:moveTo>
                    <a:pt x="813" y="1592"/>
                  </a:moveTo>
                  <a:lnTo>
                    <a:pt x="1628" y="1592"/>
                  </a:lnTo>
                  <a:lnTo>
                    <a:pt x="1628" y="0"/>
                  </a:lnTo>
                  <a:lnTo>
                    <a:pt x="813" y="0"/>
                  </a:lnTo>
                  <a:lnTo>
                    <a:pt x="813" y="1592"/>
                  </a:lnTo>
                  <a:close/>
                  <a:moveTo>
                    <a:pt x="126" y="542"/>
                  </a:moveTo>
                  <a:lnTo>
                    <a:pt x="689" y="542"/>
                  </a:lnTo>
                  <a:lnTo>
                    <a:pt x="689" y="373"/>
                  </a:lnTo>
                  <a:lnTo>
                    <a:pt x="126" y="373"/>
                  </a:lnTo>
                  <a:lnTo>
                    <a:pt x="126" y="542"/>
                  </a:lnTo>
                  <a:close/>
                  <a:moveTo>
                    <a:pt x="126" y="881"/>
                  </a:moveTo>
                  <a:lnTo>
                    <a:pt x="689" y="881"/>
                  </a:lnTo>
                  <a:lnTo>
                    <a:pt x="689" y="593"/>
                  </a:lnTo>
                  <a:lnTo>
                    <a:pt x="126" y="593"/>
                  </a:lnTo>
                  <a:lnTo>
                    <a:pt x="126" y="881"/>
                  </a:lnTo>
                  <a:close/>
                  <a:moveTo>
                    <a:pt x="938" y="542"/>
                  </a:moveTo>
                  <a:lnTo>
                    <a:pt x="1502" y="542"/>
                  </a:lnTo>
                  <a:lnTo>
                    <a:pt x="1502" y="373"/>
                  </a:lnTo>
                  <a:lnTo>
                    <a:pt x="938" y="373"/>
                  </a:lnTo>
                  <a:lnTo>
                    <a:pt x="938" y="542"/>
                  </a:lnTo>
                  <a:close/>
                  <a:moveTo>
                    <a:pt x="938" y="763"/>
                  </a:moveTo>
                  <a:lnTo>
                    <a:pt x="1502" y="763"/>
                  </a:lnTo>
                  <a:lnTo>
                    <a:pt x="1502" y="593"/>
                  </a:lnTo>
                  <a:lnTo>
                    <a:pt x="938" y="593"/>
                  </a:lnTo>
                  <a:lnTo>
                    <a:pt x="938" y="76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324160" y="4202280"/>
              <a:ext cx="1290600" cy="10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325600" y="5369040"/>
              <a:ext cx="1287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2968560" y="2676600"/>
              <a:ext cx="7920" cy="1266840"/>
            </a:xfrm>
            <a:custGeom>
              <a:avLst/>
              <a:gdLst/>
              <a:ahLst/>
              <a:rect l="l" t="t" r="r" b="b"/>
              <a:pathLst>
                <a:path w="11" h="1598">
                  <a:moveTo>
                    <a:pt x="11" y="0"/>
                  </a:moveTo>
                  <a:lnTo>
                    <a:pt x="11" y="158"/>
                  </a:lnTo>
                  <a:lnTo>
                    <a:pt x="0" y="158"/>
                  </a:lnTo>
                  <a:lnTo>
                    <a:pt x="0" y="15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922480" y="2676600"/>
              <a:ext cx="109800" cy="16344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69" y="0"/>
                  </a:lnTo>
                  <a:lnTo>
                    <a:pt x="138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2914560" y="3929040"/>
              <a:ext cx="108000" cy="16524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138" y="0"/>
                  </a:moveTo>
                  <a:lnTo>
                    <a:pt x="69" y="206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2584440" y="3303720"/>
              <a:ext cx="7714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2594880" y="3311640"/>
              <a:ext cx="70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2 or SS7 circui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122800" y="2754360"/>
              <a:ext cx="746280" cy="495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46560" y="3146400"/>
              <a:ext cx="698760" cy="8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46560" y="2773440"/>
              <a:ext cx="698760" cy="333360"/>
            </a:xfrm>
            <a:custGeom>
              <a:avLst/>
              <a:gdLst/>
              <a:ahLst/>
              <a:rect l="l" t="t" r="r" b="b"/>
              <a:pathLst>
                <a:path w="880" h="418">
                  <a:moveTo>
                    <a:pt x="777" y="14"/>
                  </a:moveTo>
                  <a:lnTo>
                    <a:pt x="779" y="5"/>
                  </a:lnTo>
                  <a:lnTo>
                    <a:pt x="786" y="2"/>
                  </a:lnTo>
                  <a:lnTo>
                    <a:pt x="797" y="2"/>
                  </a:lnTo>
                  <a:lnTo>
                    <a:pt x="804" y="5"/>
                  </a:lnTo>
                  <a:lnTo>
                    <a:pt x="806" y="14"/>
                  </a:lnTo>
                  <a:lnTo>
                    <a:pt x="804" y="21"/>
                  </a:lnTo>
                  <a:lnTo>
                    <a:pt x="797" y="26"/>
                  </a:lnTo>
                  <a:lnTo>
                    <a:pt x="786" y="26"/>
                  </a:lnTo>
                  <a:lnTo>
                    <a:pt x="779" y="21"/>
                  </a:lnTo>
                  <a:lnTo>
                    <a:pt x="777" y="14"/>
                  </a:lnTo>
                  <a:close/>
                  <a:moveTo>
                    <a:pt x="659" y="14"/>
                  </a:moveTo>
                  <a:lnTo>
                    <a:pt x="662" y="5"/>
                  </a:lnTo>
                  <a:lnTo>
                    <a:pt x="669" y="2"/>
                  </a:lnTo>
                  <a:lnTo>
                    <a:pt x="678" y="2"/>
                  </a:lnTo>
                  <a:lnTo>
                    <a:pt x="685" y="5"/>
                  </a:lnTo>
                  <a:lnTo>
                    <a:pt x="689" y="14"/>
                  </a:lnTo>
                  <a:lnTo>
                    <a:pt x="685" y="21"/>
                  </a:lnTo>
                  <a:lnTo>
                    <a:pt x="678" y="26"/>
                  </a:lnTo>
                  <a:lnTo>
                    <a:pt x="669" y="26"/>
                  </a:lnTo>
                  <a:lnTo>
                    <a:pt x="662" y="21"/>
                  </a:lnTo>
                  <a:lnTo>
                    <a:pt x="659" y="14"/>
                  </a:lnTo>
                  <a:close/>
                  <a:moveTo>
                    <a:pt x="542" y="14"/>
                  </a:moveTo>
                  <a:lnTo>
                    <a:pt x="544" y="5"/>
                  </a:lnTo>
                  <a:lnTo>
                    <a:pt x="553" y="2"/>
                  </a:lnTo>
                  <a:lnTo>
                    <a:pt x="562" y="2"/>
                  </a:lnTo>
                  <a:lnTo>
                    <a:pt x="569" y="5"/>
                  </a:lnTo>
                  <a:lnTo>
                    <a:pt x="570" y="14"/>
                  </a:lnTo>
                  <a:lnTo>
                    <a:pt x="569" y="21"/>
                  </a:lnTo>
                  <a:lnTo>
                    <a:pt x="562" y="26"/>
                  </a:lnTo>
                  <a:lnTo>
                    <a:pt x="553" y="26"/>
                  </a:lnTo>
                  <a:lnTo>
                    <a:pt x="544" y="21"/>
                  </a:lnTo>
                  <a:lnTo>
                    <a:pt x="542" y="14"/>
                  </a:lnTo>
                  <a:close/>
                  <a:moveTo>
                    <a:pt x="424" y="14"/>
                  </a:moveTo>
                  <a:lnTo>
                    <a:pt x="427" y="5"/>
                  </a:lnTo>
                  <a:lnTo>
                    <a:pt x="434" y="2"/>
                  </a:lnTo>
                  <a:lnTo>
                    <a:pt x="443" y="2"/>
                  </a:lnTo>
                  <a:lnTo>
                    <a:pt x="450" y="5"/>
                  </a:lnTo>
                  <a:lnTo>
                    <a:pt x="454" y="14"/>
                  </a:lnTo>
                  <a:lnTo>
                    <a:pt x="450" y="21"/>
                  </a:lnTo>
                  <a:lnTo>
                    <a:pt x="443" y="26"/>
                  </a:lnTo>
                  <a:lnTo>
                    <a:pt x="434" y="26"/>
                  </a:lnTo>
                  <a:lnTo>
                    <a:pt x="427" y="21"/>
                  </a:lnTo>
                  <a:lnTo>
                    <a:pt x="424" y="14"/>
                  </a:lnTo>
                  <a:close/>
                  <a:moveTo>
                    <a:pt x="307" y="14"/>
                  </a:moveTo>
                  <a:lnTo>
                    <a:pt x="311" y="5"/>
                  </a:lnTo>
                  <a:lnTo>
                    <a:pt x="318" y="2"/>
                  </a:lnTo>
                  <a:lnTo>
                    <a:pt x="327" y="2"/>
                  </a:lnTo>
                  <a:lnTo>
                    <a:pt x="334" y="5"/>
                  </a:lnTo>
                  <a:lnTo>
                    <a:pt x="337" y="14"/>
                  </a:lnTo>
                  <a:lnTo>
                    <a:pt x="334" y="21"/>
                  </a:lnTo>
                  <a:lnTo>
                    <a:pt x="327" y="26"/>
                  </a:lnTo>
                  <a:lnTo>
                    <a:pt x="318" y="26"/>
                  </a:lnTo>
                  <a:lnTo>
                    <a:pt x="311" y="21"/>
                  </a:lnTo>
                  <a:lnTo>
                    <a:pt x="307" y="14"/>
                  </a:lnTo>
                  <a:close/>
                  <a:moveTo>
                    <a:pt x="189" y="14"/>
                  </a:moveTo>
                  <a:lnTo>
                    <a:pt x="192" y="5"/>
                  </a:lnTo>
                  <a:lnTo>
                    <a:pt x="199" y="2"/>
                  </a:lnTo>
                  <a:lnTo>
                    <a:pt x="208" y="2"/>
                  </a:lnTo>
                  <a:lnTo>
                    <a:pt x="217" y="5"/>
                  </a:lnTo>
                  <a:lnTo>
                    <a:pt x="219" y="14"/>
                  </a:lnTo>
                  <a:lnTo>
                    <a:pt x="217" y="21"/>
                  </a:lnTo>
                  <a:lnTo>
                    <a:pt x="208" y="26"/>
                  </a:lnTo>
                  <a:lnTo>
                    <a:pt x="199" y="26"/>
                  </a:lnTo>
                  <a:lnTo>
                    <a:pt x="192" y="21"/>
                  </a:lnTo>
                  <a:lnTo>
                    <a:pt x="189" y="14"/>
                  </a:lnTo>
                  <a:close/>
                  <a:moveTo>
                    <a:pt x="72" y="14"/>
                  </a:moveTo>
                  <a:lnTo>
                    <a:pt x="76" y="5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99" y="5"/>
                  </a:lnTo>
                  <a:lnTo>
                    <a:pt x="102" y="14"/>
                  </a:lnTo>
                  <a:lnTo>
                    <a:pt x="99" y="21"/>
                  </a:lnTo>
                  <a:lnTo>
                    <a:pt x="92" y="26"/>
                  </a:lnTo>
                  <a:lnTo>
                    <a:pt x="83" y="26"/>
                  </a:lnTo>
                  <a:lnTo>
                    <a:pt x="76" y="21"/>
                  </a:lnTo>
                  <a:lnTo>
                    <a:pt x="72" y="14"/>
                  </a:lnTo>
                  <a:close/>
                  <a:moveTo>
                    <a:pt x="116" y="418"/>
                  </a:moveTo>
                  <a:lnTo>
                    <a:pt x="175" y="418"/>
                  </a:lnTo>
                  <a:lnTo>
                    <a:pt x="175" y="0"/>
                  </a:lnTo>
                  <a:lnTo>
                    <a:pt x="116" y="0"/>
                  </a:lnTo>
                  <a:lnTo>
                    <a:pt x="116" y="418"/>
                  </a:lnTo>
                  <a:close/>
                  <a:moveTo>
                    <a:pt x="233" y="418"/>
                  </a:moveTo>
                  <a:lnTo>
                    <a:pt x="293" y="418"/>
                  </a:lnTo>
                  <a:lnTo>
                    <a:pt x="293" y="0"/>
                  </a:lnTo>
                  <a:lnTo>
                    <a:pt x="233" y="0"/>
                  </a:lnTo>
                  <a:lnTo>
                    <a:pt x="233" y="418"/>
                  </a:lnTo>
                  <a:close/>
                  <a:moveTo>
                    <a:pt x="351" y="418"/>
                  </a:moveTo>
                  <a:lnTo>
                    <a:pt x="410" y="418"/>
                  </a:lnTo>
                  <a:lnTo>
                    <a:pt x="410" y="0"/>
                  </a:lnTo>
                  <a:lnTo>
                    <a:pt x="351" y="0"/>
                  </a:lnTo>
                  <a:lnTo>
                    <a:pt x="351" y="418"/>
                  </a:lnTo>
                  <a:close/>
                  <a:moveTo>
                    <a:pt x="468" y="418"/>
                  </a:moveTo>
                  <a:lnTo>
                    <a:pt x="526" y="418"/>
                  </a:lnTo>
                  <a:lnTo>
                    <a:pt x="526" y="0"/>
                  </a:lnTo>
                  <a:lnTo>
                    <a:pt x="468" y="0"/>
                  </a:lnTo>
                  <a:lnTo>
                    <a:pt x="468" y="418"/>
                  </a:lnTo>
                  <a:close/>
                  <a:moveTo>
                    <a:pt x="586" y="418"/>
                  </a:moveTo>
                  <a:lnTo>
                    <a:pt x="645" y="418"/>
                  </a:lnTo>
                  <a:lnTo>
                    <a:pt x="645" y="0"/>
                  </a:lnTo>
                  <a:lnTo>
                    <a:pt x="586" y="0"/>
                  </a:lnTo>
                  <a:lnTo>
                    <a:pt x="586" y="418"/>
                  </a:lnTo>
                  <a:close/>
                  <a:moveTo>
                    <a:pt x="703" y="418"/>
                  </a:moveTo>
                  <a:lnTo>
                    <a:pt x="761" y="418"/>
                  </a:lnTo>
                  <a:lnTo>
                    <a:pt x="761" y="0"/>
                  </a:lnTo>
                  <a:lnTo>
                    <a:pt x="703" y="0"/>
                  </a:lnTo>
                  <a:lnTo>
                    <a:pt x="703" y="418"/>
                  </a:lnTo>
                  <a:close/>
                  <a:moveTo>
                    <a:pt x="821" y="418"/>
                  </a:moveTo>
                  <a:lnTo>
                    <a:pt x="880" y="418"/>
                  </a:lnTo>
                  <a:lnTo>
                    <a:pt x="880" y="0"/>
                  </a:lnTo>
                  <a:lnTo>
                    <a:pt x="821" y="0"/>
                  </a:lnTo>
                  <a:lnTo>
                    <a:pt x="821" y="418"/>
                  </a:lnTo>
                  <a:close/>
                  <a:moveTo>
                    <a:pt x="0" y="418"/>
                  </a:moveTo>
                  <a:lnTo>
                    <a:pt x="58" y="418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168880" y="3166920"/>
              <a:ext cx="652320" cy="41400"/>
            </a:xfrm>
            <a:custGeom>
              <a:avLst/>
              <a:gdLst/>
              <a:ahLst/>
              <a:rect l="l" t="t" r="r" b="b"/>
              <a:pathLst>
                <a:path w="822" h="51">
                  <a:moveTo>
                    <a:pt x="705" y="51"/>
                  </a:moveTo>
                  <a:lnTo>
                    <a:pt x="822" y="51"/>
                  </a:lnTo>
                  <a:lnTo>
                    <a:pt x="822" y="0"/>
                  </a:lnTo>
                  <a:lnTo>
                    <a:pt x="705" y="0"/>
                  </a:lnTo>
                  <a:lnTo>
                    <a:pt x="705" y="51"/>
                  </a:lnTo>
                  <a:close/>
                  <a:moveTo>
                    <a:pt x="528" y="51"/>
                  </a:moveTo>
                  <a:lnTo>
                    <a:pt x="647" y="51"/>
                  </a:lnTo>
                  <a:lnTo>
                    <a:pt x="647" y="0"/>
                  </a:lnTo>
                  <a:lnTo>
                    <a:pt x="528" y="0"/>
                  </a:lnTo>
                  <a:lnTo>
                    <a:pt x="528" y="51"/>
                  </a:lnTo>
                  <a:close/>
                  <a:moveTo>
                    <a:pt x="352" y="51"/>
                  </a:moveTo>
                  <a:lnTo>
                    <a:pt x="470" y="51"/>
                  </a:lnTo>
                  <a:lnTo>
                    <a:pt x="470" y="0"/>
                  </a:lnTo>
                  <a:lnTo>
                    <a:pt x="352" y="0"/>
                  </a:lnTo>
                  <a:lnTo>
                    <a:pt x="352" y="51"/>
                  </a:lnTo>
                  <a:close/>
                  <a:moveTo>
                    <a:pt x="177" y="51"/>
                  </a:moveTo>
                  <a:lnTo>
                    <a:pt x="293" y="51"/>
                  </a:lnTo>
                  <a:lnTo>
                    <a:pt x="293" y="0"/>
                  </a:lnTo>
                  <a:lnTo>
                    <a:pt x="177" y="0"/>
                  </a:lnTo>
                  <a:lnTo>
                    <a:pt x="177" y="51"/>
                  </a:lnTo>
                  <a:close/>
                  <a:moveTo>
                    <a:pt x="0" y="51"/>
                  </a:moveTo>
                  <a:lnTo>
                    <a:pt x="118" y="51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065560" y="3287880"/>
              <a:ext cx="3780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109480" y="329724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181480" y="3505320"/>
              <a:ext cx="638280" cy="150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213520" y="3562200"/>
              <a:ext cx="31680" cy="39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452920" y="3562200"/>
              <a:ext cx="3333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181480" y="3524400"/>
              <a:ext cx="638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468760" y="3571920"/>
              <a:ext cx="303480" cy="20520"/>
            </a:xfrm>
            <a:custGeom>
              <a:avLst/>
              <a:gdLst/>
              <a:ahLst/>
              <a:rect l="l" t="t" r="r" b="b"/>
              <a:pathLst>
                <a:path w="382" h="25">
                  <a:moveTo>
                    <a:pt x="80" y="25"/>
                  </a:moveTo>
                  <a:lnTo>
                    <a:pt x="101" y="25"/>
                  </a:lnTo>
                  <a:lnTo>
                    <a:pt x="101" y="0"/>
                  </a:lnTo>
                  <a:lnTo>
                    <a:pt x="80" y="0"/>
                  </a:lnTo>
                  <a:lnTo>
                    <a:pt x="80" y="25"/>
                  </a:lnTo>
                  <a:close/>
                  <a:moveTo>
                    <a:pt x="41" y="25"/>
                  </a:moveTo>
                  <a:lnTo>
                    <a:pt x="60" y="25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41" y="25"/>
                  </a:lnTo>
                  <a:close/>
                  <a:moveTo>
                    <a:pt x="0" y="25"/>
                  </a:moveTo>
                  <a:lnTo>
                    <a:pt x="20" y="2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5"/>
                  </a:lnTo>
                  <a:close/>
                  <a:moveTo>
                    <a:pt x="142" y="25"/>
                  </a:moveTo>
                  <a:lnTo>
                    <a:pt x="161" y="25"/>
                  </a:lnTo>
                  <a:lnTo>
                    <a:pt x="161" y="0"/>
                  </a:lnTo>
                  <a:lnTo>
                    <a:pt x="142" y="0"/>
                  </a:lnTo>
                  <a:lnTo>
                    <a:pt x="142" y="25"/>
                  </a:lnTo>
                  <a:close/>
                  <a:moveTo>
                    <a:pt x="202" y="25"/>
                  </a:moveTo>
                  <a:lnTo>
                    <a:pt x="221" y="25"/>
                  </a:lnTo>
                  <a:lnTo>
                    <a:pt x="221" y="0"/>
                  </a:lnTo>
                  <a:lnTo>
                    <a:pt x="202" y="0"/>
                  </a:lnTo>
                  <a:lnTo>
                    <a:pt x="202" y="25"/>
                  </a:lnTo>
                  <a:close/>
                  <a:moveTo>
                    <a:pt x="241" y="25"/>
                  </a:moveTo>
                  <a:lnTo>
                    <a:pt x="262" y="25"/>
                  </a:lnTo>
                  <a:lnTo>
                    <a:pt x="262" y="0"/>
                  </a:lnTo>
                  <a:lnTo>
                    <a:pt x="241" y="0"/>
                  </a:lnTo>
                  <a:lnTo>
                    <a:pt x="241" y="25"/>
                  </a:lnTo>
                  <a:close/>
                  <a:moveTo>
                    <a:pt x="281" y="25"/>
                  </a:moveTo>
                  <a:lnTo>
                    <a:pt x="303" y="25"/>
                  </a:lnTo>
                  <a:lnTo>
                    <a:pt x="303" y="0"/>
                  </a:lnTo>
                  <a:lnTo>
                    <a:pt x="281" y="0"/>
                  </a:lnTo>
                  <a:lnTo>
                    <a:pt x="281" y="25"/>
                  </a:lnTo>
                  <a:close/>
                  <a:moveTo>
                    <a:pt x="322" y="25"/>
                  </a:moveTo>
                  <a:lnTo>
                    <a:pt x="341" y="25"/>
                  </a:lnTo>
                  <a:lnTo>
                    <a:pt x="341" y="0"/>
                  </a:lnTo>
                  <a:lnTo>
                    <a:pt x="322" y="0"/>
                  </a:lnTo>
                  <a:lnTo>
                    <a:pt x="322" y="25"/>
                  </a:lnTo>
                  <a:close/>
                  <a:moveTo>
                    <a:pt x="363" y="25"/>
                  </a:moveTo>
                  <a:lnTo>
                    <a:pt x="382" y="25"/>
                  </a:lnTo>
                  <a:lnTo>
                    <a:pt x="382" y="0"/>
                  </a:lnTo>
                  <a:lnTo>
                    <a:pt x="363" y="0"/>
                  </a:lnTo>
                  <a:lnTo>
                    <a:pt x="36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5560" y="3693960"/>
              <a:ext cx="297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106600" y="370188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495760" y="3249720"/>
              <a:ext cx="180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884760" y="2028960"/>
              <a:ext cx="1611000" cy="636480"/>
            </a:xfrm>
            <a:custGeom>
              <a:avLst/>
              <a:gdLst/>
              <a:ahLst/>
              <a:rect l="l" t="t" r="r" b="b"/>
              <a:pathLst>
                <a:path w="2031" h="801">
                  <a:moveTo>
                    <a:pt x="0" y="0"/>
                  </a:moveTo>
                  <a:lnTo>
                    <a:pt x="2031" y="0"/>
                  </a:lnTo>
                  <a:lnTo>
                    <a:pt x="2031" y="80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464080" y="2657520"/>
              <a:ext cx="65160" cy="968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1" y="0"/>
                  </a:moveTo>
                  <a:lnTo>
                    <a:pt x="41" y="121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745160" y="1852560"/>
              <a:ext cx="5680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796640" y="186048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862880" y="1973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960080" y="20844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448320" y="2365200"/>
              <a:ext cx="381240" cy="2373480"/>
            </a:xfrm>
            <a:custGeom>
              <a:avLst/>
              <a:gdLst/>
              <a:ahLst/>
              <a:rect l="l" t="t" r="r" b="b"/>
              <a:pathLst>
                <a:path w="479" h="2991">
                  <a:moveTo>
                    <a:pt x="479" y="0"/>
                  </a:moveTo>
                  <a:lnTo>
                    <a:pt x="479" y="2991"/>
                  </a:lnTo>
                  <a:lnTo>
                    <a:pt x="0" y="299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311120" y="1000080"/>
              <a:ext cx="908280" cy="380880"/>
            </a:xfrm>
            <a:custGeom>
              <a:avLst/>
              <a:gdLst/>
              <a:ahLst/>
              <a:rect l="l" t="t" r="r" b="b"/>
              <a:pathLst>
                <a:path w="1143" h="478">
                  <a:moveTo>
                    <a:pt x="0" y="0"/>
                  </a:moveTo>
                  <a:lnTo>
                    <a:pt x="1143" y="0"/>
                  </a:lnTo>
                  <a:lnTo>
                    <a:pt x="1143" y="4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5" name=""/>
          <p:cNvSpPr/>
          <p:nvPr/>
        </p:nvSpPr>
        <p:spPr>
          <a:xfrm>
            <a:off x="1649520" y="2765520"/>
            <a:ext cx="569880" cy="1212840"/>
          </a:xfrm>
          <a:custGeom>
            <a:avLst/>
            <a:gdLst/>
            <a:ahLst/>
            <a:rect l="l" t="t" r="r" b="b"/>
            <a:pathLst>
              <a:path w="717" h="1529">
                <a:moveTo>
                  <a:pt x="717" y="0"/>
                </a:moveTo>
                <a:lnTo>
                  <a:pt x="717" y="1529"/>
                </a:lnTo>
                <a:lnTo>
                  <a:pt x="0" y="15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2187720" y="2676600"/>
            <a:ext cx="63360" cy="96840"/>
          </a:xfrm>
          <a:custGeom>
            <a:avLst/>
            <a:gdLst/>
            <a:ahLst/>
            <a:rect l="l" t="t" r="r" b="b"/>
            <a:pathLst>
              <a:path w="81" h="122">
                <a:moveTo>
                  <a:pt x="0" y="122"/>
                </a:moveTo>
                <a:lnTo>
                  <a:pt x="40" y="0"/>
                </a:lnTo>
                <a:lnTo>
                  <a:pt x="81" y="12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562040" y="3946680"/>
            <a:ext cx="96840" cy="6480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22" y="81"/>
                </a:moveTo>
                <a:lnTo>
                  <a:pt x="0" y="41"/>
                </a:lnTo>
                <a:lnTo>
                  <a:pt x="122" y="0"/>
                </a:lnTo>
                <a:lnTo>
                  <a:pt x="122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2976480" y="933480"/>
            <a:ext cx="324000" cy="447480"/>
          </a:xfrm>
          <a:custGeom>
            <a:avLst/>
            <a:gdLst/>
            <a:ahLst/>
            <a:rect l="l" t="t" r="r" b="b"/>
            <a:pathLst>
              <a:path w="408" h="563">
                <a:moveTo>
                  <a:pt x="408" y="0"/>
                </a:moveTo>
                <a:lnTo>
                  <a:pt x="408" y="157"/>
                </a:lnTo>
                <a:lnTo>
                  <a:pt x="0" y="157"/>
                </a:lnTo>
                <a:lnTo>
                  <a:pt x="0" y="56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146240" y="4738680"/>
            <a:ext cx="663480" cy="662040"/>
          </a:xfrm>
          <a:custGeom>
            <a:avLst/>
            <a:gdLst/>
            <a:ahLst/>
            <a:rect l="l" t="t" r="r" b="b"/>
            <a:pathLst>
              <a:path w="836" h="833">
                <a:moveTo>
                  <a:pt x="251" y="492"/>
                </a:moveTo>
                <a:lnTo>
                  <a:pt x="585" y="492"/>
                </a:lnTo>
                <a:lnTo>
                  <a:pt x="585" y="455"/>
                </a:lnTo>
                <a:lnTo>
                  <a:pt x="251" y="455"/>
                </a:lnTo>
                <a:lnTo>
                  <a:pt x="251" y="492"/>
                </a:lnTo>
                <a:close/>
                <a:moveTo>
                  <a:pt x="85" y="455"/>
                </a:moveTo>
                <a:lnTo>
                  <a:pt x="751" y="455"/>
                </a:lnTo>
                <a:lnTo>
                  <a:pt x="751" y="0"/>
                </a:lnTo>
                <a:lnTo>
                  <a:pt x="85" y="0"/>
                </a:lnTo>
                <a:lnTo>
                  <a:pt x="85" y="455"/>
                </a:lnTo>
                <a:close/>
                <a:moveTo>
                  <a:pt x="168" y="607"/>
                </a:moveTo>
                <a:lnTo>
                  <a:pt x="668" y="607"/>
                </a:lnTo>
                <a:lnTo>
                  <a:pt x="668" y="492"/>
                </a:lnTo>
                <a:lnTo>
                  <a:pt x="168" y="492"/>
                </a:lnTo>
                <a:lnTo>
                  <a:pt x="168" y="607"/>
                </a:lnTo>
                <a:close/>
                <a:moveTo>
                  <a:pt x="628" y="607"/>
                </a:moveTo>
                <a:lnTo>
                  <a:pt x="244" y="607"/>
                </a:lnTo>
                <a:lnTo>
                  <a:pt x="0" y="607"/>
                </a:lnTo>
                <a:lnTo>
                  <a:pt x="0" y="833"/>
                </a:lnTo>
                <a:lnTo>
                  <a:pt x="836" y="833"/>
                </a:lnTo>
                <a:lnTo>
                  <a:pt x="836" y="607"/>
                </a:lnTo>
                <a:lnTo>
                  <a:pt x="628" y="607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1362240" y="5265720"/>
            <a:ext cx="99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1163520" y="5237280"/>
            <a:ext cx="50760" cy="2844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4" y="9"/>
                </a:lnTo>
                <a:lnTo>
                  <a:pt x="13" y="4"/>
                </a:lnTo>
                <a:lnTo>
                  <a:pt x="25" y="0"/>
                </a:lnTo>
                <a:lnTo>
                  <a:pt x="39" y="0"/>
                </a:lnTo>
                <a:lnTo>
                  <a:pt x="52" y="4"/>
                </a:lnTo>
                <a:lnTo>
                  <a:pt x="61" y="9"/>
                </a:lnTo>
                <a:lnTo>
                  <a:pt x="64" y="18"/>
                </a:lnTo>
                <a:lnTo>
                  <a:pt x="61" y="27"/>
                </a:lnTo>
                <a:lnTo>
                  <a:pt x="52" y="32"/>
                </a:lnTo>
                <a:lnTo>
                  <a:pt x="39" y="37"/>
                </a:lnTo>
                <a:lnTo>
                  <a:pt x="25" y="37"/>
                </a:lnTo>
                <a:lnTo>
                  <a:pt x="13" y="32"/>
                </a:lnTo>
                <a:lnTo>
                  <a:pt x="4" y="27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1279440" y="4799160"/>
            <a:ext cx="397080" cy="2412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1163520" y="5356080"/>
            <a:ext cx="628920" cy="3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1727280" y="5235480"/>
            <a:ext cx="31680" cy="4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1146240" y="529596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146240" y="532620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34604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7780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 flipV="1">
            <a:off x="1544760" y="522108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676520" y="522144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1219320" y="5440320"/>
            <a:ext cx="51732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1268280" y="5448240"/>
            <a:ext cx="46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1809720" y="4738680"/>
            <a:ext cx="514440" cy="552600"/>
          </a:xfrm>
          <a:custGeom>
            <a:avLst/>
            <a:gdLst/>
            <a:ahLst/>
            <a:rect l="l" t="t" r="r" b="b"/>
            <a:pathLst>
              <a:path w="647" h="695">
                <a:moveTo>
                  <a:pt x="647" y="0"/>
                </a:moveTo>
                <a:lnTo>
                  <a:pt x="492" y="0"/>
                </a:lnTo>
                <a:lnTo>
                  <a:pt x="492" y="695"/>
                </a:lnTo>
                <a:lnTo>
                  <a:pt x="0" y="6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2219400" y="1380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2274840" y="1474920"/>
            <a:ext cx="3348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2328840" y="15685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2384280" y="16621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438280" y="1755720"/>
            <a:ext cx="349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494080" y="18493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2549520" y="19447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2603520" y="20383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2658960" y="2131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2714760" y="2225520"/>
            <a:ext cx="3312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770200" y="2320920"/>
            <a:ext cx="3348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2824200" y="2416320"/>
            <a:ext cx="3492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2879640" y="2509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2935440" y="2604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2976480" y="138096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3065400" y="1442880"/>
            <a:ext cx="54000" cy="3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3154320" y="150660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3241800" y="1571760"/>
            <a:ext cx="55440" cy="3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3330720" y="1633680"/>
            <a:ext cx="540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419640" y="1697040"/>
            <a:ext cx="536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3508200" y="176040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3597120" y="1824120"/>
            <a:ext cx="540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3686040" y="188748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3774960" y="1951200"/>
            <a:ext cx="558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3863880" y="2014560"/>
            <a:ext cx="208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4129200" y="391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4129200" y="423864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4129200" y="439092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4129200" y="454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4129200" y="487044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4129200" y="502128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4129200" y="517212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4129200" y="550080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4129200" y="5651640"/>
            <a:ext cx="144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4129200" y="1595520"/>
            <a:ext cx="496800" cy="396720"/>
          </a:xfrm>
          <a:custGeom>
            <a:avLst/>
            <a:gdLst/>
            <a:ahLst/>
            <a:rect l="l" t="t" r="r" b="b"/>
            <a:pathLst>
              <a:path w="627" h="499">
                <a:moveTo>
                  <a:pt x="0" y="250"/>
                </a:moveTo>
                <a:lnTo>
                  <a:pt x="3" y="212"/>
                </a:lnTo>
                <a:lnTo>
                  <a:pt x="14" y="176"/>
                </a:lnTo>
                <a:lnTo>
                  <a:pt x="31" y="141"/>
                </a:lnTo>
                <a:lnTo>
                  <a:pt x="54" y="109"/>
                </a:lnTo>
                <a:lnTo>
                  <a:pt x="84" y="79"/>
                </a:lnTo>
                <a:lnTo>
                  <a:pt x="118" y="55"/>
                </a:lnTo>
                <a:lnTo>
                  <a:pt x="157" y="33"/>
                </a:lnTo>
                <a:lnTo>
                  <a:pt x="199" y="17"/>
                </a:lnTo>
                <a:lnTo>
                  <a:pt x="243" y="5"/>
                </a:lnTo>
                <a:lnTo>
                  <a:pt x="289" y="0"/>
                </a:lnTo>
                <a:lnTo>
                  <a:pt x="337" y="0"/>
                </a:lnTo>
                <a:lnTo>
                  <a:pt x="383" y="5"/>
                </a:lnTo>
                <a:lnTo>
                  <a:pt x="427" y="17"/>
                </a:lnTo>
                <a:lnTo>
                  <a:pt x="470" y="33"/>
                </a:lnTo>
                <a:lnTo>
                  <a:pt x="509" y="55"/>
                </a:lnTo>
                <a:lnTo>
                  <a:pt x="542" y="79"/>
                </a:lnTo>
                <a:lnTo>
                  <a:pt x="572" y="109"/>
                </a:lnTo>
                <a:lnTo>
                  <a:pt x="595" y="141"/>
                </a:lnTo>
                <a:lnTo>
                  <a:pt x="613" y="176"/>
                </a:lnTo>
                <a:lnTo>
                  <a:pt x="623" y="212"/>
                </a:lnTo>
                <a:lnTo>
                  <a:pt x="627" y="250"/>
                </a:lnTo>
                <a:lnTo>
                  <a:pt x="623" y="288"/>
                </a:lnTo>
                <a:lnTo>
                  <a:pt x="613" y="323"/>
                </a:lnTo>
                <a:lnTo>
                  <a:pt x="595" y="358"/>
                </a:lnTo>
                <a:lnTo>
                  <a:pt x="572" y="390"/>
                </a:lnTo>
                <a:lnTo>
                  <a:pt x="542" y="420"/>
                </a:lnTo>
                <a:lnTo>
                  <a:pt x="509" y="445"/>
                </a:lnTo>
                <a:lnTo>
                  <a:pt x="470" y="466"/>
                </a:lnTo>
                <a:lnTo>
                  <a:pt x="427" y="483"/>
                </a:lnTo>
                <a:lnTo>
                  <a:pt x="383" y="494"/>
                </a:lnTo>
                <a:lnTo>
                  <a:pt x="337" y="499"/>
                </a:lnTo>
                <a:lnTo>
                  <a:pt x="289" y="499"/>
                </a:lnTo>
                <a:lnTo>
                  <a:pt x="243" y="494"/>
                </a:lnTo>
                <a:lnTo>
                  <a:pt x="199" y="483"/>
                </a:lnTo>
                <a:lnTo>
                  <a:pt x="157" y="466"/>
                </a:lnTo>
                <a:lnTo>
                  <a:pt x="118" y="445"/>
                </a:lnTo>
                <a:lnTo>
                  <a:pt x="84" y="420"/>
                </a:lnTo>
                <a:lnTo>
                  <a:pt x="54" y="390"/>
                </a:lnTo>
                <a:lnTo>
                  <a:pt x="31" y="358"/>
                </a:lnTo>
                <a:lnTo>
                  <a:pt x="14" y="323"/>
                </a:lnTo>
                <a:lnTo>
                  <a:pt x="3" y="288"/>
                </a:lnTo>
                <a:lnTo>
                  <a:pt x="0" y="250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4357440" y="1693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3052800" y="2836800"/>
            <a:ext cx="496800" cy="496800"/>
          </a:xfrm>
          <a:custGeom>
            <a:avLst/>
            <a:gdLst/>
            <a:ahLst/>
            <a:rect l="l" t="t" r="r" b="b"/>
            <a:pathLst>
              <a:path w="626" h="625">
                <a:moveTo>
                  <a:pt x="0" y="313"/>
                </a:moveTo>
                <a:lnTo>
                  <a:pt x="4" y="265"/>
                </a:lnTo>
                <a:lnTo>
                  <a:pt x="12" y="221"/>
                </a:lnTo>
                <a:lnTo>
                  <a:pt x="30" y="177"/>
                </a:lnTo>
                <a:lnTo>
                  <a:pt x="53" y="136"/>
                </a:lnTo>
                <a:lnTo>
                  <a:pt x="83" y="99"/>
                </a:lnTo>
                <a:lnTo>
                  <a:pt x="117" y="67"/>
                </a:lnTo>
                <a:lnTo>
                  <a:pt x="156" y="41"/>
                </a:lnTo>
                <a:lnTo>
                  <a:pt x="198" y="22"/>
                </a:lnTo>
                <a:lnTo>
                  <a:pt x="242" y="7"/>
                </a:lnTo>
                <a:lnTo>
                  <a:pt x="288" y="0"/>
                </a:lnTo>
                <a:lnTo>
                  <a:pt x="336" y="0"/>
                </a:lnTo>
                <a:lnTo>
                  <a:pt x="382" y="7"/>
                </a:lnTo>
                <a:lnTo>
                  <a:pt x="426" y="22"/>
                </a:lnTo>
                <a:lnTo>
                  <a:pt x="468" y="41"/>
                </a:lnTo>
                <a:lnTo>
                  <a:pt x="507" y="67"/>
                </a:lnTo>
                <a:lnTo>
                  <a:pt x="543" y="99"/>
                </a:lnTo>
                <a:lnTo>
                  <a:pt x="571" y="136"/>
                </a:lnTo>
                <a:lnTo>
                  <a:pt x="594" y="177"/>
                </a:lnTo>
                <a:lnTo>
                  <a:pt x="612" y="221"/>
                </a:lnTo>
                <a:lnTo>
                  <a:pt x="622" y="265"/>
                </a:lnTo>
                <a:lnTo>
                  <a:pt x="626" y="313"/>
                </a:lnTo>
                <a:lnTo>
                  <a:pt x="622" y="359"/>
                </a:lnTo>
                <a:lnTo>
                  <a:pt x="612" y="405"/>
                </a:lnTo>
                <a:lnTo>
                  <a:pt x="594" y="449"/>
                </a:lnTo>
                <a:lnTo>
                  <a:pt x="571" y="489"/>
                </a:lnTo>
                <a:lnTo>
                  <a:pt x="543" y="525"/>
                </a:lnTo>
                <a:lnTo>
                  <a:pt x="507" y="556"/>
                </a:lnTo>
                <a:lnTo>
                  <a:pt x="468" y="583"/>
                </a:lnTo>
                <a:lnTo>
                  <a:pt x="426" y="604"/>
                </a:lnTo>
                <a:lnTo>
                  <a:pt x="382" y="618"/>
                </a:lnTo>
                <a:lnTo>
                  <a:pt x="336" y="625"/>
                </a:lnTo>
                <a:lnTo>
                  <a:pt x="288" y="625"/>
                </a:lnTo>
                <a:lnTo>
                  <a:pt x="242" y="618"/>
                </a:lnTo>
                <a:lnTo>
                  <a:pt x="198" y="604"/>
                </a:lnTo>
                <a:lnTo>
                  <a:pt x="156" y="583"/>
                </a:lnTo>
                <a:lnTo>
                  <a:pt x="117" y="556"/>
                </a:lnTo>
                <a:lnTo>
                  <a:pt x="83" y="525"/>
                </a:lnTo>
                <a:lnTo>
                  <a:pt x="53" y="489"/>
                </a:lnTo>
                <a:lnTo>
                  <a:pt x="30" y="449"/>
                </a:lnTo>
                <a:lnTo>
                  <a:pt x="12" y="405"/>
                </a:lnTo>
                <a:lnTo>
                  <a:pt x="4" y="359"/>
                </a:lnTo>
                <a:lnTo>
                  <a:pt x="0" y="313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3281040" y="2982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1644480" y="2919240"/>
            <a:ext cx="497160" cy="497160"/>
          </a:xfrm>
          <a:custGeom>
            <a:avLst/>
            <a:gdLst/>
            <a:ahLst/>
            <a:rect l="l" t="t" r="r" b="b"/>
            <a:pathLst>
              <a:path w="625" h="624">
                <a:moveTo>
                  <a:pt x="0" y="312"/>
                </a:moveTo>
                <a:lnTo>
                  <a:pt x="3" y="266"/>
                </a:lnTo>
                <a:lnTo>
                  <a:pt x="12" y="220"/>
                </a:lnTo>
                <a:lnTo>
                  <a:pt x="30" y="176"/>
                </a:lnTo>
                <a:lnTo>
                  <a:pt x="53" y="135"/>
                </a:lnTo>
                <a:lnTo>
                  <a:pt x="83" y="98"/>
                </a:lnTo>
                <a:lnTo>
                  <a:pt x="116" y="67"/>
                </a:lnTo>
                <a:lnTo>
                  <a:pt x="155" y="40"/>
                </a:lnTo>
                <a:lnTo>
                  <a:pt x="198" y="21"/>
                </a:lnTo>
                <a:lnTo>
                  <a:pt x="242" y="7"/>
                </a:lnTo>
                <a:lnTo>
                  <a:pt x="289" y="0"/>
                </a:lnTo>
                <a:lnTo>
                  <a:pt x="335" y="0"/>
                </a:lnTo>
                <a:lnTo>
                  <a:pt x="381" y="7"/>
                </a:lnTo>
                <a:lnTo>
                  <a:pt x="427" y="21"/>
                </a:lnTo>
                <a:lnTo>
                  <a:pt x="468" y="40"/>
                </a:lnTo>
                <a:lnTo>
                  <a:pt x="507" y="67"/>
                </a:lnTo>
                <a:lnTo>
                  <a:pt x="542" y="98"/>
                </a:lnTo>
                <a:lnTo>
                  <a:pt x="570" y="135"/>
                </a:lnTo>
                <a:lnTo>
                  <a:pt x="593" y="176"/>
                </a:lnTo>
                <a:lnTo>
                  <a:pt x="611" y="220"/>
                </a:lnTo>
                <a:lnTo>
                  <a:pt x="622" y="266"/>
                </a:lnTo>
                <a:lnTo>
                  <a:pt x="625" y="312"/>
                </a:lnTo>
                <a:lnTo>
                  <a:pt x="622" y="358"/>
                </a:lnTo>
                <a:lnTo>
                  <a:pt x="611" y="404"/>
                </a:lnTo>
                <a:lnTo>
                  <a:pt x="593" y="448"/>
                </a:lnTo>
                <a:lnTo>
                  <a:pt x="570" y="488"/>
                </a:lnTo>
                <a:lnTo>
                  <a:pt x="542" y="524"/>
                </a:lnTo>
                <a:lnTo>
                  <a:pt x="507" y="555"/>
                </a:lnTo>
                <a:lnTo>
                  <a:pt x="468" y="582"/>
                </a:lnTo>
                <a:lnTo>
                  <a:pt x="427" y="603"/>
                </a:lnTo>
                <a:lnTo>
                  <a:pt x="381" y="617"/>
                </a:lnTo>
                <a:lnTo>
                  <a:pt x="335" y="624"/>
                </a:lnTo>
                <a:lnTo>
                  <a:pt x="289" y="624"/>
                </a:lnTo>
                <a:lnTo>
                  <a:pt x="242" y="617"/>
                </a:lnTo>
                <a:lnTo>
                  <a:pt x="198" y="603"/>
                </a:lnTo>
                <a:lnTo>
                  <a:pt x="155" y="582"/>
                </a:lnTo>
                <a:lnTo>
                  <a:pt x="116" y="555"/>
                </a:lnTo>
                <a:lnTo>
                  <a:pt x="83" y="524"/>
                </a:lnTo>
                <a:lnTo>
                  <a:pt x="53" y="488"/>
                </a:lnTo>
                <a:lnTo>
                  <a:pt x="30" y="448"/>
                </a:lnTo>
                <a:lnTo>
                  <a:pt x="12" y="404"/>
                </a:lnTo>
                <a:lnTo>
                  <a:pt x="3" y="358"/>
                </a:ln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872720" y="3065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3963960" y="603360"/>
            <a:ext cx="165240" cy="198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3976560" y="615960"/>
            <a:ext cx="47880" cy="173160"/>
          </a:xfrm>
          <a:custGeom>
            <a:avLst/>
            <a:gdLst/>
            <a:ahLst/>
            <a:rect l="l" t="t" r="r" b="b"/>
            <a:pathLst>
              <a:path w="60" h="218">
                <a:moveTo>
                  <a:pt x="0" y="47"/>
                </a:moveTo>
                <a:lnTo>
                  <a:pt x="0" y="8"/>
                </a:lnTo>
                <a:lnTo>
                  <a:pt x="9" y="0"/>
                </a:lnTo>
                <a:lnTo>
                  <a:pt x="53" y="0"/>
                </a:lnTo>
                <a:lnTo>
                  <a:pt x="60" y="8"/>
                </a:lnTo>
                <a:lnTo>
                  <a:pt x="60" y="47"/>
                </a:lnTo>
                <a:lnTo>
                  <a:pt x="53" y="63"/>
                </a:lnTo>
                <a:lnTo>
                  <a:pt x="53" y="157"/>
                </a:lnTo>
                <a:lnTo>
                  <a:pt x="60" y="172"/>
                </a:lnTo>
                <a:lnTo>
                  <a:pt x="60" y="211"/>
                </a:lnTo>
                <a:lnTo>
                  <a:pt x="53" y="218"/>
                </a:lnTo>
                <a:lnTo>
                  <a:pt x="9" y="218"/>
                </a:lnTo>
                <a:lnTo>
                  <a:pt x="0" y="211"/>
                </a:lnTo>
                <a:lnTo>
                  <a:pt x="0" y="172"/>
                </a:lnTo>
                <a:lnTo>
                  <a:pt x="9" y="157"/>
                </a:lnTo>
                <a:lnTo>
                  <a:pt x="9" y="63"/>
                </a:lnTo>
                <a:lnTo>
                  <a:pt x="0" y="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4038480" y="615960"/>
            <a:ext cx="76320" cy="173160"/>
          </a:xfrm>
          <a:custGeom>
            <a:avLst/>
            <a:gdLst/>
            <a:ahLst/>
            <a:rect l="l" t="t" r="r" b="b"/>
            <a:pathLst>
              <a:path w="96" h="218">
                <a:moveTo>
                  <a:pt x="0" y="79"/>
                </a:moveTo>
                <a:lnTo>
                  <a:pt x="45" y="79"/>
                </a:lnTo>
                <a:lnTo>
                  <a:pt x="45" y="0"/>
                </a:lnTo>
                <a:lnTo>
                  <a:pt x="0" y="0"/>
                </a:lnTo>
                <a:lnTo>
                  <a:pt x="0" y="79"/>
                </a:lnTo>
                <a:close/>
                <a:moveTo>
                  <a:pt x="53" y="79"/>
                </a:moveTo>
                <a:lnTo>
                  <a:pt x="96" y="79"/>
                </a:lnTo>
                <a:lnTo>
                  <a:pt x="96" y="0"/>
                </a:lnTo>
                <a:lnTo>
                  <a:pt x="53" y="0"/>
                </a:lnTo>
                <a:lnTo>
                  <a:pt x="53" y="79"/>
                </a:lnTo>
                <a:close/>
                <a:moveTo>
                  <a:pt x="0" y="218"/>
                </a:moveTo>
                <a:lnTo>
                  <a:pt x="96" y="218"/>
                </a:lnTo>
                <a:lnTo>
                  <a:pt x="96" y="141"/>
                </a:lnTo>
                <a:lnTo>
                  <a:pt x="0" y="141"/>
                </a:lnTo>
                <a:lnTo>
                  <a:pt x="0" y="21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4038480" y="7142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4038480" y="70956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4038480" y="7016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4038480" y="69696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4038480" y="69048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4081320" y="63036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4081320" y="66204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4081320" y="64620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4038480" y="63036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4038480" y="66204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4038480" y="64620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4038480" y="7732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4038480" y="7588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4038480" y="74304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4089240" y="727200"/>
            <a:ext cx="180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4064040" y="727200"/>
            <a:ext cx="144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3817800" y="839880"/>
            <a:ext cx="4590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3865680" y="84780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3549600" y="701640"/>
            <a:ext cx="414360" cy="108000"/>
          </a:xfrm>
          <a:custGeom>
            <a:avLst/>
            <a:gdLst/>
            <a:ahLst/>
            <a:rect l="l" t="t" r="r" b="b"/>
            <a:pathLst>
              <a:path w="521" h="136">
                <a:moveTo>
                  <a:pt x="521" y="0"/>
                </a:moveTo>
                <a:lnTo>
                  <a:pt x="365" y="0"/>
                </a:lnTo>
                <a:lnTo>
                  <a:pt x="365" y="136"/>
                </a:lnTo>
                <a:lnTo>
                  <a:pt x="0" y="1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2654280" y="1676520"/>
            <a:ext cx="5727600" cy="3441600"/>
          </a:xfrm>
          <a:custGeom>
            <a:avLst/>
            <a:gdLst/>
            <a:ahLst/>
            <a:rect l="l" t="t" r="r" b="b"/>
            <a:pathLst>
              <a:path w="3608" h="2168">
                <a:moveTo>
                  <a:pt x="3608" y="0"/>
                </a:moveTo>
                <a:cubicBezTo>
                  <a:pt x="3208" y="56"/>
                  <a:pt x="2808" y="112"/>
                  <a:pt x="2648" y="432"/>
                </a:cubicBezTo>
                <a:cubicBezTo>
                  <a:pt x="2488" y="752"/>
                  <a:pt x="2856" y="1672"/>
                  <a:pt x="2648" y="1920"/>
                </a:cubicBezTo>
                <a:cubicBezTo>
                  <a:pt x="2440" y="2168"/>
                  <a:pt x="1808" y="1928"/>
                  <a:pt x="1400" y="1920"/>
                </a:cubicBezTo>
                <a:cubicBezTo>
                  <a:pt x="992" y="1912"/>
                  <a:pt x="400" y="2088"/>
                  <a:pt x="200" y="1872"/>
                </a:cubicBezTo>
                <a:cubicBezTo>
                  <a:pt x="0" y="1656"/>
                  <a:pt x="200" y="808"/>
                  <a:pt x="200" y="62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E44-7FE0-4743-8C53-0D783642541B}" type="slidenum">
              <a:t>8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he AFRICOM cas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6F8-1457-43F0-B67B-C27131A8B1F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Actual pric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00" name="" descr=""/>
          <p:cNvPicPr/>
          <p:nvPr/>
        </p:nvPicPr>
        <p:blipFill>
          <a:blip r:embed="rId1"/>
          <a:stretch/>
        </p:blipFill>
        <p:spPr>
          <a:xfrm>
            <a:off x="2443320" y="1004760"/>
            <a:ext cx="4257360" cy="484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E20-B643-4F3F-9509-063C6B71B778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Cost orientated tariff basi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02" name="" descr=""/>
          <p:cNvPicPr/>
          <p:nvPr/>
        </p:nvPicPr>
        <p:blipFill>
          <a:blip r:embed="rId1"/>
          <a:stretch/>
        </p:blipFill>
        <p:spPr>
          <a:xfrm>
            <a:off x="781200" y="887400"/>
            <a:ext cx="7219800" cy="535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88B-5F1F-4716-93D2-5E76EF85C98D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Cost based tariff basi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04" name="" descr=""/>
          <p:cNvPicPr/>
          <p:nvPr/>
        </p:nvPicPr>
        <p:blipFill>
          <a:blip r:embed="rId1"/>
          <a:stretch/>
        </p:blipFill>
        <p:spPr>
          <a:xfrm>
            <a:off x="781200" y="887400"/>
            <a:ext cx="7219800" cy="535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E3A-4DF7-45B5-A547-281CB812635D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tatus of VoIP providers in Afriland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SO policy choices of the public authorities generate an access deficit of USD 151 million for Africo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the size of the deficit, all telephone service providers in Afriland should bear a fair share of i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se service providers operate a network, whatever the technology, they must have operator status and be subject to statutory USO constrain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should apply to Afriland VoIP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17C-C7E7-4D19-ADEE-D6A4A96EF61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qualization charg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riland’s USO policy creates a transfer of charges from domestic calls to international calls and domestic calls to national ca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ge transferred to the outgoing international service is equal to the difference between the cost-orientated tariffs and the cost-based tariffs: USD 0.37 - USD 0.2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 USD 0.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dditional charge, clear of all inefficiency costs and due solely to USO policy, is called the “equalization charge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should be applied to all international telephone service providers not participating in USO costs through the interconnection mechanism, in order to avoid regulatory arbitration: e.g. cyber caf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ceeds of the equalization charge are a resource belonging to the State which the incumbent operator may not cla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74C-927E-4E72-B445-7FD2319F0A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Monthly subscript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 “A” link telephone lines must not be subsidized. Africom should apply a monthly subscription charge of USD 22 instead of the current USD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7D7-197B-40A7-A7CF-B61364C10C9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Link “B” interconnection charg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3812" name=""/>
          <p:cNvGraphicFramePr/>
          <p:nvPr/>
        </p:nvGraphicFramePr>
        <p:xfrm>
          <a:off x="1523880" y="1397160"/>
          <a:ext cx="6096240" cy="4663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 must ke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or 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16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2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1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2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1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24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B38-B48D-40AB-ABD2-C5C6036668A0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xample 1: Africom customer to international customer via ISPT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mination charge Afriland-ISPTEL to Euroland-ISPTEL: USD 0.1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dogenous cost of Afriland-ISPTEL: USD 0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imum tariff when an Africom customer calls a Euroland customer via ISPTEL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.1693 + 0.15 + 0.10 = USD 0.41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fricom keeps USD 0.1693 and gives USD 0.25 to ISPTEL and its other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6BC-4A54-4BC1-822D-AEEB9D0769D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utgoing nat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from an end-user of the network of the operator for which the calculations are ma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other operator located within the same political borders as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ming national, single transit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network of another national operat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located in the charging area of the interconnection point and connected to the network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87B-76F2-483B-B7D2-C013B523C3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xample 2: International call from a cybercafé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dogenous costs of Afriland-ISPTEL from a cybercafé, including the latter’s costs: USD 0.1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mination charge Afriland-ISPTEL to Euroland-ISPTEL: USD 0.1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imum charge when cybercafé customer calls a Euroland customer via ISPTEL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.17 + 0.12 + 0.10 = USD 0.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PTEL pays USD 0.17 to the Afriland department of fin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094-7B63-4568-9E35-D730E14F7FC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xample 3: ISPTEL routes a call which has to be terminated by Africom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xample, ISPTEL terminates an international call in the tariff area of the interconnection po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SPTEL pays Africom USD 0.1266 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PTEL terminates an international call outside the tariff area of the interconnection po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SPTEL pays Africom USD 0.2486 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60% of the traffic terminated is “single transit”, ISPTEL and Africom could negotiate a single termination charge equal to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.1266 * 0.6 + 0.2486 * 0.4 = USD 0.17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70B-56CC-4F3C-ABE4-A1C62DEA0D0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7:17:07Z</dcterms:created>
  <dc:creator>Pape Gorgui TOURE</dc:creator>
  <dc:description/>
  <dc:language>en-US</dc:language>
  <cp:lastModifiedBy>UGALE, Arvin Carlos D.</cp:lastModifiedBy>
  <dcterms:modified xsi:type="dcterms:W3CDTF">2002-11-05T11:14:02Z</dcterms:modified>
  <cp:revision>133</cp:revision>
  <dc:subject/>
  <dc:title>PowerPoint Presentation</dc:title>
</cp:coreProperties>
</file>