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9F-1025-46B2-A38E-392F4D70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36D-2DA1-4A1A-8D39-1585652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9B4-E710-45C8-89EE-3DEA568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4DB-4288-4620-BFE5-9D31EC68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CCF-3C91-4874-A1F5-8D560A8F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6E8-4093-4081-AFDE-B80C6F9D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A9A-EDE5-4503-A5DA-24736B12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A8D-1FDF-4965-BA9E-C8F3FFC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451-181A-45CE-9146-6616E157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99-0BE8-4848-9FBD-62C65EF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E71-547B-40F6-BC64-D2EB647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64D-E734-4FE1-AE52-94E1B72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3A1-4F9A-4717-B6B6-A64AC152B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304920"/>
            <a:ext cx="852804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1295280"/>
            <a:ext cx="4724640" cy="415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cess Network Cost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Accounting Moda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ized: direct costs + indirect costs + common cost + capital cost (inclusive of interest on debt and return to equity) + tax and exogenous exp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cost should be fully recovered by rentals or one off purchas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 Costing Iter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LEC Unit Access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deficit/sur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network information re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formula for estimating unit cost (LE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bases for derivation of efficiency factor/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qualitative and quantitative formula for assessment of access deficit. i.e.difference. between cost per line and charge per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from operator/s data re: customer connections and collate such in term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rural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is classification is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and classify data in terms of connections per zone to different types of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Urban and sub-urban customers are likely to be connected to LS, rural customers to remote switches and remote rural customers may be served with radio conne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average distance of connection per customer in each geographic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verage of customer radi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formation may be accessed from the opera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data to profile network facilities 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ine c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ensitive parts of swit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of dedicated single pair of cables between customer premises and distributio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re multi-pair cables connecting DP to cable jun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re: multi-pair cables connecting CJ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illars for connections using RSS/RS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of multi-pair cables connecting last CJ/Pillar to MD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and type of other equipment comprising the line side of connecting switch used exclusively for a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trench length per geographic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rvice sharing trench. See (Tables I &amp; II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ccounting format 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cost whether based on current or adjusted historical co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allocating shared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arriving at factor/s for common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estimating efficient OPE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estimating opportunity cost of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otal component investment cost by zone: (Table II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Pha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the fundamentals of the access network in terms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demand per zone in terms of current demand,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xpected demand,  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Ln + Ln*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Ln is number of existing lines in th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* is the unfulfilled request for line installation in sam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8 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:Potential/Expected demand,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ά is the long run growth factor derived on the basis of time series or other credible forecasting method as supplied to the regulator by the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demand is theref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+ά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9: Adjustment for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over a specific time period is a function of current installed lines plus a factor for growth. i.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efficiency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(C)/total number of lines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USO and or political imposition are/is applicable the optimal efficiency becom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(including provision for USO) (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Total number of lines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9 Cost Adjust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for example, λ = 1.15 then the cost of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uld be adjusted by 15% or a factor thereof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523880"/>
          <a:ext cx="9143640" cy="515448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  <a:gridCol w="2286000"/>
                <a:gridCol w="228600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1: Estimate Average Unit C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unit cost may be derived by estimating the weighted average unit cost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z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1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3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1 – w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respective weights assigned to the different z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2. Derive Unit Subscrip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locating other cost, Þ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(if not included in direct cos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nit Subscription Cos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Access deficit/Access Surplus @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Þ/Current Access ch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@ &gt; 1 the rebalancing factor is the value of @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@ is &lt; 1 the access charge reduction factor is the value of @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Loop has Multi functiona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orig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ies, in large measure are dedicated to subscrib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e competition, since prime goal of new entrants is to develop substantial subscriber 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nection at points of the access network is opt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conomics of Cos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he principles of L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ƒ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unit co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is total expenditu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is number of lin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is a distance facto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ß is the efficiency factor as appropriately estimate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Principal Cost driver/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distance is an important cost driver on the access network, country is zoned in terms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ru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zoning matrix is not cast in stone and can be altered to suit the circumstances of the coun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Network Bound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demarcation of the access network from the conveyance network in order to identify the relevant network compon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p2 Diagram 1, identifies the access network comprising transmission components that link the MDF (at a remote or local switch) to customer prem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Network Techn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likely, in proportions of Copper,fibre, coax, or wireless technology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diagram 3. p2, The for demonstrative purposes, the model concentrates on copper, being the dominant access technology in developing countries and therefore segments the access network in terms of: Feeder (primary and sub-primary extensions); distribution and service access (drop, building, entrance and network interface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Network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unit cost of the access network is invariably traffic insensitive, network efficiency is circumscribed largely by economies of scale and to a lesser extent by factors relating to OPEX and capital co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23:02Z</dcterms:created>
  <dc:creator>ITU</dc:creator>
  <dc:description/>
  <dc:language>en-US</dc:language>
  <cp:lastModifiedBy>tanakas</cp:lastModifiedBy>
  <dcterms:modified xsi:type="dcterms:W3CDTF">2002-11-07T01:49:03Z</dcterms:modified>
  <cp:revision>37</cp:revision>
  <dc:subject/>
  <dc:title>Fundamentals of Access</dc:title>
</cp:coreProperties>
</file>