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77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1800" y="2880"/>
            <a:ext cx="4235400" cy="323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5540040" y="2880"/>
            <a:ext cx="4235400" cy="323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-1800" y="6530760"/>
            <a:ext cx="4235400" cy="323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5540040" y="6530760"/>
            <a:ext cx="4235400" cy="323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50960"/>
                <a:tab algn="l" pos="1501920"/>
                <a:tab algn="l" pos="2252520"/>
                <a:tab algn="l" pos="3003480"/>
                <a:tab algn="l" pos="3754440"/>
                <a:tab algn="l" pos="4505400"/>
                <a:tab algn="l" pos="5256360"/>
                <a:tab algn="l" pos="6006960"/>
                <a:tab algn="l" pos="6757920"/>
                <a:tab algn="l" pos="7508880"/>
                <a:tab algn="l" pos="8259840"/>
                <a:tab algn="l" pos="9010800"/>
                <a:tab algn="l" pos="9761400"/>
                <a:tab algn="l" pos="10512360"/>
              </a:tabLst>
            </a:pPr>
            <a:fld id="{DE32A9B9-A3FD-4614-AD6C-17E26EB859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1303200" y="3260520"/>
            <a:ext cx="7167600" cy="28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ttaw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Ottawa"/>
            </a:endParaRPr>
          </a:p>
        </p:txBody>
      </p:sp>
      <p:sp>
        <p:nvSpPr>
          <p:cNvPr id="53" name=""/>
          <p:cNvSpPr/>
          <p:nvPr/>
        </p:nvSpPr>
        <p:spPr>
          <a:xfrm>
            <a:off x="4228920" y="6534000"/>
            <a:ext cx="1318320" cy="2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Ottawa"/>
              </a:rPr>
              <a:t>Page </a:t>
            </a:r>
            <a:fld id="{355288F1-286F-4A6F-AD3E-43FCE55D0462}" type="slidenum">
              <a:rPr b="0" lang="en-US" sz="1200" spc="-1" strike="noStrike">
                <a:solidFill>
                  <a:srgbClr val="000000"/>
                </a:solidFill>
                <a:latin typeface="Ottaw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Img"/>
          </p:nvPr>
        </p:nvSpPr>
        <p:spPr>
          <a:xfrm>
            <a:off x="3290760" y="601560"/>
            <a:ext cx="3200400" cy="2400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2920" y="3260520"/>
            <a:ext cx="8469000" cy="288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rder t</a:t>
            </a:r>
            <a:endParaRPr b="0" lang="en-US" sz="1200" spc="-1" strike="noStrike">
              <a:solidFill>
                <a:srgbClr val="000000"/>
              </a:solidFill>
              <a:latin typeface="Ottaw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Img"/>
          </p:nvPr>
        </p:nvSpPr>
        <p:spPr>
          <a:xfrm>
            <a:off x="3290760" y="601560"/>
            <a:ext cx="3200400" cy="2400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FD2-E628-465E-B00E-808B760F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27080" y="37368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AC91-77A4-4610-B4FE-231E58DEF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0976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2708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0976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ABF7-DBDB-472B-A9E4-E4B8BB37A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5508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2720" y="99036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2708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5508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282720" y="3736800"/>
            <a:ext cx="250236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698F-39D3-442C-8BD6-95FD4C8E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270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0386-DD21-49C4-9832-8EED82CB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31F-B124-41A4-8492-EBB3AAAE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976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4CC9-53D2-4B36-ACC1-4C30FB7B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057C-C595-4A02-8674-7FA7BFEF2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BFC1-7DCF-424C-AF26-89F51E2F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0976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2708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A6F3-E480-457B-98CD-E8318DAD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3792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976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09760" y="373680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4523-237C-4D16-ABBA-A9E4BC14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2708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09760" y="990360"/>
            <a:ext cx="37926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27080" y="3736800"/>
            <a:ext cx="777240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9981-37B1-43BF-AD3C-A48D176D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2FF15B9-F6DD-45AE-A701-50CA471BE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428840" cy="6843600"/>
          </a:xfrm>
          <a:prstGeom prst="rect">
            <a:avLst/>
          </a:prstGeom>
          <a:gradFill rotWithShape="0">
            <a:gsLst>
              <a:gs pos="0">
                <a:srgbClr val="98f2fc"/>
              </a:gs>
              <a:gs pos="100000">
                <a:srgbClr val="00e2f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Ottaw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328680"/>
            <a:ext cx="8704080" cy="4716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1027080" y="9903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3836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96760" y="419040"/>
            <a:ext cx="129132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73CD2-073B-4C18-B83B-6773E94C4988}" type="slidenum">
              <a:rPr b="1" i="1" lang="en-US" sz="1800" spc="-1" strike="noStrike">
                <a:solidFill>
                  <a:srgbClr val="ffff99"/>
                </a:solidFill>
                <a:latin typeface="Ottaw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790640" y="363240"/>
            <a:ext cx="670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Times New Roman"/>
              </a:rPr>
              <a:t>ITU – Global standardization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476280" y="208080"/>
          <a:ext cx="771480" cy="76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6280" y="208080"/>
                    <a:ext cx="771480" cy="76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itu.int/ITU-T/index.html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itu.int/ITU-T/index.html" TargetMode="External"/><Relationship Id="rId2" Type="http://schemas.openxmlformats.org/officeDocument/2006/relationships/hyperlink" Target="http://www.itu.int/ITU-T/itu-t_pub.htm" TargetMode="External"/><Relationship Id="rId3" Type="http://schemas.openxmlformats.org/officeDocument/2006/relationships/hyperlink" Target="http://www.itu.int/ITU-T/itu-t_sg.htm" TargetMode="External"/><Relationship Id="rId4" Type="http://schemas.openxmlformats.org/officeDocument/2006/relationships/hyperlink" Target="http://www.itu.int/ITU-T/patent/index.html" TargetMode="External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mailto:cantero@itu.int" TargetMode="External"/><Relationship Id="rId2" Type="http://schemas.openxmlformats.org/officeDocument/2006/relationships/hyperlink" Target="mailto:cantero@itu.int" TargetMode="External"/><Relationship Id="rId3" Type="http://schemas.openxmlformats.org/officeDocument/2006/relationships/hyperlink" Target="mailto:cantero@itu.int" TargetMode="External"/><Relationship Id="rId4" Type="http://schemas.openxmlformats.org/officeDocument/2006/relationships/hyperlink" Target="mailto:cantero@itu.int" TargetMode="External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520" y="99036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TU Telecommunication Standardization Sector (ITU-T)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270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Times New Roman"/>
              </a:rPr>
              <a:t>New telecommunications’ technolog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800" spc="-1" strike="noStrike">
                <a:solidFill>
                  <a:srgbClr val="ff0000"/>
                </a:solidFill>
                <a:latin typeface="Times New Roman"/>
              </a:rPr>
              <a:t>From Standards to Realizat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t. Petersbur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3-15 December 200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. J. Cantero Fernández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elecommunication Standardization Bureau (TSB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francisco.cantero@itu.i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60680" y="2209680"/>
            <a:ext cx="71784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 on access network transport and optical technolog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 on Multimedia services, systems and terminals, and on e-business and e-commer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SG on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T 2000 and beyond and for mobilit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03280" y="106668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U-T Lead Study Groups (2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TU-T Meetings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70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udy Group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ing Parti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ordination/Managem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pporteurs/edito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ecommunication Standardization Advisory Group (TSAG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TSA,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ld every four years) WTSA-2000 (Montreal, 27 Sept. – 6 Oct. 2000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Resolutions (1/4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600200" y="1523880"/>
            <a:ext cx="71992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Rules of procedure of the ITU Telecommunication Standardization Sector (ITU-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tudy group responsibility and man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laboration with the International Organization for Standardization (ISO) and the International Electrotechnical Commission (IEC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llaboration with the Postal Operations Council (POC) of the Universal Postal Union (UPU) in the study of services concerning both the postal and the telecommunication sectors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Telecommunication standardization in relation to the interests of developing countri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Resolutions (2/4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275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inciples and procedures for the allocation of work to, and coordination between, the Radiocommunication and Telecommunication Standardization Secto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ocedures for allocation and management of international numbering resour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uthorization for TSAG to act between WTSA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6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ssistance to the Regional Tariff Grou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9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calling procedures on international telecommunication network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1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ssion of entities or organizations to participate as Associates in the work of ITU-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Resolutions (3/4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3880" y="1447560"/>
            <a:ext cx="7275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2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ngthening the use of electronic document handling for the work of ITU-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3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lines for ITU-T strategic activit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4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ntary contribu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5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ointment and maximum term of office for chairmen and vice‑chairmen of ITU-T Study Groups and of the Telecommunication Standardization Advisory Group (TSA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6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 Reform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7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approval process for ITU-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Resolutions (4/4)</a:t>
            </a:r>
            <a:br>
              <a:rPr sz="3600"/>
            </a:b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27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ion among ITU-T, ITU-R and ITU-D for IMT-2000 activiti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9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Changing Role of the World Telecommunication Standardization Assembl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ulatory aspects of ITU-T wor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1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ing rate principles for international telephone servic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xts of ITU-T Resolutions are free (public) and can be obtained a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itu.int/itudoc/itu-t/wtsa-res/index.ht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47920" y="914400"/>
            <a:ext cx="769608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TU-T SERIES OF RECOMMENDATIONS (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- Organization of the work of the ITU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- Means of expression: definitions, symbols, class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- General telecommunication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- General tariff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- Overall network operation, telephone service, service operation and human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- Non-telephone telecommunic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- Transmission systems and media, digital systems an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Audiovisual and multimedia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- Integrated services digital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 - Transmission of television, sound programme and other multimedia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9144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TU-T SERIES OF RECOMMENDATIONS (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56280" y="2727360"/>
            <a:ext cx="70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08040" y="1905120"/>
            <a:ext cx="7443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- Protection against inter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- Construction, installation and protection of cables and other elements of outsid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- TMN and network maintenance: international transmission systems, telephone circuits, telegraphy, facsimile and leased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- Maintenance: international sound programme and television transmission circu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- Specifications of measuring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 - Telephone transmission quality, telephone installations, local lin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- Switching and sign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08040" y="2362320"/>
            <a:ext cx="741996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- Telegraph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- Telegraph services terminal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- Terminals for telematic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 - Telegraph swi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- Data communication over the telephon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- Data networks and open system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- Global information infrastructure and Internet protocol asp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- Languages and general software aspects for telecommunic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9907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ITU-T SERIES OF RECOMMENDATIONS (3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A- Series Recs. (1/3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27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1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 methods for study groups of the ITU Telecommunication Standardization Sector (ITU-T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2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ibution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y of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s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ed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U-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4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process between ITU-T and forums and consorti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5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ic procedures for including references to documents of other organizations in ITU-T Recommend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6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peration and exchange of information between ITU-T and national and regional standards development organization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76197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line of Presentation (1/2)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00200" y="1904760"/>
            <a:ext cx="7315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– ITU Telecommunication Standardization Sec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Study Grou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Lead Study Grou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Meeting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Resol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Series of Recommend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A-Series of Recommend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Open drawing up of progra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andards developmen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A- Series Recs. (2/3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27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7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Groups: Working methods and procedur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8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ternative approval procedure for new and revised Recommend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9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sional working procedures for the Special Study Group on IMT-2000 and beyon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11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ation of ITU-T Recommendations and WTSA proceeding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12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ntification and layout of ITU-T Recommend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13 -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lements to ITU-T Recommendation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A- Series Recs. (3/3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27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23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aboration with the International Organization for Standardization (ISO) and the International Electrotechnical Commission (IEC) on information technolo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23 Annex A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 for ITU-T and ISO/IEC JTC 1 cooper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. 1 to A-Ser.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lines on quality aspects of protocol related Recommend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. 2 to A-Ser. 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lines on interoperability experi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exts of ITU-T Resolutions are free (public) and can be obtained at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itu.int/itudoc/itu-t/approved/a/index.ht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U-T TOP PRIORITIES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6720" y="1904760"/>
            <a:ext cx="8116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 related network aspects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bile communication technologies;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riff and Accounting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pen drawing up of programs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70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75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largest platform :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TU-T provides, through its broad membership, the largest platform worldwide for experts in telecommunication standardization. Experience and information are shared through active participation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524"/>
              </a:spcBef>
              <a:spcAft>
                <a:spcPts val="52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tudy Questions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New or revised Questions, agreed by consensus during WTSA, TSAG or Study Groups meeting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400"/>
              </a:spcBef>
              <a:spcAft>
                <a:spcPts val="52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Work programs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Study Group work programs are constantly revised and adapted reflecting priorities,  requirements and market need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Standards development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7275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85000"/>
              </a:lnSpc>
              <a:spcBef>
                <a:spcPts val="1749"/>
              </a:spcBef>
              <a:spcAft>
                <a:spcPts val="52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ITU official and working languages 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rabic, Chinese, English, French, Russian and Spanish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85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Upon agreement of all participants in a conference or meeting,  discussions may be conducted in fewer languages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Length of standards development process :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The time between determination meeting (stable texts) and decision meeting (approval of the Recommendation) is normally 10 month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Participation in meetings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	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Breadth of participation : more than 4,000 attendants per year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Venue of meetings : in Geneva or outside, all year roun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28440" y="91440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ocedures for comments and decision-making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2708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TU-T studies are driven by contributions from its membershi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ntributions are discussed at meetings, with assessment made by Rapporteurs and management team of Study Group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Consultation process for approval of Recommendations : 70 % of Member States must support the submission of a Recommendation for the approval procedure to a given Study Group meeting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pproval procedure : the Study Group meeting must reach unopposed agreement in order for a Recommendation to be approve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pplication of adopted Recommendations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1600200"/>
            <a:ext cx="71992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lthough ITU-T Recommendations are non-binding, they are generally complied with due to their high quality and because they guarantee the interconnectivity of networks and enable telecommunication services to be provided on a worldwide scale.</a:t>
            </a: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ransparency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00200" y="1752120"/>
            <a:ext cx="7199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7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formation and documents :</a:t>
            </a:r>
            <a:br>
              <a:rPr sz="24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ember States, Sector Members and Associates receive all ITU-T information and study group documents in paper form or through electronic access via TIE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formal FTP areas :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tudy Group information exchange area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TU-T WEB site :</a:t>
            </a:r>
            <a:br>
              <a:rPr sz="24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rovides full information relating to activities, membership, meetings, work programs, recommendations, etc…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itu.int/ITU-T/index.ht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75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TU Operational Bulletin :</a:t>
            </a:r>
            <a:br>
              <a:rPr sz="24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xchange of administrative, operational, statistical and tariff information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Membership, the strength of ITU-T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27080" y="17524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 Member States : 189 Adminstr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Sector Member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cognized operating agencies (ROAs : network and service provider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Scientific and industrial organizations (SIO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Other entities dealing with telecommunication matt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gional and other international organiz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gional telecommunications organiz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ntergovernmental organizations operating satellite system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ssociat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to become ITU-T Sector Member or Associate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275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mber States :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By right, all ITU Member States may participate in the activities of ITU-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ector Member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nd Associates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: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Recognized operating agencies Scientific or industrial organizations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inancial or development institu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National telecommunication Administration approval requi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Contribution to  ITU expen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Regional/International organizations</a:t>
            </a:r>
            <a:br>
              <a:rPr sz="32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- specific application procedur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7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utline of Presentation (1/2)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371600"/>
            <a:ext cx="71992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ocedures for comments and decision-mak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pplication of adopted Recommend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ransparenc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Membership, the strength of ITU-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to become ITU-T Sector Member or Associ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ow much does it costs to be an </a:t>
            </a:r>
            <a:br>
              <a:rPr sz="2400"/>
            </a:b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TU-T Sector Member or an Associ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ssociates (Resolution 31 extract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TAP/AAP (1/2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ome ITU-T Web Address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838080"/>
            <a:ext cx="69343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ow much does it costs to be an </a:t>
            </a:r>
            <a:br>
              <a:rPr sz="3600"/>
            </a:b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-T Sector Member or an Associate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27080" y="24382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lass of contribution :</a:t>
            </a:r>
            <a:br>
              <a:rPr sz="24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ITU-T Sector Members choose, on a voluntary basis, how many “contributory units” they are willing to contribute to the ITU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ctor Members may choose their unit class in accordance with their importance and the image they wish to convey to the world</a:t>
            </a:r>
            <a:br>
              <a:rPr sz="20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Contributory unit for 2000 &amp; 2001 :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ector Member : 63,000 Swiss Francs per year 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(Minimum 1/2 unit, maximum 40 unit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Associate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10.500 Swiss Francs per yea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ssociates (Resolution 31 extracts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3880" y="1523880"/>
            <a:ext cx="72756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5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 Associate … to take part in the work of a selected single study group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at Associates are limited to the study group roles described below and excluded from all other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s may take part … preparing Recommendations within a SG, including …: meeting participant, contribution submitter, Recommendation editor, and during the AAP, provider of comments during the Last Call period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s may have access to documentation required for their work;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 Associate may serve as rapporteur, responsible for directing the studies for the relevant study Question within the selected study group, except for liaison activities which are to be handled separatel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AP/AAP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2708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P – Traditional Approval 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exts are first determined during a SG meeting and the SG takes the decision of approval at the next meeting (9 months later in general)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2" marL="12952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lection criteria: Standardization domai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4 (Numbering, Addressing)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 (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ff/charging/account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AP – Alternative approval Proce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SG/WP consent for mature texts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riod for Last Comments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Period for Additional Review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Approval at the end of those periods or at the next SG Meeting 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ome ITU-T Web Addresses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27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General ITU-T Addres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http://www.itu.int/ITU-T/index.htm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U-T Publications: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http://www.itu.int/ITU-T/itu-t_pub.ht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U-T Study Groups and TSAG: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http://www.itu.int/ITU-T/itu-t_sg.ht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TU-T Patent Statements Database: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http://www.itu.int/ITU-T/patent/index.html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erms and definitions (SANCHO)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http://www7.itu.int/sancho/index.htm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r more information …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270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. J. Cantero Fernández,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ad, Promotion, Edition and Production Department, TSB (M 403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ace des Natio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-1211 Geneva 2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-mail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cantero@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itu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3"/>
              </a:rPr>
              <a:t>.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  <a:hlinkClick r:id="rId4"/>
              </a:rPr>
              <a:t>i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ph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+4122) 730 58 9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ax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+4122) 730 58 5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828800" y="1387440"/>
            <a:ext cx="6477120" cy="455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4" name=""/>
          <p:cNvGraphicFramePr/>
          <p:nvPr/>
        </p:nvGraphicFramePr>
        <p:xfrm>
          <a:off x="4495680" y="1143000"/>
          <a:ext cx="1087560" cy="1087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95680" y="1143000"/>
                    <a:ext cx="1087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TU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371240"/>
            <a:ext cx="80373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International Telecommunication Unio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nded in 1865 as the International Telegraph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ion. Specialized agency of the United Nations since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47.</a:t>
            </a: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T Telecommunication Standardization Sec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R Radiocommunication Sec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U-D Telecommunication Development Secto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TU-T (1/2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2133360"/>
            <a:ext cx="742788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ITU-T –ITU Telecommunication Standardization Secto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ff0000"/>
              </a:buClr>
              <a:buFont typeface="Monotype Sorts" charset="2"/>
              <a:buChar char="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SB  - Telecommunication Standardization Bureau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ff0000"/>
              </a:buClr>
              <a:buFont typeface="Monotype Sorts" charset="2"/>
              <a:buChar char="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WTSA - World Telecommunication Standardization Assembly  (every 4 years). WTSA-2000 in Montreal (Canada). 27/9-6/10/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ff0000"/>
              </a:buClr>
              <a:buFont typeface="Monotype Sorts" charset="2"/>
              <a:buChar char="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SAG - Telecommunication Standardization Advisory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1049"/>
              </a:spcBef>
              <a:spcAft>
                <a:spcPts val="451"/>
              </a:spcAft>
              <a:buClr>
                <a:srgbClr val="ff0000"/>
              </a:buClr>
              <a:buFont typeface="Monotype Sorts" charset="2"/>
              <a:buChar char=""/>
              <a:tabLst>
                <a:tab algn="l" pos="2171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14 Study Groups - study areas are called “Questions”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85440" y="837720"/>
            <a:ext cx="7215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1. ITU-T (2/2)</a:t>
            </a:r>
            <a:endParaRPr b="1" i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560" y="18284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ission :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buClr>
                <a:srgbClr val="ff0000"/>
              </a:buClr>
              <a:buFont typeface="Monotype Sorts" charset="2"/>
              <a:buChar char="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Elaboration, adoption, distribution and follow-up of high quality global STANDARDS (Recommendations) in order to standardize telecommunications (except radiocommunications) on a worldwide basis 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buClr>
                <a:srgbClr val="ff0000"/>
              </a:buClr>
              <a:buFont typeface="Monotype Sorts" charset="2"/>
              <a:buChar char="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Standards are developed within the Study Groups by highly qualified experts from leading telecommunication organizations and companies worldwide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lvl="1" marL="952560" indent="-380880">
              <a:lnSpc>
                <a:spcPct val="90000"/>
              </a:lnSpc>
              <a:spcBef>
                <a:spcPts val="876"/>
              </a:spcBef>
              <a:spcAft>
                <a:spcPts val="374"/>
              </a:spcAft>
              <a:buClr>
                <a:srgbClr val="ff0000"/>
              </a:buClr>
              <a:buFont typeface="Monotype Sorts" charset="2"/>
              <a:buChar char=""/>
              <a:tabLst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More than 2,700 Recommendations are in force on some 70,000 pages, and published in different forms :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paper booklets - electronic files available on line and CD-ROM</a:t>
            </a:r>
            <a:endParaRPr b="1" lang="en-US" sz="2000" spc="-1" strike="noStrike">
              <a:solidFill>
                <a:srgbClr val="ff0000"/>
              </a:solidFill>
              <a:latin typeface="Times New Roman"/>
            </a:endParaRPr>
          </a:p>
          <a:p>
            <a:pPr marL="3808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52480" y="99072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U-T Study Groups (1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981080"/>
            <a:ext cx="6782040" cy="56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2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onal aspects of service provision,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s and performanc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3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iff and accounting principles including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ed telecommunication economic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cy issue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4 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mmunication management, including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M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5   Protection against electromagnetic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vironment effec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6   Outside Plan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7   Data networks and open system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ommunication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 9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broadband cable networks and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vision and sound transmission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647720" y="990720"/>
            <a:ext cx="650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1 ITU-T Study Groups (2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15960" y="2057400"/>
            <a:ext cx="732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0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guages and general software aspects for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ecommunication system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1  Signalling requirements and protocol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2  End-to-end transmission performance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 networks and terminal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3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protocol and IP-based networks and their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working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5 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cal and other transport networks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udy Group 16  Multimedia services, systems and terminal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fb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84360" y="1219320"/>
            <a:ext cx="733104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ITU-T Lead Study Groups (1/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 on service definition, numbering, and  routing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n TM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rame relay and for communication system securit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tegrated broadband cable and television network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on languages and description techniqu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1 on intelligent network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ality of Service and performanc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3 o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P related matters, B-ISDN, Global Information Infrastructure and satellite matter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6T08:31:06Z</dcterms:created>
  <dc:creator>Tim Kelly</dc:creator>
  <dc:description>27 May 1997</dc:description>
  <dc:language>en-US</dc:language>
  <cp:lastModifiedBy>cantero</cp:lastModifiedBy>
  <cp:lastPrinted>1999-11-10T09:44:18Z</cp:lastPrinted>
  <dcterms:modified xsi:type="dcterms:W3CDTF">2000-12-11T17:00:06Z</dcterms:modified>
  <cp:revision>188</cp:revision>
  <dc:subject>Speech to ITU-T SG 3</dc:subject>
  <dc:title>The 1998 Telecommunications Revolution</dc:title>
</cp:coreProperties>
</file>