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3147-61BC-4CCB-8A0E-573812768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C229-B3C6-4382-8D81-355AFA30A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89120" y="4346640"/>
            <a:ext cx="53100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Img"/>
          </p:nvPr>
        </p:nvSpPr>
        <p:spPr>
          <a:xfrm>
            <a:off x="1293840" y="800280"/>
            <a:ext cx="4267080" cy="320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5CFD-74E6-4F5F-AD81-EF5C2336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E8CF-AD60-49BF-9C7E-AEEBA562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EEC-E67C-4C87-987C-AF5B9583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6CC-5CAC-45A3-A515-AA30B3AC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E9E-B90C-469D-A2D1-323FDA6F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224-A0A1-4F89-944D-96A044EF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9D61-F6F2-403F-B287-3E3B4ED9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8035-F0FE-4698-96B4-FFACFDF3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F092-6D1F-473B-9F81-73F042C0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E78-F079-4A56-AE99-D4EBEFE6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F3B-12F0-40EB-997D-4ABE5896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039-3AD7-4060-9E1A-BB0CC101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C81A-BB53-4BD2-954D-501C3638C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8705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gnalling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0"/>
            <a:ext cx="897876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ttawa"/>
              </a:rPr>
              <a:t>Arshey Odedra</a:t>
            </a:r>
            <a:r>
              <a:rPr b="1" lang="en-US" sz="2800" spc="-1" strike="noStrike">
                <a:solidFill>
                  <a:srgbClr val="000000"/>
                </a:solidFill>
                <a:latin typeface="Ottaw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U-T </a:t>
            </a:r>
            <a:r>
              <a:rPr b="0" lang="en-US" sz="2400" spc="-1" strike="noStrike">
                <a:solidFill>
                  <a:srgbClr val="000000"/>
                </a:solidFill>
                <a:latin typeface="Ottawa"/>
              </a:rPr>
              <a:t>TSB Engineer: arshey.odedra@itu.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ttawa"/>
              </a:rPr>
              <a:t>International Telecommunication Union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Ottawa"/>
              </a:rPr>
              <a:t>[ITU-T Workshop Botswana 24-26 July – 200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506760" y="4422600"/>
          <a:ext cx="2055960" cy="19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6760" y="4422600"/>
                    <a:ext cx="2055960" cy="19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ling System No. 7 (2000)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More on SS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000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765 (Rev - 06/2000)-Application transport Mechanis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.7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765.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EA3-87AE-4FC8-9252-23CCE8BD546E}" type="slidenum">
              <a:t>10</a:t>
            </a:fld>
          </a:p>
        </p:txBody>
      </p:sp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rrow-band ISDN, DS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Subscriber Signalling System No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: Q.850, Q.86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06/00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link layer Q.920-Q.9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layer Q.930-Q.9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-network management Q.940, Q.9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3 description for supplementary services using DSS 1 Q.950-Q.957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432B-20D3-4196-906B-7F52A1613C01}" type="slidenum">
              <a:t>11</a:t>
            </a:fld>
          </a:p>
        </p:txBody>
      </p:sp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adband ISDN, DSS 2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aspects: Q.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ling ATM adaptation layer (SA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.2100-Q.2150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ling network protocols: Q.2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aspects of B-ISDN application protocols for access signalling and network signalling and inter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.2610-Q.26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CCE1-2A85-4EE3-BD44-C820818BD8D4}" type="slidenum">
              <a:t>12</a:t>
            </a:fld>
          </a:p>
        </p:txBody>
      </p:sp>
    </p:spTree>
  </p:cSld>
  <p:transition spd="med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adband ISDN, DSS 2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ISDN application protocols for the network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.2721.1 to Q.2769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ISDN application protocols for access signalling (includes DSS 2 aspec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.2931-Q.29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(12/99) Q.2981-29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Q.2931/2961&amp;2/2971/2991-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826-CF8B-49B6-B7D1-DE254EF7CAFA}" type="slidenum">
              <a:t>13</a:t>
            </a:fld>
          </a:p>
        </p:txBody>
      </p:sp>
    </p:spTree>
  </p:cSld>
  <p:transition spd="med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lligent Network (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.1200 – Q.12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.1210 – Q.1219 IN-CS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.1220 – Q.1229 IN-CS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.1231 – Q.1238.7 IN-CS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.1241,1244,1248.1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7 IN-CS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DF6-728F-4BBF-AD5D-E8C84E77F9B3}" type="slidenum">
              <a:t>14</a:t>
            </a:fld>
          </a:p>
        </p:txBody>
      </p:sp>
    </p:spTree>
  </p:cSld>
  <p:transition spd="med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apability Set 1 (CS-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s to be deployed over PSTN, ISDN and PLM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d such services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forw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 card c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icious call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5715000"/>
            <a:ext cx="60958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3, Q.121X series of 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apability Set 2 (CS-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257120"/>
            <a:ext cx="79632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s added: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work Fre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ion of call to busy subscr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erence c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Hold, transfer and wa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store and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 Telecommunication Charge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57913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7, Q.122X series of 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 e.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por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B-ISD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interworking of IN and IP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apability Set 3 (CS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571500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, Q.123X series of 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apability Set 3 (CS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s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r selection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alling Line presentation rest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-Network Service indic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ggering on Call Failure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53341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, Q.123X series of 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s e.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points of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hanced Number Por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-working with the services in Internet Protocol (IP)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apability Set 4 (CS-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53341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1, Q.124X series of 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S7 Recs</a:t>
            </a: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ling System No. 7 (198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ow Book (198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cicle VI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Transfer Part (M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ations: Q.701-Q.7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User Part (DU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F56-73ED-4FAE-B123-FDFBA7E177F8}" type="slidenum">
              <a:t>2</a:t>
            </a:fld>
          </a:p>
        </p:txBody>
      </p:sp>
    </p:spTree>
  </p:cSld>
  <p:transition spd="med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160" y="1180800"/>
            <a:ext cx="800100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s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rator determined barr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r defined bar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l forwarding uncondi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l forwarding on busy, no reply and not rea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osed user group, Advise of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ling name identificati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apability Set 4 (CS-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586728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1, Q.124X series of 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gnalling  Convergence towards Packet based Network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lligent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Bearer Independent Call Control (BICC) protocols – Q.19xx Se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254560" cy="4178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33720" y="5943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44320" y="19796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"/>
              </a:rPr>
              <a:t>GEN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76520" y="380880"/>
          <a:ext cx="2055600" cy="197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380880"/>
                    <a:ext cx="2055600" cy="19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811-082D-4035-83D0-CBF96D104412}" type="slidenum">
              <a:t>22</a:t>
            </a:fld>
          </a:p>
        </p:txBody>
      </p:sp>
    </p:spTree>
  </p:cSld>
  <p:transition spd="med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ling System No. 7 (1984)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Book (198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cicle VI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Transfer Part (M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.701-Q.7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BX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.7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ling Connection Control Part (SCCP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.711-Q.7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276-4F30-40EC-899C-0C498739BCCA}" type="slidenum">
              <a:t>3</a:t>
            </a:fld>
          </a:p>
        </p:txBody>
      </p:sp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ling System No. 7 (1984)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 Book (198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cicle VI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phone User Part (T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.721-Q.7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d Services Digital Network User Part (IS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.761-Q.7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ing and Measurements for the M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.7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and Maintenance Application Part (OMAP): Q.7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6C5-649F-41A7-9FBD-6F92C2381E0B}" type="slidenum">
              <a:t>4</a:t>
            </a:fld>
          </a:p>
        </p:txBody>
      </p:sp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ling System No. 7 (1988)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 Book (1988), Fascicle VI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.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Transfer Part (M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.701-Q.7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ied MTP: Q.7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ling Connection Control Part (SCC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.711-Q.7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0FF0-34A8-48C1-8E82-89E99ED41EB1}" type="slidenum">
              <a:t>5</a:t>
            </a:fld>
          </a:p>
        </p:txBody>
      </p:sp>
    </p:spTree>
  </p:cSld>
  <p:transition spd="med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ling System No. 7 (1988)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 Book (1988), Fascicle VI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phone User Part (TUP): Q.721-Q.7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DN Supplementary Services: Q.7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User Part (DUP): Q.74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Services Digital Network User Part (ISUP): Q.761-Q.7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DB5A-2692-416C-B2A9-EA0CF5E0CD77}" type="slidenum">
              <a:t>6</a:t>
            </a:fld>
          </a:p>
        </p:txBody>
      </p:sp>
    </p:spTree>
  </p:cSld>
  <p:transition spd="med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ling System No. 7 (1988)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 Book (1988), Fascicle VI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Capability Application Part (TCAP): Q.771-Q.7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Specification: Q.780-Q.7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and Measurement Q.79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, Maintenance and Administration Part (OMAP): Q.7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D42-5C2E-4A1A-A2A8-CE77F820914D}" type="slidenum">
              <a:t>7</a:t>
            </a:fld>
          </a:p>
        </p:txBody>
      </p:sp>
    </p:spTree>
  </p:cSld>
  <p:transition spd="med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ling System No. 7 (1999)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.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Transfer Part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T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Q.701-Q.7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ling Connection Control Part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C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.711- Q.7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phone User Part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Q.721-Q.7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DN Supplementary Servi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.730-Q.737.1, 732.2(Rev),733.5(Ne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CC4-9286-43F9-AE73-ED0C1096BB79}" type="slidenum">
              <a:t>8</a:t>
            </a:fld>
          </a:p>
        </p:txBody>
      </p:sp>
    </p:spTree>
  </p:cSld>
  <p:transition spd="med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ling System No. 7 (1999)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User Part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Q.750-Q.7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DN User Part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Q.761-Q.7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Capabilities Application Part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.771- Q.7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Specification: Q.780-Q.7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769.1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.16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.765Bis, Q.765.1B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8AB-FA2E-4C23-95CF-7C9FF59D9F91}" type="slidenum">
              <a:t>9</a:t>
            </a:fld>
          </a:p>
        </p:txBody>
      </p:sp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15:44:43Z</dcterms:created>
  <dc:creator>A Odedra</dc:creator>
  <dc:description/>
  <dc:language>en-US</dc:language>
  <cp:lastModifiedBy>user</cp:lastModifiedBy>
  <dcterms:modified xsi:type="dcterms:W3CDTF">2002-07-16T17:11:57Z</dcterms:modified>
  <cp:revision>179</cp:revision>
  <dc:subject/>
  <dc:title>PowerPoint Presentation</dc:title>
</cp:coreProperties>
</file>