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19A-D912-40AA-A3EE-BDEDE226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D13-0D86-4CCC-B867-2AC871A3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CF0-2486-46D1-839C-B270CF6B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CE5-5F01-4D90-B218-B5EC5466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21C-4886-4736-A064-964D6590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747-808A-490F-AA76-3BACAF1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D97-7158-46DD-B770-3D90AB5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6C0-0AA0-4757-BFFD-6B229361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1E0-3D44-494F-8E70-50052D54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2EF-E758-448F-8990-299FFB0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AC8-9C59-4236-99C3-B9BED23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EBB-90D1-4F88-B406-DEE8C94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3D29-B4DF-428E-971E-01BB2AB52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5320" y="1066680"/>
            <a:ext cx="8325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Results of the session on Multimedia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of the Geneva’s “Workshop on IP-Networking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MEDIACOM2004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 June, 200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. Matsum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ice-Chairman, ITU-T SG 16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762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Objectives of MM5 “Mobility”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5320" y="1828800"/>
            <a:ext cx="756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examine the current situation in the 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arket and standardiza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consider current and future servic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technologies needed to suppor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look at the intersection of the SSG’s rol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bility and other SGs roles’ on IP and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look at the relationships and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tween the SSG and other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tandardization bodies, inside and outside 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000" y="457200"/>
            <a:ext cx="846216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ession chairman:Mr. J. Visser, Nortel Networks, Chair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TU-T Special Study Group on "IMT-2000 and Beyo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1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Evolution of IMT-2000 and Systems Beyo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D. Mcfarlane, Nokia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2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, past, present, futu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H. Nakamura, Vice-Chairman for ITU-T SS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President of NTT DoCoMo Europe S.A.,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3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 - A Standardization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K. Lathia, Vice-Chairman ITU-T SSG, SIEMENS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4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“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Collaborative Efforts in Defining Multimedia Vision for Systems Beyond IMT-20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”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Mr. J. Hoffmeyer, ITU-R, WP 8F, Vision WG Chairman, Cingular Wireless,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5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A View of Mobility for Multimedi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Arthur E. Feather, Cisco Mobile Wireless Group,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8320" y="380880"/>
            <a:ext cx="8703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Key points from each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Evolution of IMT-2000 and Systems Beyo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r. D. Mcfarlane, Nokia U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t is essential to recognize how long it takes to evol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radio infrastructure, and especially how long it tak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pectrum allo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corollary to the above, it is essential to consider the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needs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re is much faster turnover in content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, past, present, futu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r. H. Nakamura, NTT DoCoMo Europe S.A.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five key areas for new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huge multimedia traffic, advanced mobility manag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diversified access, seamless interoperability, suppo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pplication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8600" y="609480"/>
            <a:ext cx="86529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3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 - A Standardization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K. Lathia, Vice-Chairman ITU-T SSG, SIEMENS, Germany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re are five domains that will evolve separatel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t different speeds: terminal, access, core networ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ransport and application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open APIs between the above domains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 application/services domain does not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tandardization itself, but a set of capabilities, a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kit needs to be standard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keep it si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everything on IP (IP facilitates usage of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cross network boundaries) and IP on everyt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(a common IP layer harmonises networks and prov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nternetworking over different network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5480" y="609480"/>
            <a:ext cx="89420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4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“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Collaborative Efforts in Defining Multimedia Vision for Systems Beyond IMT-20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”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Mr. J. Hoffmeyer, ITU-R, WP 8F, Vision WG Chairman, Cingular Wireless,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ervices are the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pectrum requirements need to be identified 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ingle common ITU vision (not just a radio secto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 telecommunications sector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collaboration with oth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5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A View of Mobility for Multimedi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Arthur E. Feather, Cisco Mobile Wireless Group, U.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s in access mechanisms shouldn’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obile IPv6 has the potential to address many iss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but much work is stil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ultimedia mobility at the IP laye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0:34:30Z</dcterms:created>
  <dc:creator>Mitsuji Matsumoto　</dc:creator>
  <dc:description/>
  <dc:language>en-US</dc:language>
  <cp:lastModifiedBy>Mitsuji Matsumoto　</cp:lastModifiedBy>
  <dcterms:modified xsi:type="dcterms:W3CDTF">2001-06-01T20:30:59Z</dcterms:modified>
  <cp:revision>7</cp:revision>
  <dc:subject/>
  <dc:title>ｽﾗｲﾄﾞ ﾀｲﾄﾙなし</dc:title>
</cp:coreProperties>
</file>