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902825" cy="6858000"/>
  <p:notesSz cx="6997700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998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228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5"/>
          </p:nvPr>
        </p:nvSpPr>
        <p:spPr>
          <a:xfrm>
            <a:off x="3965040" y="-360"/>
            <a:ext cx="303228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009800" y="689040"/>
            <a:ext cx="497808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933480" y="4367160"/>
            <a:ext cx="5130720" cy="4138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6"/>
          </p:nvPr>
        </p:nvSpPr>
        <p:spPr>
          <a:xfrm>
            <a:off x="-360" y="8733960"/>
            <a:ext cx="303228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7"/>
          </p:nvPr>
        </p:nvSpPr>
        <p:spPr>
          <a:xfrm>
            <a:off x="3965040" y="8733960"/>
            <a:ext cx="303228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89FEE793-F6D6-4DAF-9F12-5AF264C666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009800" y="689040"/>
            <a:ext cx="4978080" cy="34480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33480" y="4367160"/>
            <a:ext cx="5130720" cy="4138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 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is in doc 21 and 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009800" y="689040"/>
            <a:ext cx="4978080" cy="34480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33480" y="4367160"/>
            <a:ext cx="5130720" cy="4138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hasize uniqueness of 1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tion relation to 13,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009800" y="689040"/>
            <a:ext cx="4978080" cy="34480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33480" y="4367160"/>
            <a:ext cx="5130720" cy="4138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hasize uniqueness of 1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tion relation to 13,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009800" y="689040"/>
            <a:ext cx="4978080" cy="34480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33480" y="4367160"/>
            <a:ext cx="5130720" cy="4138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hasize uniqueness of 1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tion relation to 13,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009800" y="689040"/>
            <a:ext cx="4978080" cy="34480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33480" y="4367160"/>
            <a:ext cx="5130720" cy="4138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hasize uniqueness of 1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tion relation to 13,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009800" y="689040"/>
            <a:ext cx="4978080" cy="34480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33480" y="4367160"/>
            <a:ext cx="5130720" cy="4138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hasize uniqueness of 1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tion relation to 13,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009800" y="689040"/>
            <a:ext cx="4978080" cy="344808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33480" y="4367160"/>
            <a:ext cx="5130720" cy="4138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hasize uniqueness of 1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tion relation to 13,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009800" y="689040"/>
            <a:ext cx="4978080" cy="34480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33480" y="4367160"/>
            <a:ext cx="5130720" cy="4138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hasize uniqueness of 1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tion relation to 13,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009800" y="689040"/>
            <a:ext cx="4978080" cy="344808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33480" y="4367160"/>
            <a:ext cx="5130720" cy="4138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hasize uniqueness of 1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tion relation to 13,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009800" y="689040"/>
            <a:ext cx="4978080" cy="34480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33480" y="4367160"/>
            <a:ext cx="5130720" cy="4138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hasize uniqueness of 1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tion relation to 13,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009800" y="689040"/>
            <a:ext cx="4978080" cy="344808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33480" y="4367160"/>
            <a:ext cx="5130720" cy="4138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hasize uniqueness of 1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tion relation to 13,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009800" y="689040"/>
            <a:ext cx="4978080" cy="34480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33480" y="4367160"/>
            <a:ext cx="5130720" cy="4138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hasize uniqueness of 1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tion relation to 13,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9880" y="609120"/>
            <a:ext cx="8664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9880" y="3196800"/>
            <a:ext cx="8664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9880" y="609120"/>
            <a:ext cx="4228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99760" y="609120"/>
            <a:ext cx="4228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9880" y="3196800"/>
            <a:ext cx="4228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99760" y="3196800"/>
            <a:ext cx="4228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9880" y="609120"/>
            <a:ext cx="2790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89920" y="609120"/>
            <a:ext cx="2790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19600" y="609120"/>
            <a:ext cx="2790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9880" y="3196800"/>
            <a:ext cx="2790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89920" y="3196800"/>
            <a:ext cx="2790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19600" y="3196800"/>
            <a:ext cx="2790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313D22-89E5-41F6-A87B-6E06B4567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59880" y="609120"/>
            <a:ext cx="86648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460B56-41F9-4C91-9F94-641C6654C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9880" y="609120"/>
            <a:ext cx="86648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C3BB74-3F6B-4DFD-B0A6-ABC20C89F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59880" y="609120"/>
            <a:ext cx="4228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99760" y="609120"/>
            <a:ext cx="4228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FD2C23-F1B0-4F6B-9AFE-E921BF6C9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0B3CA5-97A8-4570-A138-05E34B064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28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3E6EB1-CB02-4BD3-B212-6AB3EAD3E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59880" y="609120"/>
            <a:ext cx="4228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99760" y="609120"/>
            <a:ext cx="4228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9880" y="3196800"/>
            <a:ext cx="4228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80FFA9-7202-4106-B07E-F9909E9E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9880" y="609120"/>
            <a:ext cx="86648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9880" y="609120"/>
            <a:ext cx="4228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99760" y="609120"/>
            <a:ext cx="4228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099760" y="3196800"/>
            <a:ext cx="4228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500B21-C696-4AD2-844C-A55944DA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9880" y="609120"/>
            <a:ext cx="4228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99760" y="609120"/>
            <a:ext cx="4228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9880" y="3196800"/>
            <a:ext cx="8664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739676-4CAC-49F3-B05B-04EE571B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9880" y="609120"/>
            <a:ext cx="8664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59880" y="3196800"/>
            <a:ext cx="8664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4FA469-FF50-453D-BF5C-107741F74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9880" y="609120"/>
            <a:ext cx="4228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99760" y="609120"/>
            <a:ext cx="4228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59880" y="3196800"/>
            <a:ext cx="4228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5099760" y="3196800"/>
            <a:ext cx="4228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C39F3C-8B6D-4B73-92F0-B49695598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9880" y="609120"/>
            <a:ext cx="2790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89920" y="609120"/>
            <a:ext cx="2790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519600" y="609120"/>
            <a:ext cx="2790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59880" y="3196800"/>
            <a:ext cx="2790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589920" y="3196800"/>
            <a:ext cx="2790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519600" y="3196800"/>
            <a:ext cx="2790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26369F-BFD8-40A2-B0D1-E4EB1A28E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9880" y="609120"/>
            <a:ext cx="86648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9880" y="609120"/>
            <a:ext cx="4228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99760" y="609120"/>
            <a:ext cx="4228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28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9880" y="609120"/>
            <a:ext cx="4228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99760" y="609120"/>
            <a:ext cx="4228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9880" y="3196800"/>
            <a:ext cx="4228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9880" y="609120"/>
            <a:ext cx="4228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99760" y="609120"/>
            <a:ext cx="4228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99760" y="3196800"/>
            <a:ext cx="4228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9880" y="609120"/>
            <a:ext cx="4228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99760" y="609120"/>
            <a:ext cx="4228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9880" y="3196800"/>
            <a:ext cx="8664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659880" y="5715000"/>
            <a:ext cx="86648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9880" y="609120"/>
            <a:ext cx="86648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" name=""/>
          <p:cNvGrpSpPr/>
          <p:nvPr/>
        </p:nvGrpSpPr>
        <p:grpSpPr>
          <a:xfrm>
            <a:off x="0" y="0"/>
            <a:ext cx="1176120" cy="6854760"/>
            <a:chOff x="0" y="0"/>
            <a:chExt cx="1176120" cy="6854760"/>
          </a:xfrm>
        </p:grpSpPr>
        <p:sp>
          <p:nvSpPr>
            <p:cNvPr id="39" name=""/>
            <p:cNvSpPr/>
            <p:nvPr/>
          </p:nvSpPr>
          <p:spPr>
            <a:xfrm>
              <a:off x="0" y="0"/>
              <a:ext cx="1176120" cy="685476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50000">
                  <a:srgbClr val="000000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0" name=""/>
            <p:cNvGrpSpPr/>
            <p:nvPr/>
          </p:nvGrpSpPr>
          <p:grpSpPr>
            <a:xfrm>
              <a:off x="82440" y="163440"/>
              <a:ext cx="164520" cy="6550200"/>
              <a:chOff x="82440" y="163440"/>
              <a:chExt cx="164520" cy="6550200"/>
            </a:xfrm>
          </p:grpSpPr>
          <p:sp>
            <p:nvSpPr>
              <p:cNvPr id="41" name=""/>
              <p:cNvSpPr/>
              <p:nvPr/>
            </p:nvSpPr>
            <p:spPr>
              <a:xfrm>
                <a:off x="82440" y="1754280"/>
                <a:ext cx="164520" cy="15372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82440" y="1984320"/>
                <a:ext cx="164520" cy="1540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82440" y="2211480"/>
                <a:ext cx="164520" cy="15372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2440" y="2441520"/>
                <a:ext cx="164520" cy="1540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2440" y="2671920"/>
                <a:ext cx="164520" cy="1504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2440" y="2898720"/>
                <a:ext cx="164520" cy="1522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2440" y="3129120"/>
                <a:ext cx="164520" cy="1522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2440" y="3359160"/>
                <a:ext cx="164520" cy="14904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2440" y="3586320"/>
                <a:ext cx="164520" cy="1522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2440" y="3816360"/>
                <a:ext cx="164520" cy="1522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2440" y="4046400"/>
                <a:ext cx="164520" cy="14940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2440" y="4272120"/>
                <a:ext cx="164520" cy="15372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2440" y="4502160"/>
                <a:ext cx="164520" cy="1540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2440" y="4729320"/>
                <a:ext cx="164520" cy="15372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2440" y="4959360"/>
                <a:ext cx="164520" cy="1540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2440" y="5189400"/>
                <a:ext cx="164520" cy="15084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2440" y="5416560"/>
                <a:ext cx="164520" cy="1540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2440" y="5646600"/>
                <a:ext cx="164520" cy="1540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2440" y="5877000"/>
                <a:ext cx="164520" cy="15084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2440" y="6103800"/>
                <a:ext cx="164520" cy="1540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2440" y="6334200"/>
                <a:ext cx="164520" cy="1522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2440" y="6562800"/>
                <a:ext cx="164520" cy="15084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2440" y="163440"/>
                <a:ext cx="164520" cy="14940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2440" y="390600"/>
                <a:ext cx="164520" cy="1522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2440" y="620640"/>
                <a:ext cx="164520" cy="15264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2440" y="849240"/>
                <a:ext cx="164520" cy="15084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2440" y="1076400"/>
                <a:ext cx="164520" cy="1540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2440" y="1306440"/>
                <a:ext cx="164520" cy="1540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2440" y="1536840"/>
                <a:ext cx="164520" cy="15084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38400" y="22856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2"/>
          </p:nvPr>
        </p:nvSpPr>
        <p:spPr>
          <a:xfrm>
            <a:off x="123840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3"/>
          </p:nvPr>
        </p:nvSpPr>
        <p:spPr>
          <a:xfrm>
            <a:off x="3878280" y="62485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sldNum" idx="4"/>
          </p:nvPr>
        </p:nvSpPr>
        <p:spPr>
          <a:xfrm>
            <a:off x="759096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39F9A-2BFF-45A1-9B61-294E9DA1D9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-106200" y="-10591920"/>
            <a:ext cx="10009080" cy="174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5486400"/>
            <a:ext cx="8240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IP Cablecom and MEDIACOM 200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95280" y="1295280"/>
            <a:ext cx="71722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ff3300"/>
                </a:solidFill>
                <a:uFillTx/>
                <a:latin typeface="Arial"/>
              </a:rPr>
              <a:t>QoS Framework, Multimedia</a:t>
            </a:r>
            <a:br>
              <a:rPr sz="4800"/>
            </a:br>
            <a:r>
              <a:rPr b="0" i="1" lang="en-US" sz="4800" spc="-1" strike="noStrike" u="sng">
                <a:solidFill>
                  <a:srgbClr val="ff3300"/>
                </a:solidFill>
                <a:uFillTx/>
                <a:latin typeface="Arial"/>
              </a:rPr>
              <a:t>Applications and Roadmap</a:t>
            </a:r>
            <a:r>
              <a:rPr b="1" i="1" lang="en-US" sz="54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3600"/>
            </a:br>
            <a:br>
              <a:rPr sz="3200"/>
            </a:b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harles Dvorak - AT&amp;T Labs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G12 Vice-Chairma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ITU_Logo" descr=""/>
          <p:cNvPicPr/>
          <p:nvPr/>
        </p:nvPicPr>
        <p:blipFill>
          <a:blip r:embed="rId1"/>
          <a:stretch/>
        </p:blipFill>
        <p:spPr>
          <a:xfrm>
            <a:off x="380880" y="5410080"/>
            <a:ext cx="105264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990288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58880" y="228600"/>
            <a:ext cx="884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3300"/>
                </a:solidFill>
                <a:uFillTx/>
                <a:latin typeface="Arial"/>
              </a:rPr>
              <a:t>QoS Agreements – Future (far?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1898640"/>
            <a:ext cx="1523880" cy="3886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3520" y="3733920"/>
            <a:ext cx="90676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075880" y="3351600"/>
            <a:ext cx="132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129680" y="212616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302480" y="4272480"/>
            <a:ext cx="1239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rceiv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219320" y="372744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828800" y="3346560"/>
            <a:ext cx="228600" cy="609480"/>
          </a:xfrm>
          <a:prstGeom prst="upArrow">
            <a:avLst>
              <a:gd name="adj1" fmla="val 38889"/>
              <a:gd name="adj2" fmla="val 111089"/>
            </a:avLst>
          </a:prstGeom>
          <a:solidFill>
            <a:srgbClr val="66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400800" y="1898640"/>
            <a:ext cx="1523880" cy="3886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378480" y="2126160"/>
            <a:ext cx="1505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oS Clas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amp; Decis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po/Poli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ign/Eng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64440" y="3878640"/>
            <a:ext cx="15537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vision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oS Mech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r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SLA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00800" y="464184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372744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400800" y="281304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858000" y="3345840"/>
            <a:ext cx="228600" cy="609480"/>
          </a:xfrm>
          <a:prstGeom prst="upArrow">
            <a:avLst>
              <a:gd name="adj1" fmla="val 38889"/>
              <a:gd name="adj2" fmla="val 111089"/>
            </a:avLst>
          </a:prstGeom>
          <a:solidFill>
            <a:srgbClr val="66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4120" y="5099040"/>
            <a:ext cx="1066680" cy="304920"/>
          </a:xfrm>
          <a:prstGeom prst="leftArrow">
            <a:avLst>
              <a:gd name="adj1" fmla="val 50000"/>
              <a:gd name="adj2" fmla="val 87456"/>
            </a:avLst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9880" y="1898640"/>
            <a:ext cx="1524240" cy="3886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736440" y="1973880"/>
            <a:ext cx="1707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nfg.Choi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6640" y="3954960"/>
            <a:ext cx="1427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edbac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nitor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9880" y="4641840"/>
            <a:ext cx="1524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9880" y="3727440"/>
            <a:ext cx="1524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19720" y="3346560"/>
            <a:ext cx="228600" cy="609480"/>
          </a:xfrm>
          <a:prstGeom prst="upArrow">
            <a:avLst>
              <a:gd name="adj1" fmla="val 38889"/>
              <a:gd name="adj2" fmla="val 111089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5099040"/>
            <a:ext cx="1066680" cy="304920"/>
          </a:xfrm>
          <a:prstGeom prst="leftArrow">
            <a:avLst>
              <a:gd name="adj1" fmla="val 50000"/>
              <a:gd name="adj2" fmla="val 87456"/>
            </a:avLst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83640" y="128808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796200" y="128808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15200" y="12880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twork(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225760" y="2081880"/>
            <a:ext cx="1197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K/REJ/Mo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250812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5333760" y="273672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634840" y="2051640"/>
            <a:ext cx="1197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K/REJ/Mo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743200" y="247824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742840" y="270684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315200" y="3345840"/>
            <a:ext cx="228600" cy="609480"/>
          </a:xfrm>
          <a:prstGeom prst="upArrow">
            <a:avLst>
              <a:gd name="adj1" fmla="val 38889"/>
              <a:gd name="adj2" fmla="val 111089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5867280" y="2889360"/>
            <a:ext cx="533520" cy="2209680"/>
          </a:xfrm>
          <a:custGeom>
            <a:avLst/>
            <a:gdLst>
              <a:gd name="textAreaLeft" fmla="*/ 71280 w 533520"/>
              <a:gd name="textAreaRight" fmla="*/ 462240 w 533520"/>
              <a:gd name="textAreaTop" fmla="*/ 386640 h 2209680"/>
              <a:gd name="textAreaBottom" fmla="*/ 160200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99028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0" name="ITU_Logo" descr=""/>
          <p:cNvPicPr/>
          <p:nvPr/>
        </p:nvPicPr>
        <p:blipFill>
          <a:blip r:embed="rId1"/>
          <a:stretch/>
        </p:blipFill>
        <p:spPr>
          <a:xfrm>
            <a:off x="304920" y="5410080"/>
            <a:ext cx="1052280" cy="10670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295280" y="5715000"/>
            <a:ext cx="8240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IP Cablecom and MEDIACOM 200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11280" y="380880"/>
            <a:ext cx="886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Arial"/>
              </a:rPr>
              <a:t>Model for User-centric QoS (per G.1010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990720" y="1295280"/>
            <a:ext cx="800100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0"/>
            <a:ext cx="99028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5" name="ITU_Logo" descr=""/>
          <p:cNvPicPr/>
          <p:nvPr/>
        </p:nvPicPr>
        <p:blipFill>
          <a:blip r:embed="rId1"/>
          <a:stretch/>
        </p:blipFill>
        <p:spPr>
          <a:xfrm>
            <a:off x="304920" y="5410080"/>
            <a:ext cx="1052280" cy="10670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380880" y="228600"/>
            <a:ext cx="91440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en-US" sz="3600" spc="-1" strike="noStrike" u="sng">
                <a:solidFill>
                  <a:srgbClr val="ff3300"/>
                </a:solidFill>
                <a:uFillTx/>
                <a:latin typeface="Arial"/>
              </a:rPr>
              <a:t>Roadmap for QoS Converge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QoS framework / definitions exist (E.800, G.1000),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pplication requirements are well known (G.1010),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ssessment/monitoring methods well underw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I-NI QoS classes capable of supporting most user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pplications exist for ATM (I.356) and IP (Y.1541),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lthough new signaling is needed for the IP ca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G16 has a futuristic QoS Architecture direction to 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liver QoS dynamically, over multiple network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Gs 11, 12, 13 &amp; 16 must make this work converg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19320" y="5486400"/>
            <a:ext cx="8240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IP Cablecom and MEDIACOM 200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99028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ITU_Logo" descr=""/>
          <p:cNvPicPr/>
          <p:nvPr/>
        </p:nvPicPr>
        <p:blipFill>
          <a:blip r:embed="rId1"/>
          <a:stretch/>
        </p:blipFill>
        <p:spPr>
          <a:xfrm>
            <a:off x="304920" y="5410080"/>
            <a:ext cx="1052280" cy="10670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380880"/>
            <a:ext cx="8839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only reason God was able to create th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niverse in six days was that He did not hav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 worry about the installed base.”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onymo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ardless of technology choices, servic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viders will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lway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have an installed bas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stomers and the QoS needed for their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lications (which IP has not changed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l QoS is thus end-to-end, not something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ust done “per-hop” or even “per-domain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19320" y="5486400"/>
            <a:ext cx="8240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IP Cablecom and MEDIACOM 200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99028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ITU_Logo" descr=""/>
          <p:cNvPicPr/>
          <p:nvPr/>
        </p:nvPicPr>
        <p:blipFill>
          <a:blip r:embed="rId1"/>
          <a:stretch/>
        </p:blipFill>
        <p:spPr>
          <a:xfrm>
            <a:off x="304920" y="5410080"/>
            <a:ext cx="1052280" cy="10670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62120" y="380880"/>
            <a:ext cx="84582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i="1" lang="en-US" sz="4400" spc="-1" strike="noStrike" u="sng">
                <a:solidFill>
                  <a:srgbClr val="ff3300"/>
                </a:solidFill>
                <a:uFillTx/>
                <a:latin typeface="Arial"/>
              </a:rPr>
              <a:t>SG12 Mandate (a reminder)</a:t>
            </a:r>
            <a:r>
              <a:rPr b="1" i="1" lang="en-US" sz="4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nd-to-end transmission performance of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etworks, terminals and their interactions,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 relation to the perceived quality an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cceptance by users of text, speech, 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mage applications; including the related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ransmission implications of all networ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(PDH, SDH, ATM and IP) and termina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19320" y="5486400"/>
            <a:ext cx="8240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IP Cablecom and MEDIACOM 200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99028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ITU_Logo" descr=""/>
          <p:cNvPicPr/>
          <p:nvPr/>
        </p:nvPicPr>
        <p:blipFill>
          <a:blip r:embed="rId1"/>
          <a:stretch/>
        </p:blipFill>
        <p:spPr>
          <a:xfrm>
            <a:off x="304920" y="5410080"/>
            <a:ext cx="1052280" cy="10670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85800" y="304920"/>
            <a:ext cx="84582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i="1" lang="en-US" sz="4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en-US" sz="4400" spc="-1" strike="noStrike" u="sng">
                <a:solidFill>
                  <a:srgbClr val="ff3300"/>
                </a:solidFill>
                <a:uFillTx/>
                <a:latin typeface="Arial"/>
              </a:rPr>
              <a:t>IP and Multimedia in SG1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.2- Transm. Requirements for IP gateways and termin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.8- E-Model (planning tool for speech quality incl.VoI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.11- Transmission of multiple interconnected net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.12- Voiceband services transmission via IP net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.13- Multimedia QOS and performance requir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.14- Effects of interworking multiple IP domains on Vo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.15- QOS coordination in the ITU (Lead Study Group work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.16- In-service non-intrusive assessment of Vo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19320" y="5486400"/>
            <a:ext cx="8240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IP Cablecom and MEDIACOM 200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99028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ITU_Logo" descr=""/>
          <p:cNvPicPr/>
          <p:nvPr/>
        </p:nvPicPr>
        <p:blipFill>
          <a:blip r:embed="rId1"/>
          <a:stretch/>
        </p:blipFill>
        <p:spPr>
          <a:xfrm>
            <a:off x="304920" y="5410080"/>
            <a:ext cx="1052280" cy="10670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295280" y="5715000"/>
            <a:ext cx="8240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IP Cablecom and MEDIACOM 200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228600"/>
            <a:ext cx="762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3300"/>
                </a:solidFill>
                <a:uFillTx/>
                <a:latin typeface="Arial"/>
              </a:rPr>
              <a:t>New G.1000 series of ITU-T</a:t>
            </a:r>
            <a:br>
              <a:rPr sz="4400"/>
            </a:br>
            <a:r>
              <a:rPr b="0" i="1" lang="en-US" sz="4400" spc="-1" strike="noStrike" u="sng">
                <a:solidFill>
                  <a:srgbClr val="ff3300"/>
                </a:solidFill>
                <a:uFillTx/>
                <a:latin typeface="Arial"/>
              </a:rPr>
              <a:t>Recommendations by SG1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99600" y="4038480"/>
            <a:ext cx="757980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Recommendation G.1010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End-User Multimedia QoS Categories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72080" y="1905120"/>
            <a:ext cx="7552440" cy="17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Recommendation G.1000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8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Communications Quality of Service: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 Framework and Definitions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99028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228600"/>
            <a:ext cx="25146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Arial"/>
              </a:rPr>
              <a:t>QoS framework</a:t>
            </a:r>
            <a:br>
              <a:rPr sz="3600"/>
            </a:br>
            <a:r>
              <a:rPr b="1" i="1" lang="en-US" sz="3600" spc="-1" strike="noStrike">
                <a:solidFill>
                  <a:srgbClr val="ff3300"/>
                </a:solidFill>
                <a:latin typeface="Arial"/>
              </a:rPr>
              <a:t>(G.1000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219320" y="685800"/>
          <a:ext cx="8405640" cy="586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685800"/>
                    <a:ext cx="840564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9028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ITU_Logo" descr=""/>
          <p:cNvPicPr/>
          <p:nvPr/>
        </p:nvPicPr>
        <p:blipFill>
          <a:blip r:embed="rId1"/>
          <a:stretch/>
        </p:blipFill>
        <p:spPr>
          <a:xfrm>
            <a:off x="304920" y="5410080"/>
            <a:ext cx="1052280" cy="10670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295280" y="5791320"/>
            <a:ext cx="8240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IP Cablecom and MEDIACOM 200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752480" y="1066680"/>
          <a:ext cx="7010640" cy="449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1066680"/>
                    <a:ext cx="701064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2590920" y="228600"/>
            <a:ext cx="515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3300"/>
                </a:solidFill>
                <a:uFillTx/>
                <a:latin typeface="Arial"/>
              </a:rPr>
              <a:t>Four Views of Q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99028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22860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3300"/>
                </a:solidFill>
                <a:uFillTx/>
                <a:latin typeface="Arial"/>
              </a:rPr>
              <a:t>Service Provider’s View of Q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-1981080" y="1752480"/>
          <a:ext cx="5943600" cy="398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981080" y="1752480"/>
                    <a:ext cx="5943600" cy="39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2819520" y="3733920"/>
            <a:ext cx="670536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18560" y="3351600"/>
            <a:ext cx="132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1600200"/>
            <a:ext cx="3352680" cy="1600200"/>
          </a:xfrm>
          <a:prstGeom prst="wedgeRoundRectCallout">
            <a:avLst>
              <a:gd name="adj1" fmla="val -131439"/>
              <a:gd name="adj2" fmla="val 31944"/>
              <a:gd name="adj3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oS Frame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d IP Perf Parame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d IP QoS Clas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6225200">
            <a:off x="2604600" y="3414600"/>
            <a:ext cx="180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Implemen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15000" y="4191120"/>
            <a:ext cx="3352680" cy="1600200"/>
          </a:xfrm>
          <a:prstGeom prst="wedgeRoundRectCallout">
            <a:avLst>
              <a:gd name="adj1" fmla="val -133902"/>
              <a:gd name="adj2" fmla="val -16069"/>
              <a:gd name="adj3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oS Mechanis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d Active Mea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pling Methodolog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ssive Monitor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99028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90720" y="22860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3300"/>
                </a:solidFill>
                <a:uFillTx/>
                <a:latin typeface="Arial"/>
              </a:rPr>
              <a:t>QoS Agreements - Evolu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371600" y="1905120"/>
            <a:ext cx="1523880" cy="3886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280" y="3733920"/>
            <a:ext cx="80773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51680" y="3351600"/>
            <a:ext cx="132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7160" y="2284920"/>
            <a:ext cx="147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qmnt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S Mana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62840" y="3961440"/>
            <a:ext cx="788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371600" y="464832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71600" y="373392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71600" y="281952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81080" y="3352680"/>
            <a:ext cx="228600" cy="609840"/>
          </a:xfrm>
          <a:prstGeom prst="upArrow">
            <a:avLst>
              <a:gd name="adj1" fmla="val 38889"/>
              <a:gd name="adj2" fmla="val 111155"/>
            </a:avLst>
          </a:prstGeom>
          <a:solidFill>
            <a:srgbClr val="66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257800" y="1905120"/>
            <a:ext cx="1523880" cy="3886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34120" y="1980000"/>
            <a:ext cx="1533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ublish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q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ign &amp; En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221440" y="3885120"/>
            <a:ext cx="15537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vision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oS Mech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r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SLA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257800" y="464832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257800" y="373392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57800" y="281952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486400" y="3276000"/>
            <a:ext cx="228600" cy="609480"/>
          </a:xfrm>
          <a:prstGeom prst="upArrow">
            <a:avLst>
              <a:gd name="adj1" fmla="val 38889"/>
              <a:gd name="adj2" fmla="val 111089"/>
            </a:avLst>
          </a:prstGeom>
          <a:solidFill>
            <a:srgbClr val="66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95480" y="5105520"/>
            <a:ext cx="2286000" cy="228600"/>
          </a:xfrm>
          <a:prstGeom prst="leftArrow">
            <a:avLst>
              <a:gd name="adj1" fmla="val 50000"/>
              <a:gd name="adj2" fmla="val 250000"/>
            </a:avLst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95480" y="2438280"/>
            <a:ext cx="2362320" cy="228600"/>
          </a:xfrm>
          <a:prstGeom prst="leftRightArrow">
            <a:avLst>
              <a:gd name="adj1" fmla="val 50000"/>
              <a:gd name="adj2" fmla="val 20572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10280" y="1905120"/>
            <a:ext cx="1524240" cy="3886200"/>
          </a:xfrm>
          <a:prstGeom prst="rect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004160" y="2437200"/>
            <a:ext cx="154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opera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087320" y="3123000"/>
            <a:ext cx="176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K/REJ/Mo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81680" y="3505320"/>
            <a:ext cx="10670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6781680" y="3627360"/>
            <a:ext cx="10670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724280" y="2894760"/>
            <a:ext cx="533520" cy="2210040"/>
          </a:xfrm>
          <a:custGeom>
            <a:avLst/>
            <a:gdLst>
              <a:gd name="textAreaLeft" fmla="*/ 71280 w 533520"/>
              <a:gd name="textAreaRight" fmla="*/ 462240 w 533520"/>
              <a:gd name="textAreaTop" fmla="*/ 386640 h 2210040"/>
              <a:gd name="textAreaBottom" fmla="*/ 1602360 h 221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6T07:23:15Z</dcterms:created>
  <dc:creator>Roberto Wilson Meirelles de Castro</dc:creator>
  <dc:description/>
  <dc:language>en-US</dc:language>
  <cp:lastModifiedBy>Charles Dvorak</cp:lastModifiedBy>
  <cp:lastPrinted>2002-03-04T16:10:12Z</cp:lastPrinted>
  <dcterms:modified xsi:type="dcterms:W3CDTF">2002-03-13T11:24:51Z</dcterms:modified>
  <cp:revision>60</cp:revision>
  <dc:subject/>
  <dc:title>PowerPoint Presentation</dc:title>
</cp:coreProperties>
</file>