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73F8-B269-4848-A095-7D617BEC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D39A0-8854-4D7D-9913-AA5ACE8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519F-1115-444C-9AE3-C696296D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396EE-F449-435E-B1D7-02FAB6E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8E23-DC26-4A7F-9737-908FFE1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A69B7-21FF-4589-ABB1-1E98CF8C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4BEE6-B07C-4B6B-A07A-A3243FE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E9FA-0FFD-4FDE-8885-1885B0FC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34D3A-7B6A-4B30-A958-0AF7F2E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D6050-0635-4D76-BC6F-08D8C33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9AED-77F9-48C7-8941-A024B630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352AB-5746-4A76-BAB2-718446A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59880" y="5715000"/>
            <a:ext cx="866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2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2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3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4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976-A432-491D-87FC-7221729C1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9372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Prediction and Monitoring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Quality for VoIP services</a:t>
            </a: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600"/>
            </a:b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incent Barriac – France Télécom R&amp;D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G12 Q.16 Rapporte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ediction of end-to-end quality</a:t>
            </a:r>
            <a:br>
              <a:rPr sz="4800"/>
            </a:b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1 : the E-model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905120"/>
            <a:ext cx="9902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TU-T G.107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ransmission planning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Subjective effects of all impairments are add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E-Model output is a score (R) between 0 and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akes into accoun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ransmission delay and echo (speaker, listener and sidet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vels (SNR, noise, loudness rat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ow bit rate coding (Ie fa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E-model Voice Quality Categories according to G.109 Recommend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2011320"/>
          <a:ext cx="9601200" cy="289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1320"/>
                    <a:ext cx="96012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751320" y="51055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 : transmission quality index calculated with the E-model (G.1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ITU_Logo" descr=""/>
          <p:cNvPicPr/>
          <p:nvPr/>
        </p:nvPicPr>
        <p:blipFill>
          <a:blip r:embed="rId3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ediction of end-to-end quality </a:t>
            </a:r>
            <a:br>
              <a:rPr sz="4800"/>
            </a:b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2 : the call clarity index (CCI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057400"/>
            <a:ext cx="8991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TU-T P.562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nspired by the CATNAP/SUBMOD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Based on loudness ra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akes into account the P.561 paramete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ransmission delay and 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vels (SNR, noi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ew models similar to the CCI and adapted to the VoIP context are being developed and will be soon standardised under Q.16/1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9902880" cy="82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Voice Quality on IP networks (1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9597960" cy="4298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/>
          </a:bodyPr>
          <a:p>
            <a:pPr marL="407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main Voice Quality impairments related to the transmission on IP networks are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an important transmission delay (essentially caused by the use of low bit rate coder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cho when the loop delay exceeds  40 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 interactivity possibility beyond 400 ms of one way dela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variation of transmission delay (due to packet loss, but not perceptible if less than 30 ms)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59436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9902880" cy="82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Voice Quality on IP networks (2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597960" cy="4299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/>
          </a:bodyPr>
          <a:p>
            <a:pPr marL="40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Voice Quality impairments related to the transmission on IP networks are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loss of information (due to packet los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erceptible and annoying from 2 or 3 % of los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fficult to support above 10 %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nbearable above 20 %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ignal distortion (caused by the use of low bit rate coder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.g. :G.711 better than G.729, itself better than G.723.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ITU_Logo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052640" cy="1066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The principal metrics for voice quality on IP network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967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1) End-to-end transmission delay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2) Speech quality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3) Packet loss rate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4) Variation of transmission delay (or jitter)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5) Annoyance due to echo (electrical or acoustical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1932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880" y="-92520"/>
            <a:ext cx="9512280" cy="155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oblems for the evaluation of voice quality in IP network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902880" cy="3124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 fontScale="92000"/>
          </a:bodyPr>
          <a:p>
            <a:pPr marL="37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Voice quality is time variant («unguaranteed quality»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: non constant packet path (and thus transmission time) and network load (and thus packet loss r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: classical subjective and objective assessment methods must evolve to a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bjective : continuous scor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bjective : new parameters to characterise and supervise, new measurement tools to devel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How to measure voice quality 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9028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Two types of tools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Non-intrusive (I.N.M.D.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: on real communication without reference signal, better for the supervision of QoS inside network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81dfd"/>
                </a:solidFill>
                <a:latin typeface="Arial"/>
              </a:rPr>
              <a:t>End-to-end intrusi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: on test calls with reference signal, better fitted for the measurement of quality as perceived by end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53160" y="4975200"/>
            <a:ext cx="368280" cy="4888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4654440"/>
            <a:ext cx="352440" cy="630360"/>
          </a:xfrm>
          <a:custGeom>
            <a:avLst/>
            <a:gdLst>
              <a:gd name="textAreaLeft" fmla="*/ 12600 w 352440"/>
              <a:gd name="textAreaRight" fmla="*/ 339840 w 352440"/>
              <a:gd name="textAreaTop" fmla="*/ 12600 h 630360"/>
              <a:gd name="textAreaBottom" fmla="*/ 617760 h 630360"/>
            </a:gdLst>
            <a:ahLst/>
            <a:rect l="textAreaLeft" t="textAreaTop" r="textAreaRight" b="textAreaBottom"/>
            <a:pathLst>
              <a:path w="21600" h="38616">
                <a:moveTo>
                  <a:pt x="2689" y="0"/>
                </a:moveTo>
                <a:arcTo wR="2689" hR="2689" stAng="16200000" swAng="-5400000"/>
                <a:lnTo>
                  <a:pt x="0" y="35927"/>
                </a:lnTo>
                <a:arcTo wR="2689" hR="2689" stAng="10800000" swAng="-5400000"/>
                <a:lnTo>
                  <a:pt x="18911" y="38616"/>
                </a:lnTo>
                <a:arcTo wR="2689" hR="2689" stAng="5400000" swAng="-5400000"/>
                <a:lnTo>
                  <a:pt x="21600" y="2689"/>
                </a:lnTo>
                <a:arcTo wR="2689" hR="2689" stAng="0" swAng="-5400000"/>
                <a:close/>
              </a:path>
            </a:pathLst>
          </a:cu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8640" y="4916520"/>
            <a:ext cx="352440" cy="71280"/>
          </a:xfrm>
          <a:prstGeom prst="rect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8640" y="4962600"/>
            <a:ext cx="352440" cy="314280"/>
          </a:xfrm>
          <a:prstGeom prst="roundRect">
            <a:avLst>
              <a:gd name="adj" fmla="val 9731"/>
            </a:avLst>
          </a:pr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1000" y="4633920"/>
            <a:ext cx="379440" cy="270000"/>
          </a:xfrm>
          <a:custGeom>
            <a:avLst/>
            <a:gdLst/>
            <a:ahLst/>
            <a:rect l="l" t="t" r="r" b="b"/>
            <a:pathLst>
              <a:path w="211" h="128">
                <a:moveTo>
                  <a:pt x="50" y="125"/>
                </a:moveTo>
                <a:lnTo>
                  <a:pt x="50" y="48"/>
                </a:lnTo>
                <a:lnTo>
                  <a:pt x="0" y="22"/>
                </a:lnTo>
                <a:lnTo>
                  <a:pt x="1" y="17"/>
                </a:lnTo>
                <a:lnTo>
                  <a:pt x="2" y="13"/>
                </a:lnTo>
                <a:lnTo>
                  <a:pt x="4" y="9"/>
                </a:lnTo>
                <a:lnTo>
                  <a:pt x="8" y="6"/>
                </a:lnTo>
                <a:lnTo>
                  <a:pt x="12" y="4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188" y="0"/>
                </a:lnTo>
                <a:lnTo>
                  <a:pt x="190" y="0"/>
                </a:lnTo>
                <a:lnTo>
                  <a:pt x="195" y="2"/>
                </a:lnTo>
                <a:lnTo>
                  <a:pt x="198" y="4"/>
                </a:lnTo>
                <a:lnTo>
                  <a:pt x="199" y="5"/>
                </a:lnTo>
                <a:lnTo>
                  <a:pt x="202" y="6"/>
                </a:lnTo>
                <a:lnTo>
                  <a:pt x="206" y="10"/>
                </a:lnTo>
                <a:lnTo>
                  <a:pt x="207" y="13"/>
                </a:lnTo>
                <a:lnTo>
                  <a:pt x="208" y="16"/>
                </a:lnTo>
                <a:lnTo>
                  <a:pt x="210" y="20"/>
                </a:lnTo>
                <a:lnTo>
                  <a:pt x="159" y="46"/>
                </a:lnTo>
                <a:lnTo>
                  <a:pt x="159" y="127"/>
                </a:lnTo>
                <a:lnTo>
                  <a:pt x="146" y="127"/>
                </a:lnTo>
                <a:lnTo>
                  <a:pt x="146" y="38"/>
                </a:lnTo>
                <a:lnTo>
                  <a:pt x="63" y="38"/>
                </a:lnTo>
                <a:lnTo>
                  <a:pt x="63" y="127"/>
                </a:lnTo>
                <a:lnTo>
                  <a:pt x="50" y="125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3680" y="519912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93680" y="5205240"/>
            <a:ext cx="3672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7400" y="519912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7400" y="5205240"/>
            <a:ext cx="3816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4000" y="519912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4000" y="5205240"/>
            <a:ext cx="3816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3680" y="514188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3680" y="5151600"/>
            <a:ext cx="3672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93680" y="5089680"/>
            <a:ext cx="3672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3680" y="509256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93680" y="503388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93680" y="5038560"/>
            <a:ext cx="3672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7400" y="5141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57400" y="5151600"/>
            <a:ext cx="3816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7400" y="5089680"/>
            <a:ext cx="3816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57400" y="509256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7400" y="5033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57400" y="5038560"/>
            <a:ext cx="3816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5141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5151600"/>
            <a:ext cx="3816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5089680"/>
            <a:ext cx="3816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4000" y="509256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4000" y="5033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4000" y="5038560"/>
            <a:ext cx="3816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2720" y="4718160"/>
            <a:ext cx="144360" cy="161640"/>
          </a:xfrm>
          <a:prstGeom prst="ellipse">
            <a:avLst/>
          </a:prstGeom>
          <a:solidFill>
            <a:srgbClr val="0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5080" y="4729320"/>
            <a:ext cx="55800" cy="137880"/>
          </a:xfrm>
          <a:custGeom>
            <a:avLst/>
            <a:gdLst/>
            <a:ahLst/>
            <a:rect l="l" t="t" r="r" b="b"/>
            <a:pathLst>
              <a:path w="31" h="66">
                <a:moveTo>
                  <a:pt x="28" y="9"/>
                </a:moveTo>
                <a:lnTo>
                  <a:pt x="30" y="57"/>
                </a:lnTo>
                <a:lnTo>
                  <a:pt x="12" y="65"/>
                </a:lnTo>
                <a:lnTo>
                  <a:pt x="8" y="61"/>
                </a:lnTo>
                <a:lnTo>
                  <a:pt x="5" y="55"/>
                </a:lnTo>
                <a:lnTo>
                  <a:pt x="3" y="50"/>
                </a:lnTo>
                <a:lnTo>
                  <a:pt x="1" y="43"/>
                </a:lnTo>
                <a:lnTo>
                  <a:pt x="0" y="39"/>
                </a:lnTo>
                <a:lnTo>
                  <a:pt x="0" y="34"/>
                </a:lnTo>
                <a:lnTo>
                  <a:pt x="0" y="27"/>
                </a:lnTo>
                <a:lnTo>
                  <a:pt x="1" y="22"/>
                </a:lnTo>
                <a:lnTo>
                  <a:pt x="3" y="15"/>
                </a:lnTo>
                <a:lnTo>
                  <a:pt x="5" y="10"/>
                </a:lnTo>
                <a:lnTo>
                  <a:pt x="8" y="5"/>
                </a:lnTo>
                <a:lnTo>
                  <a:pt x="12" y="0"/>
                </a:lnTo>
                <a:lnTo>
                  <a:pt x="28" y="9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0840" y="4718160"/>
            <a:ext cx="149040" cy="161640"/>
          </a:xfrm>
          <a:prstGeom prst="ellipse">
            <a:avLst/>
          </a:prstGeom>
          <a:solidFill>
            <a:srgbClr val="0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2080" y="4729320"/>
            <a:ext cx="56880" cy="137880"/>
          </a:xfrm>
          <a:custGeom>
            <a:avLst/>
            <a:gdLst/>
            <a:ahLst/>
            <a:rect l="l" t="t" r="r" b="b"/>
            <a:pathLst>
              <a:path w="31" h="66">
                <a:moveTo>
                  <a:pt x="0" y="9"/>
                </a:moveTo>
                <a:lnTo>
                  <a:pt x="0" y="57"/>
                </a:lnTo>
                <a:lnTo>
                  <a:pt x="18" y="65"/>
                </a:lnTo>
                <a:lnTo>
                  <a:pt x="20" y="61"/>
                </a:lnTo>
                <a:lnTo>
                  <a:pt x="25" y="55"/>
                </a:lnTo>
                <a:lnTo>
                  <a:pt x="26" y="50"/>
                </a:lnTo>
                <a:lnTo>
                  <a:pt x="30" y="43"/>
                </a:lnTo>
                <a:lnTo>
                  <a:pt x="30" y="39"/>
                </a:lnTo>
                <a:lnTo>
                  <a:pt x="30" y="34"/>
                </a:lnTo>
                <a:lnTo>
                  <a:pt x="30" y="27"/>
                </a:lnTo>
                <a:lnTo>
                  <a:pt x="27" y="22"/>
                </a:lnTo>
                <a:lnTo>
                  <a:pt x="26" y="15"/>
                </a:lnTo>
                <a:lnTo>
                  <a:pt x="24" y="10"/>
                </a:lnTo>
                <a:lnTo>
                  <a:pt x="20" y="5"/>
                </a:lnTo>
                <a:lnTo>
                  <a:pt x="16" y="0"/>
                </a:lnTo>
                <a:lnTo>
                  <a:pt x="0" y="9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2560" y="4705200"/>
            <a:ext cx="479520" cy="66960"/>
          </a:xfrm>
          <a:prstGeom prst="rect">
            <a:avLst/>
          </a:pr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63560" y="493704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350120" y="4048200"/>
            <a:ext cx="771480" cy="56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73480" y="4873680"/>
            <a:ext cx="504720" cy="68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14440" y="4433760"/>
            <a:ext cx="9342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1" y="14381"/>
                </a:moveTo>
                <a:arcTo wR="10800" hR="10800" stAng="9638071" swAng="8517894"/>
                <a:lnTo>
                  <a:pt x="10800" y="10800"/>
                </a:lnTo>
                <a:close/>
              </a:path>
              <a:path fill="none" w="21600" h="21600">
                <a:moveTo>
                  <a:pt x="611" y="14381"/>
                </a:moveTo>
                <a:arcTo wR="10800" hR="10800" stAng="9638071" swAng="8517894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5000" y="4330800"/>
            <a:ext cx="1096920" cy="61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5" y="6450"/>
                </a:moveTo>
                <a:arcTo wR="10800" hR="10800" stAng="-9374851" swAng="10552402"/>
                <a:lnTo>
                  <a:pt x="10800" y="10800"/>
                </a:lnTo>
                <a:close/>
              </a:path>
              <a:path fill="none" w="21600" h="21600">
                <a:moveTo>
                  <a:pt x="915" y="6450"/>
                </a:moveTo>
                <a:arcTo wR="10800" hR="10800" stAng="-9374851" swAng="1055240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2779560" y="4596480"/>
            <a:ext cx="1492200" cy="66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39" y="19806"/>
                </a:moveTo>
                <a:arcTo wR="10800" hR="10800" stAng="7409886" swAng="8781877"/>
                <a:lnTo>
                  <a:pt x="10800" y="10800"/>
                </a:lnTo>
                <a:close/>
              </a:path>
              <a:path fill="none" w="21600" h="21600">
                <a:moveTo>
                  <a:pt x="4839" y="19806"/>
                </a:moveTo>
                <a:arcTo wR="10800" hR="10800" stAng="7409886" swAng="8781877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730960" y="4833000"/>
            <a:ext cx="112500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9"/>
                </a:moveTo>
                <a:arcTo wR="10800" hR="10800" stAng="-10758333" swAng="8000762"/>
                <a:lnTo>
                  <a:pt x="10800" y="10800"/>
                </a:lnTo>
                <a:close/>
              </a:path>
              <a:path fill="none" w="21600" h="21600">
                <a:moveTo>
                  <a:pt x="1" y="10669"/>
                </a:moveTo>
                <a:arcTo wR="10800" hR="10800" stAng="-10758333" swAng="800076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7920" y="4839120"/>
            <a:ext cx="1008000" cy="65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25" y="20822"/>
                </a:moveTo>
                <a:arcTo wR="10800" hR="10800" stAng="4086988" swAng="6778997"/>
                <a:lnTo>
                  <a:pt x="10800" y="10800"/>
                </a:lnTo>
                <a:close/>
              </a:path>
              <a:path fill="none" w="21600" h="21600">
                <a:moveTo>
                  <a:pt x="14825" y="20822"/>
                </a:moveTo>
                <a:arcTo wR="10800" hR="10800" stAng="4086988" swAng="6778997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5560" y="4768560"/>
            <a:ext cx="119664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2" y="21600"/>
                </a:moveTo>
                <a:arcTo wR="10800" hR="10800" stAng="5431205" swAng="6946304"/>
                <a:lnTo>
                  <a:pt x="10800" y="10800"/>
                </a:lnTo>
                <a:close/>
              </a:path>
              <a:path fill="none" w="21600" h="21600">
                <a:moveTo>
                  <a:pt x="10702" y="21600"/>
                </a:moveTo>
                <a:arcTo wR="10800" hR="10800" stAng="5431205" swAng="6946304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8160" y="4613400"/>
            <a:ext cx="93996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1" y="17035"/>
                </a:moveTo>
                <a:arcTo wR="10800" hR="10800" stAng="8684337" swAng="7502592"/>
                <a:lnTo>
                  <a:pt x="10800" y="10800"/>
                </a:lnTo>
                <a:close/>
              </a:path>
              <a:path fill="none" w="21600" h="21600">
                <a:moveTo>
                  <a:pt x="1981" y="17035"/>
                </a:moveTo>
                <a:arcTo wR="10800" hR="10800" stAng="8684337" swAng="750259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5000" y="4441680"/>
            <a:ext cx="2211480" cy="995400"/>
          </a:xfrm>
          <a:custGeom>
            <a:avLst/>
            <a:gdLst/>
            <a:ahLst/>
            <a:rect l="l" t="t" r="r" b="b"/>
            <a:pathLst>
              <a:path w="1232" h="471">
                <a:moveTo>
                  <a:pt x="584" y="19"/>
                </a:moveTo>
                <a:lnTo>
                  <a:pt x="0" y="152"/>
                </a:lnTo>
                <a:lnTo>
                  <a:pt x="109" y="368"/>
                </a:lnTo>
                <a:lnTo>
                  <a:pt x="714" y="470"/>
                </a:lnTo>
                <a:lnTo>
                  <a:pt x="1231" y="191"/>
                </a:lnTo>
                <a:lnTo>
                  <a:pt x="909" y="0"/>
                </a:lnTo>
                <a:lnTo>
                  <a:pt x="540" y="19"/>
                </a:lnTo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22680" y="4724280"/>
            <a:ext cx="10047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86040" y="5761080"/>
            <a:ext cx="20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NAS/VoIP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6560" y="5180040"/>
            <a:ext cx="573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980480" y="3457440"/>
          <a:ext cx="52524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0480" y="3457440"/>
                    <a:ext cx="5252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446880" y="3611520"/>
            <a:ext cx="430200" cy="606600"/>
          </a:xfrm>
          <a:custGeom>
            <a:avLst/>
            <a:gdLst/>
            <a:ahLst/>
            <a:rect l="l" t="t" r="r" b="b"/>
            <a:pathLst>
              <a:path w="167" h="193">
                <a:moveTo>
                  <a:pt x="0" y="192"/>
                </a:moveTo>
                <a:lnTo>
                  <a:pt x="166" y="192"/>
                </a:lnTo>
                <a:lnTo>
                  <a:pt x="166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730920" y="3611520"/>
            <a:ext cx="1296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54800" y="3774960"/>
            <a:ext cx="42840" cy="54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6" y="0"/>
                </a:lnTo>
                <a:lnTo>
                  <a:pt x="16" y="0"/>
                </a:lnTo>
                <a:lnTo>
                  <a:pt x="16" y="8"/>
                </a:lnTo>
                <a:lnTo>
                  <a:pt x="6" y="16"/>
                </a:lnTo>
                <a:lnTo>
                  <a:pt x="6" y="8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3880" y="4164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43880" y="3633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43880" y="3649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43880" y="3659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43880" y="3678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43880" y="3684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43880" y="36990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43880" y="37083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43880" y="3724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43880" y="3730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3880" y="37497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880" y="3759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43880" y="37749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3880" y="3781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43880" y="3797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43880" y="38070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43880" y="3822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43880" y="3832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43880" y="3846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43880" y="38527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43880" y="38718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43880" y="3878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43880" y="3894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3880" y="3903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43880" y="3919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43880" y="3929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43880" y="3948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43880" y="3954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43880" y="3970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43880" y="39765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43880" y="3994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43880" y="40035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43880" y="40194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43880" y="40258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43880" y="40417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43880" y="4051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43880" y="4067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43880" y="40766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43880" y="40924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3880" y="4102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43880" y="4118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43880" y="41274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43880" y="41418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43880" y="4148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54800" y="41641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54800" y="413388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54800" y="41083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54800" y="40766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4800" y="40514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54800" y="40194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54800" y="398628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54800" y="39607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54800" y="39290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54800" y="39038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54800" y="38718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54800" y="38466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54800" y="381636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4800" y="3643200"/>
            <a:ext cx="247680" cy="52560"/>
          </a:xfrm>
          <a:custGeom>
            <a:avLst/>
            <a:gdLst/>
            <a:ahLst/>
            <a:rect l="l" t="t" r="r" b="b"/>
            <a:pathLst>
              <a:path w="96" h="17">
                <a:moveTo>
                  <a:pt x="82" y="10"/>
                </a:moveTo>
                <a:lnTo>
                  <a:pt x="95" y="10"/>
                </a:lnTo>
                <a:lnTo>
                  <a:pt x="95" y="0"/>
                </a:lnTo>
                <a:lnTo>
                  <a:pt x="82" y="0"/>
                </a:lnTo>
                <a:lnTo>
                  <a:pt x="82" y="10"/>
                </a:lnTo>
                <a:lnTo>
                  <a:pt x="0" y="16"/>
                </a:lnTo>
                <a:lnTo>
                  <a:pt x="24" y="16"/>
                </a:lnTo>
                <a:lnTo>
                  <a:pt x="24" y="0"/>
                </a:lnTo>
                <a:lnTo>
                  <a:pt x="0" y="0"/>
                </a:lnTo>
                <a:lnTo>
                  <a:pt x="0" y="16"/>
                </a:lnTo>
                <a:lnTo>
                  <a:pt x="82" y="1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55640" y="4305240"/>
            <a:ext cx="938520" cy="5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76" y="1770"/>
                </a:moveTo>
                <a:arcTo wR="10800" hR="10800" stAng="-7396034" swAng="8607353"/>
                <a:lnTo>
                  <a:pt x="10800" y="10800"/>
                </a:lnTo>
                <a:close/>
              </a:path>
              <a:path fill="none" w="21600" h="21600">
                <a:moveTo>
                  <a:pt x="4876" y="1770"/>
                </a:moveTo>
                <a:arcTo wR="10800" hR="10800" stAng="-7396034" swAng="8607353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73800" y="4175280"/>
            <a:ext cx="1092600" cy="73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" y="14273"/>
                </a:moveTo>
                <a:arcTo wR="10800" hR="10800" stAng="9674375" swAng="10564691"/>
                <a:lnTo>
                  <a:pt x="10800" y="10800"/>
                </a:lnTo>
                <a:close/>
              </a:path>
              <a:path fill="none" w="21600" h="21600">
                <a:moveTo>
                  <a:pt x="574" y="14273"/>
                </a:moveTo>
                <a:arcTo wR="10800" hR="10800" stAng="9674375" swAng="10564691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5133960" y="4495680"/>
            <a:ext cx="1485720" cy="7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0463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04633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5558040" y="4774320"/>
            <a:ext cx="1127160" cy="8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31" y="3096"/>
                </a:moveTo>
                <a:arcTo wR="10800" hR="10800" stAng="-8069578" swAng="8069578"/>
                <a:lnTo>
                  <a:pt x="10800" y="10800"/>
                </a:lnTo>
                <a:close/>
              </a:path>
              <a:path fill="none" w="21600" h="21600">
                <a:moveTo>
                  <a:pt x="3231" y="3096"/>
                </a:moveTo>
                <a:arcTo wR="10800" hR="10800" stAng="-8069578" swAng="8069578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8440" y="4771440"/>
            <a:ext cx="1013400" cy="7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1"/>
                </a:moveTo>
                <a:arcTo wR="10800" hR="10800" stAng="-18783" swAng="6797227"/>
                <a:lnTo>
                  <a:pt x="10800" y="10800"/>
                </a:lnTo>
                <a:close/>
              </a:path>
              <a:path fill="none" w="21600" h="21600">
                <a:moveTo>
                  <a:pt x="21600" y="10741"/>
                </a:moveTo>
                <a:arcTo wR="10800" hR="10800" stAng="-18783" swAng="6797227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86760" y="4682520"/>
            <a:ext cx="1213920" cy="66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48" y="6151"/>
                </a:moveTo>
                <a:arcTo wR="10800" hR="10800" stAng="-1529916" swAng="6960622"/>
                <a:lnTo>
                  <a:pt x="10800" y="10800"/>
                </a:lnTo>
                <a:close/>
              </a:path>
              <a:path fill="none" w="21600" h="21600">
                <a:moveTo>
                  <a:pt x="20548" y="6151"/>
                </a:moveTo>
                <a:arcTo wR="10800" hR="10800" stAng="-1529916" swAng="6960622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42360" y="4513320"/>
            <a:ext cx="939240" cy="54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9" y="0"/>
                </a:moveTo>
                <a:arcTo wR="10800" hR="10800" stAng="-5413071" swAng="7548646"/>
                <a:lnTo>
                  <a:pt x="10800" y="10800"/>
                </a:lnTo>
                <a:close/>
              </a:path>
              <a:path fill="none" w="21600" h="21600">
                <a:moveTo>
                  <a:pt x="10759" y="0"/>
                </a:moveTo>
                <a:arcTo wR="10800" hR="10800" stAng="-5413071" swAng="7548646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4314960"/>
            <a:ext cx="2230200" cy="1182600"/>
          </a:xfrm>
          <a:custGeom>
            <a:avLst/>
            <a:gdLst/>
            <a:ahLst/>
            <a:rect l="l" t="t" r="r" b="b"/>
            <a:pathLst>
              <a:path w="1243" h="561">
                <a:moveTo>
                  <a:pt x="653" y="22"/>
                </a:moveTo>
                <a:lnTo>
                  <a:pt x="1242" y="181"/>
                </a:lnTo>
                <a:lnTo>
                  <a:pt x="1132" y="439"/>
                </a:lnTo>
                <a:lnTo>
                  <a:pt x="522" y="560"/>
                </a:lnTo>
                <a:lnTo>
                  <a:pt x="0" y="226"/>
                </a:lnTo>
                <a:lnTo>
                  <a:pt x="326" y="0"/>
                </a:lnTo>
                <a:lnTo>
                  <a:pt x="696" y="2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32640" y="4932360"/>
            <a:ext cx="21888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606920"/>
            <a:ext cx="1670040" cy="534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9360" y="4343400"/>
            <a:ext cx="557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733920"/>
            <a:ext cx="823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447920" y="3657600"/>
            <a:ext cx="807840" cy="566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1487520" y="5451480"/>
            <a:ext cx="807840" cy="56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4143240" y="4022640"/>
            <a:ext cx="808200" cy="567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7937640" y="4746600"/>
            <a:ext cx="807840" cy="566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28760" y="4129200"/>
            <a:ext cx="30348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28760" y="5386320"/>
            <a:ext cx="2635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352400" y="4605480"/>
            <a:ext cx="26532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467240" y="4548240"/>
            <a:ext cx="341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16880" y="5100480"/>
            <a:ext cx="4366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" y="4286160"/>
            <a:ext cx="824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31280" y="3581280"/>
            <a:ext cx="823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1080" y="3753000"/>
            <a:ext cx="82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I.N.M.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342900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7120" y="4014720"/>
            <a:ext cx="6316560" cy="1552680"/>
          </a:xfrm>
          <a:custGeom>
            <a:avLst/>
            <a:gdLst/>
            <a:ahLst/>
            <a:rect l="l" t="t" r="r" b="b"/>
            <a:pathLst>
              <a:path w="3996" h="978">
                <a:moveTo>
                  <a:pt x="0" y="660"/>
                </a:moveTo>
                <a:cubicBezTo>
                  <a:pt x="178" y="616"/>
                  <a:pt x="736" y="352"/>
                  <a:pt x="1068" y="396"/>
                </a:cubicBezTo>
                <a:cubicBezTo>
                  <a:pt x="1400" y="440"/>
                  <a:pt x="1636" y="870"/>
                  <a:pt x="1992" y="924"/>
                </a:cubicBezTo>
                <a:cubicBezTo>
                  <a:pt x="2348" y="978"/>
                  <a:pt x="2870" y="874"/>
                  <a:pt x="3204" y="720"/>
                </a:cubicBezTo>
                <a:cubicBezTo>
                  <a:pt x="3538" y="566"/>
                  <a:pt x="3831" y="150"/>
                  <a:pt x="3996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83200" y="4586040"/>
            <a:ext cx="245880" cy="5713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56440" y="4905360"/>
            <a:ext cx="1589040" cy="809640"/>
          </a:xfrm>
          <a:custGeom>
            <a:avLst/>
            <a:gdLst/>
            <a:ahLst/>
            <a:rect l="l" t="t" r="r" b="b"/>
            <a:pathLst>
              <a:path w="924" h="510">
                <a:moveTo>
                  <a:pt x="924" y="186"/>
                </a:moveTo>
                <a:cubicBezTo>
                  <a:pt x="794" y="163"/>
                  <a:pt x="304" y="0"/>
                  <a:pt x="152" y="54"/>
                </a:cubicBezTo>
                <a:cubicBezTo>
                  <a:pt x="0" y="108"/>
                  <a:pt x="39" y="415"/>
                  <a:pt x="9" y="510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55920" y="4129200"/>
            <a:ext cx="5376960" cy="1263600"/>
          </a:xfrm>
          <a:custGeom>
            <a:avLst/>
            <a:gdLst/>
            <a:ahLst/>
            <a:rect l="l" t="t" r="r" b="b"/>
            <a:pathLst>
              <a:path w="3128" h="796">
                <a:moveTo>
                  <a:pt x="0" y="0"/>
                </a:moveTo>
                <a:cubicBezTo>
                  <a:pt x="125" y="54"/>
                  <a:pt x="526" y="196"/>
                  <a:pt x="750" y="324"/>
                </a:cubicBezTo>
                <a:cubicBezTo>
                  <a:pt x="975" y="452"/>
                  <a:pt x="1094" y="740"/>
                  <a:pt x="1346" y="768"/>
                </a:cubicBezTo>
                <a:cubicBezTo>
                  <a:pt x="1598" y="796"/>
                  <a:pt x="1965" y="537"/>
                  <a:pt x="2262" y="492"/>
                </a:cubicBezTo>
                <a:cubicBezTo>
                  <a:pt x="2559" y="447"/>
                  <a:pt x="2948" y="495"/>
                  <a:pt x="3128" y="49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867280"/>
            <a:ext cx="98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1800" y="5410080"/>
            <a:ext cx="98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5810400" y="5715000"/>
            <a:ext cx="807840" cy="566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767640" y="5867280"/>
            <a:ext cx="98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98600" y="4262400"/>
            <a:ext cx="497160" cy="1447920"/>
          </a:xfrm>
          <a:custGeom>
            <a:avLst/>
            <a:gdLst/>
            <a:ahLst/>
            <a:rect l="l" t="t" r="r" b="b"/>
            <a:pathLst>
              <a:path w="314" h="912">
                <a:moveTo>
                  <a:pt x="12" y="0"/>
                </a:moveTo>
                <a:cubicBezTo>
                  <a:pt x="62" y="76"/>
                  <a:pt x="314" y="304"/>
                  <a:pt x="312" y="456"/>
                </a:cubicBezTo>
                <a:cubicBezTo>
                  <a:pt x="310" y="608"/>
                  <a:pt x="65" y="817"/>
                  <a:pt x="0" y="91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ITU_Logo" descr=""/>
          <p:cNvPicPr/>
          <p:nvPr/>
        </p:nvPicPr>
        <p:blipFill>
          <a:blip r:embed="rId9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End-to-end assessment :PESQ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990720"/>
            <a:ext cx="99028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usive measurement performed on  speech sig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put : MOS score (from 1 to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e way measurem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oes not take into account propagation tim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ot applicable for conversational situations (echo, double tal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dependent on speaker (male ou female) and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kes in consideration propagation delay variations, and thus is applicable to transmission via packet networks (ex. : VoI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dependent on the measurement interfac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quires only PCM files at 8 or 16 kH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ndardised Model (P.862 Recommendation) validated on many subjective databases, recognised as a reliable and cheap alternative to subjective te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Non-intrusive monitoring : INM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066680"/>
            <a:ext cx="99028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Measurement performed on real communications (speech signal + signalling/protoco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Output : call detailed repo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Network interface : T1/E1 (measurement on all time slots and both direction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P.561 Recommend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pecifies the required parameters (speech level, noise level, echo, round trip delay), measurement ranges and accura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 be updated during the 2001-2004 study period to take into account new interfaces (Ethernet) and new parameters (mainly related to Vo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Single ended mode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219320"/>
            <a:ext cx="9902880" cy="47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Measurement performed on  speech signal (need for a discrimination between types of sign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Non-intrusive measurement (no reference sign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Input : standard PCM files (as for P.862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Output : MOS score (ide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rained on subjective databases including conditions with VoIP impair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tandardisation process running under Q.9/12 (4 or 5 candidate algorithm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BARRIAC</cp:lastModifiedBy>
  <cp:lastPrinted>2000-09-20T01:32:11Z</cp:lastPrinted>
  <dcterms:modified xsi:type="dcterms:W3CDTF">2002-03-13T12:56:12Z</dcterms:modified>
  <cp:revision>51</cp:revision>
  <dc:subject/>
  <dc:title>PowerPoint Presentation</dc:title>
</cp:coreProperties>
</file>