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0288588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0800" y="1066680"/>
            <a:ext cx="972468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0800" y="3693600"/>
            <a:ext cx="972468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0800" y="1066680"/>
            <a:ext cx="47455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3920" y="1066680"/>
            <a:ext cx="47455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0800" y="3693600"/>
            <a:ext cx="47455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3920" y="3693600"/>
            <a:ext cx="47455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0800" y="1066680"/>
            <a:ext cx="313128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69040" y="1066680"/>
            <a:ext cx="313128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7280" y="1066680"/>
            <a:ext cx="313128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0800" y="3693600"/>
            <a:ext cx="313128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69040" y="3693600"/>
            <a:ext cx="313128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857280" y="3693600"/>
            <a:ext cx="313128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0800" y="1066680"/>
            <a:ext cx="97246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0800" y="1066680"/>
            <a:ext cx="9724680" cy="50292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0800" y="1066680"/>
            <a:ext cx="4745520" cy="50292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3920" y="1066680"/>
            <a:ext cx="4745520" cy="50292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14360" y="232920"/>
            <a:ext cx="5810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0800" y="1066680"/>
            <a:ext cx="47455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3920" y="1066680"/>
            <a:ext cx="4745520" cy="50292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0800" y="3693600"/>
            <a:ext cx="47455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0800" y="1066680"/>
            <a:ext cx="4745520" cy="50292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3920" y="1066680"/>
            <a:ext cx="47455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3920" y="3693600"/>
            <a:ext cx="47455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0800" y="1066680"/>
            <a:ext cx="47455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3920" y="1066680"/>
            <a:ext cx="474552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0800" y="3693600"/>
            <a:ext cx="9724680" cy="23986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marL="28584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0800" y="1066680"/>
            <a:ext cx="9724680" cy="50292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 fontScale="79000"/>
          </a:bodyPr>
          <a:p>
            <a:pPr marL="225720" indent="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25720" indent="-22572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Clr>
                <a:srgbClr val="91919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25720" indent="-22572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Clr>
                <a:srgbClr val="919191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25720" indent="-22572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Clr>
                <a:srgbClr val="919191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25720" indent="-22572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Clr>
                <a:srgbClr val="919191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25720" indent="-22572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25720" indent="-225720">
              <a:lnSpc>
                <a:spcPct val="110000"/>
              </a:lnSpc>
              <a:spcBef>
                <a:spcPts val="1199"/>
              </a:spcBef>
              <a:spcAft>
                <a:spcPts val="20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06360" y="1025640"/>
            <a:ext cx="821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99880" y="996840"/>
            <a:ext cx="419400" cy="6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186760" y="5956200"/>
            <a:ext cx="1736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6360" y="6130800"/>
            <a:ext cx="969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9880" y="6102360"/>
            <a:ext cx="419400" cy="63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6218280"/>
            <a:ext cx="3603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‚l‚r –¾’©"/>
              </a:rPr>
              <a:t>IP Cablecom  &amp; MEDIACOM 2004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‚l‚r –¾’©"/>
              </a:rPr>
              <a:t>12 - 15 March  2002 Gene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ITU_Logo" descr=""/>
          <p:cNvPicPr/>
          <p:nvPr/>
        </p:nvPicPr>
        <p:blipFill>
          <a:blip r:embed="rId2"/>
          <a:stretch/>
        </p:blipFill>
        <p:spPr>
          <a:xfrm>
            <a:off x="8707320" y="298440"/>
            <a:ext cx="962280" cy="105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1880" y="1828440"/>
            <a:ext cx="87534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ITU-T SG16 Work on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End to End Quality of Service in IP Multimedia Systems </a:t>
            </a:r>
            <a:br>
              <a:rPr sz="1400"/>
            </a:b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e Buckley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chemy Inc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"/>
          <p:cNvGrpSpPr/>
          <p:nvPr/>
        </p:nvGrpSpPr>
        <p:grpSpPr>
          <a:xfrm>
            <a:off x="668160" y="2436840"/>
            <a:ext cx="415800" cy="731160"/>
            <a:chOff x="668160" y="2436840"/>
            <a:chExt cx="415800" cy="731160"/>
          </a:xfrm>
        </p:grpSpPr>
        <p:grpSp>
          <p:nvGrpSpPr>
            <p:cNvPr id="253" name=""/>
            <p:cNvGrpSpPr/>
            <p:nvPr/>
          </p:nvGrpSpPr>
          <p:grpSpPr>
            <a:xfrm>
              <a:off x="668160" y="2436840"/>
              <a:ext cx="415800" cy="730080"/>
              <a:chOff x="668160" y="2436840"/>
              <a:chExt cx="415800" cy="730080"/>
            </a:xfrm>
          </p:grpSpPr>
          <p:sp>
            <p:nvSpPr>
              <p:cNvPr id="254" name=""/>
              <p:cNvSpPr/>
              <p:nvPr/>
            </p:nvSpPr>
            <p:spPr>
              <a:xfrm>
                <a:off x="790920" y="2485080"/>
                <a:ext cx="279720" cy="12600"/>
              </a:xfrm>
              <a:custGeom>
                <a:avLst/>
                <a:gdLst/>
                <a:ahLst/>
                <a:rect l="l" t="t" r="r" b="b"/>
                <a:pathLst>
                  <a:path w="1232" h="46">
                    <a:moveTo>
                      <a:pt x="0" y="0"/>
                    </a:moveTo>
                    <a:lnTo>
                      <a:pt x="73" y="46"/>
                    </a:lnTo>
                    <a:lnTo>
                      <a:pt x="1232" y="46"/>
                    </a:lnTo>
                    <a:lnTo>
                      <a:pt x="119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9840" y="2484000"/>
                <a:ext cx="70200" cy="682920"/>
              </a:xfrm>
              <a:custGeom>
                <a:avLst/>
                <a:gdLst/>
                <a:ahLst/>
                <a:rect l="l" t="t" r="r" b="b"/>
                <a:pathLst>
                  <a:path w="312" h="2397">
                    <a:moveTo>
                      <a:pt x="0" y="2316"/>
                    </a:moveTo>
                    <a:lnTo>
                      <a:pt x="64" y="2397"/>
                    </a:lnTo>
                    <a:lnTo>
                      <a:pt x="312" y="796"/>
                    </a:lnTo>
                    <a:lnTo>
                      <a:pt x="80" y="48"/>
                    </a:lnTo>
                    <a:lnTo>
                      <a:pt x="3" y="0"/>
                    </a:lnTo>
                    <a:lnTo>
                      <a:pt x="0" y="875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8160" y="2436840"/>
                <a:ext cx="122760" cy="707400"/>
              </a:xfrm>
              <a:custGeom>
                <a:avLst/>
                <a:gdLst/>
                <a:ahLst/>
                <a:rect l="l" t="t" r="r" b="b"/>
                <a:pathLst>
                  <a:path w="542" h="2477">
                    <a:moveTo>
                      <a:pt x="0" y="0"/>
                    </a:moveTo>
                    <a:lnTo>
                      <a:pt x="542" y="162"/>
                    </a:lnTo>
                    <a:lnTo>
                      <a:pt x="542" y="2477"/>
                    </a:lnTo>
                    <a:lnTo>
                      <a:pt x="0" y="1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68160" y="2436840"/>
                <a:ext cx="394560" cy="48240"/>
              </a:xfrm>
              <a:custGeom>
                <a:avLst/>
                <a:gdLst/>
                <a:ahLst/>
                <a:rect l="l" t="t" r="r" b="b"/>
                <a:pathLst>
                  <a:path w="1737" h="170">
                    <a:moveTo>
                      <a:pt x="543" y="170"/>
                    </a:moveTo>
                    <a:lnTo>
                      <a:pt x="1737" y="170"/>
                    </a:lnTo>
                    <a:lnTo>
                      <a:pt x="900" y="0"/>
                    </a:lnTo>
                    <a:lnTo>
                      <a:pt x="0" y="0"/>
                    </a:lnTo>
                    <a:lnTo>
                      <a:pt x="543" y="17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05680" y="2739240"/>
                <a:ext cx="255600" cy="427680"/>
              </a:xfrm>
              <a:prstGeom prst="rect">
                <a:avLst/>
              </a:prstGeom>
              <a:solidFill>
                <a:srgbClr val="c0c0c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808200" y="2496600"/>
                <a:ext cx="275040" cy="215280"/>
              </a:xfrm>
              <a:custGeom>
                <a:avLst/>
                <a:gdLst/>
                <a:ahLst/>
                <a:rect l="l" t="t" r="r" b="b"/>
                <a:pathLst>
                  <a:path w="1212" h="754">
                    <a:moveTo>
                      <a:pt x="0" y="0"/>
                    </a:moveTo>
                    <a:lnTo>
                      <a:pt x="1156" y="0"/>
                    </a:lnTo>
                    <a:lnTo>
                      <a:pt x="1212" y="754"/>
                    </a:lnTo>
                    <a:lnTo>
                      <a:pt x="49" y="7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05680" y="2711880"/>
                <a:ext cx="278280" cy="25560"/>
              </a:xfrm>
              <a:custGeom>
                <a:avLst/>
                <a:gdLst/>
                <a:ahLst/>
                <a:rect l="l" t="t" r="r" b="b"/>
                <a:pathLst>
                  <a:path w="1226" h="90">
                    <a:moveTo>
                      <a:pt x="0" y="90"/>
                    </a:moveTo>
                    <a:lnTo>
                      <a:pt x="1132" y="90"/>
                    </a:lnTo>
                    <a:lnTo>
                      <a:pt x="1226" y="0"/>
                    </a:lnTo>
                    <a:lnTo>
                      <a:pt x="6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808200" y="2485080"/>
              <a:ext cx="78120" cy="682920"/>
              <a:chOff x="808200" y="2485080"/>
              <a:chExt cx="78120" cy="682920"/>
            </a:xfrm>
          </p:grpSpPr>
          <p:sp>
            <p:nvSpPr>
              <p:cNvPr id="262" name=""/>
              <p:cNvSpPr/>
              <p:nvPr/>
            </p:nvSpPr>
            <p:spPr>
              <a:xfrm>
                <a:off x="808200" y="2485080"/>
                <a:ext cx="22320" cy="68184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2" y="40"/>
                    </a:lnTo>
                    <a:lnTo>
                      <a:pt x="102" y="802"/>
                    </a:lnTo>
                    <a:lnTo>
                      <a:pt x="50" y="889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17200" y="2486520"/>
                <a:ext cx="21600" cy="681480"/>
              </a:xfrm>
              <a:custGeom>
                <a:avLst/>
                <a:gdLst/>
                <a:ahLst/>
                <a:rect l="l" t="t" r="r" b="b"/>
                <a:pathLst>
                  <a:path w="95" h="2391">
                    <a:moveTo>
                      <a:pt x="0" y="0"/>
                    </a:moveTo>
                    <a:lnTo>
                      <a:pt x="45" y="40"/>
                    </a:lnTo>
                    <a:lnTo>
                      <a:pt x="95" y="802"/>
                    </a:lnTo>
                    <a:lnTo>
                      <a:pt x="44" y="888"/>
                    </a:lnTo>
                    <a:lnTo>
                      <a:pt x="42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23680" y="2485080"/>
                <a:ext cx="22680" cy="68184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0" y="40"/>
                    </a:lnTo>
                    <a:lnTo>
                      <a:pt x="102" y="796"/>
                    </a:lnTo>
                    <a:lnTo>
                      <a:pt x="47" y="882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31600" y="2486520"/>
                <a:ext cx="22320" cy="680400"/>
              </a:xfrm>
              <a:custGeom>
                <a:avLst/>
                <a:gdLst/>
                <a:ahLst/>
                <a:rect l="l" t="t" r="r" b="b"/>
                <a:pathLst>
                  <a:path w="98" h="2385">
                    <a:moveTo>
                      <a:pt x="0" y="0"/>
                    </a:moveTo>
                    <a:lnTo>
                      <a:pt x="48" y="35"/>
                    </a:lnTo>
                    <a:lnTo>
                      <a:pt x="98" y="796"/>
                    </a:lnTo>
                    <a:lnTo>
                      <a:pt x="46" y="883"/>
                    </a:lnTo>
                    <a:lnTo>
                      <a:pt x="44" y="2385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840600" y="2485080"/>
                <a:ext cx="21600" cy="678960"/>
              </a:xfrm>
              <a:custGeom>
                <a:avLst/>
                <a:gdLst/>
                <a:ahLst/>
                <a:rect l="l" t="t" r="r" b="b"/>
                <a:pathLst>
                  <a:path w="97" h="2383">
                    <a:moveTo>
                      <a:pt x="0" y="0"/>
                    </a:moveTo>
                    <a:lnTo>
                      <a:pt x="47" y="46"/>
                    </a:lnTo>
                    <a:lnTo>
                      <a:pt x="97" y="795"/>
                    </a:lnTo>
                    <a:lnTo>
                      <a:pt x="44" y="881"/>
                    </a:lnTo>
                    <a:lnTo>
                      <a:pt x="42" y="2383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48520" y="2486520"/>
                <a:ext cx="21600" cy="678960"/>
              </a:xfrm>
              <a:custGeom>
                <a:avLst/>
                <a:gdLst/>
                <a:ahLst/>
                <a:rect l="l" t="t" r="r" b="b"/>
                <a:pathLst>
                  <a:path w="92" h="2384">
                    <a:moveTo>
                      <a:pt x="0" y="0"/>
                    </a:moveTo>
                    <a:lnTo>
                      <a:pt x="42" y="40"/>
                    </a:lnTo>
                    <a:lnTo>
                      <a:pt x="92" y="794"/>
                    </a:lnTo>
                    <a:lnTo>
                      <a:pt x="40" y="881"/>
                    </a:lnTo>
                    <a:lnTo>
                      <a:pt x="38" y="2384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56800" y="2486520"/>
                <a:ext cx="21600" cy="680400"/>
              </a:xfrm>
              <a:custGeom>
                <a:avLst/>
                <a:gdLst/>
                <a:ahLst/>
                <a:rect l="l" t="t" r="r" b="b"/>
                <a:pathLst>
                  <a:path w="93" h="2389">
                    <a:moveTo>
                      <a:pt x="0" y="0"/>
                    </a:moveTo>
                    <a:lnTo>
                      <a:pt x="41" y="42"/>
                    </a:lnTo>
                    <a:lnTo>
                      <a:pt x="93" y="786"/>
                    </a:lnTo>
                    <a:lnTo>
                      <a:pt x="38" y="880"/>
                    </a:lnTo>
                    <a:lnTo>
                      <a:pt x="38" y="2389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64720" y="2486520"/>
                <a:ext cx="21600" cy="677160"/>
              </a:xfrm>
              <a:custGeom>
                <a:avLst/>
                <a:gdLst/>
                <a:ahLst/>
                <a:rect l="l" t="t" r="r" b="b"/>
                <a:pathLst>
                  <a:path w="93" h="2377">
                    <a:moveTo>
                      <a:pt x="0" y="0"/>
                    </a:moveTo>
                    <a:lnTo>
                      <a:pt x="43" y="40"/>
                    </a:lnTo>
                    <a:lnTo>
                      <a:pt x="93" y="789"/>
                    </a:lnTo>
                    <a:lnTo>
                      <a:pt x="42" y="875"/>
                    </a:lnTo>
                    <a:lnTo>
                      <a:pt x="39" y="2377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883080" y="2793600"/>
              <a:ext cx="168120" cy="33912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83080" y="2859120"/>
              <a:ext cx="168120" cy="680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83080" y="2927520"/>
              <a:ext cx="168120" cy="68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83080" y="2993040"/>
              <a:ext cx="168120" cy="68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12600" y="2871720"/>
              <a:ext cx="110160" cy="414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912600" y="2938680"/>
              <a:ext cx="110160" cy="428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87480" y="2800800"/>
              <a:ext cx="7920" cy="43920"/>
            </a:xfrm>
            <a:custGeom>
              <a:avLst/>
              <a:gdLst/>
              <a:ahLst/>
              <a:rect l="l" t="t" r="r" b="b"/>
              <a:pathLst>
                <a:path w="33" h="152">
                  <a:moveTo>
                    <a:pt x="33" y="0"/>
                  </a:moveTo>
                  <a:lnTo>
                    <a:pt x="33" y="152"/>
                  </a:lnTo>
                  <a:lnTo>
                    <a:pt x="0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883080" y="2793600"/>
              <a:ext cx="168120" cy="68040"/>
              <a:chOff x="883080" y="2793600"/>
              <a:chExt cx="168120" cy="68040"/>
            </a:xfrm>
          </p:grpSpPr>
          <p:sp>
            <p:nvSpPr>
              <p:cNvPr id="278" name=""/>
              <p:cNvSpPr/>
              <p:nvPr/>
            </p:nvSpPr>
            <p:spPr>
              <a:xfrm>
                <a:off x="883080" y="2793600"/>
                <a:ext cx="168120" cy="68040"/>
              </a:xfrm>
              <a:prstGeom prst="rect">
                <a:avLst/>
              </a:prstGeom>
              <a:solidFill>
                <a:srgbClr val="a0a0a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00000" y="2803320"/>
                <a:ext cx="12240" cy="684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" name=""/>
              <p:cNvGrpSpPr/>
              <p:nvPr/>
            </p:nvGrpSpPr>
            <p:grpSpPr>
              <a:xfrm>
                <a:off x="894240" y="2797560"/>
                <a:ext cx="148680" cy="52560"/>
                <a:chOff x="894240" y="2797560"/>
                <a:chExt cx="148680" cy="5256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961200" y="2800440"/>
                  <a:ext cx="33840" cy="19440"/>
                </a:xfrm>
                <a:custGeom>
                  <a:avLst/>
                  <a:gdLst/>
                  <a:ahLst/>
                  <a:rect l="l" t="t" r="r" b="b"/>
                  <a:pathLst>
                    <a:path w="152" h="69">
                      <a:moveTo>
                        <a:pt x="152" y="0"/>
                      </a:moveTo>
                      <a:lnTo>
                        <a:pt x="9" y="0"/>
                      </a:lnTo>
                      <a:lnTo>
                        <a:pt x="0" y="69"/>
                      </a:lnTo>
                      <a:lnTo>
                        <a:pt x="134" y="6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961200" y="2825640"/>
                  <a:ext cx="77040" cy="18360"/>
                </a:xfrm>
                <a:custGeom>
                  <a:avLst/>
                  <a:gdLst/>
                  <a:ahLst/>
                  <a:rect l="l" t="t" r="r" b="b"/>
                  <a:pathLst>
                    <a:path w="341" h="68">
                      <a:moveTo>
                        <a:pt x="341" y="68"/>
                      </a:moveTo>
                      <a:lnTo>
                        <a:pt x="9" y="68"/>
                      </a:lnTo>
                      <a:lnTo>
                        <a:pt x="0" y="0"/>
                      </a:lnTo>
                      <a:lnTo>
                        <a:pt x="324" y="0"/>
                      </a:lnTo>
                      <a:lnTo>
                        <a:pt x="341" y="6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992880" y="2808720"/>
                  <a:ext cx="45360" cy="11160"/>
                </a:xfrm>
                <a:custGeom>
                  <a:avLst/>
                  <a:gdLst/>
                  <a:ahLst/>
                  <a:rect l="l" t="t" r="r" b="b"/>
                  <a:pathLst>
                    <a:path w="199" h="36">
                      <a:moveTo>
                        <a:pt x="199" y="0"/>
                      </a:moveTo>
                      <a:lnTo>
                        <a:pt x="7" y="0"/>
                      </a:lnTo>
                      <a:lnTo>
                        <a:pt x="0" y="36"/>
                      </a:lnTo>
                      <a:lnTo>
                        <a:pt x="182" y="36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033920" y="2808720"/>
                  <a:ext cx="4320" cy="35280"/>
                </a:xfrm>
                <a:custGeom>
                  <a:avLst/>
                  <a:gdLst/>
                  <a:ahLst/>
                  <a:rect l="l" t="t" r="r" b="b"/>
                  <a:pathLst>
                    <a:path w="20" h="123">
                      <a:moveTo>
                        <a:pt x="20" y="0"/>
                      </a:moveTo>
                      <a:lnTo>
                        <a:pt x="20" y="123"/>
                      </a:lnTo>
                      <a:lnTo>
                        <a:pt x="0" y="41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995040" y="2828520"/>
                  <a:ext cx="13320" cy="1260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894240" y="2819880"/>
                  <a:ext cx="148680" cy="576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" name=""/>
                <p:cNvGrpSpPr/>
                <p:nvPr/>
              </p:nvGrpSpPr>
              <p:grpSpPr>
                <a:xfrm>
                  <a:off x="991800" y="2797560"/>
                  <a:ext cx="15480" cy="52560"/>
                  <a:chOff x="991800" y="2797560"/>
                  <a:chExt cx="15480" cy="5256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991800" y="2798640"/>
                    <a:ext cx="144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4" y="2"/>
                        </a:moveTo>
                        <a:lnTo>
                          <a:pt x="30" y="0"/>
                        </a:lnTo>
                        <a:lnTo>
                          <a:pt x="13" y="10"/>
                        </a:lnTo>
                        <a:lnTo>
                          <a:pt x="8" y="31"/>
                        </a:lnTo>
                        <a:lnTo>
                          <a:pt x="0" y="73"/>
                        </a:lnTo>
                        <a:lnTo>
                          <a:pt x="17" y="181"/>
                        </a:lnTo>
                        <a:lnTo>
                          <a:pt x="30" y="183"/>
                        </a:lnTo>
                        <a:lnTo>
                          <a:pt x="30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4" y="2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992520" y="2797560"/>
                    <a:ext cx="147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3" y="2"/>
                        </a:moveTo>
                        <a:lnTo>
                          <a:pt x="29" y="0"/>
                        </a:lnTo>
                        <a:lnTo>
                          <a:pt x="14" y="10"/>
                        </a:lnTo>
                        <a:lnTo>
                          <a:pt x="7" y="31"/>
                        </a:lnTo>
                        <a:lnTo>
                          <a:pt x="0" y="72"/>
                        </a:lnTo>
                        <a:lnTo>
                          <a:pt x="17" y="181"/>
                        </a:lnTo>
                        <a:lnTo>
                          <a:pt x="29" y="183"/>
                        </a:lnTo>
                        <a:lnTo>
                          <a:pt x="29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3" y="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90" name=""/>
            <p:cNvSpPr/>
            <p:nvPr/>
          </p:nvSpPr>
          <p:spPr>
            <a:xfrm>
              <a:off x="918000" y="2884680"/>
              <a:ext cx="99000" cy="5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47880" y="2897640"/>
              <a:ext cx="43200" cy="9360"/>
            </a:xfrm>
            <a:custGeom>
              <a:avLst/>
              <a:gdLst/>
              <a:ahLst/>
              <a:rect l="l" t="t" r="r" b="b"/>
              <a:pathLst>
                <a:path w="190" h="35">
                  <a:moveTo>
                    <a:pt x="5" y="35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190" y="34"/>
                  </a:lnTo>
                </a:path>
              </a:pathLst>
            </a:custGeom>
            <a:noFill/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30880" y="2529360"/>
              <a:ext cx="38520" cy="52560"/>
            </a:xfrm>
            <a:custGeom>
              <a:avLst/>
              <a:gdLst/>
              <a:ahLst/>
              <a:rect l="l" t="t" r="r" b="b"/>
              <a:pathLst>
                <a:path w="168" h="181">
                  <a:moveTo>
                    <a:pt x="155" y="0"/>
                  </a:moveTo>
                  <a:lnTo>
                    <a:pt x="0" y="0"/>
                  </a:lnTo>
                  <a:lnTo>
                    <a:pt x="11" y="181"/>
                  </a:lnTo>
                  <a:lnTo>
                    <a:pt x="168" y="181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5200" y="2617920"/>
              <a:ext cx="39960" cy="5112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162" y="0"/>
                  </a:moveTo>
                  <a:lnTo>
                    <a:pt x="0" y="0"/>
                  </a:lnTo>
                  <a:lnTo>
                    <a:pt x="12" y="183"/>
                  </a:lnTo>
                  <a:lnTo>
                    <a:pt x="175" y="18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893160" y="2613600"/>
              <a:ext cx="168120" cy="55440"/>
              <a:chOff x="893160" y="2613600"/>
              <a:chExt cx="168120" cy="55440"/>
            </a:xfrm>
          </p:grpSpPr>
          <p:sp>
            <p:nvSpPr>
              <p:cNvPr id="295" name=""/>
              <p:cNvSpPr/>
              <p:nvPr/>
            </p:nvSpPr>
            <p:spPr>
              <a:xfrm>
                <a:off x="893160" y="2613600"/>
                <a:ext cx="168120" cy="55440"/>
              </a:xfrm>
              <a:prstGeom prst="rect">
                <a:avLst/>
              </a:prstGeom>
              <a:solidFill>
                <a:srgbClr val="60606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923760" y="2620440"/>
                <a:ext cx="20520" cy="1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923760" y="2643480"/>
                <a:ext cx="20520" cy="183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964440" y="2631960"/>
                <a:ext cx="20520" cy="1692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902160" y="2631960"/>
                <a:ext cx="14400" cy="2160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9271080" y="2530440"/>
            <a:ext cx="402840" cy="668520"/>
            <a:chOff x="9271080" y="2530440"/>
            <a:chExt cx="402840" cy="668520"/>
          </a:xfrm>
        </p:grpSpPr>
        <p:grpSp>
          <p:nvGrpSpPr>
            <p:cNvPr id="301" name=""/>
            <p:cNvGrpSpPr/>
            <p:nvPr/>
          </p:nvGrpSpPr>
          <p:grpSpPr>
            <a:xfrm>
              <a:off x="9271080" y="2530440"/>
              <a:ext cx="402840" cy="666720"/>
              <a:chOff x="9271080" y="2530440"/>
              <a:chExt cx="402840" cy="666720"/>
            </a:xfrm>
          </p:grpSpPr>
          <p:sp>
            <p:nvSpPr>
              <p:cNvPr id="302" name=""/>
              <p:cNvSpPr/>
              <p:nvPr/>
            </p:nvSpPr>
            <p:spPr>
              <a:xfrm>
                <a:off x="9389880" y="2574720"/>
                <a:ext cx="271080" cy="11520"/>
              </a:xfrm>
              <a:custGeom>
                <a:avLst/>
                <a:gdLst/>
                <a:ahLst/>
                <a:rect l="l" t="t" r="r" b="b"/>
                <a:pathLst>
                  <a:path w="1232" h="46">
                    <a:moveTo>
                      <a:pt x="0" y="0"/>
                    </a:moveTo>
                    <a:lnTo>
                      <a:pt x="73" y="46"/>
                    </a:lnTo>
                    <a:lnTo>
                      <a:pt x="1232" y="46"/>
                    </a:lnTo>
                    <a:lnTo>
                      <a:pt x="119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9388800" y="2573280"/>
                <a:ext cx="68040" cy="623880"/>
              </a:xfrm>
              <a:custGeom>
                <a:avLst/>
                <a:gdLst/>
                <a:ahLst/>
                <a:rect l="l" t="t" r="r" b="b"/>
                <a:pathLst>
                  <a:path w="312" h="2397">
                    <a:moveTo>
                      <a:pt x="0" y="2316"/>
                    </a:moveTo>
                    <a:lnTo>
                      <a:pt x="64" y="2397"/>
                    </a:lnTo>
                    <a:lnTo>
                      <a:pt x="312" y="796"/>
                    </a:lnTo>
                    <a:lnTo>
                      <a:pt x="80" y="48"/>
                    </a:lnTo>
                    <a:lnTo>
                      <a:pt x="3" y="0"/>
                    </a:lnTo>
                    <a:lnTo>
                      <a:pt x="0" y="875"/>
                    </a:lnTo>
                    <a:lnTo>
                      <a:pt x="0" y="2316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271080" y="2530440"/>
                <a:ext cx="118800" cy="645840"/>
              </a:xfrm>
              <a:custGeom>
                <a:avLst/>
                <a:gdLst/>
                <a:ahLst/>
                <a:rect l="l" t="t" r="r" b="b"/>
                <a:pathLst>
                  <a:path w="542" h="2477">
                    <a:moveTo>
                      <a:pt x="0" y="0"/>
                    </a:moveTo>
                    <a:lnTo>
                      <a:pt x="542" y="162"/>
                    </a:lnTo>
                    <a:lnTo>
                      <a:pt x="542" y="2477"/>
                    </a:lnTo>
                    <a:lnTo>
                      <a:pt x="0" y="188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9271080" y="2530440"/>
                <a:ext cx="382320" cy="44280"/>
              </a:xfrm>
              <a:custGeom>
                <a:avLst/>
                <a:gdLst/>
                <a:ahLst/>
                <a:rect l="l" t="t" r="r" b="b"/>
                <a:pathLst>
                  <a:path w="1737" h="170">
                    <a:moveTo>
                      <a:pt x="543" y="170"/>
                    </a:moveTo>
                    <a:lnTo>
                      <a:pt x="1737" y="170"/>
                    </a:lnTo>
                    <a:lnTo>
                      <a:pt x="900" y="0"/>
                    </a:lnTo>
                    <a:lnTo>
                      <a:pt x="0" y="0"/>
                    </a:lnTo>
                    <a:lnTo>
                      <a:pt x="543" y="170"/>
                    </a:lnTo>
                    <a:close/>
                  </a:path>
                </a:pathLst>
              </a:custGeom>
              <a:solidFill>
                <a:srgbClr val="e0e0e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404280" y="2806560"/>
                <a:ext cx="247680" cy="390600"/>
              </a:xfrm>
              <a:prstGeom prst="rect">
                <a:avLst/>
              </a:prstGeom>
              <a:solidFill>
                <a:srgbClr val="c0c0c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406440" y="2584800"/>
                <a:ext cx="266400" cy="196560"/>
              </a:xfrm>
              <a:custGeom>
                <a:avLst/>
                <a:gdLst/>
                <a:ahLst/>
                <a:rect l="l" t="t" r="r" b="b"/>
                <a:pathLst>
                  <a:path w="1212" h="754">
                    <a:moveTo>
                      <a:pt x="0" y="0"/>
                    </a:moveTo>
                    <a:lnTo>
                      <a:pt x="1156" y="0"/>
                    </a:lnTo>
                    <a:lnTo>
                      <a:pt x="1212" y="754"/>
                    </a:lnTo>
                    <a:lnTo>
                      <a:pt x="49" y="75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9404280" y="2781720"/>
                <a:ext cx="269640" cy="23400"/>
              </a:xfrm>
              <a:custGeom>
                <a:avLst/>
                <a:gdLst/>
                <a:ahLst/>
                <a:rect l="l" t="t" r="r" b="b"/>
                <a:pathLst>
                  <a:path w="1226" h="90">
                    <a:moveTo>
                      <a:pt x="0" y="90"/>
                    </a:moveTo>
                    <a:lnTo>
                      <a:pt x="1132" y="90"/>
                    </a:lnTo>
                    <a:lnTo>
                      <a:pt x="1226" y="0"/>
                    </a:lnTo>
                    <a:lnTo>
                      <a:pt x="62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a0a0a0"/>
              </a:solidFill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9406440" y="2574720"/>
              <a:ext cx="75600" cy="624240"/>
              <a:chOff x="9406440" y="2574720"/>
              <a:chExt cx="75600" cy="624240"/>
            </a:xfrm>
          </p:grpSpPr>
          <p:sp>
            <p:nvSpPr>
              <p:cNvPr id="310" name=""/>
              <p:cNvSpPr/>
              <p:nvPr/>
            </p:nvSpPr>
            <p:spPr>
              <a:xfrm>
                <a:off x="9406440" y="2574720"/>
                <a:ext cx="21960" cy="62280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2" y="40"/>
                    </a:lnTo>
                    <a:lnTo>
                      <a:pt x="102" y="802"/>
                    </a:lnTo>
                    <a:lnTo>
                      <a:pt x="50" y="889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415080" y="2576160"/>
                <a:ext cx="20880" cy="622800"/>
              </a:xfrm>
              <a:custGeom>
                <a:avLst/>
                <a:gdLst/>
                <a:ahLst/>
                <a:rect l="l" t="t" r="r" b="b"/>
                <a:pathLst>
                  <a:path w="95" h="2391">
                    <a:moveTo>
                      <a:pt x="0" y="0"/>
                    </a:moveTo>
                    <a:lnTo>
                      <a:pt x="45" y="40"/>
                    </a:lnTo>
                    <a:lnTo>
                      <a:pt x="95" y="802"/>
                    </a:lnTo>
                    <a:lnTo>
                      <a:pt x="44" y="888"/>
                    </a:lnTo>
                    <a:lnTo>
                      <a:pt x="42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421560" y="2574720"/>
                <a:ext cx="21960" cy="622800"/>
              </a:xfrm>
              <a:custGeom>
                <a:avLst/>
                <a:gdLst/>
                <a:ahLst/>
                <a:rect l="l" t="t" r="r" b="b"/>
                <a:pathLst>
                  <a:path w="102" h="2391">
                    <a:moveTo>
                      <a:pt x="0" y="0"/>
                    </a:moveTo>
                    <a:lnTo>
                      <a:pt x="50" y="40"/>
                    </a:lnTo>
                    <a:lnTo>
                      <a:pt x="102" y="796"/>
                    </a:lnTo>
                    <a:lnTo>
                      <a:pt x="47" y="882"/>
                    </a:lnTo>
                    <a:lnTo>
                      <a:pt x="47" y="2391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9429120" y="2576160"/>
                <a:ext cx="21960" cy="621360"/>
              </a:xfrm>
              <a:custGeom>
                <a:avLst/>
                <a:gdLst/>
                <a:ahLst/>
                <a:rect l="l" t="t" r="r" b="b"/>
                <a:pathLst>
                  <a:path w="98" h="2385">
                    <a:moveTo>
                      <a:pt x="0" y="0"/>
                    </a:moveTo>
                    <a:lnTo>
                      <a:pt x="48" y="35"/>
                    </a:lnTo>
                    <a:lnTo>
                      <a:pt x="98" y="796"/>
                    </a:lnTo>
                    <a:lnTo>
                      <a:pt x="46" y="883"/>
                    </a:lnTo>
                    <a:lnTo>
                      <a:pt x="44" y="2385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438120" y="2574720"/>
                <a:ext cx="20880" cy="620280"/>
              </a:xfrm>
              <a:custGeom>
                <a:avLst/>
                <a:gdLst/>
                <a:ahLst/>
                <a:rect l="l" t="t" r="r" b="b"/>
                <a:pathLst>
                  <a:path w="97" h="2383">
                    <a:moveTo>
                      <a:pt x="0" y="0"/>
                    </a:moveTo>
                    <a:lnTo>
                      <a:pt x="47" y="46"/>
                    </a:lnTo>
                    <a:lnTo>
                      <a:pt x="97" y="795"/>
                    </a:lnTo>
                    <a:lnTo>
                      <a:pt x="44" y="881"/>
                    </a:lnTo>
                    <a:lnTo>
                      <a:pt x="42" y="2383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9445680" y="2576160"/>
                <a:ext cx="20880" cy="620280"/>
              </a:xfrm>
              <a:custGeom>
                <a:avLst/>
                <a:gdLst/>
                <a:ahLst/>
                <a:rect l="l" t="t" r="r" b="b"/>
                <a:pathLst>
                  <a:path w="92" h="2384">
                    <a:moveTo>
                      <a:pt x="0" y="0"/>
                    </a:moveTo>
                    <a:lnTo>
                      <a:pt x="42" y="40"/>
                    </a:lnTo>
                    <a:lnTo>
                      <a:pt x="92" y="794"/>
                    </a:lnTo>
                    <a:lnTo>
                      <a:pt x="40" y="881"/>
                    </a:lnTo>
                    <a:lnTo>
                      <a:pt x="38" y="2384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9453600" y="2576160"/>
                <a:ext cx="20880" cy="621360"/>
              </a:xfrm>
              <a:custGeom>
                <a:avLst/>
                <a:gdLst/>
                <a:ahLst/>
                <a:rect l="l" t="t" r="r" b="b"/>
                <a:pathLst>
                  <a:path w="93" h="2389">
                    <a:moveTo>
                      <a:pt x="0" y="0"/>
                    </a:moveTo>
                    <a:lnTo>
                      <a:pt x="41" y="42"/>
                    </a:lnTo>
                    <a:lnTo>
                      <a:pt x="93" y="786"/>
                    </a:lnTo>
                    <a:lnTo>
                      <a:pt x="38" y="880"/>
                    </a:lnTo>
                    <a:lnTo>
                      <a:pt x="38" y="2389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9461160" y="2576160"/>
                <a:ext cx="20880" cy="618840"/>
              </a:xfrm>
              <a:custGeom>
                <a:avLst/>
                <a:gdLst/>
                <a:ahLst/>
                <a:rect l="l" t="t" r="r" b="b"/>
                <a:pathLst>
                  <a:path w="93" h="2377">
                    <a:moveTo>
                      <a:pt x="0" y="0"/>
                    </a:moveTo>
                    <a:lnTo>
                      <a:pt x="43" y="40"/>
                    </a:lnTo>
                    <a:lnTo>
                      <a:pt x="93" y="789"/>
                    </a:lnTo>
                    <a:lnTo>
                      <a:pt x="42" y="875"/>
                    </a:lnTo>
                    <a:lnTo>
                      <a:pt x="39" y="2377"/>
                    </a:lnTo>
                  </a:path>
                </a:pathLst>
              </a:custGeom>
              <a:noFill/>
              <a:ln w="18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9479160" y="2856240"/>
              <a:ext cx="162720" cy="30996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9479160" y="2916360"/>
              <a:ext cx="162720" cy="6228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479160" y="2978640"/>
              <a:ext cx="162720" cy="626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9479160" y="3038760"/>
              <a:ext cx="162720" cy="626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507960" y="2927880"/>
              <a:ext cx="106920" cy="3780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507960" y="2989080"/>
              <a:ext cx="106920" cy="39240"/>
            </a:xfrm>
            <a:prstGeom prst="rect">
              <a:avLst/>
            </a:prstGeom>
            <a:solidFill>
              <a:srgbClr val="c0c0c0"/>
            </a:solidFill>
            <a:ln w="18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580680" y="2862720"/>
              <a:ext cx="7560" cy="39960"/>
            </a:xfrm>
            <a:custGeom>
              <a:avLst/>
              <a:gdLst/>
              <a:ahLst/>
              <a:rect l="l" t="t" r="r" b="b"/>
              <a:pathLst>
                <a:path w="33" h="152">
                  <a:moveTo>
                    <a:pt x="33" y="0"/>
                  </a:moveTo>
                  <a:lnTo>
                    <a:pt x="33" y="152"/>
                  </a:lnTo>
                  <a:lnTo>
                    <a:pt x="0" y="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9479160" y="2856240"/>
              <a:ext cx="162720" cy="62280"/>
              <a:chOff x="9479160" y="2856240"/>
              <a:chExt cx="162720" cy="62280"/>
            </a:xfrm>
          </p:grpSpPr>
          <p:sp>
            <p:nvSpPr>
              <p:cNvPr id="326" name=""/>
              <p:cNvSpPr/>
              <p:nvPr/>
            </p:nvSpPr>
            <p:spPr>
              <a:xfrm>
                <a:off x="9479160" y="2856240"/>
                <a:ext cx="162720" cy="62280"/>
              </a:xfrm>
              <a:prstGeom prst="rect">
                <a:avLst/>
              </a:prstGeom>
              <a:solidFill>
                <a:srgbClr val="a0a0a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9495360" y="2865240"/>
                <a:ext cx="11880" cy="648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9489960" y="2859840"/>
                <a:ext cx="144000" cy="47880"/>
                <a:chOff x="9489960" y="2859840"/>
                <a:chExt cx="144000" cy="478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9554760" y="2862360"/>
                  <a:ext cx="32760" cy="17640"/>
                </a:xfrm>
                <a:custGeom>
                  <a:avLst/>
                  <a:gdLst/>
                  <a:ahLst/>
                  <a:rect l="l" t="t" r="r" b="b"/>
                  <a:pathLst>
                    <a:path w="152" h="69">
                      <a:moveTo>
                        <a:pt x="152" y="0"/>
                      </a:moveTo>
                      <a:lnTo>
                        <a:pt x="9" y="0"/>
                      </a:lnTo>
                      <a:lnTo>
                        <a:pt x="0" y="69"/>
                      </a:lnTo>
                      <a:lnTo>
                        <a:pt x="134" y="67"/>
                      </a:lnTo>
                      <a:lnTo>
                        <a:pt x="152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9554760" y="2885400"/>
                  <a:ext cx="74880" cy="16560"/>
                </a:xfrm>
                <a:custGeom>
                  <a:avLst/>
                  <a:gdLst/>
                  <a:ahLst/>
                  <a:rect l="l" t="t" r="r" b="b"/>
                  <a:pathLst>
                    <a:path w="341" h="68">
                      <a:moveTo>
                        <a:pt x="341" y="68"/>
                      </a:moveTo>
                      <a:lnTo>
                        <a:pt x="9" y="68"/>
                      </a:lnTo>
                      <a:lnTo>
                        <a:pt x="0" y="0"/>
                      </a:lnTo>
                      <a:lnTo>
                        <a:pt x="324" y="0"/>
                      </a:lnTo>
                      <a:lnTo>
                        <a:pt x="341" y="6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9585360" y="2869920"/>
                  <a:ext cx="43920" cy="10080"/>
                </a:xfrm>
                <a:custGeom>
                  <a:avLst/>
                  <a:gdLst/>
                  <a:ahLst/>
                  <a:rect l="l" t="t" r="r" b="b"/>
                  <a:pathLst>
                    <a:path w="199" h="36">
                      <a:moveTo>
                        <a:pt x="199" y="0"/>
                      </a:moveTo>
                      <a:lnTo>
                        <a:pt x="7" y="0"/>
                      </a:lnTo>
                      <a:lnTo>
                        <a:pt x="0" y="36"/>
                      </a:lnTo>
                      <a:lnTo>
                        <a:pt x="182" y="36"/>
                      </a:lnTo>
                      <a:lnTo>
                        <a:pt x="199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9625320" y="2869920"/>
                  <a:ext cx="4320" cy="32040"/>
                </a:xfrm>
                <a:custGeom>
                  <a:avLst/>
                  <a:gdLst/>
                  <a:ahLst/>
                  <a:rect l="l" t="t" r="r" b="b"/>
                  <a:pathLst>
                    <a:path w="20" h="123">
                      <a:moveTo>
                        <a:pt x="20" y="0"/>
                      </a:moveTo>
                      <a:lnTo>
                        <a:pt x="20" y="123"/>
                      </a:lnTo>
                      <a:lnTo>
                        <a:pt x="0" y="41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9587520" y="2888280"/>
                  <a:ext cx="12960" cy="1152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9489960" y="2880360"/>
                  <a:ext cx="144000" cy="504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" name=""/>
                <p:cNvGrpSpPr/>
                <p:nvPr/>
              </p:nvGrpSpPr>
              <p:grpSpPr>
                <a:xfrm>
                  <a:off x="9584280" y="2859840"/>
                  <a:ext cx="15120" cy="47880"/>
                  <a:chOff x="9584280" y="2859840"/>
                  <a:chExt cx="15120" cy="478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9584280" y="2860920"/>
                    <a:ext cx="14040" cy="4644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4" y="2"/>
                        </a:moveTo>
                        <a:lnTo>
                          <a:pt x="30" y="0"/>
                        </a:lnTo>
                        <a:lnTo>
                          <a:pt x="13" y="10"/>
                        </a:lnTo>
                        <a:lnTo>
                          <a:pt x="8" y="31"/>
                        </a:lnTo>
                        <a:lnTo>
                          <a:pt x="0" y="73"/>
                        </a:lnTo>
                        <a:lnTo>
                          <a:pt x="17" y="181"/>
                        </a:lnTo>
                        <a:lnTo>
                          <a:pt x="30" y="183"/>
                        </a:lnTo>
                        <a:lnTo>
                          <a:pt x="30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4" y="2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9585000" y="2859840"/>
                    <a:ext cx="1440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183">
                        <a:moveTo>
                          <a:pt x="53" y="2"/>
                        </a:moveTo>
                        <a:lnTo>
                          <a:pt x="29" y="0"/>
                        </a:lnTo>
                        <a:lnTo>
                          <a:pt x="14" y="10"/>
                        </a:lnTo>
                        <a:lnTo>
                          <a:pt x="7" y="31"/>
                        </a:lnTo>
                        <a:lnTo>
                          <a:pt x="0" y="72"/>
                        </a:lnTo>
                        <a:lnTo>
                          <a:pt x="17" y="181"/>
                        </a:lnTo>
                        <a:lnTo>
                          <a:pt x="29" y="183"/>
                        </a:lnTo>
                        <a:lnTo>
                          <a:pt x="29" y="88"/>
                        </a:lnTo>
                        <a:lnTo>
                          <a:pt x="59" y="48"/>
                        </a:lnTo>
                        <a:lnTo>
                          <a:pt x="67" y="29"/>
                        </a:lnTo>
                        <a:lnTo>
                          <a:pt x="65" y="12"/>
                        </a:lnTo>
                        <a:lnTo>
                          <a:pt x="53" y="2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8" name=""/>
            <p:cNvSpPr/>
            <p:nvPr/>
          </p:nvSpPr>
          <p:spPr>
            <a:xfrm>
              <a:off x="9513360" y="2939760"/>
              <a:ext cx="95760" cy="50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9542160" y="2951280"/>
              <a:ext cx="41760" cy="8640"/>
            </a:xfrm>
            <a:custGeom>
              <a:avLst/>
              <a:gdLst/>
              <a:ahLst/>
              <a:rect l="l" t="t" r="r" b="b"/>
              <a:pathLst>
                <a:path w="190" h="35">
                  <a:moveTo>
                    <a:pt x="5" y="35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190" y="34"/>
                  </a:lnTo>
                </a:path>
              </a:pathLst>
            </a:custGeom>
            <a:noFill/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9428400" y="2615040"/>
              <a:ext cx="37440" cy="47880"/>
            </a:xfrm>
            <a:custGeom>
              <a:avLst/>
              <a:gdLst/>
              <a:ahLst/>
              <a:rect l="l" t="t" r="r" b="b"/>
              <a:pathLst>
                <a:path w="168" h="181">
                  <a:moveTo>
                    <a:pt x="155" y="0"/>
                  </a:moveTo>
                  <a:lnTo>
                    <a:pt x="0" y="0"/>
                  </a:lnTo>
                  <a:lnTo>
                    <a:pt x="11" y="181"/>
                  </a:lnTo>
                  <a:lnTo>
                    <a:pt x="168" y="181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9432720" y="2695680"/>
              <a:ext cx="38520" cy="46800"/>
            </a:xfrm>
            <a:custGeom>
              <a:avLst/>
              <a:gdLst/>
              <a:ahLst/>
              <a:rect l="l" t="t" r="r" b="b"/>
              <a:pathLst>
                <a:path w="175" h="183">
                  <a:moveTo>
                    <a:pt x="162" y="0"/>
                  </a:moveTo>
                  <a:lnTo>
                    <a:pt x="0" y="0"/>
                  </a:lnTo>
                  <a:lnTo>
                    <a:pt x="12" y="183"/>
                  </a:lnTo>
                  <a:lnTo>
                    <a:pt x="175" y="182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c0c0c0"/>
            </a:solidFill>
            <a:ln w="18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9488880" y="2692080"/>
              <a:ext cx="163080" cy="50760"/>
              <a:chOff x="9488880" y="2692080"/>
              <a:chExt cx="163080" cy="50760"/>
            </a:xfrm>
          </p:grpSpPr>
          <p:sp>
            <p:nvSpPr>
              <p:cNvPr id="343" name=""/>
              <p:cNvSpPr/>
              <p:nvPr/>
            </p:nvSpPr>
            <p:spPr>
              <a:xfrm>
                <a:off x="9488880" y="2692080"/>
                <a:ext cx="163080" cy="50760"/>
              </a:xfrm>
              <a:prstGeom prst="rect">
                <a:avLst/>
              </a:prstGeom>
              <a:solidFill>
                <a:srgbClr val="606060"/>
              </a:solidFill>
              <a:ln w="18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9518400" y="2698560"/>
                <a:ext cx="19800" cy="16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9518400" y="2719440"/>
                <a:ext cx="19800" cy="16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9558000" y="2708640"/>
                <a:ext cx="19800" cy="15480"/>
              </a:xfrm>
              <a:prstGeom prst="rect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9497520" y="2708640"/>
                <a:ext cx="14040" cy="19440"/>
              </a:xfrm>
              <a:prstGeom prst="ellipse">
                <a:avLst/>
              </a:pr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8" name=""/>
          <p:cNvSpPr/>
          <p:nvPr/>
        </p:nvSpPr>
        <p:spPr>
          <a:xfrm>
            <a:off x="3328920" y="1917720"/>
            <a:ext cx="711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46160" y="5757840"/>
            <a:ext cx="16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ll Sign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020600" y="5281560"/>
            <a:ext cx="129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cket 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325440" y="5915160"/>
            <a:ext cx="749160" cy="2880"/>
          </a:xfrm>
          <a:prstGeom prst="line">
            <a:avLst/>
          </a:prstGeom>
          <a:ln w="2844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43080" y="5668560"/>
            <a:ext cx="703080" cy="1800"/>
          </a:xfrm>
          <a:prstGeom prst="line">
            <a:avLst/>
          </a:prstGeom>
          <a:ln w="2844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019160" y="552456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oS Sign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297000" y="5405040"/>
            <a:ext cx="722160" cy="1908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4040" y="2771640"/>
            <a:ext cx="913752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265720" y="246708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Application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280120" y="2843280"/>
            <a:ext cx="188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Transpor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463760" y="3175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.qos.arch - gener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714680" y="1357200"/>
            <a:ext cx="1714320" cy="952200"/>
            <a:chOff x="1714680" y="1357200"/>
            <a:chExt cx="1714320" cy="952200"/>
          </a:xfrm>
        </p:grpSpPr>
        <p:sp>
          <p:nvSpPr>
            <p:cNvPr id="360" name=""/>
            <p:cNvSpPr/>
            <p:nvPr/>
          </p:nvSpPr>
          <p:spPr>
            <a:xfrm>
              <a:off x="1714680" y="1357200"/>
              <a:ext cx="1714320" cy="952200"/>
            </a:xfrm>
            <a:prstGeom prst="ellipse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72880" y="1588680"/>
              <a:ext cx="1078200" cy="515160"/>
            </a:xfrm>
            <a:prstGeom prst="rect">
              <a:avLst/>
            </a:prstGeom>
            <a:solidFill>
              <a:srgbClr val="fda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ervice Domai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3328920" y="4067280"/>
            <a:ext cx="1090800" cy="33156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600200" y="3565440"/>
            <a:ext cx="1714680" cy="952200"/>
            <a:chOff x="1600200" y="3565440"/>
            <a:chExt cx="1714680" cy="952200"/>
          </a:xfrm>
        </p:grpSpPr>
        <p:sp>
          <p:nvSpPr>
            <p:cNvPr id="364" name=""/>
            <p:cNvSpPr/>
            <p:nvPr/>
          </p:nvSpPr>
          <p:spPr>
            <a:xfrm>
              <a:off x="1600200" y="3565440"/>
              <a:ext cx="1714680" cy="9522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58400" y="3796920"/>
              <a:ext cx="1078560" cy="515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255920" y="4154400"/>
            <a:ext cx="1714680" cy="952200"/>
            <a:chOff x="4255920" y="4154400"/>
            <a:chExt cx="1714680" cy="952200"/>
          </a:xfrm>
        </p:grpSpPr>
        <p:sp>
          <p:nvSpPr>
            <p:cNvPr id="367" name=""/>
            <p:cNvSpPr/>
            <p:nvPr/>
          </p:nvSpPr>
          <p:spPr>
            <a:xfrm>
              <a:off x="4255920" y="4154400"/>
              <a:ext cx="1714680" cy="9522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14120" y="4385880"/>
              <a:ext cx="1078560" cy="515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881760" y="3652920"/>
            <a:ext cx="1714680" cy="952200"/>
            <a:chOff x="6881760" y="3652920"/>
            <a:chExt cx="1714680" cy="952200"/>
          </a:xfrm>
        </p:grpSpPr>
        <p:sp>
          <p:nvSpPr>
            <p:cNvPr id="370" name=""/>
            <p:cNvSpPr/>
            <p:nvPr/>
          </p:nvSpPr>
          <p:spPr>
            <a:xfrm>
              <a:off x="6881760" y="3652920"/>
              <a:ext cx="1714680" cy="95220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39960" y="3884400"/>
              <a:ext cx="1078560" cy="515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Transport Domain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1062000" y="3152880"/>
            <a:ext cx="8315280" cy="1450800"/>
            <a:chOff x="1062000" y="3152880"/>
            <a:chExt cx="8315280" cy="1450800"/>
          </a:xfrm>
        </p:grpSpPr>
        <p:sp>
          <p:nvSpPr>
            <p:cNvPr id="373" name=""/>
            <p:cNvSpPr/>
            <p:nvPr/>
          </p:nvSpPr>
          <p:spPr>
            <a:xfrm flipV="1">
              <a:off x="8496360" y="3152880"/>
              <a:ext cx="880920" cy="7128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62000" y="3159000"/>
              <a:ext cx="647640" cy="66060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5960" y="4257720"/>
              <a:ext cx="1012680" cy="32688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965920" y="4325760"/>
              <a:ext cx="1000080" cy="2779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6843600" y="1339920"/>
            <a:ext cx="1714680" cy="952200"/>
            <a:chOff x="6843600" y="1339920"/>
            <a:chExt cx="1714680" cy="952200"/>
          </a:xfrm>
        </p:grpSpPr>
        <p:sp>
          <p:nvSpPr>
            <p:cNvPr id="378" name=""/>
            <p:cNvSpPr/>
            <p:nvPr/>
          </p:nvSpPr>
          <p:spPr>
            <a:xfrm>
              <a:off x="6843600" y="1339920"/>
              <a:ext cx="1714680" cy="952200"/>
            </a:xfrm>
            <a:prstGeom prst="ellipse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01800" y="1571400"/>
              <a:ext cx="1078560" cy="515160"/>
            </a:xfrm>
            <a:prstGeom prst="rect">
              <a:avLst/>
            </a:prstGeom>
            <a:solidFill>
              <a:srgbClr val="fda4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7480" rIns="8748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Service Domai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715160" y="2298600"/>
            <a:ext cx="0" cy="134316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897520" y="4168440"/>
            <a:ext cx="974880" cy="244440"/>
          </a:xfrm>
          <a:prstGeom prst="line">
            <a:avLst/>
          </a:prstGeom>
          <a:ln w="28440">
            <a:solidFill>
              <a:srgbClr val="fc0128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3414600" y="1166760"/>
            <a:ext cx="3429000" cy="798480"/>
            <a:chOff x="3414600" y="1166760"/>
            <a:chExt cx="3429000" cy="798480"/>
          </a:xfrm>
        </p:grpSpPr>
        <p:grpSp>
          <p:nvGrpSpPr>
            <p:cNvPr id="383" name=""/>
            <p:cNvGrpSpPr/>
            <p:nvPr/>
          </p:nvGrpSpPr>
          <p:grpSpPr>
            <a:xfrm>
              <a:off x="3414600" y="1743120"/>
              <a:ext cx="3429000" cy="222120"/>
              <a:chOff x="3414600" y="1743120"/>
              <a:chExt cx="3429000" cy="222120"/>
            </a:xfrm>
          </p:grpSpPr>
          <p:sp>
            <p:nvSpPr>
              <p:cNvPr id="384" name=""/>
              <p:cNvSpPr/>
              <p:nvPr/>
            </p:nvSpPr>
            <p:spPr>
              <a:xfrm>
                <a:off x="3414600" y="1965240"/>
                <a:ext cx="3429000" cy="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3463920" y="1743120"/>
                <a:ext cx="3379680" cy="0"/>
              </a:xfrm>
              <a:prstGeom prst="line">
                <a:avLst/>
              </a:prstGeom>
              <a:ln w="28440">
                <a:solidFill>
                  <a:srgbClr val="fc0128"/>
                </a:solidFill>
                <a:prstDash val="sys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3678120" y="1166760"/>
              <a:ext cx="312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plication Level QoS Signall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.323 Annex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2481120" y="2305080"/>
            <a:ext cx="2276640" cy="1228680"/>
            <a:chOff x="2481120" y="2305080"/>
            <a:chExt cx="2276640" cy="1228680"/>
          </a:xfrm>
        </p:grpSpPr>
        <p:sp>
          <p:nvSpPr>
            <p:cNvPr id="388" name=""/>
            <p:cNvSpPr/>
            <p:nvPr/>
          </p:nvSpPr>
          <p:spPr>
            <a:xfrm>
              <a:off x="2481120" y="2305080"/>
              <a:ext cx="3240" cy="12286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11440" y="2943360"/>
              <a:ext cx="2146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ertical QoS Signall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.trans.co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3592440" y="4539960"/>
            <a:ext cx="3127320" cy="1319040"/>
            <a:chOff x="3592440" y="4539960"/>
            <a:chExt cx="3127320" cy="1319040"/>
          </a:xfrm>
        </p:grpSpPr>
        <p:sp>
          <p:nvSpPr>
            <p:cNvPr id="391" name=""/>
            <p:cNvSpPr/>
            <p:nvPr/>
          </p:nvSpPr>
          <p:spPr>
            <a:xfrm>
              <a:off x="3592440" y="5338800"/>
              <a:ext cx="312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nsport Level QoS Signalling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.trans.cont or NSI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013440" y="4554360"/>
              <a:ext cx="474840" cy="71136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3730320" y="4539960"/>
              <a:ext cx="461880" cy="7700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8359920" y="1801800"/>
            <a:ext cx="1927080" cy="851040"/>
            <a:chOff x="8359920" y="1801800"/>
            <a:chExt cx="1927080" cy="851040"/>
          </a:xfrm>
        </p:grpSpPr>
        <p:grpSp>
          <p:nvGrpSpPr>
            <p:cNvPr id="395" name=""/>
            <p:cNvGrpSpPr/>
            <p:nvPr/>
          </p:nvGrpSpPr>
          <p:grpSpPr>
            <a:xfrm>
              <a:off x="8359920" y="1989000"/>
              <a:ext cx="1091880" cy="663840"/>
              <a:chOff x="8359920" y="1989000"/>
              <a:chExt cx="1091880" cy="663840"/>
            </a:xfrm>
          </p:grpSpPr>
          <p:sp>
            <p:nvSpPr>
              <p:cNvPr id="396" name=""/>
              <p:cNvSpPr/>
              <p:nvPr/>
            </p:nvSpPr>
            <p:spPr>
              <a:xfrm flipH="1" flipV="1">
                <a:off x="8496360" y="1989000"/>
                <a:ext cx="955440" cy="541440"/>
              </a:xfrm>
              <a:prstGeom prst="line">
                <a:avLst/>
              </a:prstGeom>
              <a:ln w="28440">
                <a:solidFill>
                  <a:srgbClr val="fc0128"/>
                </a:solidFill>
                <a:prstDash val="sys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359920" y="2146320"/>
                <a:ext cx="911160" cy="5065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8817120" y="1801800"/>
              <a:ext cx="146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.323 Annex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76040" y="1809720"/>
            <a:ext cx="1737000" cy="701640"/>
            <a:chOff x="176040" y="1809720"/>
            <a:chExt cx="1737000" cy="701640"/>
          </a:xfrm>
        </p:grpSpPr>
        <p:grpSp>
          <p:nvGrpSpPr>
            <p:cNvPr id="400" name=""/>
            <p:cNvGrpSpPr/>
            <p:nvPr/>
          </p:nvGrpSpPr>
          <p:grpSpPr>
            <a:xfrm>
              <a:off x="824040" y="1989000"/>
              <a:ext cx="1089000" cy="522360"/>
              <a:chOff x="824040" y="1989000"/>
              <a:chExt cx="1089000" cy="522360"/>
            </a:xfrm>
          </p:grpSpPr>
          <p:sp>
            <p:nvSpPr>
              <p:cNvPr id="401" name=""/>
              <p:cNvSpPr/>
              <p:nvPr/>
            </p:nvSpPr>
            <p:spPr>
              <a:xfrm flipV="1">
                <a:off x="1104840" y="2101680"/>
                <a:ext cx="808200" cy="40968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824040" y="1989000"/>
                <a:ext cx="957240" cy="433440"/>
              </a:xfrm>
              <a:prstGeom prst="line">
                <a:avLst/>
              </a:prstGeom>
              <a:ln w="28440">
                <a:solidFill>
                  <a:srgbClr val="fc0128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3" name=""/>
            <p:cNvSpPr/>
            <p:nvPr/>
          </p:nvSpPr>
          <p:spPr>
            <a:xfrm>
              <a:off x="176040" y="1809720"/>
              <a:ext cx="1470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H.323 Annex 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010960" y="320400"/>
            <a:ext cx="6419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oS in H.323 Protocols (Annex N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77800" y="1359000"/>
            <a:ext cx="9304560" cy="374328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lvl="2" marL="1255680" indent="-37944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fc0128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is determined on a per media stream basis so QoS is negotiated per media stream via H.245.  New fields in H.245 under developmen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7944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fc0128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Class may be requested by End User via H.245 or H.225.0.  Additions to both protocols under development to enable th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7944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fc0128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oS characteristics of terminals may be registered with service providers.  This involves additions to H.225.0 RA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2033640" y="4778280"/>
            <a:ext cx="7017840" cy="1511280"/>
            <a:chOff x="2033640" y="4778280"/>
            <a:chExt cx="7017840" cy="1511280"/>
          </a:xfrm>
        </p:grpSpPr>
        <p:sp>
          <p:nvSpPr>
            <p:cNvPr id="407" name=""/>
            <p:cNvSpPr/>
            <p:nvPr/>
          </p:nvSpPr>
          <p:spPr>
            <a:xfrm>
              <a:off x="2033640" y="5311800"/>
              <a:ext cx="966600" cy="345960"/>
            </a:xfrm>
            <a:prstGeom prst="rightArrow">
              <a:avLst>
                <a:gd name="adj1" fmla="val 50000"/>
                <a:gd name="adj2" fmla="val 69849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79680" y="4778280"/>
              <a:ext cx="5671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92280" indent="-4622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92280" indent="-462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New Annex N of H.3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92280" indent="-462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534680" y="275760"/>
            <a:ext cx="6419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ew Vertical Protocol (H.trans.cont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77800" y="1359000"/>
            <a:ext cx="9304560" cy="411480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lvl="1" marL="685800" indent="-22860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fc012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signal QoS parameters (max delay, max jitter, max packet loss) to each dom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fc012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will be between GK or Media Gateway Controller and Edge Router or Transport Resource Man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fc0128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use H.248/Megaco (with new extens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010960" y="320400"/>
            <a:ext cx="64198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ice Priority (H.priority)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91840" y="1574280"/>
            <a:ext cx="9304200" cy="2876760"/>
          </a:xfrm>
          <a:prstGeom prst="rect">
            <a:avLst/>
          </a:prstGeom>
          <a:noFill/>
          <a:ln w="0">
            <a:noFill/>
          </a:ln>
        </p:spPr>
        <p:txBody>
          <a:bodyPr lIns="571680" rIns="571680" tIns="46080" bIns="46080" anchor="ctr">
            <a:normAutofit/>
          </a:bodyPr>
          <a:p>
            <a:pPr lvl="2" marL="1255680" indent="-37944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fc0128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Service Types (Way in which QoS Services are offer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7944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fc0128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classes of Session Prior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379440">
              <a:lnSpc>
                <a:spcPct val="87000"/>
              </a:lnSpc>
              <a:spcBef>
                <a:spcPts val="901"/>
              </a:spcBef>
              <a:spcAft>
                <a:spcPts val="1500"/>
              </a:spcAft>
              <a:buClr>
                <a:srgbClr val="fc0128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H.323 signalled in H.460.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701720" y="4114800"/>
            <a:ext cx="7018560" cy="1877040"/>
            <a:chOff x="1701720" y="4114800"/>
            <a:chExt cx="7018560" cy="1877040"/>
          </a:xfrm>
        </p:grpSpPr>
        <p:sp>
          <p:nvSpPr>
            <p:cNvPr id="414" name=""/>
            <p:cNvSpPr/>
            <p:nvPr/>
          </p:nvSpPr>
          <p:spPr>
            <a:xfrm>
              <a:off x="1701720" y="4648320"/>
              <a:ext cx="966960" cy="345960"/>
            </a:xfrm>
            <a:prstGeom prst="rightArrow">
              <a:avLst>
                <a:gd name="adj1" fmla="val 50000"/>
                <a:gd name="adj2" fmla="val 69875"/>
              </a:avLst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8120" y="4114800"/>
              <a:ext cx="5672160" cy="187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92280" indent="-46224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92280" indent="-462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.priority provides framework for Emergency Serv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692280" indent="-46224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208240" y="201600"/>
            <a:ext cx="581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0360" y="1479600"/>
            <a:ext cx="91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4622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mmclass provides Service level QoS classification for each service component. (Consistent with G.1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85920" y="5389560"/>
            <a:ext cx="81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4622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priority defines session priority and servic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6200" y="4410000"/>
            <a:ext cx="942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4622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tocol H.trans.cont required for Application to Transport Level sign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3600" y="3662280"/>
            <a:ext cx="920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4622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.323 Annex N - QoS signalling and control in H.323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60360" y="2562120"/>
            <a:ext cx="92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4622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.qos.arch defines domain by domain QoS approach allowing QoS signalling at Application and Transport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41480" y="214200"/>
            <a:ext cx="581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er-relationship of QoS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162400" y="1901880"/>
            <a:ext cx="2298960" cy="1131840"/>
            <a:chOff x="5162400" y="1901880"/>
            <a:chExt cx="2298960" cy="1131840"/>
          </a:xfrm>
        </p:grpSpPr>
        <p:sp>
          <p:nvSpPr>
            <p:cNvPr id="49" name=""/>
            <p:cNvSpPr/>
            <p:nvPr/>
          </p:nvSpPr>
          <p:spPr>
            <a:xfrm>
              <a:off x="5162400" y="1901880"/>
              <a:ext cx="621000" cy="35388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8800" y="2208240"/>
              <a:ext cx="212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dec Perform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3143160" y="1219320"/>
            <a:ext cx="0" cy="4647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5627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680" rIns="571680" tIns="46080" bIns="46080" anchor="ctr">
            <a:normAutofit/>
          </a:bodyPr>
          <a:p>
            <a:pPr marL="285840" indent="-285840" algn="ctr">
              <a:lnSpc>
                <a:spcPct val="110000"/>
              </a:lnSpc>
              <a:spcBef>
                <a:spcPts val="75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8ffd"/>
                </a:solidFill>
                <a:latin typeface="Arial"/>
              </a:rPr>
              <a:t>Network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4600" y="470520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3040" y="1370160"/>
            <a:ext cx="237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cket L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1760" y="3290760"/>
            <a:ext cx="23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 J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94040" y="3132000"/>
            <a:ext cx="4292640" cy="1851120"/>
            <a:chOff x="2894040" y="3132000"/>
            <a:chExt cx="4292640" cy="1851120"/>
          </a:xfrm>
        </p:grpSpPr>
        <p:grpSp>
          <p:nvGrpSpPr>
            <p:cNvPr id="57" name=""/>
            <p:cNvGrpSpPr/>
            <p:nvPr/>
          </p:nvGrpSpPr>
          <p:grpSpPr>
            <a:xfrm>
              <a:off x="5030640" y="3132000"/>
              <a:ext cx="1424160" cy="1312920"/>
              <a:chOff x="5030640" y="3132000"/>
              <a:chExt cx="1424160" cy="1312920"/>
            </a:xfrm>
          </p:grpSpPr>
          <p:sp>
            <p:nvSpPr>
              <p:cNvPr id="58" name=""/>
              <p:cNvSpPr/>
              <p:nvPr/>
            </p:nvSpPr>
            <p:spPr>
              <a:xfrm>
                <a:off x="5030640" y="3987720"/>
                <a:ext cx="638280" cy="4572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>
                <a:off x="6448320" y="3132000"/>
                <a:ext cx="6480" cy="97488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2894040" y="4157640"/>
              <a:ext cx="4292640" cy="825480"/>
              <a:chOff x="2894040" y="4157640"/>
              <a:chExt cx="4292640" cy="825480"/>
            </a:xfrm>
          </p:grpSpPr>
          <p:sp>
            <p:nvSpPr>
              <p:cNvPr id="61" name=""/>
              <p:cNvSpPr/>
              <p:nvPr/>
            </p:nvSpPr>
            <p:spPr>
              <a:xfrm flipV="1">
                <a:off x="2894040" y="4714560"/>
                <a:ext cx="2752560" cy="25092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13560" y="4157640"/>
                <a:ext cx="14731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verall 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ela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3475080" y="554832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680" rIns="571680" tIns="46080" bIns="46080" anchor="ctr">
            <a:normAutofit/>
          </a:bodyPr>
          <a:p>
            <a:pPr marL="285840" indent="-285840" algn="ctr">
              <a:lnSpc>
                <a:spcPct val="110000"/>
              </a:lnSpc>
              <a:spcBef>
                <a:spcPts val="75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18ffd"/>
                </a:solidFill>
                <a:latin typeface="Arial"/>
              </a:rPr>
              <a:t>Application 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697120" y="1184400"/>
            <a:ext cx="2757600" cy="1991880"/>
            <a:chOff x="2697120" y="1184400"/>
            <a:chExt cx="2757600" cy="1991880"/>
          </a:xfrm>
        </p:grpSpPr>
        <p:sp>
          <p:nvSpPr>
            <p:cNvPr id="65" name=""/>
            <p:cNvSpPr/>
            <p:nvPr/>
          </p:nvSpPr>
          <p:spPr>
            <a:xfrm>
              <a:off x="2697120" y="1724040"/>
              <a:ext cx="97164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397400" y="2450880"/>
              <a:ext cx="0" cy="725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448080" y="1184400"/>
              <a:ext cx="2006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verall Packet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2838600" y="3203640"/>
            <a:ext cx="2328840" cy="825480"/>
            <a:chOff x="2838600" y="3203640"/>
            <a:chExt cx="2328840" cy="825480"/>
          </a:xfrm>
        </p:grpSpPr>
        <p:sp>
          <p:nvSpPr>
            <p:cNvPr id="69" name=""/>
            <p:cNvSpPr/>
            <p:nvPr/>
          </p:nvSpPr>
          <p:spPr>
            <a:xfrm>
              <a:off x="2838600" y="3564000"/>
              <a:ext cx="873000" cy="14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94240" y="3203640"/>
              <a:ext cx="157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Jitte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uff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7202520" y="1219320"/>
            <a:ext cx="2868480" cy="4737240"/>
            <a:chOff x="7202520" y="1219320"/>
            <a:chExt cx="2868480" cy="4737240"/>
          </a:xfrm>
        </p:grpSpPr>
        <p:grpSp>
          <p:nvGrpSpPr>
            <p:cNvPr id="72" name=""/>
            <p:cNvGrpSpPr/>
            <p:nvPr/>
          </p:nvGrpSpPr>
          <p:grpSpPr>
            <a:xfrm>
              <a:off x="7202520" y="2865600"/>
              <a:ext cx="1049400" cy="1694880"/>
              <a:chOff x="7202520" y="2865600"/>
              <a:chExt cx="1049400" cy="1694880"/>
            </a:xfrm>
          </p:grpSpPr>
          <p:sp>
            <p:nvSpPr>
              <p:cNvPr id="73" name=""/>
              <p:cNvSpPr/>
              <p:nvPr/>
            </p:nvSpPr>
            <p:spPr>
              <a:xfrm>
                <a:off x="7466040" y="2865600"/>
                <a:ext cx="612720" cy="42048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7202520" y="3997080"/>
                <a:ext cx="1049400" cy="5634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7629480" y="1219320"/>
              <a:ext cx="2441520" cy="4737240"/>
              <a:chOff x="7629480" y="1219320"/>
              <a:chExt cx="2441520" cy="4737240"/>
            </a:xfrm>
          </p:grpSpPr>
          <p:sp>
            <p:nvSpPr>
              <p:cNvPr id="76" name=""/>
              <p:cNvSpPr/>
              <p:nvPr/>
            </p:nvSpPr>
            <p:spPr>
              <a:xfrm>
                <a:off x="7709040" y="1219320"/>
                <a:ext cx="0" cy="46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875720" y="3174840"/>
                <a:ext cx="2179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erceived Qualit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29480" y="5557680"/>
                <a:ext cx="2441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i="1" lang="en-US" sz="2000" spc="-1" strike="noStrike">
                    <a:solidFill>
                      <a:srgbClr val="618ffd"/>
                    </a:solidFill>
                    <a:latin typeface="Arial"/>
                  </a:rPr>
                  <a:t>QoS Service Leve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739800" y="3887640"/>
            <a:ext cx="8802360" cy="1846080"/>
            <a:chOff x="739800" y="3887640"/>
            <a:chExt cx="8802360" cy="1846080"/>
          </a:xfrm>
        </p:grpSpPr>
        <p:grpSp>
          <p:nvGrpSpPr>
            <p:cNvPr id="80" name=""/>
            <p:cNvGrpSpPr/>
            <p:nvPr/>
          </p:nvGrpSpPr>
          <p:grpSpPr>
            <a:xfrm>
              <a:off x="739800" y="4725720"/>
              <a:ext cx="8802360" cy="1008000"/>
              <a:chOff x="739800" y="4725720"/>
              <a:chExt cx="8802360" cy="1008000"/>
            </a:xfrm>
          </p:grpSpPr>
          <p:sp>
            <p:nvSpPr>
              <p:cNvPr id="81" name=""/>
              <p:cNvSpPr/>
              <p:nvPr/>
            </p:nvSpPr>
            <p:spPr>
              <a:xfrm>
                <a:off x="739800" y="4725720"/>
                <a:ext cx="6824520" cy="10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896040" y="5071680"/>
                <a:ext cx="64105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Max Packet Loss, Max Mean Delay, Max Delay Vari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62880" y="5014800"/>
                <a:ext cx="1979280" cy="4586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762680" y="5103720"/>
                <a:ext cx="15703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TRANSPOR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3993840" y="3887640"/>
              <a:ext cx="266400" cy="822240"/>
              <a:chOff x="3993840" y="3887640"/>
              <a:chExt cx="266400" cy="822240"/>
            </a:xfrm>
          </p:grpSpPr>
          <p:sp>
            <p:nvSpPr>
              <p:cNvPr id="86" name=""/>
              <p:cNvSpPr/>
              <p:nvPr/>
            </p:nvSpPr>
            <p:spPr>
              <a:xfrm>
                <a:off x="4090680" y="3887640"/>
                <a:ext cx="75960" cy="560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993840" y="4444920"/>
                <a:ext cx="266400" cy="264960"/>
              </a:xfrm>
              <a:custGeom>
                <a:avLst/>
                <a:gdLst/>
                <a:ahLst/>
                <a:rect l="l" t="t" r="r" b="b"/>
                <a:pathLst>
                  <a:path w="336" h="335">
                    <a:moveTo>
                      <a:pt x="0" y="0"/>
                    </a:moveTo>
                    <a:lnTo>
                      <a:pt x="169" y="335"/>
                    </a:lnTo>
                    <a:lnTo>
                      <a:pt x="3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" name=""/>
          <p:cNvGrpSpPr/>
          <p:nvPr/>
        </p:nvGrpSpPr>
        <p:grpSpPr>
          <a:xfrm>
            <a:off x="706320" y="2236680"/>
            <a:ext cx="8847000" cy="1936800"/>
            <a:chOff x="706320" y="2236680"/>
            <a:chExt cx="8847000" cy="1936800"/>
          </a:xfrm>
        </p:grpSpPr>
        <p:sp>
          <p:nvSpPr>
            <p:cNvPr id="89" name=""/>
            <p:cNvSpPr/>
            <p:nvPr/>
          </p:nvSpPr>
          <p:spPr>
            <a:xfrm>
              <a:off x="7549920" y="3474720"/>
              <a:ext cx="2003400" cy="459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710480" y="3546360"/>
              <a:ext cx="1681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3979800" y="2236680"/>
              <a:ext cx="266400" cy="1006200"/>
              <a:chOff x="3979800" y="2236680"/>
              <a:chExt cx="266400" cy="1006200"/>
            </a:xfrm>
          </p:grpSpPr>
          <p:sp>
            <p:nvSpPr>
              <p:cNvPr id="92" name=""/>
              <p:cNvSpPr/>
              <p:nvPr/>
            </p:nvSpPr>
            <p:spPr>
              <a:xfrm>
                <a:off x="4076640" y="2236680"/>
                <a:ext cx="75960" cy="744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79800" y="2977920"/>
                <a:ext cx="266400" cy="264960"/>
              </a:xfrm>
              <a:custGeom>
                <a:avLst/>
                <a:gdLst/>
                <a:ahLst/>
                <a:rect l="l" t="t" r="r" b="b"/>
                <a:pathLst>
                  <a:path w="336" h="334">
                    <a:moveTo>
                      <a:pt x="0" y="0"/>
                    </a:moveTo>
                    <a:lnTo>
                      <a:pt x="169" y="334"/>
                    </a:lnTo>
                    <a:lnTo>
                      <a:pt x="33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06320" y="3257280"/>
              <a:ext cx="6826320" cy="916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45240" y="3444480"/>
              <a:ext cx="57186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dec Performance, VAD, Frames per Packet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itter Buffer Size,Codec Delay, FEC (Redundancy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490920" y="343080"/>
            <a:ext cx="327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QoS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7764480" y="2727360"/>
            <a:ext cx="1701720" cy="519120"/>
            <a:chOff x="7764480" y="2727360"/>
            <a:chExt cx="1701720" cy="519120"/>
          </a:xfrm>
        </p:grpSpPr>
        <p:sp>
          <p:nvSpPr>
            <p:cNvPr id="98" name=""/>
            <p:cNvSpPr/>
            <p:nvPr/>
          </p:nvSpPr>
          <p:spPr>
            <a:xfrm>
              <a:off x="7764480" y="2727360"/>
              <a:ext cx="1701720" cy="519120"/>
            </a:xfrm>
            <a:prstGeom prst="wedgeRectCallout">
              <a:avLst>
                <a:gd name="adj1" fmla="val -80319"/>
                <a:gd name="adj2" fmla="val 103212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64640" y="2870280"/>
              <a:ext cx="137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6/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750080" y="4213080"/>
            <a:ext cx="1716120" cy="519120"/>
            <a:chOff x="7750080" y="4213080"/>
            <a:chExt cx="1716120" cy="519120"/>
          </a:xfrm>
        </p:grpSpPr>
        <p:sp>
          <p:nvSpPr>
            <p:cNvPr id="101" name=""/>
            <p:cNvSpPr/>
            <p:nvPr/>
          </p:nvSpPr>
          <p:spPr>
            <a:xfrm>
              <a:off x="7750080" y="4213080"/>
              <a:ext cx="1716120" cy="519120"/>
            </a:xfrm>
            <a:prstGeom prst="wedgeRectCallout">
              <a:avLst>
                <a:gd name="adj1" fmla="val -80064"/>
                <a:gd name="adj2" fmla="val 103212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815960" y="4356000"/>
              <a:ext cx="158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3/IET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725400" y="1747800"/>
            <a:ext cx="8780400" cy="916200"/>
            <a:chOff x="725400" y="1747800"/>
            <a:chExt cx="8780400" cy="916200"/>
          </a:xfrm>
        </p:grpSpPr>
        <p:sp>
          <p:nvSpPr>
            <p:cNvPr id="104" name=""/>
            <p:cNvSpPr/>
            <p:nvPr/>
          </p:nvSpPr>
          <p:spPr>
            <a:xfrm>
              <a:off x="7535880" y="2019600"/>
              <a:ext cx="1969920" cy="458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80840" y="2108160"/>
              <a:ext cx="1116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25400" y="1747800"/>
              <a:ext cx="6796080" cy="916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903760" y="2033640"/>
              <a:ext cx="23234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r Perceived Q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7764480" y="1284120"/>
            <a:ext cx="1731960" cy="519120"/>
            <a:chOff x="7764480" y="1284120"/>
            <a:chExt cx="1731960" cy="519120"/>
          </a:xfrm>
        </p:grpSpPr>
        <p:sp>
          <p:nvSpPr>
            <p:cNvPr id="109" name=""/>
            <p:cNvSpPr/>
            <p:nvPr/>
          </p:nvSpPr>
          <p:spPr>
            <a:xfrm>
              <a:off x="7764480" y="1284120"/>
              <a:ext cx="1731960" cy="519120"/>
            </a:xfrm>
            <a:prstGeom prst="wedgeRectCallout">
              <a:avLst>
                <a:gd name="adj1" fmla="val -79787"/>
                <a:gd name="adj2" fmla="val 103212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896600" y="1382400"/>
              <a:ext cx="1373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TU-T SG12/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08240" y="201600"/>
            <a:ext cx="581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TU-T SG16 - New QoS Related Re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49160" y="1308240"/>
            <a:ext cx="870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4622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.qos.arch - QoS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9120" y="4335480"/>
            <a:ext cx="81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4622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.priority - Procedures for controlling service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5240" y="3632040"/>
            <a:ext cx="83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4622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.trans.control - QoS signalling to Transport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2400" y="2695680"/>
            <a:ext cx="822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4622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.323 Annex N - QoS signalling and control in H.323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9160" y="1955880"/>
            <a:ext cx="83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4622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.mmclass - Multimedia QoS Service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2640" y="5006880"/>
            <a:ext cx="824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2280" indent="-462240">
              <a:lnSpc>
                <a:spcPct val="100000"/>
              </a:lnSpc>
              <a:spcBef>
                <a:spcPts val="1500"/>
              </a:spcBef>
              <a:buClr>
                <a:srgbClr val="fc0128"/>
              </a:buClr>
              <a:buSzPct val="150000"/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.mmcp - Call processing performance in Multimedia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88000" y="4898880"/>
            <a:ext cx="576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Packet Loss, Mean Delay, Delay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34240" y="4930920"/>
            <a:ext cx="157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5440" y="173160"/>
            <a:ext cx="720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sitioning of Q.F/16 Recommendations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in relation to QoS Architecture H.qos.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327400"/>
            <a:ext cx="0" cy="72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9240" y="3052800"/>
            <a:ext cx="5297400" cy="10144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9240" y="3124080"/>
            <a:ext cx="302724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06480" y="3457440"/>
            <a:ext cx="3990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.323 Annex N,  H.mmcp, H.priority,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 H.policy, H.resil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19240" y="1311120"/>
            <a:ext cx="5297400" cy="1016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52800" y="1469880"/>
            <a:ext cx="3154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1880" y="1792440"/>
            <a:ext cx="37846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H.mmclass, H.mmcp, H.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86640" y="1311120"/>
            <a:ext cx="1308240" cy="4497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56480" y="2979720"/>
            <a:ext cx="11700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416640" y="1892160"/>
            <a:ext cx="1170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416640" y="3560760"/>
            <a:ext cx="1170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416640" y="5227560"/>
            <a:ext cx="1170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16640" y="2109960"/>
            <a:ext cx="1170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.qos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16640" y="3778200"/>
            <a:ext cx="1170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.qos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16640" y="5373720"/>
            <a:ext cx="1170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.qos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89080" y="4792680"/>
            <a:ext cx="5227560" cy="1015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33920" y="4067280"/>
            <a:ext cx="0" cy="725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09760" y="5300640"/>
            <a:ext cx="46036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.trans.cont, NSIS, RSVP,  DIFFSERV,  MPLS e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63720" y="4865760"/>
            <a:ext cx="37972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8600" y="4226040"/>
            <a:ext cx="17892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.trans.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2920" y="274320"/>
            <a:ext cx="6242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.mmclass - Approach to Characterizing </a:t>
            </a:r>
            <a:br>
              <a:rPr sz="2400"/>
            </a:b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ervice Level Qo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405080"/>
            <a:ext cx="1010124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66960" indent="-56232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562320">
              <a:lnSpc>
                <a:spcPct val="100000"/>
              </a:lnSpc>
              <a:buClr>
                <a:srgbClr val="990033"/>
              </a:buClr>
              <a:buSzPct val="150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oS is defined subjectively as perceived by the us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562320">
              <a:lnSpc>
                <a:spcPct val="100000"/>
              </a:lnSpc>
              <a:buClr>
                <a:srgbClr val="990033"/>
              </a:buClr>
              <a:buSzPct val="150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562320">
              <a:lnSpc>
                <a:spcPct val="100000"/>
              </a:lnSpc>
              <a:buClr>
                <a:srgbClr val="990033"/>
              </a:buClr>
              <a:buSzPct val="150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end to end (e.g. mouth to ear for speech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56232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562320">
              <a:lnSpc>
                <a:spcPct val="100000"/>
              </a:lnSpc>
              <a:buClr>
                <a:srgbClr val="990033"/>
              </a:buClr>
              <a:buSzPct val="150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umber of QoS Service Classes are defin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562320">
              <a:lnSpc>
                <a:spcPct val="100000"/>
              </a:lnSpc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6960" indent="-562320">
              <a:lnSpc>
                <a:spcPct val="100000"/>
              </a:lnSpc>
              <a:buClr>
                <a:srgbClr val="990033"/>
              </a:buClr>
              <a:buSzPct val="150000"/>
              <a:buFont typeface="Symbol" charset="2"/>
              <a:buChar char="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sses include guaranteed quality (statistically) and  unguaranteed (best effor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06720" y="186840"/>
            <a:ext cx="5968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TIPHON Speech QoS Class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8320" y="2165400"/>
            <a:ext cx="9037800" cy="3552840"/>
          </a:xfrm>
          <a:prstGeom prst="rect">
            <a:avLst/>
          </a:prstGeom>
          <a:solidFill>
            <a:srgbClr val="fcfeb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056440" y="2730600"/>
            <a:ext cx="144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11480" y="2727360"/>
            <a:ext cx="145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 than G.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5880" y="2421000"/>
            <a:ext cx="18972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stener Speech Qu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One-way Non-conversatio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38560" y="2516040"/>
            <a:ext cx="139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ivalent or better tha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SM-F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75160" y="2502000"/>
            <a:ext cx="148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ivalent or better than G.726 at 32 k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5440" y="1430280"/>
            <a:ext cx="9048600" cy="966960"/>
          </a:xfrm>
          <a:prstGeom prst="rect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76240" y="1644480"/>
            <a:ext cx="11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51080" y="1658880"/>
            <a:ext cx="139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e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65840" y="151452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rrow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19764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p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3680" y="1528920"/>
            <a:ext cx="183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guarantee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st Effor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6960" y="1949400"/>
            <a:ext cx="0" cy="3768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0800" y="1444680"/>
            <a:ext cx="0" cy="428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14440" y="1420920"/>
            <a:ext cx="0" cy="424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00360" y="1430280"/>
            <a:ext cx="0" cy="4287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00120" y="3701880"/>
            <a:ext cx="9058320" cy="1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55160" y="3897360"/>
            <a:ext cx="109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400ms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3280" y="388476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15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60920" y="388152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10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24240" y="386856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10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95160" y="3757680"/>
            <a:ext cx="150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-to-end Delay (G.11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83920" y="4437000"/>
            <a:ext cx="9080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72520" y="4965840"/>
            <a:ext cx="7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50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7000" y="492300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14440" y="4923000"/>
            <a:ext cx="11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.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2760" y="4530600"/>
            <a:ext cx="190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Transmission Quality Rating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(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78320" y="4938840"/>
            <a:ext cx="9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3598920" y="1963440"/>
            <a:ext cx="4270320" cy="6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7680" y="19638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378480" y="1963800"/>
            <a:ext cx="0" cy="371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98920" y="19638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566040" y="3867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40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742080" y="4951440"/>
            <a:ext cx="7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 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83160" y="2730600"/>
            <a:ext cx="14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f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96080" y="5749920"/>
            <a:ext cx="194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680" rIns="571680" tIns="46080" bIns="460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 Tar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88000" y="4898880"/>
            <a:ext cx="5761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Packet Loss, Mean Delay, Delay Var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25440" y="317520"/>
            <a:ext cx="72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media QoS Classification (H.mmcla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5760" y="3036960"/>
            <a:ext cx="7549920" cy="1233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71600" y="3094200"/>
            <a:ext cx="198900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115480" y="3456000"/>
            <a:ext cx="1968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pplication Factors (e.g. codec type, jitter buffer e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9800" y="1266840"/>
            <a:ext cx="7537680" cy="1650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" y="1311120"/>
            <a:ext cx="1668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74800" y="1546200"/>
            <a:ext cx="1474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51200" y="1531800"/>
            <a:ext cx="1474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43440" y="1544760"/>
            <a:ext cx="147492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676520" y="1963800"/>
            <a:ext cx="1697040" cy="795240"/>
            <a:chOff x="1676520" y="1963800"/>
            <a:chExt cx="1697040" cy="795240"/>
          </a:xfrm>
        </p:grpSpPr>
        <p:grpSp>
          <p:nvGrpSpPr>
            <p:cNvPr id="191" name=""/>
            <p:cNvGrpSpPr/>
            <p:nvPr/>
          </p:nvGrpSpPr>
          <p:grpSpPr>
            <a:xfrm>
              <a:off x="1676520" y="1963800"/>
              <a:ext cx="1697040" cy="795240"/>
              <a:chOff x="1676520" y="1963800"/>
              <a:chExt cx="1697040" cy="795240"/>
            </a:xfrm>
          </p:grpSpPr>
          <p:sp>
            <p:nvSpPr>
              <p:cNvPr id="192" name=""/>
              <p:cNvSpPr/>
              <p:nvPr/>
            </p:nvSpPr>
            <p:spPr>
              <a:xfrm>
                <a:off x="1676520" y="1963800"/>
                <a:ext cx="1424160" cy="566640"/>
              </a:xfrm>
              <a:prstGeom prst="rect">
                <a:avLst/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806840" y="2079720"/>
                <a:ext cx="1423800" cy="566640"/>
              </a:xfrm>
              <a:prstGeom prst="rect">
                <a:avLst/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949760" y="2192400"/>
                <a:ext cx="1423800" cy="566640"/>
              </a:xfrm>
              <a:prstGeom prst="rect">
                <a:avLst/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1874880" y="2281320"/>
              <a:ext cx="147492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oice Cla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666960" y="1979640"/>
            <a:ext cx="1760760" cy="795240"/>
            <a:chOff x="3666960" y="1979640"/>
            <a:chExt cx="1760760" cy="795240"/>
          </a:xfrm>
        </p:grpSpPr>
        <p:grpSp>
          <p:nvGrpSpPr>
            <p:cNvPr id="197" name=""/>
            <p:cNvGrpSpPr/>
            <p:nvPr/>
          </p:nvGrpSpPr>
          <p:grpSpPr>
            <a:xfrm>
              <a:off x="3666960" y="1979640"/>
              <a:ext cx="1697040" cy="795240"/>
              <a:chOff x="3666960" y="1979640"/>
              <a:chExt cx="1697040" cy="795240"/>
            </a:xfrm>
          </p:grpSpPr>
          <p:sp>
            <p:nvSpPr>
              <p:cNvPr id="198" name=""/>
              <p:cNvSpPr/>
              <p:nvPr/>
            </p:nvSpPr>
            <p:spPr>
              <a:xfrm>
                <a:off x="3666960" y="1979640"/>
                <a:ext cx="1424160" cy="566640"/>
              </a:xfrm>
              <a:prstGeom prst="rect">
                <a:avLst/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797280" y="2095560"/>
                <a:ext cx="1423800" cy="566640"/>
              </a:xfrm>
              <a:prstGeom prst="rect">
                <a:avLst/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40200" y="2208240"/>
                <a:ext cx="1423800" cy="566640"/>
              </a:xfrm>
              <a:prstGeom prst="rect">
                <a:avLst/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3851280" y="2280960"/>
              <a:ext cx="15764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Video Cla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616720" y="1963800"/>
            <a:ext cx="1716120" cy="795240"/>
            <a:chOff x="5616720" y="1963800"/>
            <a:chExt cx="1716120" cy="795240"/>
          </a:xfrm>
        </p:grpSpPr>
        <p:grpSp>
          <p:nvGrpSpPr>
            <p:cNvPr id="203" name=""/>
            <p:cNvGrpSpPr/>
            <p:nvPr/>
          </p:nvGrpSpPr>
          <p:grpSpPr>
            <a:xfrm>
              <a:off x="5616720" y="1963800"/>
              <a:ext cx="1697040" cy="795240"/>
              <a:chOff x="5616720" y="1963800"/>
              <a:chExt cx="1697040" cy="795240"/>
            </a:xfrm>
          </p:grpSpPr>
          <p:sp>
            <p:nvSpPr>
              <p:cNvPr id="204" name=""/>
              <p:cNvSpPr/>
              <p:nvPr/>
            </p:nvSpPr>
            <p:spPr>
              <a:xfrm>
                <a:off x="5616720" y="1963800"/>
                <a:ext cx="1424160" cy="566640"/>
              </a:xfrm>
              <a:prstGeom prst="rect">
                <a:avLst/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747040" y="2079720"/>
                <a:ext cx="1423800" cy="566640"/>
              </a:xfrm>
              <a:prstGeom prst="rect">
                <a:avLst/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89960" y="2192400"/>
                <a:ext cx="1423800" cy="566640"/>
              </a:xfrm>
              <a:prstGeom prst="rect">
                <a:avLst/>
              </a:prstGeom>
              <a:solidFill>
                <a:srgbClr val="91919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5858280" y="2281320"/>
              <a:ext cx="147456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Data Cla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H="1">
            <a:off x="7431120" y="2567160"/>
            <a:ext cx="720720" cy="18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107200" y="2414520"/>
            <a:ext cx="19386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ervice Components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(Classes e.g. G.1010  and TIPH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489720" y="2759040"/>
            <a:ext cx="14400" cy="7682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56160" y="2789280"/>
            <a:ext cx="0" cy="71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7748280" y="1517760"/>
            <a:ext cx="647640" cy="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37440" y="1360440"/>
            <a:ext cx="186228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ervice (e.g. videoconferencin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broadcast video et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3560" y="4489560"/>
            <a:ext cx="7513920" cy="1374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22360" y="4518000"/>
            <a:ext cx="18190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04880" y="4965840"/>
            <a:ext cx="1947960" cy="795240"/>
            <a:chOff x="1604880" y="4965840"/>
            <a:chExt cx="1947960" cy="795240"/>
          </a:xfrm>
        </p:grpSpPr>
        <p:grpSp>
          <p:nvGrpSpPr>
            <p:cNvPr id="217" name=""/>
            <p:cNvGrpSpPr/>
            <p:nvPr/>
          </p:nvGrpSpPr>
          <p:grpSpPr>
            <a:xfrm>
              <a:off x="1604880" y="4965840"/>
              <a:ext cx="1841400" cy="795240"/>
              <a:chOff x="1604880" y="4965840"/>
              <a:chExt cx="1841400" cy="795240"/>
            </a:xfrm>
          </p:grpSpPr>
          <p:sp>
            <p:nvSpPr>
              <p:cNvPr id="218" name=""/>
              <p:cNvSpPr/>
              <p:nvPr/>
            </p:nvSpPr>
            <p:spPr>
              <a:xfrm>
                <a:off x="1604880" y="4965840"/>
                <a:ext cx="1545480" cy="566640"/>
              </a:xfrm>
              <a:prstGeom prst="rect">
                <a:avLst/>
              </a:prstGeom>
              <a:solidFill>
                <a:srgbClr val="fda4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746000" y="5081760"/>
                <a:ext cx="1545120" cy="566640"/>
              </a:xfrm>
              <a:prstGeom prst="rect">
                <a:avLst/>
              </a:prstGeom>
              <a:solidFill>
                <a:srgbClr val="fda4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01160" y="5194440"/>
                <a:ext cx="1545120" cy="566640"/>
              </a:xfrm>
              <a:prstGeom prst="rect">
                <a:avLst/>
              </a:prstGeom>
              <a:solidFill>
                <a:srgbClr val="fda4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774800" y="5266080"/>
              <a:ext cx="177804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earer Cla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583080" y="4968720"/>
            <a:ext cx="1947240" cy="795240"/>
            <a:chOff x="3583080" y="4968720"/>
            <a:chExt cx="1947240" cy="795240"/>
          </a:xfrm>
        </p:grpSpPr>
        <p:grpSp>
          <p:nvGrpSpPr>
            <p:cNvPr id="223" name=""/>
            <p:cNvGrpSpPr/>
            <p:nvPr/>
          </p:nvGrpSpPr>
          <p:grpSpPr>
            <a:xfrm>
              <a:off x="3583080" y="4968720"/>
              <a:ext cx="1841040" cy="795240"/>
              <a:chOff x="3583080" y="4968720"/>
              <a:chExt cx="1841040" cy="795240"/>
            </a:xfrm>
          </p:grpSpPr>
          <p:sp>
            <p:nvSpPr>
              <p:cNvPr id="224" name=""/>
              <p:cNvSpPr/>
              <p:nvPr/>
            </p:nvSpPr>
            <p:spPr>
              <a:xfrm>
                <a:off x="3583080" y="4968720"/>
                <a:ext cx="1545120" cy="566640"/>
              </a:xfrm>
              <a:prstGeom prst="rect">
                <a:avLst/>
              </a:prstGeom>
              <a:solidFill>
                <a:srgbClr val="fda4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24200" y="5084640"/>
                <a:ext cx="1544760" cy="566640"/>
              </a:xfrm>
              <a:prstGeom prst="rect">
                <a:avLst/>
              </a:prstGeom>
              <a:solidFill>
                <a:srgbClr val="fda4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79360" y="5197320"/>
                <a:ext cx="1544760" cy="566640"/>
              </a:xfrm>
              <a:prstGeom prst="rect">
                <a:avLst/>
              </a:prstGeom>
              <a:solidFill>
                <a:srgbClr val="fda4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752640" y="5268960"/>
              <a:ext cx="17776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earer Cla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616720" y="5010120"/>
            <a:ext cx="1947240" cy="795240"/>
            <a:chOff x="5616720" y="5010120"/>
            <a:chExt cx="1947240" cy="795240"/>
          </a:xfrm>
        </p:grpSpPr>
        <p:grpSp>
          <p:nvGrpSpPr>
            <p:cNvPr id="229" name=""/>
            <p:cNvGrpSpPr/>
            <p:nvPr/>
          </p:nvGrpSpPr>
          <p:grpSpPr>
            <a:xfrm>
              <a:off x="5616720" y="5010120"/>
              <a:ext cx="1841040" cy="795240"/>
              <a:chOff x="5616720" y="5010120"/>
              <a:chExt cx="1841040" cy="795240"/>
            </a:xfrm>
          </p:grpSpPr>
          <p:sp>
            <p:nvSpPr>
              <p:cNvPr id="230" name=""/>
              <p:cNvSpPr/>
              <p:nvPr/>
            </p:nvSpPr>
            <p:spPr>
              <a:xfrm>
                <a:off x="5616720" y="5010120"/>
                <a:ext cx="1545120" cy="566640"/>
              </a:xfrm>
              <a:prstGeom prst="rect">
                <a:avLst/>
              </a:prstGeom>
              <a:solidFill>
                <a:srgbClr val="fda4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757840" y="5126040"/>
                <a:ext cx="1544760" cy="566640"/>
              </a:xfrm>
              <a:prstGeom prst="rect">
                <a:avLst/>
              </a:prstGeom>
              <a:solidFill>
                <a:srgbClr val="fda4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913000" y="5238720"/>
                <a:ext cx="1544760" cy="566640"/>
              </a:xfrm>
              <a:prstGeom prst="rect">
                <a:avLst/>
              </a:prstGeom>
              <a:solidFill>
                <a:srgbClr val="fda4b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5786280" y="5310360"/>
              <a:ext cx="1777680" cy="39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earer Cla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 flipH="1">
            <a:off x="7544880" y="5381640"/>
            <a:ext cx="62244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22600" y="2762280"/>
            <a:ext cx="14400" cy="71100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22600" y="4044960"/>
            <a:ext cx="14400" cy="85572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1727280" y="3541680"/>
            <a:ext cx="1658880" cy="568440"/>
            <a:chOff x="1727280" y="3541680"/>
            <a:chExt cx="1658880" cy="568440"/>
          </a:xfrm>
        </p:grpSpPr>
        <p:sp>
          <p:nvSpPr>
            <p:cNvPr id="238" name=""/>
            <p:cNvSpPr/>
            <p:nvPr/>
          </p:nvSpPr>
          <p:spPr>
            <a:xfrm>
              <a:off x="1752840" y="3541680"/>
              <a:ext cx="1633320" cy="568440"/>
            </a:xfrm>
            <a:prstGeom prst="rect">
              <a:avLst/>
            </a:prstGeom>
            <a:solidFill>
              <a:srgbClr val="dbff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27280" y="3625920"/>
              <a:ext cx="1630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Voice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728880" y="3543480"/>
            <a:ext cx="1633680" cy="568080"/>
          </a:xfrm>
          <a:prstGeom prst="rect">
            <a:avLst/>
          </a:prstGeom>
          <a:solidFill>
            <a:srgbClr val="dbffb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703680" y="3627360"/>
            <a:ext cx="1630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Video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649840" y="3557520"/>
            <a:ext cx="1658880" cy="568440"/>
            <a:chOff x="5649840" y="3557520"/>
            <a:chExt cx="1658880" cy="568440"/>
          </a:xfrm>
        </p:grpSpPr>
        <p:sp>
          <p:nvSpPr>
            <p:cNvPr id="243" name=""/>
            <p:cNvSpPr/>
            <p:nvPr/>
          </p:nvSpPr>
          <p:spPr>
            <a:xfrm>
              <a:off x="5675400" y="3557520"/>
              <a:ext cx="1633320" cy="568440"/>
            </a:xfrm>
            <a:prstGeom prst="rect">
              <a:avLst/>
            </a:prstGeom>
            <a:solidFill>
              <a:srgbClr val="dbffb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49840" y="3641760"/>
              <a:ext cx="1630440" cy="4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Data Fa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 flipH="1">
            <a:off x="7414920" y="3865680"/>
            <a:ext cx="708120" cy="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84600" y="4145040"/>
            <a:ext cx="14400" cy="76824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89720" y="4159080"/>
            <a:ext cx="14400" cy="81288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31320" y="4941720"/>
            <a:ext cx="19684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arametric (e.g. TIPHON) or Class based (e.g. Y.154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14360" y="232920"/>
            <a:ext cx="5810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e Concept of QoS Budget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1571760" y="803160"/>
          <a:ext cx="7068960" cy="441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1760" y="803160"/>
                    <a:ext cx="7068960" cy="44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4T19:56:02Z</dcterms:created>
  <dc:creator>Mike Buckley</dc:creator>
  <dc:description/>
  <dc:language>en-US</dc:language>
  <cp:lastModifiedBy>Mike Buckley</cp:lastModifiedBy>
  <cp:lastPrinted>1999-11-01T11:28:59Z</cp:lastPrinted>
  <dcterms:modified xsi:type="dcterms:W3CDTF">2002-03-13T10:43:43Z</dcterms:modified>
  <cp:revision>97</cp:revision>
  <dc:subject/>
  <dc:title> </dc:title>
</cp:coreProperties>
</file>