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6BC4-710A-4061-AC7D-7EE74317C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920" y="3153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A356-BAC7-44ED-B047-E2B8E0A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9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25E0-B817-4F68-98B5-A2030918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400" y="685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240" y="685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0920" y="3153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400" y="3153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240" y="3153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EDA0-15C6-46E8-BCE9-F37344E3B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DDAF-E126-4DCC-A688-4264DFC7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F84D-4286-479C-8845-FCF7CC78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4415-D9D5-4D24-8933-3B43347B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FA80-BA70-47D8-B33C-D8DC662A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F8DF-13AA-4EBA-915A-895E378A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09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F8C2-3764-4C5C-90F6-44E4A72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B9DFC-466D-42A0-8018-7FD047A5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0920" y="3153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ABA4-E953-4CED-8415-C1245E05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4 March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C9A-C326-4EAA-B330-B92C99DF3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5578560"/>
            <a:ext cx="6951960" cy="839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83480" y="555768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 txBox="1"/>
          <p:nvPr/>
        </p:nvSpPr>
        <p:spPr>
          <a:xfrm>
            <a:off x="190512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68580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SG 15 activity on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Broadband Delivery and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In-Home Networking</a:t>
            </a: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drew Nunn (BT, UK)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hairman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 ITU-T WP1/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3.3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 broadband optical access system with increased service capability by wavelength allocation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ＭＳ 明朝"/>
              </a:rPr>
              <a:t>Defines new wavelength allocations to distribute ATM-PON signals and additional service signals simultaneousl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ＭＳ 明朝"/>
              </a:rPr>
              <a:t>Allows distribution of video broadcast services or data service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without disturbing basic ATM-PON system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in-premises phone line networking systems on metallic pair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1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High bit-rate Digital Subscriber Lin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4" marL="17359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(HDSL) 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1.2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ingle-pair High-speed DSL (SHDSL)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2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Asymmetrical DSL (ADSL)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2.2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‘Splitterless’ or ‘lite’ ADSL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279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in-premises phone line networking systems on metallic pair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3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high bit rate DSL (VDSL) –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unda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4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SL Handshaking procedur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5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verview of DSL Recommendation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in-premises phone line networking systems on metallic pair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6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SL Testing procedur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7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SL Physical Layer management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89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one-line Networking - Founda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89.2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one-line Networking - Payload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rmat and Link Layer requirement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xDSL Deployment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4360" y="1487520"/>
          <a:ext cx="16524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7520"/>
                    <a:ext cx="16524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272680" y="2155680"/>
            <a:ext cx="102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Local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705720" y="2209680"/>
          <a:ext cx="88740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209680"/>
                    <a:ext cx="88740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3584160" y="2438280"/>
            <a:ext cx="1435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treet 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67200" y="2828880"/>
            <a:ext cx="471600" cy="596880"/>
            <a:chOff x="3967200" y="2828880"/>
            <a:chExt cx="471600" cy="596880"/>
          </a:xfrm>
        </p:grpSpPr>
        <p:sp>
          <p:nvSpPr>
            <p:cNvPr id="350" name=""/>
            <p:cNvSpPr/>
            <p:nvPr/>
          </p:nvSpPr>
          <p:spPr>
            <a:xfrm>
              <a:off x="3967200" y="2828880"/>
              <a:ext cx="471600" cy="596880"/>
            </a:xfrm>
            <a:prstGeom prst="cube">
              <a:avLst>
                <a:gd name="adj" fmla="val 13333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95640" y="2927520"/>
              <a:ext cx="15408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86080" y="2927520"/>
              <a:ext cx="15408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24160" y="313380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5160" y="313704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538960" y="2432160"/>
            <a:ext cx="490320" cy="1098360"/>
            <a:chOff x="5538960" y="2432160"/>
            <a:chExt cx="490320" cy="1098360"/>
          </a:xfrm>
        </p:grpSpPr>
        <p:sp>
          <p:nvSpPr>
            <p:cNvPr id="356" name=""/>
            <p:cNvSpPr/>
            <p:nvPr/>
          </p:nvSpPr>
          <p:spPr>
            <a:xfrm>
              <a:off x="5757840" y="2432160"/>
              <a:ext cx="49320" cy="109836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24640" y="2517840"/>
              <a:ext cx="150840" cy="9684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802120" y="2517840"/>
              <a:ext cx="145800" cy="9216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9440" y="2460600"/>
              <a:ext cx="42840" cy="33480"/>
              <a:chOff x="5959440" y="2460600"/>
              <a:chExt cx="42840" cy="33480"/>
            </a:xfrm>
          </p:grpSpPr>
          <p:sp>
            <p:nvSpPr>
              <p:cNvPr id="360" name=""/>
              <p:cNvSpPr/>
              <p:nvPr/>
            </p:nvSpPr>
            <p:spPr>
              <a:xfrm>
                <a:off x="5967360" y="246528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5" y="0"/>
                    </a:moveTo>
                    <a:lnTo>
                      <a:pt x="0" y="17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9440" y="24606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878440" y="2460600"/>
              <a:ext cx="41400" cy="33480"/>
              <a:chOff x="5878440" y="2460600"/>
              <a:chExt cx="41400" cy="33480"/>
            </a:xfrm>
          </p:grpSpPr>
          <p:sp>
            <p:nvSpPr>
              <p:cNvPr id="363" name=""/>
              <p:cNvSpPr/>
              <p:nvPr/>
            </p:nvSpPr>
            <p:spPr>
              <a:xfrm>
                <a:off x="5886360" y="246528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78440" y="246060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640480" y="2462040"/>
              <a:ext cx="41040" cy="34920"/>
              <a:chOff x="5640480" y="2462040"/>
              <a:chExt cx="41040" cy="34920"/>
            </a:xfrm>
          </p:grpSpPr>
          <p:sp>
            <p:nvSpPr>
              <p:cNvPr id="366" name=""/>
              <p:cNvSpPr/>
              <p:nvPr/>
            </p:nvSpPr>
            <p:spPr>
              <a:xfrm>
                <a:off x="5648400" y="24685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40480" y="246204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0"/>
                    </a:moveTo>
                    <a:lnTo>
                      <a:pt x="0" y="13"/>
                    </a:lnTo>
                    <a:lnTo>
                      <a:pt x="17" y="13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565600" y="2462040"/>
              <a:ext cx="41400" cy="34920"/>
              <a:chOff x="5565600" y="2462040"/>
              <a:chExt cx="41400" cy="34920"/>
            </a:xfrm>
          </p:grpSpPr>
          <p:sp>
            <p:nvSpPr>
              <p:cNvPr id="369" name=""/>
              <p:cNvSpPr/>
              <p:nvPr/>
            </p:nvSpPr>
            <p:spPr>
              <a:xfrm>
                <a:off x="5575320" y="2468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5" y="0"/>
                    </a:moveTo>
                    <a:lnTo>
                      <a:pt x="0" y="17"/>
                    </a:lnTo>
                    <a:lnTo>
                      <a:pt x="19" y="17"/>
                    </a:lnTo>
                    <a:lnTo>
                      <a:pt x="16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65600" y="2462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5" y="0"/>
                    </a:moveTo>
                    <a:lnTo>
                      <a:pt x="0" y="13"/>
                    </a:lnTo>
                    <a:lnTo>
                      <a:pt x="18" y="13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2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538960" y="2498760"/>
              <a:ext cx="490320" cy="1584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754600" y="2535120"/>
              <a:ext cx="55800" cy="5040"/>
            </a:xfrm>
            <a:prstGeom prst="rect">
              <a:avLst/>
            </a:pr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54600" y="2492280"/>
              <a:ext cx="79560" cy="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9480" y="2583000"/>
              <a:ext cx="0" cy="4608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82760" y="35560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57720" y="3429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57720" y="3543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8100000">
            <a:off x="5769360" y="1523880"/>
            <a:ext cx="108216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8" y="0"/>
                </a:moveTo>
                <a:arcTo wR="10800" hR="10800" stAng="-5410066" swAng="5410066"/>
                <a:lnTo>
                  <a:pt x="10800" y="10800"/>
                </a:lnTo>
                <a:close/>
              </a:path>
              <a:path fill="none" w="21600" h="21600">
                <a:moveTo>
                  <a:pt x="10768" y="0"/>
                </a:moveTo>
                <a:arcTo wR="10800" hR="10800" stAng="-5410066" swAng="541006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4160" y="2019240"/>
            <a:ext cx="45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30120" y="175248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04800" y="403380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960560" y="4006800"/>
            <a:ext cx="316080" cy="55440"/>
            <a:chOff x="1960560" y="4006800"/>
            <a:chExt cx="316080" cy="55440"/>
          </a:xfrm>
        </p:grpSpPr>
        <p:sp>
          <p:nvSpPr>
            <p:cNvPr id="383" name=""/>
            <p:cNvSpPr/>
            <p:nvPr/>
          </p:nvSpPr>
          <p:spPr>
            <a:xfrm>
              <a:off x="1960560" y="4006800"/>
              <a:ext cx="525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19240" y="403380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282760" y="4006800"/>
            <a:ext cx="314280" cy="55440"/>
            <a:chOff x="2282760" y="4006800"/>
            <a:chExt cx="314280" cy="55440"/>
          </a:xfrm>
        </p:grpSpPr>
        <p:sp>
          <p:nvSpPr>
            <p:cNvPr id="386" name=""/>
            <p:cNvSpPr/>
            <p:nvPr/>
          </p:nvSpPr>
          <p:spPr>
            <a:xfrm>
              <a:off x="228276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000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603520" y="4006800"/>
            <a:ext cx="314280" cy="55440"/>
            <a:chOff x="2603520" y="4006800"/>
            <a:chExt cx="314280" cy="55440"/>
          </a:xfrm>
        </p:grpSpPr>
        <p:sp>
          <p:nvSpPr>
            <p:cNvPr id="389" name=""/>
            <p:cNvSpPr/>
            <p:nvPr/>
          </p:nvSpPr>
          <p:spPr>
            <a:xfrm>
              <a:off x="260352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6076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639800" y="4006800"/>
            <a:ext cx="314280" cy="55440"/>
            <a:chOff x="1639800" y="4006800"/>
            <a:chExt cx="314280" cy="55440"/>
          </a:xfrm>
        </p:grpSpPr>
        <p:sp>
          <p:nvSpPr>
            <p:cNvPr id="392" name=""/>
            <p:cNvSpPr/>
            <p:nvPr/>
          </p:nvSpPr>
          <p:spPr>
            <a:xfrm>
              <a:off x="163980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9704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924280" y="4006800"/>
            <a:ext cx="314280" cy="55440"/>
            <a:chOff x="2924280" y="4006800"/>
            <a:chExt cx="314280" cy="55440"/>
          </a:xfrm>
        </p:grpSpPr>
        <p:sp>
          <p:nvSpPr>
            <p:cNvPr id="395" name=""/>
            <p:cNvSpPr/>
            <p:nvPr/>
          </p:nvSpPr>
          <p:spPr>
            <a:xfrm>
              <a:off x="292428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1160" y="403380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244680" y="4006800"/>
            <a:ext cx="316080" cy="55440"/>
            <a:chOff x="3244680" y="4006800"/>
            <a:chExt cx="316080" cy="55440"/>
          </a:xfrm>
        </p:grpSpPr>
        <p:sp>
          <p:nvSpPr>
            <p:cNvPr id="398" name=""/>
            <p:cNvSpPr/>
            <p:nvPr/>
          </p:nvSpPr>
          <p:spPr>
            <a:xfrm>
              <a:off x="3244680" y="4006800"/>
              <a:ext cx="525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0372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567240" y="400680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24120" y="403380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57680" y="4033800"/>
            <a:ext cx="1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892680" y="4006800"/>
            <a:ext cx="636480" cy="55440"/>
            <a:chOff x="3892680" y="4006800"/>
            <a:chExt cx="636480" cy="55440"/>
          </a:xfrm>
        </p:grpSpPr>
        <p:grpSp>
          <p:nvGrpSpPr>
            <p:cNvPr id="404" name=""/>
            <p:cNvGrpSpPr/>
            <p:nvPr/>
          </p:nvGrpSpPr>
          <p:grpSpPr>
            <a:xfrm>
              <a:off x="3892680" y="4006800"/>
              <a:ext cx="314280" cy="55440"/>
              <a:chOff x="3892680" y="4006800"/>
              <a:chExt cx="314280" cy="55440"/>
            </a:xfrm>
          </p:grpSpPr>
          <p:sp>
            <p:nvSpPr>
              <p:cNvPr id="405" name=""/>
              <p:cNvSpPr/>
              <p:nvPr/>
            </p:nvSpPr>
            <p:spPr>
              <a:xfrm>
                <a:off x="389268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49560" y="403380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213080" y="4006800"/>
              <a:ext cx="316080" cy="55440"/>
              <a:chOff x="4213080" y="4006800"/>
              <a:chExt cx="316080" cy="55440"/>
            </a:xfrm>
          </p:grpSpPr>
          <p:sp>
            <p:nvSpPr>
              <p:cNvPr id="408" name=""/>
              <p:cNvSpPr/>
              <p:nvPr/>
            </p:nvSpPr>
            <p:spPr>
              <a:xfrm>
                <a:off x="4213080" y="4006800"/>
                <a:ext cx="525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7212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535640" y="4006800"/>
            <a:ext cx="634680" cy="55440"/>
            <a:chOff x="4535640" y="4006800"/>
            <a:chExt cx="634680" cy="55440"/>
          </a:xfrm>
        </p:grpSpPr>
        <p:grpSp>
          <p:nvGrpSpPr>
            <p:cNvPr id="411" name=""/>
            <p:cNvGrpSpPr/>
            <p:nvPr/>
          </p:nvGrpSpPr>
          <p:grpSpPr>
            <a:xfrm>
              <a:off x="4535640" y="4006800"/>
              <a:ext cx="314280" cy="55440"/>
              <a:chOff x="4535640" y="4006800"/>
              <a:chExt cx="314280" cy="55440"/>
            </a:xfrm>
          </p:grpSpPr>
          <p:sp>
            <p:nvSpPr>
              <p:cNvPr id="412" name=""/>
              <p:cNvSpPr/>
              <p:nvPr/>
            </p:nvSpPr>
            <p:spPr>
              <a:xfrm>
                <a:off x="453564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92520" y="403380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856040" y="4006800"/>
              <a:ext cx="314280" cy="55440"/>
              <a:chOff x="4856040" y="4006800"/>
              <a:chExt cx="314280" cy="55440"/>
            </a:xfrm>
          </p:grpSpPr>
          <p:sp>
            <p:nvSpPr>
              <p:cNvPr id="415" name=""/>
              <p:cNvSpPr/>
              <p:nvPr/>
            </p:nvSpPr>
            <p:spPr>
              <a:xfrm>
                <a:off x="4856040" y="4006800"/>
                <a:ext cx="525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915080" y="4033800"/>
                <a:ext cx="25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5176800" y="4006800"/>
            <a:ext cx="636480" cy="55440"/>
            <a:chOff x="5176800" y="4006800"/>
            <a:chExt cx="636480" cy="55440"/>
          </a:xfrm>
        </p:grpSpPr>
        <p:grpSp>
          <p:nvGrpSpPr>
            <p:cNvPr id="418" name=""/>
            <p:cNvGrpSpPr/>
            <p:nvPr/>
          </p:nvGrpSpPr>
          <p:grpSpPr>
            <a:xfrm>
              <a:off x="5176800" y="4006800"/>
              <a:ext cx="314280" cy="55440"/>
              <a:chOff x="5176800" y="4006800"/>
              <a:chExt cx="314280" cy="55440"/>
            </a:xfrm>
          </p:grpSpPr>
          <p:sp>
            <p:nvSpPr>
              <p:cNvPr id="419" name=""/>
              <p:cNvSpPr/>
              <p:nvPr/>
            </p:nvSpPr>
            <p:spPr>
              <a:xfrm>
                <a:off x="517680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3404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497560" y="4006800"/>
              <a:ext cx="315720" cy="55440"/>
              <a:chOff x="5497560" y="4006800"/>
              <a:chExt cx="315720" cy="55440"/>
            </a:xfrm>
          </p:grpSpPr>
          <p:sp>
            <p:nvSpPr>
              <p:cNvPr id="422" name=""/>
              <p:cNvSpPr/>
              <p:nvPr/>
            </p:nvSpPr>
            <p:spPr>
              <a:xfrm>
                <a:off x="5497560" y="4006800"/>
                <a:ext cx="5220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55624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5819760" y="4006800"/>
            <a:ext cx="635040" cy="55440"/>
            <a:chOff x="5819760" y="4006800"/>
            <a:chExt cx="635040" cy="55440"/>
          </a:xfrm>
        </p:grpSpPr>
        <p:grpSp>
          <p:nvGrpSpPr>
            <p:cNvPr id="425" name=""/>
            <p:cNvGrpSpPr/>
            <p:nvPr/>
          </p:nvGrpSpPr>
          <p:grpSpPr>
            <a:xfrm>
              <a:off x="5819760" y="4006800"/>
              <a:ext cx="314280" cy="55440"/>
              <a:chOff x="5819760" y="4006800"/>
              <a:chExt cx="314280" cy="55440"/>
            </a:xfrm>
          </p:grpSpPr>
          <p:sp>
            <p:nvSpPr>
              <p:cNvPr id="426" name=""/>
              <p:cNvSpPr/>
              <p:nvPr/>
            </p:nvSpPr>
            <p:spPr>
              <a:xfrm>
                <a:off x="581976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7700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140520" y="4006800"/>
              <a:ext cx="314280" cy="55440"/>
              <a:chOff x="6140520" y="4006800"/>
              <a:chExt cx="314280" cy="55440"/>
            </a:xfrm>
          </p:grpSpPr>
          <p:sp>
            <p:nvSpPr>
              <p:cNvPr id="429" name=""/>
              <p:cNvSpPr/>
              <p:nvPr/>
            </p:nvSpPr>
            <p:spPr>
              <a:xfrm>
                <a:off x="6140520" y="4006800"/>
                <a:ext cx="5220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99200" y="4033800"/>
                <a:ext cx="255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6461280" y="400680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3480" y="387360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89240" y="3956040"/>
            <a:ext cx="160200" cy="165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80" y="4648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V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4753080"/>
            <a:ext cx="160560" cy="164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03720" y="4800600"/>
            <a:ext cx="314280" cy="55440"/>
            <a:chOff x="4203720" y="4800600"/>
            <a:chExt cx="314280" cy="55440"/>
          </a:xfrm>
        </p:grpSpPr>
        <p:sp>
          <p:nvSpPr>
            <p:cNvPr id="437" name=""/>
            <p:cNvSpPr/>
            <p:nvPr/>
          </p:nvSpPr>
          <p:spPr>
            <a:xfrm>
              <a:off x="4203720" y="48006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6096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495680" y="4800600"/>
            <a:ext cx="315720" cy="55440"/>
            <a:chOff x="4495680" y="4800600"/>
            <a:chExt cx="315720" cy="55440"/>
          </a:xfrm>
        </p:grpSpPr>
        <p:sp>
          <p:nvSpPr>
            <p:cNvPr id="440" name=""/>
            <p:cNvSpPr/>
            <p:nvPr/>
          </p:nvSpPr>
          <p:spPr>
            <a:xfrm>
              <a:off x="4495680" y="480060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5436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800600" y="4800600"/>
            <a:ext cx="314280" cy="55440"/>
            <a:chOff x="4800600" y="4800600"/>
            <a:chExt cx="314280" cy="55440"/>
          </a:xfrm>
        </p:grpSpPr>
        <p:sp>
          <p:nvSpPr>
            <p:cNvPr id="443" name=""/>
            <p:cNvSpPr/>
            <p:nvPr/>
          </p:nvSpPr>
          <p:spPr>
            <a:xfrm>
              <a:off x="4800600" y="48006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5784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105520" y="4800600"/>
            <a:ext cx="315720" cy="55440"/>
            <a:chOff x="5105520" y="4800600"/>
            <a:chExt cx="315720" cy="55440"/>
          </a:xfrm>
        </p:grpSpPr>
        <p:sp>
          <p:nvSpPr>
            <p:cNvPr id="446" name=""/>
            <p:cNvSpPr/>
            <p:nvPr/>
          </p:nvSpPr>
          <p:spPr>
            <a:xfrm>
              <a:off x="5105520" y="480060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6420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410080" y="4800600"/>
            <a:ext cx="312840" cy="55440"/>
            <a:chOff x="5410080" y="4800600"/>
            <a:chExt cx="312840" cy="55440"/>
          </a:xfrm>
        </p:grpSpPr>
        <p:sp>
          <p:nvSpPr>
            <p:cNvPr id="449" name=""/>
            <p:cNvSpPr/>
            <p:nvPr/>
          </p:nvSpPr>
          <p:spPr>
            <a:xfrm>
              <a:off x="5410080" y="48006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67320" y="4827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715000" y="480060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528960" y="4003560"/>
            <a:ext cx="635400" cy="55800"/>
            <a:chOff x="6528960" y="4003560"/>
            <a:chExt cx="635400" cy="55800"/>
          </a:xfrm>
        </p:grpSpPr>
        <p:grpSp>
          <p:nvGrpSpPr>
            <p:cNvPr id="453" name=""/>
            <p:cNvGrpSpPr/>
            <p:nvPr/>
          </p:nvGrpSpPr>
          <p:grpSpPr>
            <a:xfrm>
              <a:off x="6850080" y="4003560"/>
              <a:ext cx="314280" cy="55800"/>
              <a:chOff x="6850080" y="4003560"/>
              <a:chExt cx="314280" cy="55800"/>
            </a:xfrm>
          </p:grpSpPr>
          <p:sp>
            <p:nvSpPr>
              <p:cNvPr id="454" name=""/>
              <p:cNvSpPr/>
              <p:nvPr/>
            </p:nvSpPr>
            <p:spPr>
              <a:xfrm>
                <a:off x="7113600" y="400356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850080" y="403236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528960" y="4003560"/>
              <a:ext cx="314640" cy="55800"/>
              <a:chOff x="6528960" y="4003560"/>
              <a:chExt cx="314640" cy="55800"/>
            </a:xfrm>
          </p:grpSpPr>
          <p:sp>
            <p:nvSpPr>
              <p:cNvPr id="457" name=""/>
              <p:cNvSpPr/>
              <p:nvPr/>
            </p:nvSpPr>
            <p:spPr>
              <a:xfrm>
                <a:off x="6792840" y="400356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528960" y="403236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2286720" y="4495680"/>
            <a:ext cx="65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495680"/>
            <a:ext cx="83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371600" y="4826160"/>
            <a:ext cx="267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36576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757480" y="4800600"/>
            <a:ext cx="635400" cy="55440"/>
            <a:chOff x="5757480" y="4800600"/>
            <a:chExt cx="635400" cy="55440"/>
          </a:xfrm>
        </p:grpSpPr>
        <p:grpSp>
          <p:nvGrpSpPr>
            <p:cNvPr id="464" name=""/>
            <p:cNvGrpSpPr/>
            <p:nvPr/>
          </p:nvGrpSpPr>
          <p:grpSpPr>
            <a:xfrm>
              <a:off x="6078600" y="4800600"/>
              <a:ext cx="314280" cy="55440"/>
              <a:chOff x="6078600" y="4800600"/>
              <a:chExt cx="314280" cy="55440"/>
            </a:xfrm>
          </p:grpSpPr>
          <p:sp>
            <p:nvSpPr>
              <p:cNvPr id="465" name=""/>
              <p:cNvSpPr/>
              <p:nvPr/>
            </p:nvSpPr>
            <p:spPr>
              <a:xfrm>
                <a:off x="634212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078600" y="482904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757480" y="4800600"/>
              <a:ext cx="314640" cy="55440"/>
              <a:chOff x="5757480" y="4800600"/>
              <a:chExt cx="314640" cy="55440"/>
            </a:xfrm>
          </p:grpSpPr>
          <p:sp>
            <p:nvSpPr>
              <p:cNvPr id="468" name=""/>
              <p:cNvSpPr/>
              <p:nvPr/>
            </p:nvSpPr>
            <p:spPr>
              <a:xfrm>
                <a:off x="602136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5757480" y="482904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flipV="1">
            <a:off x="4076640" y="342864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400440" y="4800600"/>
            <a:ext cx="635400" cy="55440"/>
            <a:chOff x="6400440" y="4800600"/>
            <a:chExt cx="635400" cy="55440"/>
          </a:xfrm>
        </p:grpSpPr>
        <p:grpSp>
          <p:nvGrpSpPr>
            <p:cNvPr id="472" name=""/>
            <p:cNvGrpSpPr/>
            <p:nvPr/>
          </p:nvGrpSpPr>
          <p:grpSpPr>
            <a:xfrm>
              <a:off x="6721560" y="4800600"/>
              <a:ext cx="314280" cy="55440"/>
              <a:chOff x="6721560" y="4800600"/>
              <a:chExt cx="314280" cy="55440"/>
            </a:xfrm>
          </p:grpSpPr>
          <p:sp>
            <p:nvSpPr>
              <p:cNvPr id="473" name=""/>
              <p:cNvSpPr/>
              <p:nvPr/>
            </p:nvSpPr>
            <p:spPr>
              <a:xfrm>
                <a:off x="698508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6721560" y="482904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400440" y="4800600"/>
              <a:ext cx="314640" cy="55440"/>
              <a:chOff x="6400440" y="4800600"/>
              <a:chExt cx="314640" cy="55440"/>
            </a:xfrm>
          </p:grpSpPr>
          <p:sp>
            <p:nvSpPr>
              <p:cNvPr id="476" name=""/>
              <p:cNvSpPr/>
              <p:nvPr/>
            </p:nvSpPr>
            <p:spPr>
              <a:xfrm>
                <a:off x="666432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400440" y="482904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92.1 - Asymmetric Digital Subscriber Line transceiver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e twisted pair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Payload upstream up to 640 kbit/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Downstream up to 6.144 Mbit/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Simultaneous Voiceband and N-ISDN possibl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Line Code - DMT (Discrete MultiTone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93.1 - Very high bit-rate Digital Subscriber Line transceiver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 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e twisted pair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NewRoman"/>
                <a:ea typeface="Arial"/>
              </a:rPr>
              <a:t>Asymmetric and symmetric data rates up to tens of Mbit/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NewRoman"/>
                <a:ea typeface="Arial"/>
              </a:rPr>
              <a:t>Frequency Division Duplexing to separate upstream &amp; downstream traffic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NewRoman"/>
                <a:ea typeface="Arial"/>
              </a:rPr>
              <a:t>Three band plans defined occupying 138kHz up to 12 MHz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9.1/G.989.2  – Home Phoneline Networking Transceiver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-premises distribution of data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ver existing phoneline wiring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minal effective throughput equal to 10BASE-T Ethernet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mpatibility with other phoneline services such as POTS, V.90/V.92, ISDN and G.992.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ectrum notching for compatibility with Amateur Radio servic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urrent/future 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hancement of G.983.2 to support survivability (G.983.5) and new servic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hancement of G.983.3 to include 622.080 Mbit/s upstream rat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igabit PON (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48832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s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?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in-premises phone line networking systems on metallic pair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urrent/future 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Revision of Single-pair High-speed DSL (SHDSL) - G.991.2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econd Generation ADSL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econd Generation‘Splitterless’ ADSL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Questions under stud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ypical Access Network construc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Optical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igital Subscriber Loop (xDSL) &amp;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ome Phoneline Networking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Current/future 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Other SDOs/Bod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in-premises phone line networking systems on metallic pair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urrent/future work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high bit rate DSL (VDSL) – G.vdsl.l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one-line Networking - Isolation Filter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– G.pnt.if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oice over DSL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Bonding of DSL system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Power Line Transmission (in-premises only)?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ther SDOs/Bodies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SAN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TSI/TM6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1E1.4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SL Forum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EEE 802.3 ah EFM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R30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Summary 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TU-T SG 15 has produced a comprehensive set of broadband access network standards for both copper and fibre media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B-PONs either alone of in conjunction with VDSL provide a basis for the implementation of a full service access net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On-going activities are focussing on higher bitrates and transport of  packet/Ethernet traffic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uestions Under Stud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Rapporteur: Dave Faulkner (BT, UK)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Times New Roman"/>
              </a:rPr>
              <a:t>Q.3/15 - </a:t>
            </a:r>
            <a:r>
              <a:rPr b="1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pport for Recommendations Specifying Systems Based on ISDN Physical Layers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Lead Study Group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Rapporteur: Koji Kikushima (NTT, Japan)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Times New Roman"/>
              </a:rPr>
              <a:t>Q.4/15 - </a:t>
            </a:r>
            <a:r>
              <a:rPr b="1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ransceivers for customer access and in-premises phone line networking systems on metallic pairs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apporteur: Dick Stuart (Aware, USA)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ypical Access Network Constru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1447920"/>
          <a:ext cx="15508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1550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4343400" y="2362320"/>
            <a:ext cx="415800" cy="530280"/>
            <a:chOff x="4343400" y="2362320"/>
            <a:chExt cx="415800" cy="530280"/>
          </a:xfrm>
        </p:grpSpPr>
        <p:sp>
          <p:nvSpPr>
            <p:cNvPr id="51" name=""/>
            <p:cNvSpPr/>
            <p:nvPr/>
          </p:nvSpPr>
          <p:spPr>
            <a:xfrm>
              <a:off x="4343400" y="2362320"/>
              <a:ext cx="415800" cy="530280"/>
            </a:xfrm>
            <a:prstGeom prst="cube">
              <a:avLst>
                <a:gd name="adj" fmla="val 13333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68600" y="2449440"/>
              <a:ext cx="136800" cy="420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36000" y="2449440"/>
              <a:ext cx="136800" cy="420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82720" y="2642760"/>
              <a:ext cx="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3640" y="2645640"/>
              <a:ext cx="0" cy="1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7315200" y="1828800"/>
          <a:ext cx="78588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1828800"/>
                    <a:ext cx="7858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315200" y="4038480"/>
          <a:ext cx="709560" cy="10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4038480"/>
                    <a:ext cx="7095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715000" y="4114800"/>
          <a:ext cx="109872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114800"/>
                    <a:ext cx="10987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4800600" y="3276720"/>
            <a:ext cx="693720" cy="55440"/>
            <a:chOff x="4800600" y="3276720"/>
            <a:chExt cx="693720" cy="55440"/>
          </a:xfrm>
        </p:grpSpPr>
        <p:grpSp>
          <p:nvGrpSpPr>
            <p:cNvPr id="63" name=""/>
            <p:cNvGrpSpPr/>
            <p:nvPr/>
          </p:nvGrpSpPr>
          <p:grpSpPr>
            <a:xfrm>
              <a:off x="4800600" y="3276720"/>
              <a:ext cx="339840" cy="55440"/>
              <a:chOff x="4800600" y="3276720"/>
              <a:chExt cx="339840" cy="55440"/>
            </a:xfrm>
          </p:grpSpPr>
          <p:sp>
            <p:nvSpPr>
              <p:cNvPr id="64" name=""/>
              <p:cNvSpPr/>
              <p:nvPr/>
            </p:nvSpPr>
            <p:spPr>
              <a:xfrm>
                <a:off x="48006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8751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153040" y="3276720"/>
              <a:ext cx="341280" cy="55440"/>
              <a:chOff x="5153040" y="3276720"/>
              <a:chExt cx="341280" cy="55440"/>
            </a:xfrm>
          </p:grpSpPr>
          <p:sp>
            <p:nvSpPr>
              <p:cNvPr id="67" name=""/>
              <p:cNvSpPr/>
              <p:nvPr/>
            </p:nvSpPr>
            <p:spPr>
              <a:xfrm>
                <a:off x="51530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293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5486400" y="3276720"/>
            <a:ext cx="693720" cy="55440"/>
            <a:chOff x="5486400" y="3276720"/>
            <a:chExt cx="693720" cy="55440"/>
          </a:xfrm>
        </p:grpSpPr>
        <p:grpSp>
          <p:nvGrpSpPr>
            <p:cNvPr id="70" name=""/>
            <p:cNvGrpSpPr/>
            <p:nvPr/>
          </p:nvGrpSpPr>
          <p:grpSpPr>
            <a:xfrm>
              <a:off x="5486400" y="3276720"/>
              <a:ext cx="339840" cy="55440"/>
              <a:chOff x="5486400" y="3276720"/>
              <a:chExt cx="339840" cy="55440"/>
            </a:xfrm>
          </p:grpSpPr>
          <p:sp>
            <p:nvSpPr>
              <p:cNvPr id="71" name=""/>
              <p:cNvSpPr/>
              <p:nvPr/>
            </p:nvSpPr>
            <p:spPr>
              <a:xfrm>
                <a:off x="54864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5609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838840" y="3276720"/>
              <a:ext cx="341280" cy="55440"/>
              <a:chOff x="5838840" y="3276720"/>
              <a:chExt cx="341280" cy="55440"/>
            </a:xfrm>
          </p:grpSpPr>
          <p:sp>
            <p:nvSpPr>
              <p:cNvPr id="74" name=""/>
              <p:cNvSpPr/>
              <p:nvPr/>
            </p:nvSpPr>
            <p:spPr>
              <a:xfrm>
                <a:off x="58388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9151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6172200" y="3276720"/>
            <a:ext cx="693720" cy="55440"/>
            <a:chOff x="6172200" y="3276720"/>
            <a:chExt cx="693720" cy="55440"/>
          </a:xfrm>
        </p:grpSpPr>
        <p:grpSp>
          <p:nvGrpSpPr>
            <p:cNvPr id="77" name=""/>
            <p:cNvGrpSpPr/>
            <p:nvPr/>
          </p:nvGrpSpPr>
          <p:grpSpPr>
            <a:xfrm>
              <a:off x="6172200" y="3276720"/>
              <a:ext cx="339840" cy="55440"/>
              <a:chOff x="6172200" y="3276720"/>
              <a:chExt cx="339840" cy="55440"/>
            </a:xfrm>
          </p:grpSpPr>
          <p:sp>
            <p:nvSpPr>
              <p:cNvPr id="78" name=""/>
              <p:cNvSpPr/>
              <p:nvPr/>
            </p:nvSpPr>
            <p:spPr>
              <a:xfrm>
                <a:off x="61722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467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524640" y="3276720"/>
              <a:ext cx="341280" cy="55440"/>
              <a:chOff x="6524640" y="3276720"/>
              <a:chExt cx="341280" cy="55440"/>
            </a:xfrm>
          </p:grpSpPr>
          <p:sp>
            <p:nvSpPr>
              <p:cNvPr id="81" name=""/>
              <p:cNvSpPr/>
              <p:nvPr/>
            </p:nvSpPr>
            <p:spPr>
              <a:xfrm>
                <a:off x="65246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009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6858000" y="3276720"/>
            <a:ext cx="693720" cy="55440"/>
            <a:chOff x="6858000" y="3276720"/>
            <a:chExt cx="693720" cy="55440"/>
          </a:xfrm>
        </p:grpSpPr>
        <p:grpSp>
          <p:nvGrpSpPr>
            <p:cNvPr id="84" name=""/>
            <p:cNvGrpSpPr/>
            <p:nvPr/>
          </p:nvGrpSpPr>
          <p:grpSpPr>
            <a:xfrm>
              <a:off x="6858000" y="3276720"/>
              <a:ext cx="339840" cy="55440"/>
              <a:chOff x="6858000" y="3276720"/>
              <a:chExt cx="339840" cy="55440"/>
            </a:xfrm>
          </p:grpSpPr>
          <p:sp>
            <p:nvSpPr>
              <p:cNvPr id="85" name=""/>
              <p:cNvSpPr/>
              <p:nvPr/>
            </p:nvSpPr>
            <p:spPr>
              <a:xfrm>
                <a:off x="68580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325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210440" y="3276720"/>
              <a:ext cx="341280" cy="55440"/>
              <a:chOff x="7210440" y="3276720"/>
              <a:chExt cx="341280" cy="55440"/>
            </a:xfrm>
          </p:grpSpPr>
          <p:sp>
            <p:nvSpPr>
              <p:cNvPr id="88" name=""/>
              <p:cNvSpPr/>
              <p:nvPr/>
            </p:nvSpPr>
            <p:spPr>
              <a:xfrm>
                <a:off x="72104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867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410080" y="4952880"/>
            <a:ext cx="693720" cy="55440"/>
            <a:chOff x="5410080" y="4952880"/>
            <a:chExt cx="693720" cy="55440"/>
          </a:xfrm>
        </p:grpSpPr>
        <p:grpSp>
          <p:nvGrpSpPr>
            <p:cNvPr id="91" name=""/>
            <p:cNvGrpSpPr/>
            <p:nvPr/>
          </p:nvGrpSpPr>
          <p:grpSpPr>
            <a:xfrm>
              <a:off x="5410080" y="4952880"/>
              <a:ext cx="339480" cy="55440"/>
              <a:chOff x="5410080" y="4952880"/>
              <a:chExt cx="339480" cy="55440"/>
            </a:xfrm>
          </p:grpSpPr>
          <p:sp>
            <p:nvSpPr>
              <p:cNvPr id="92" name=""/>
              <p:cNvSpPr/>
              <p:nvPr/>
            </p:nvSpPr>
            <p:spPr>
              <a:xfrm>
                <a:off x="5410080" y="495288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84600" y="497988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762520" y="4952880"/>
              <a:ext cx="341280" cy="55440"/>
              <a:chOff x="5762520" y="4952880"/>
              <a:chExt cx="341280" cy="55440"/>
            </a:xfrm>
          </p:grpSpPr>
          <p:sp>
            <p:nvSpPr>
              <p:cNvPr id="95" name=""/>
              <p:cNvSpPr/>
              <p:nvPr/>
            </p:nvSpPr>
            <p:spPr>
              <a:xfrm>
                <a:off x="5762520" y="495288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38480" y="497988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4724280" y="4343400"/>
            <a:ext cx="693720" cy="55440"/>
            <a:chOff x="4724280" y="4343400"/>
            <a:chExt cx="693720" cy="55440"/>
          </a:xfrm>
        </p:grpSpPr>
        <p:grpSp>
          <p:nvGrpSpPr>
            <p:cNvPr id="98" name=""/>
            <p:cNvGrpSpPr/>
            <p:nvPr/>
          </p:nvGrpSpPr>
          <p:grpSpPr>
            <a:xfrm>
              <a:off x="4724280" y="4343400"/>
              <a:ext cx="339480" cy="55440"/>
              <a:chOff x="4724280" y="4343400"/>
              <a:chExt cx="339480" cy="55440"/>
            </a:xfrm>
          </p:grpSpPr>
          <p:sp>
            <p:nvSpPr>
              <p:cNvPr id="99" name=""/>
              <p:cNvSpPr/>
              <p:nvPr/>
            </p:nvSpPr>
            <p:spPr>
              <a:xfrm>
                <a:off x="4724280" y="43434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98800" y="43704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076720" y="4343400"/>
              <a:ext cx="341280" cy="55440"/>
              <a:chOff x="5076720" y="4343400"/>
              <a:chExt cx="341280" cy="55440"/>
            </a:xfrm>
          </p:grpSpPr>
          <p:sp>
            <p:nvSpPr>
              <p:cNvPr id="102" name=""/>
              <p:cNvSpPr/>
              <p:nvPr/>
            </p:nvSpPr>
            <p:spPr>
              <a:xfrm>
                <a:off x="5076720" y="43434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52680" y="43704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5410080" y="4648320"/>
            <a:ext cx="57240" cy="325440"/>
            <a:chOff x="5410080" y="4648320"/>
            <a:chExt cx="57240" cy="325440"/>
          </a:xfrm>
        </p:grpSpPr>
        <p:sp>
          <p:nvSpPr>
            <p:cNvPr id="105" name=""/>
            <p:cNvSpPr/>
            <p:nvPr/>
          </p:nvSpPr>
          <p:spPr>
            <a:xfrm>
              <a:off x="5410080" y="4648320"/>
              <a:ext cx="5724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38520" y="472140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410080" y="4343400"/>
            <a:ext cx="57240" cy="325440"/>
            <a:chOff x="5410080" y="4343400"/>
            <a:chExt cx="57240" cy="325440"/>
          </a:xfrm>
        </p:grpSpPr>
        <p:sp>
          <p:nvSpPr>
            <p:cNvPr id="108" name=""/>
            <p:cNvSpPr/>
            <p:nvPr/>
          </p:nvSpPr>
          <p:spPr>
            <a:xfrm>
              <a:off x="5410080" y="4343400"/>
              <a:ext cx="5724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38520" y="441648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 flipV="1">
            <a:off x="4495320" y="2895480"/>
            <a:ext cx="22860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647960" y="289512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4191120"/>
            <a:ext cx="762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523880" y="3657600"/>
            <a:ext cx="341280" cy="54000"/>
            <a:chOff x="1523880" y="3657600"/>
            <a:chExt cx="341280" cy="54000"/>
          </a:xfrm>
        </p:grpSpPr>
        <p:sp>
          <p:nvSpPr>
            <p:cNvPr id="114" name=""/>
            <p:cNvSpPr/>
            <p:nvPr/>
          </p:nvSpPr>
          <p:spPr>
            <a:xfrm>
              <a:off x="1523880" y="3657600"/>
              <a:ext cx="5868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684600"/>
              <a:ext cx="26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962520"/>
            <a:ext cx="341280" cy="54000"/>
            <a:chOff x="1295280" y="3962520"/>
            <a:chExt cx="341280" cy="54000"/>
          </a:xfrm>
        </p:grpSpPr>
        <p:sp>
          <p:nvSpPr>
            <p:cNvPr id="117" name=""/>
            <p:cNvSpPr/>
            <p:nvPr/>
          </p:nvSpPr>
          <p:spPr>
            <a:xfrm>
              <a:off x="1295280" y="3962520"/>
              <a:ext cx="5868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989520"/>
              <a:ext cx="26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43000" y="2971800"/>
            <a:ext cx="15228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97180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3429000"/>
            <a:ext cx="693720" cy="55440"/>
            <a:chOff x="2133720" y="3429000"/>
            <a:chExt cx="693720" cy="55440"/>
          </a:xfrm>
        </p:grpSpPr>
        <p:grpSp>
          <p:nvGrpSpPr>
            <p:cNvPr id="122" name=""/>
            <p:cNvGrpSpPr/>
            <p:nvPr/>
          </p:nvGrpSpPr>
          <p:grpSpPr>
            <a:xfrm>
              <a:off x="2133720" y="3429000"/>
              <a:ext cx="339840" cy="55440"/>
              <a:chOff x="2133720" y="3429000"/>
              <a:chExt cx="339840" cy="5544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3720" y="34290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8240" y="34560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486160" y="3429000"/>
              <a:ext cx="341280" cy="55440"/>
              <a:chOff x="2486160" y="3429000"/>
              <a:chExt cx="341280" cy="55440"/>
            </a:xfrm>
          </p:grpSpPr>
          <p:sp>
            <p:nvSpPr>
              <p:cNvPr id="126" name=""/>
              <p:cNvSpPr/>
              <p:nvPr/>
            </p:nvSpPr>
            <p:spPr>
              <a:xfrm>
                <a:off x="2486160" y="34290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62480" y="34560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1828800" y="3429000"/>
            <a:ext cx="341280" cy="54000"/>
            <a:chOff x="1828800" y="3429000"/>
            <a:chExt cx="341280" cy="54000"/>
          </a:xfrm>
        </p:grpSpPr>
        <p:sp>
          <p:nvSpPr>
            <p:cNvPr id="129" name=""/>
            <p:cNvSpPr/>
            <p:nvPr/>
          </p:nvSpPr>
          <p:spPr>
            <a:xfrm>
              <a:off x="1828800" y="3429000"/>
              <a:ext cx="5868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3456000"/>
              <a:ext cx="26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520" y="3429000"/>
            <a:ext cx="693720" cy="55440"/>
            <a:chOff x="2819520" y="3429000"/>
            <a:chExt cx="693720" cy="5544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3429000"/>
              <a:ext cx="339840" cy="55440"/>
              <a:chOff x="2819520" y="3429000"/>
              <a:chExt cx="339840" cy="5544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34290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94040" y="34560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171960" y="3429000"/>
              <a:ext cx="341280" cy="55440"/>
              <a:chOff x="3171960" y="3429000"/>
              <a:chExt cx="341280" cy="55440"/>
            </a:xfrm>
          </p:grpSpPr>
          <p:sp>
            <p:nvSpPr>
              <p:cNvPr id="136" name=""/>
              <p:cNvSpPr/>
              <p:nvPr/>
            </p:nvSpPr>
            <p:spPr>
              <a:xfrm>
                <a:off x="3171960" y="34290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48280" y="34560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3505320" y="3429000"/>
            <a:ext cx="693720" cy="55440"/>
            <a:chOff x="3505320" y="3429000"/>
            <a:chExt cx="693720" cy="55440"/>
          </a:xfrm>
        </p:grpSpPr>
        <p:grpSp>
          <p:nvGrpSpPr>
            <p:cNvPr id="139" name=""/>
            <p:cNvGrpSpPr/>
            <p:nvPr/>
          </p:nvGrpSpPr>
          <p:grpSpPr>
            <a:xfrm>
              <a:off x="3505320" y="3429000"/>
              <a:ext cx="339840" cy="55440"/>
              <a:chOff x="3505320" y="3429000"/>
              <a:chExt cx="339840" cy="55440"/>
            </a:xfrm>
          </p:grpSpPr>
          <p:sp>
            <p:nvSpPr>
              <p:cNvPr id="140" name=""/>
              <p:cNvSpPr/>
              <p:nvPr/>
            </p:nvSpPr>
            <p:spPr>
              <a:xfrm>
                <a:off x="3505320" y="34290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79840" y="34560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857760" y="3429000"/>
              <a:ext cx="341280" cy="55440"/>
              <a:chOff x="3857760" y="3429000"/>
              <a:chExt cx="341280" cy="55440"/>
            </a:xfrm>
          </p:grpSpPr>
          <p:sp>
            <p:nvSpPr>
              <p:cNvPr id="143" name=""/>
              <p:cNvSpPr/>
              <p:nvPr/>
            </p:nvSpPr>
            <p:spPr>
              <a:xfrm>
                <a:off x="3857760" y="34290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34080" y="34560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 flipH="1">
            <a:off x="4190760" y="2895480"/>
            <a:ext cx="22860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76720" y="3962520"/>
            <a:ext cx="693720" cy="55440"/>
            <a:chOff x="3276720" y="3962520"/>
            <a:chExt cx="693720" cy="55440"/>
          </a:xfrm>
        </p:grpSpPr>
        <p:grpSp>
          <p:nvGrpSpPr>
            <p:cNvPr id="147" name=""/>
            <p:cNvGrpSpPr/>
            <p:nvPr/>
          </p:nvGrpSpPr>
          <p:grpSpPr>
            <a:xfrm>
              <a:off x="3276720" y="3962520"/>
              <a:ext cx="339840" cy="55440"/>
              <a:chOff x="3276720" y="3962520"/>
              <a:chExt cx="339840" cy="55440"/>
            </a:xfrm>
          </p:grpSpPr>
          <p:sp>
            <p:nvSpPr>
              <p:cNvPr id="148" name=""/>
              <p:cNvSpPr/>
              <p:nvPr/>
            </p:nvSpPr>
            <p:spPr>
              <a:xfrm>
                <a:off x="3276720" y="39625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51240" y="39895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629160" y="3962520"/>
              <a:ext cx="341280" cy="55440"/>
              <a:chOff x="3629160" y="3962520"/>
              <a:chExt cx="341280" cy="55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629160" y="39625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05480" y="39895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819520" y="34290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38880" y="28951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1371600"/>
            <a:ext cx="149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Central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(Exchang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9000" y="29718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Feed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520" y="19810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Street Cabi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7280" y="28195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Distribu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320" y="350532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Overh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5760" y="3276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Under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76920" y="3657600"/>
            <a:ext cx="693720" cy="55440"/>
            <a:chOff x="4876920" y="3657600"/>
            <a:chExt cx="693720" cy="55440"/>
          </a:xfrm>
        </p:grpSpPr>
        <p:grpSp>
          <p:nvGrpSpPr>
            <p:cNvPr id="163" name=""/>
            <p:cNvGrpSpPr/>
            <p:nvPr/>
          </p:nvGrpSpPr>
          <p:grpSpPr>
            <a:xfrm>
              <a:off x="4876920" y="3657600"/>
              <a:ext cx="339840" cy="55440"/>
              <a:chOff x="4876920" y="3657600"/>
              <a:chExt cx="339840" cy="5544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6576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51440" y="36846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229360" y="3657600"/>
              <a:ext cx="341280" cy="55440"/>
              <a:chOff x="5229360" y="3657600"/>
              <a:chExt cx="341280" cy="55440"/>
            </a:xfrm>
          </p:grpSpPr>
          <p:sp>
            <p:nvSpPr>
              <p:cNvPr id="167" name=""/>
              <p:cNvSpPr/>
              <p:nvPr/>
            </p:nvSpPr>
            <p:spPr>
              <a:xfrm>
                <a:off x="5229360" y="36576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05680" y="36846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572000" y="32004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571640" y="289512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57600" y="3414600"/>
          <a:ext cx="28800" cy="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57600" y="3414600"/>
                    <a:ext cx="28800" cy="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557600" y="3414600"/>
          <a:ext cx="28800" cy="2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57600" y="3414600"/>
                    <a:ext cx="28800" cy="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086600" y="1447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1 + 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mendment 1</a:t>
            </a: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High speed optical access systems based on Passive Optical Network (PON) technique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2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T Management and Control Interface specification for ATM PON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3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 broadband optical access system with increased service capability by wavelength alloca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4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 broadband optical access system with increased service capability using Dynamic Bandwidth Assignment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3.5 - A broadband optical access system with enhanced survivabilit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7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T Management and Control Interface specification for Dynamic Bandwidth Assignmen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7964640" y="3886200"/>
            <a:ext cx="609480" cy="2089080"/>
            <a:chOff x="7964640" y="3886200"/>
            <a:chExt cx="609480" cy="2089080"/>
          </a:xfrm>
        </p:grpSpPr>
        <p:sp>
          <p:nvSpPr>
            <p:cNvPr id="180" name=""/>
            <p:cNvSpPr/>
            <p:nvPr/>
          </p:nvSpPr>
          <p:spPr>
            <a:xfrm>
              <a:off x="8186760" y="3889440"/>
              <a:ext cx="379440" cy="2076480"/>
            </a:xfrm>
            <a:custGeom>
              <a:avLst/>
              <a:gdLst/>
              <a:ahLst/>
              <a:rect l="l" t="t" r="r" b="b"/>
              <a:pathLst>
                <a:path w="239" h="1308">
                  <a:moveTo>
                    <a:pt x="0" y="0"/>
                  </a:moveTo>
                  <a:lnTo>
                    <a:pt x="237" y="41"/>
                  </a:lnTo>
                  <a:lnTo>
                    <a:pt x="238" y="1307"/>
                  </a:lnTo>
                  <a:lnTo>
                    <a:pt x="0" y="130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86760" y="3886200"/>
              <a:ext cx="387360" cy="2089080"/>
            </a:xfrm>
            <a:custGeom>
              <a:avLst/>
              <a:gdLst/>
              <a:ahLst/>
              <a:rect l="l" t="t" r="r" b="b"/>
              <a:pathLst>
                <a:path w="244" h="1316">
                  <a:moveTo>
                    <a:pt x="0" y="0"/>
                  </a:moveTo>
                  <a:lnTo>
                    <a:pt x="243" y="41"/>
                  </a:lnTo>
                  <a:lnTo>
                    <a:pt x="243" y="1315"/>
                  </a:lnTo>
                  <a:lnTo>
                    <a:pt x="0" y="13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964640" y="3886200"/>
              <a:ext cx="585720" cy="2082960"/>
              <a:chOff x="7964640" y="3886200"/>
              <a:chExt cx="585720" cy="20829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7964640" y="3886200"/>
                <a:ext cx="214200" cy="2082960"/>
                <a:chOff x="7964640" y="3886200"/>
                <a:chExt cx="214200" cy="20829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964640" y="3886200"/>
                  <a:ext cx="214200" cy="2082960"/>
                </a:xfrm>
                <a:custGeom>
                  <a:avLst/>
                  <a:gdLst/>
                  <a:ahLst/>
                  <a:rect l="l" t="t" r="r" b="b"/>
                  <a:pathLst>
                    <a:path w="135" h="1312">
                      <a:moveTo>
                        <a:pt x="0" y="102"/>
                      </a:moveTo>
                      <a:lnTo>
                        <a:pt x="134" y="0"/>
                      </a:lnTo>
                      <a:lnTo>
                        <a:pt x="134" y="1311"/>
                      </a:lnTo>
                      <a:lnTo>
                        <a:pt x="0" y="1311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8116920" y="3936960"/>
                  <a:ext cx="1440" cy="199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047080" y="3992400"/>
                  <a:ext cx="0" cy="194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102520" y="5842080"/>
                  <a:ext cx="2700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029440" y="5842080"/>
                  <a:ext cx="2700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204040" y="4025880"/>
                <a:ext cx="346320" cy="1924200"/>
                <a:chOff x="8204040" y="4025880"/>
                <a:chExt cx="346320" cy="192420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8247240" y="5819760"/>
                  <a:ext cx="261720" cy="130320"/>
                  <a:chOff x="8247240" y="5819760"/>
                  <a:chExt cx="261720" cy="1303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8416800" y="5821200"/>
                    <a:ext cx="28800" cy="128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478720" y="5821200"/>
                    <a:ext cx="30240" cy="128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247240" y="5819760"/>
                    <a:ext cx="28440" cy="128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312040" y="5819760"/>
                    <a:ext cx="30240" cy="128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8204040" y="4049640"/>
                  <a:ext cx="346320" cy="1676520"/>
                  <a:chOff x="8204040" y="4049640"/>
                  <a:chExt cx="346320" cy="16765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8209080" y="4049640"/>
                    <a:ext cx="341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8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7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209080" y="4145040"/>
                    <a:ext cx="3412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9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8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8209080" y="4246560"/>
                    <a:ext cx="341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8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7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8209080" y="4341960"/>
                    <a:ext cx="3412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8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7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8209080" y="4440240"/>
                    <a:ext cx="341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4">
                        <a:moveTo>
                          <a:pt x="0" y="0"/>
                        </a:moveTo>
                        <a:lnTo>
                          <a:pt x="214" y="30"/>
                        </a:lnTo>
                        <a:lnTo>
                          <a:pt x="214" y="63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209080" y="4532400"/>
                    <a:ext cx="341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4">
                        <a:moveTo>
                          <a:pt x="0" y="0"/>
                        </a:moveTo>
                        <a:lnTo>
                          <a:pt x="214" y="30"/>
                        </a:lnTo>
                        <a:lnTo>
                          <a:pt x="214" y="63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209080" y="4626000"/>
                    <a:ext cx="341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4">
                        <a:moveTo>
                          <a:pt x="0" y="0"/>
                        </a:moveTo>
                        <a:lnTo>
                          <a:pt x="214" y="30"/>
                        </a:lnTo>
                        <a:lnTo>
                          <a:pt x="214" y="63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209080" y="4724280"/>
                    <a:ext cx="3412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9">
                        <a:moveTo>
                          <a:pt x="0" y="0"/>
                        </a:moveTo>
                        <a:lnTo>
                          <a:pt x="214" y="25"/>
                        </a:lnTo>
                        <a:lnTo>
                          <a:pt x="214" y="58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209080" y="4819680"/>
                    <a:ext cx="3412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9">
                        <a:moveTo>
                          <a:pt x="0" y="0"/>
                        </a:moveTo>
                        <a:lnTo>
                          <a:pt x="214" y="25"/>
                        </a:lnTo>
                        <a:lnTo>
                          <a:pt x="214" y="58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209080" y="4915080"/>
                    <a:ext cx="3412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7">
                        <a:moveTo>
                          <a:pt x="0" y="0"/>
                        </a:moveTo>
                        <a:lnTo>
                          <a:pt x="214" y="23"/>
                        </a:lnTo>
                        <a:lnTo>
                          <a:pt x="214" y="5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209080" y="5018040"/>
                    <a:ext cx="3412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7">
                        <a:moveTo>
                          <a:pt x="0" y="0"/>
                        </a:moveTo>
                        <a:lnTo>
                          <a:pt x="214" y="23"/>
                        </a:lnTo>
                        <a:lnTo>
                          <a:pt x="214" y="5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209080" y="5121360"/>
                    <a:ext cx="3412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7">
                        <a:moveTo>
                          <a:pt x="0" y="0"/>
                        </a:moveTo>
                        <a:lnTo>
                          <a:pt x="214" y="23"/>
                        </a:lnTo>
                        <a:lnTo>
                          <a:pt x="214" y="5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209080" y="5232240"/>
                    <a:ext cx="3412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2">
                        <a:moveTo>
                          <a:pt x="0" y="0"/>
                        </a:moveTo>
                        <a:lnTo>
                          <a:pt x="214" y="19"/>
                        </a:lnTo>
                        <a:lnTo>
                          <a:pt x="214" y="51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07280" y="5337000"/>
                    <a:ext cx="3412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2">
                        <a:moveTo>
                          <a:pt x="0" y="0"/>
                        </a:moveTo>
                        <a:lnTo>
                          <a:pt x="214" y="19"/>
                        </a:lnTo>
                        <a:lnTo>
                          <a:pt x="214" y="51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204040" y="5445000"/>
                    <a:ext cx="3463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49">
                        <a:moveTo>
                          <a:pt x="0" y="0"/>
                        </a:moveTo>
                        <a:lnTo>
                          <a:pt x="217" y="16"/>
                        </a:lnTo>
                        <a:lnTo>
                          <a:pt x="217" y="48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204040" y="5554800"/>
                    <a:ext cx="346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45">
                        <a:moveTo>
                          <a:pt x="0" y="0"/>
                        </a:moveTo>
                        <a:lnTo>
                          <a:pt x="217" y="12"/>
                        </a:lnTo>
                        <a:lnTo>
                          <a:pt x="217" y="44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8204040" y="5662440"/>
                    <a:ext cx="3463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40">
                        <a:moveTo>
                          <a:pt x="0" y="0"/>
                        </a:moveTo>
                        <a:lnTo>
                          <a:pt x="217" y="7"/>
                        </a:lnTo>
                        <a:lnTo>
                          <a:pt x="217" y="3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8285040" y="4025880"/>
                  <a:ext cx="192240" cy="1798560"/>
                  <a:chOff x="8285040" y="4025880"/>
                  <a:chExt cx="192240" cy="179856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8285040" y="4025880"/>
                    <a:ext cx="41400" cy="1798560"/>
                    <a:chOff x="8285040" y="4025880"/>
                    <a:chExt cx="41400" cy="179856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8285040" y="4025880"/>
                      <a:ext cx="0" cy="17985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8326440" y="4030200"/>
                      <a:ext cx="0" cy="17938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8440560" y="4051080"/>
                    <a:ext cx="36720" cy="1773360"/>
                    <a:chOff x="8440560" y="4051080"/>
                    <a:chExt cx="36720" cy="17733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V="1">
                      <a:off x="8440560" y="4051080"/>
                      <a:ext cx="0" cy="17730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V="1">
                      <a:off x="8477280" y="4056120"/>
                      <a:ext cx="0" cy="17683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20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Access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ibre Deployment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815240" y="4437000"/>
            <a:ext cx="58680" cy="1471680"/>
            <a:chOff x="7815240" y="4437000"/>
            <a:chExt cx="58680" cy="1471680"/>
          </a:xfrm>
        </p:grpSpPr>
        <p:sp>
          <p:nvSpPr>
            <p:cNvPr id="222" name=""/>
            <p:cNvSpPr/>
            <p:nvPr/>
          </p:nvSpPr>
          <p:spPr>
            <a:xfrm>
              <a:off x="7815240" y="5850000"/>
              <a:ext cx="55440" cy="58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842240" y="5560560"/>
              <a:ext cx="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815240" y="4854240"/>
              <a:ext cx="55440" cy="700560"/>
              <a:chOff x="7815240" y="4854240"/>
              <a:chExt cx="55440" cy="7005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7815240" y="5208120"/>
                <a:ext cx="55440" cy="346680"/>
                <a:chOff x="7815240" y="5208120"/>
                <a:chExt cx="55440" cy="3466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15240" y="5497560"/>
                  <a:ext cx="55440" cy="5724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7842240" y="5208120"/>
                  <a:ext cx="0" cy="28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815240" y="4854240"/>
                <a:ext cx="55440" cy="348120"/>
                <a:chOff x="7815240" y="4854240"/>
                <a:chExt cx="55440" cy="348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815240" y="5143680"/>
                  <a:ext cx="55440" cy="586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7842240" y="4854240"/>
                  <a:ext cx="0" cy="28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818480" y="4791240"/>
              <a:ext cx="55440" cy="5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815240" y="4437000"/>
              <a:ext cx="55440" cy="347760"/>
              <a:chOff x="7815240" y="4437000"/>
              <a:chExt cx="55440" cy="347760"/>
            </a:xfrm>
          </p:grpSpPr>
          <p:sp>
            <p:nvSpPr>
              <p:cNvPr id="233" name=""/>
              <p:cNvSpPr/>
              <p:nvPr/>
            </p:nvSpPr>
            <p:spPr>
              <a:xfrm>
                <a:off x="7815240" y="4437000"/>
                <a:ext cx="55440" cy="586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42240" y="4502160"/>
                <a:ext cx="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7594560" y="5797440"/>
            <a:ext cx="184320" cy="165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715000"/>
            <a:ext cx="1447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Ba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4360" y="1487520"/>
          <a:ext cx="16524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7520"/>
                    <a:ext cx="16524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285280" y="1600200"/>
            <a:ext cx="102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Local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705720" y="2209680"/>
          <a:ext cx="88740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209680"/>
                    <a:ext cx="88740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3584160" y="2438280"/>
            <a:ext cx="1435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treet 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962520" y="2819520"/>
            <a:ext cx="471240" cy="596880"/>
            <a:chOff x="3962520" y="2819520"/>
            <a:chExt cx="471240" cy="596880"/>
          </a:xfrm>
        </p:grpSpPr>
        <p:sp>
          <p:nvSpPr>
            <p:cNvPr id="244" name=""/>
            <p:cNvSpPr/>
            <p:nvPr/>
          </p:nvSpPr>
          <p:spPr>
            <a:xfrm>
              <a:off x="3962520" y="2819520"/>
              <a:ext cx="471240" cy="596880"/>
            </a:xfrm>
            <a:prstGeom prst="cube">
              <a:avLst>
                <a:gd name="adj" fmla="val 13333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90600" y="2918160"/>
              <a:ext cx="15372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81040" y="2918160"/>
              <a:ext cx="15372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19120" y="31244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00120" y="31276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538960" y="2432160"/>
            <a:ext cx="490320" cy="1098360"/>
            <a:chOff x="5538960" y="2432160"/>
            <a:chExt cx="490320" cy="1098360"/>
          </a:xfrm>
        </p:grpSpPr>
        <p:sp>
          <p:nvSpPr>
            <p:cNvPr id="250" name=""/>
            <p:cNvSpPr/>
            <p:nvPr/>
          </p:nvSpPr>
          <p:spPr>
            <a:xfrm>
              <a:off x="5757840" y="2432160"/>
              <a:ext cx="49320" cy="109836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24640" y="2517840"/>
              <a:ext cx="150840" cy="9684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802120" y="2517840"/>
              <a:ext cx="145800" cy="9216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959440" y="2460600"/>
              <a:ext cx="42840" cy="33480"/>
              <a:chOff x="5959440" y="2460600"/>
              <a:chExt cx="42840" cy="33480"/>
            </a:xfrm>
          </p:grpSpPr>
          <p:sp>
            <p:nvSpPr>
              <p:cNvPr id="254" name=""/>
              <p:cNvSpPr/>
              <p:nvPr/>
            </p:nvSpPr>
            <p:spPr>
              <a:xfrm>
                <a:off x="5967360" y="246528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5" y="0"/>
                    </a:moveTo>
                    <a:lnTo>
                      <a:pt x="0" y="17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59440" y="24606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878440" y="2460600"/>
              <a:ext cx="41400" cy="33480"/>
              <a:chOff x="5878440" y="2460600"/>
              <a:chExt cx="41400" cy="33480"/>
            </a:xfrm>
          </p:grpSpPr>
          <p:sp>
            <p:nvSpPr>
              <p:cNvPr id="257" name=""/>
              <p:cNvSpPr/>
              <p:nvPr/>
            </p:nvSpPr>
            <p:spPr>
              <a:xfrm>
                <a:off x="5886360" y="246528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78440" y="246060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640480" y="2462040"/>
              <a:ext cx="41040" cy="34920"/>
              <a:chOff x="5640480" y="2462040"/>
              <a:chExt cx="41040" cy="34920"/>
            </a:xfrm>
          </p:grpSpPr>
          <p:sp>
            <p:nvSpPr>
              <p:cNvPr id="260" name=""/>
              <p:cNvSpPr/>
              <p:nvPr/>
            </p:nvSpPr>
            <p:spPr>
              <a:xfrm>
                <a:off x="5648400" y="24685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40480" y="246204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0"/>
                    </a:moveTo>
                    <a:lnTo>
                      <a:pt x="0" y="13"/>
                    </a:lnTo>
                    <a:lnTo>
                      <a:pt x="17" y="13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65600" y="2462040"/>
              <a:ext cx="41400" cy="34920"/>
              <a:chOff x="5565600" y="2462040"/>
              <a:chExt cx="41400" cy="34920"/>
            </a:xfrm>
          </p:grpSpPr>
          <p:sp>
            <p:nvSpPr>
              <p:cNvPr id="263" name=""/>
              <p:cNvSpPr/>
              <p:nvPr/>
            </p:nvSpPr>
            <p:spPr>
              <a:xfrm>
                <a:off x="5575320" y="2468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5" y="0"/>
                    </a:moveTo>
                    <a:lnTo>
                      <a:pt x="0" y="17"/>
                    </a:lnTo>
                    <a:lnTo>
                      <a:pt x="19" y="17"/>
                    </a:lnTo>
                    <a:lnTo>
                      <a:pt x="16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5600" y="2462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5" y="0"/>
                    </a:moveTo>
                    <a:lnTo>
                      <a:pt x="0" y="13"/>
                    </a:lnTo>
                    <a:lnTo>
                      <a:pt x="18" y="13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2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538960" y="2498760"/>
              <a:ext cx="490320" cy="1584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754600" y="2535120"/>
              <a:ext cx="55800" cy="5040"/>
            </a:xfrm>
            <a:prstGeom prst="rect">
              <a:avLst/>
            </a:pr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4600" y="2492280"/>
              <a:ext cx="79560" cy="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29480" y="2583000"/>
              <a:ext cx="0" cy="4608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286000" y="35542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57720" y="3429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57720" y="3543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8100000">
            <a:off x="5769360" y="1523880"/>
            <a:ext cx="108216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8" y="0"/>
                </a:moveTo>
                <a:arcTo wR="10800" hR="10800" stAng="-5410066" swAng="5410066"/>
                <a:lnTo>
                  <a:pt x="10800" y="10800"/>
                </a:lnTo>
                <a:close/>
              </a:path>
              <a:path fill="none" w="21600" h="21600">
                <a:moveTo>
                  <a:pt x="10768" y="0"/>
                </a:moveTo>
                <a:arcTo wR="10800" hR="10800" stAng="-5410066" swAng="541006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4160" y="2019240"/>
            <a:ext cx="45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30120" y="175248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4267080"/>
            <a:ext cx="126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44960" y="4336920"/>
            <a:ext cx="160200" cy="165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22800" y="4400640"/>
            <a:ext cx="314280" cy="55440"/>
            <a:chOff x="4222800" y="4400640"/>
            <a:chExt cx="314280" cy="55440"/>
          </a:xfrm>
        </p:grpSpPr>
        <p:sp>
          <p:nvSpPr>
            <p:cNvPr id="278" name=""/>
            <p:cNvSpPr/>
            <p:nvPr/>
          </p:nvSpPr>
          <p:spPr>
            <a:xfrm>
              <a:off x="4222800" y="440064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8004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43560" y="4400640"/>
            <a:ext cx="315720" cy="55440"/>
            <a:chOff x="4543560" y="4400640"/>
            <a:chExt cx="315720" cy="55440"/>
          </a:xfrm>
        </p:grpSpPr>
        <p:sp>
          <p:nvSpPr>
            <p:cNvPr id="281" name=""/>
            <p:cNvSpPr/>
            <p:nvPr/>
          </p:nvSpPr>
          <p:spPr>
            <a:xfrm>
              <a:off x="4543560" y="440064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0224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865760" y="4400640"/>
            <a:ext cx="314280" cy="55440"/>
            <a:chOff x="4865760" y="4400640"/>
            <a:chExt cx="314280" cy="55440"/>
          </a:xfrm>
        </p:grpSpPr>
        <p:sp>
          <p:nvSpPr>
            <p:cNvPr id="284" name=""/>
            <p:cNvSpPr/>
            <p:nvPr/>
          </p:nvSpPr>
          <p:spPr>
            <a:xfrm>
              <a:off x="4865760" y="440064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300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186520" y="4400640"/>
            <a:ext cx="315720" cy="55440"/>
            <a:chOff x="5186520" y="4400640"/>
            <a:chExt cx="315720" cy="55440"/>
          </a:xfrm>
        </p:grpSpPr>
        <p:sp>
          <p:nvSpPr>
            <p:cNvPr id="287" name=""/>
            <p:cNvSpPr/>
            <p:nvPr/>
          </p:nvSpPr>
          <p:spPr>
            <a:xfrm>
              <a:off x="5186520" y="440064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4520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508720" y="4400640"/>
            <a:ext cx="312480" cy="55440"/>
            <a:chOff x="5508720" y="4400640"/>
            <a:chExt cx="312480" cy="55440"/>
          </a:xfrm>
        </p:grpSpPr>
        <p:sp>
          <p:nvSpPr>
            <p:cNvPr id="290" name=""/>
            <p:cNvSpPr/>
            <p:nvPr/>
          </p:nvSpPr>
          <p:spPr>
            <a:xfrm>
              <a:off x="5508720" y="440064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65600" y="44276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827680" y="4400640"/>
            <a:ext cx="316080" cy="55440"/>
            <a:chOff x="5827680" y="4400640"/>
            <a:chExt cx="316080" cy="55440"/>
          </a:xfrm>
        </p:grpSpPr>
        <p:sp>
          <p:nvSpPr>
            <p:cNvPr id="293" name=""/>
            <p:cNvSpPr/>
            <p:nvPr/>
          </p:nvSpPr>
          <p:spPr>
            <a:xfrm>
              <a:off x="5827680" y="4400640"/>
              <a:ext cx="525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86360" y="442764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149880" y="440064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0640" y="4400640"/>
            <a:ext cx="525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207120" y="442764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51440" y="4781520"/>
            <a:ext cx="525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0120" y="480852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3640" y="4781520"/>
            <a:ext cx="5112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2960" y="4781520"/>
            <a:ext cx="5220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230880" y="480852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83320" y="4718160"/>
            <a:ext cx="160200" cy="164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9320" y="4648320"/>
            <a:ext cx="102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Ke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48440" y="5086440"/>
            <a:ext cx="160560" cy="164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9320" y="5029200"/>
            <a:ext cx="109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H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528960" y="4397400"/>
            <a:ext cx="635400" cy="55440"/>
            <a:chOff x="6528960" y="4397400"/>
            <a:chExt cx="635400" cy="55440"/>
          </a:xfrm>
        </p:grpSpPr>
        <p:grpSp>
          <p:nvGrpSpPr>
            <p:cNvPr id="308" name=""/>
            <p:cNvGrpSpPr/>
            <p:nvPr/>
          </p:nvGrpSpPr>
          <p:grpSpPr>
            <a:xfrm>
              <a:off x="6850080" y="4397400"/>
              <a:ext cx="314280" cy="55440"/>
              <a:chOff x="6850080" y="4397400"/>
              <a:chExt cx="314280" cy="55440"/>
            </a:xfrm>
          </p:grpSpPr>
          <p:sp>
            <p:nvSpPr>
              <p:cNvPr id="309" name=""/>
              <p:cNvSpPr/>
              <p:nvPr/>
            </p:nvSpPr>
            <p:spPr>
              <a:xfrm>
                <a:off x="7113600" y="43974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850080" y="442584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528960" y="4397400"/>
              <a:ext cx="314640" cy="55440"/>
              <a:chOff x="6528960" y="4397400"/>
              <a:chExt cx="314640" cy="55440"/>
            </a:xfrm>
          </p:grpSpPr>
          <p:sp>
            <p:nvSpPr>
              <p:cNvPr id="312" name=""/>
              <p:cNvSpPr/>
              <p:nvPr/>
            </p:nvSpPr>
            <p:spPr>
              <a:xfrm>
                <a:off x="6792840" y="43974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528960" y="442584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6528960" y="4778280"/>
            <a:ext cx="635400" cy="55800"/>
            <a:chOff x="6528960" y="4778280"/>
            <a:chExt cx="635400" cy="55800"/>
          </a:xfrm>
        </p:grpSpPr>
        <p:grpSp>
          <p:nvGrpSpPr>
            <p:cNvPr id="315" name=""/>
            <p:cNvGrpSpPr/>
            <p:nvPr/>
          </p:nvGrpSpPr>
          <p:grpSpPr>
            <a:xfrm>
              <a:off x="6850080" y="4778280"/>
              <a:ext cx="314280" cy="55800"/>
              <a:chOff x="6850080" y="4778280"/>
              <a:chExt cx="314280" cy="55800"/>
            </a:xfrm>
          </p:grpSpPr>
          <p:sp>
            <p:nvSpPr>
              <p:cNvPr id="316" name=""/>
              <p:cNvSpPr/>
              <p:nvPr/>
            </p:nvSpPr>
            <p:spPr>
              <a:xfrm>
                <a:off x="7113600" y="477828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850080" y="480708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528960" y="4778280"/>
              <a:ext cx="314640" cy="55800"/>
              <a:chOff x="6528960" y="4778280"/>
              <a:chExt cx="314640" cy="55800"/>
            </a:xfrm>
          </p:grpSpPr>
          <p:sp>
            <p:nvSpPr>
              <p:cNvPr id="319" name=""/>
              <p:cNvSpPr/>
              <p:nvPr/>
            </p:nvSpPr>
            <p:spPr>
              <a:xfrm>
                <a:off x="6792840" y="477828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528960" y="480708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2133720" y="4038480"/>
            <a:ext cx="76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4038480"/>
            <a:ext cx="83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828440" y="5181480"/>
            <a:ext cx="525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817280" y="5877000"/>
            <a:ext cx="5791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28440" y="480060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854360" y="4419720"/>
            <a:ext cx="2209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7560" y="3408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200400" y="419076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4571640"/>
            <a:ext cx="3812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71800" y="495252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429000" y="563832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586728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41972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800600"/>
            <a:ext cx="3812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18148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6095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Optical Spl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3.1 + Amendment 1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High speed optical access systems based on Passive Optical Network (PON) technique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TM-P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55.52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/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55.520 Mbit/s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622.08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/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55.520 Mbit/s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622.08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622.08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 Mbit/s downstream/upstream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ingle or two fibre working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aximum range of at least 20 Km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19:49:48Z</dcterms:created>
  <dc:creator>Nortel</dc:creator>
  <dc:description/>
  <dc:language>en-US</dc:language>
  <cp:lastModifiedBy>Andrew Nunn</cp:lastModifiedBy>
  <cp:lastPrinted>2001-05-09T19:50:47Z</cp:lastPrinted>
  <dcterms:modified xsi:type="dcterms:W3CDTF">2002-03-17T14:37:23Z</dcterms:modified>
  <cp:revision>306</cp:revision>
  <dc:subject/>
  <dc:title>No Slide Title</dc:title>
</cp:coreProperties>
</file>