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70C-D206-4120-9A29-F51E38E3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975120"/>
            <a:ext cx="77724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609-47C2-4086-8D3E-2B7EF767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992-5E23-4E48-9875-CDA5755A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2949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2949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9751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9751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9751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D6A-6987-4632-8EE1-9B465BDE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7070-594A-4C60-821A-A7C03142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294920"/>
            <a:ext cx="7772400" cy="51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5560" indent="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5DB4-F31D-4DAD-8AB8-BD5548FE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B99C-EDB3-4580-8DBB-C18F56B4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FC6C-B9C8-4CC2-A096-79F9F289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5ADE-8B19-4A57-851F-8D978314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8800" y="147240"/>
            <a:ext cx="6858000" cy="28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5560" indent="-65556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11E2-CC66-40CF-BE00-A052C33F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82F1-5135-402F-AAE8-CCB5CB1E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294920"/>
            <a:ext cx="7772400" cy="51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5560" indent="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022-A9D2-430F-9A38-A503DBAD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076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548B-28C8-4CA2-B7AC-8122A38C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3975120"/>
            <a:ext cx="77724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B402-7074-46DE-A3AB-14D91433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3975120"/>
            <a:ext cx="77724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BB4F-9843-4EE7-829F-0104E4FD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076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26DE-0ABD-435E-9257-C5538DAB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6080" y="12949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3720" y="12949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39751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6080" y="39751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3720" y="39751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C1CA-488B-4204-845E-14B96F10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7D3-899E-4086-844B-417487BB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12B-1C70-48DB-9CE1-C6930E93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23D-196C-4FC1-B022-35A9543B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28800" y="147240"/>
            <a:ext cx="6858000" cy="28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5560" indent="-65556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15B-0FE6-4FA9-B320-5D366AD2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BEC-5593-48BF-873D-F9ED5535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3BE-2B8A-4935-A557-A582505D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975120"/>
            <a:ext cx="77724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354-D4F6-41DB-9887-956E09CB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37040" y="6578640"/>
            <a:ext cx="2876400" cy="2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FuturaA Md B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FuturaA Md BT"/>
              </a:rPr>
              <a:t>Tim Gysel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317160" y="6568920"/>
            <a:ext cx="2352600" cy="2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FuturaA Md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uturaA Md BT"/>
              </a:rPr>
              <a:t>14/03/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552720"/>
            <a:ext cx="19051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FuturaA Md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5860-A816-4D63-AC29-43BC2370788F}" type="slidenum">
              <a:rPr b="0" lang="en-US" sz="800" spc="-1" strike="noStrike">
                <a:solidFill>
                  <a:srgbClr val="ffffff"/>
                </a:solidFill>
                <a:latin typeface="FuturaA Md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040" y="73080"/>
            <a:ext cx="1755000" cy="562320"/>
            <a:chOff x="68040" y="73080"/>
            <a:chExt cx="1755000" cy="562320"/>
          </a:xfrm>
        </p:grpSpPr>
        <p:pic>
          <p:nvPicPr>
            <p:cNvPr id="6" name="ALCLOGO" descr=""/>
            <p:cNvPicPr/>
            <p:nvPr/>
          </p:nvPicPr>
          <p:blipFill>
            <a:blip r:embed="rId3"/>
            <a:stretch/>
          </p:blipFill>
          <p:spPr>
            <a:xfrm>
              <a:off x="312480" y="73080"/>
              <a:ext cx="126792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68040" y="434880"/>
              <a:ext cx="1755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FuturaA Bk BT"/>
                </a:rPr>
                <a:t>ARCHITECTS OF AN INTERNET WORLD</a:t>
              </a:r>
              <a:endParaRPr b="0" lang="en-US" sz="7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838080" y="1294920"/>
            <a:ext cx="77724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7972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9196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6640" indent="-22860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6640" indent="-22860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cc66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6640" indent="-22860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cc66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37040" y="6578640"/>
            <a:ext cx="2876400" cy="2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5"/>
          </p:nvPr>
        </p:nvSpPr>
        <p:spPr>
          <a:xfrm>
            <a:off x="317160" y="6568920"/>
            <a:ext cx="2352600" cy="2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FuturaA Md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uturaA Md BT"/>
              </a:rPr>
              <a:t>14/03/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858000" y="6552720"/>
            <a:ext cx="19051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FuturaA Md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B711-36B6-4B18-A649-F37DA99D7412}" type="slidenum">
              <a:rPr b="0" lang="en-US" sz="800" spc="-1" strike="noStrike">
                <a:solidFill>
                  <a:srgbClr val="ffffff"/>
                </a:solidFill>
                <a:latin typeface="FuturaA Md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6360" y="152280"/>
            <a:ext cx="2440800" cy="839880"/>
            <a:chOff x="216360" y="152280"/>
            <a:chExt cx="2440800" cy="839880"/>
          </a:xfrm>
        </p:grpSpPr>
        <p:pic>
          <p:nvPicPr>
            <p:cNvPr id="50" name="ALCLOGO" descr=""/>
            <p:cNvPicPr/>
            <p:nvPr/>
          </p:nvPicPr>
          <p:blipFill>
            <a:blip r:embed="rId3"/>
            <a:stretch/>
          </p:blipFill>
          <p:spPr>
            <a:xfrm>
              <a:off x="560520" y="152280"/>
              <a:ext cx="17794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16360" y="745920"/>
              <a:ext cx="244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FuturaA Bk BT"/>
                </a:rPr>
                <a:t>ARCHITECTS OF AN INTERNET WORLD</a:t>
              </a:r>
              <a:endParaRPr b="0" lang="en-US" sz="1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73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72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  <a:p>
            <a:pPr lvl="1" marL="2575080" indent="0" algn="ctr">
              <a:lnSpc>
                <a:spcPts val="2798"/>
              </a:lnSpc>
              <a:spcBef>
                <a:spcPts val="550"/>
              </a:spcBef>
              <a:spcAft>
                <a:spcPts val="2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747880" indent="-2092320" algn="ctr">
              <a:lnSpc>
                <a:spcPts val="2798"/>
              </a:lnSpc>
              <a:spcBef>
                <a:spcPts val="499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919240" indent="-2263680" algn="ctr">
              <a:lnSpc>
                <a:spcPts val="2798"/>
              </a:lnSpc>
              <a:spcBef>
                <a:spcPts val="451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092400" indent="-2436840" algn="ctr">
              <a:lnSpc>
                <a:spcPts val="2798"/>
              </a:lnSpc>
              <a:spcBef>
                <a:spcPts val="400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092400" indent="-2436840">
              <a:spcBef>
                <a:spcPts val="400"/>
              </a:spcBef>
              <a:buClr>
                <a:srgbClr val="ffcc66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092400" indent="-2436840">
              <a:spcBef>
                <a:spcPts val="400"/>
              </a:spcBef>
              <a:buClr>
                <a:srgbClr val="ffcc66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5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6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7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8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9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20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21.wmf"/><Relationship Id="rId34" Type="http://schemas.openxmlformats.org/officeDocument/2006/relationships/image" Target="../media/image5.wmf"/><Relationship Id="rId3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073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Broadband Passive </a:t>
            </a:r>
            <a:br>
              <a:rPr sz="4200"/>
            </a:b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Optical Network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655560" indent="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b727"/>
                </a:solidFill>
                <a:latin typeface="Arial"/>
              </a:rPr>
              <a:t>March 14, 2002</a:t>
            </a: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  <a:p>
            <a:pPr marL="655560" indent="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  <a:p>
            <a:pPr marL="655560" indent="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b727"/>
                </a:solidFill>
                <a:latin typeface="Arial"/>
              </a:rPr>
              <a:t>Tim Gyselings, Alcatel</a:t>
            </a: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  <a:p>
            <a:pPr marL="655560" indent="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  <a:p>
            <a:pPr marL="655560" indent="0" algn="ctr">
              <a:lnSpc>
                <a:spcPts val="2985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b727"/>
                </a:solidFill>
                <a:latin typeface="Arial"/>
              </a:rPr>
              <a:t>Tim.gyselings@alcatel.be</a:t>
            </a:r>
            <a:endParaRPr b="0" lang="en-US" sz="2000" spc="-1" strike="noStrike">
              <a:solidFill>
                <a:srgbClr val="ffb7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294A-2F21-4846-9DAD-93BD79112E1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89F61915-2031-4C00-9D13-2CF9CF3379EC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441440" y="1904040"/>
            <a:ext cx="5568840" cy="3810960"/>
            <a:chOff x="1441440" y="1904040"/>
            <a:chExt cx="5568840" cy="3810960"/>
          </a:xfrm>
        </p:grpSpPr>
        <p:grpSp>
          <p:nvGrpSpPr>
            <p:cNvPr id="646" name=""/>
            <p:cNvGrpSpPr/>
            <p:nvPr/>
          </p:nvGrpSpPr>
          <p:grpSpPr>
            <a:xfrm>
              <a:off x="2971440" y="2971800"/>
              <a:ext cx="4038840" cy="2743200"/>
              <a:chOff x="2971440" y="2971800"/>
              <a:chExt cx="4038840" cy="27432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5714640" y="2971800"/>
                <a:ext cx="1295640" cy="152280"/>
                <a:chOff x="5714640" y="2971800"/>
                <a:chExt cx="1295640" cy="1522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943600" y="2971800"/>
                  <a:ext cx="30492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97cd3"/>
                    </a:gs>
                    <a:gs pos="100000">
                      <a:srgbClr val="1a2f6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705720" y="2971800"/>
                  <a:ext cx="30456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97cd3"/>
                    </a:gs>
                    <a:gs pos="100000">
                      <a:srgbClr val="1a2f6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5714640" y="304812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5714640" y="5562720"/>
                <a:ext cx="1295640" cy="152280"/>
                <a:chOff x="5714640" y="5562720"/>
                <a:chExt cx="1295640" cy="15228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6705720" y="5562720"/>
                  <a:ext cx="30456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a5002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5714640" y="563868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5714640" y="3886200"/>
                <a:ext cx="914760" cy="152280"/>
                <a:chOff x="5714640" y="3886200"/>
                <a:chExt cx="914760" cy="152280"/>
              </a:xfrm>
            </p:grpSpPr>
            <p:sp>
              <p:nvSpPr>
                <p:cNvPr id="655" name=""/>
                <p:cNvSpPr/>
                <p:nvPr/>
              </p:nvSpPr>
              <p:spPr>
                <a:xfrm flipH="1">
                  <a:off x="5714640" y="396252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324480" y="3886200"/>
                  <a:ext cx="30492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00"/>
                    </a:gs>
                    <a:gs pos="100000">
                      <a:srgbClr val="0099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2971440" y="4495680"/>
                <a:ext cx="1676880" cy="152640"/>
                <a:chOff x="2971440" y="4495680"/>
                <a:chExt cx="1676880" cy="15264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3200400" y="4495680"/>
                  <a:ext cx="304920" cy="15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97cd3"/>
                    </a:gs>
                    <a:gs pos="100000">
                      <a:srgbClr val="1a2f6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962520" y="4495680"/>
                  <a:ext cx="304560" cy="15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97cd3"/>
                    </a:gs>
                    <a:gs pos="100000">
                      <a:srgbClr val="1a2f6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581280" y="4495680"/>
                  <a:ext cx="304920" cy="15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00"/>
                    </a:gs>
                    <a:gs pos="100000">
                      <a:srgbClr val="0099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343400" y="4495680"/>
                  <a:ext cx="304920" cy="15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a5002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>
                  <a:off x="2971440" y="457200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" name=""/>
              <p:cNvSpPr/>
              <p:nvPr/>
            </p:nvSpPr>
            <p:spPr>
              <a:xfrm>
                <a:off x="3363840" y="475380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DMA</a:t>
                </a:r>
                <a:endParaRPr b="0" lang="en-US" sz="20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1441440" y="1904040"/>
              <a:ext cx="190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ime period 1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378080" y="2132640"/>
            <a:ext cx="5632200" cy="3582360"/>
            <a:chOff x="1378080" y="2132640"/>
            <a:chExt cx="5632200" cy="3582360"/>
          </a:xfrm>
        </p:grpSpPr>
        <p:grpSp>
          <p:nvGrpSpPr>
            <p:cNvPr id="666" name=""/>
            <p:cNvGrpSpPr/>
            <p:nvPr/>
          </p:nvGrpSpPr>
          <p:grpSpPr>
            <a:xfrm>
              <a:off x="1378080" y="2132640"/>
              <a:ext cx="5632200" cy="3582360"/>
              <a:chOff x="1378080" y="2132640"/>
              <a:chExt cx="5632200" cy="358236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2971440" y="3048120"/>
                <a:ext cx="4038840" cy="2666880"/>
                <a:chOff x="2971440" y="3048120"/>
                <a:chExt cx="4038840" cy="2666880"/>
              </a:xfrm>
            </p:grpSpPr>
            <p:sp>
              <p:nvSpPr>
                <p:cNvPr id="668" name=""/>
                <p:cNvSpPr/>
                <p:nvPr/>
              </p:nvSpPr>
              <p:spPr>
                <a:xfrm flipH="1">
                  <a:off x="5714640" y="304812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9" name=""/>
                <p:cNvGrpSpPr/>
                <p:nvPr/>
              </p:nvGrpSpPr>
              <p:grpSpPr>
                <a:xfrm>
                  <a:off x="5714640" y="5562720"/>
                  <a:ext cx="533880" cy="152280"/>
                  <a:chOff x="5714640" y="5562720"/>
                  <a:chExt cx="533880" cy="15228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5943600" y="5562720"/>
                    <a:ext cx="304920" cy="152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100000">
                        <a:srgbClr val="a50021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H="1">
                    <a:off x="5714640" y="5638680"/>
                    <a:ext cx="152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"/>
                <p:cNvGrpSpPr/>
                <p:nvPr/>
              </p:nvGrpSpPr>
              <p:grpSpPr>
                <a:xfrm>
                  <a:off x="5714640" y="3886200"/>
                  <a:ext cx="1295640" cy="152280"/>
                  <a:chOff x="5714640" y="3886200"/>
                  <a:chExt cx="1295640" cy="15228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 flipH="1">
                    <a:off x="5714640" y="3962520"/>
                    <a:ext cx="152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5943600" y="3886200"/>
                    <a:ext cx="304920" cy="152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6324480" y="3886200"/>
                    <a:ext cx="304920" cy="152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6705720" y="3886200"/>
                    <a:ext cx="304560" cy="152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7" name=""/>
                <p:cNvGrpSpPr/>
                <p:nvPr/>
              </p:nvGrpSpPr>
              <p:grpSpPr>
                <a:xfrm>
                  <a:off x="2971440" y="4495680"/>
                  <a:ext cx="1676880" cy="152640"/>
                  <a:chOff x="2971440" y="4495680"/>
                  <a:chExt cx="1676880" cy="15264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>
                    <a:off x="3581280" y="4495680"/>
                    <a:ext cx="304920" cy="152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343400" y="4495680"/>
                    <a:ext cx="304920" cy="152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100000">
                        <a:srgbClr val="a50021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H="1">
                    <a:off x="2971440" y="4572000"/>
                    <a:ext cx="152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1" name=""/>
                <p:cNvSpPr/>
                <p:nvPr/>
              </p:nvSpPr>
              <p:spPr>
                <a:xfrm>
                  <a:off x="3363840" y="4753800"/>
                  <a:ext cx="901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TDMA</a:t>
                  </a:r>
                  <a:endParaRPr b="0" lang="en-US" sz="2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2" name=""/>
              <p:cNvSpPr/>
              <p:nvPr/>
            </p:nvSpPr>
            <p:spPr>
              <a:xfrm>
                <a:off x="1378080" y="2132640"/>
                <a:ext cx="197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Time period 2</a:t>
                </a:r>
                <a:endParaRPr b="0" lang="en-US" sz="20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3962520" y="4495680"/>
              <a:ext cx="304560" cy="1526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00400" y="4495680"/>
              <a:ext cx="304920" cy="1526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commendation: G.983.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94120" y="913320"/>
            <a:ext cx="84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983.4 : A broadband optical access system with increased service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pability using dynamic bandwidth assignment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44400" y="2209680"/>
            <a:ext cx="8118720" cy="3760920"/>
            <a:chOff x="644400" y="2209680"/>
            <a:chExt cx="8118720" cy="3760920"/>
          </a:xfrm>
        </p:grpSpPr>
        <p:grpSp>
          <p:nvGrpSpPr>
            <p:cNvPr id="688" name=""/>
            <p:cNvGrpSpPr/>
            <p:nvPr/>
          </p:nvGrpSpPr>
          <p:grpSpPr>
            <a:xfrm>
              <a:off x="644400" y="2817720"/>
              <a:ext cx="2242080" cy="2789280"/>
              <a:chOff x="644400" y="2817720"/>
              <a:chExt cx="2242080" cy="2789280"/>
            </a:xfrm>
          </p:grpSpPr>
          <p:sp>
            <p:nvSpPr>
              <p:cNvPr id="689" name=""/>
              <p:cNvSpPr/>
              <p:nvPr/>
            </p:nvSpPr>
            <p:spPr>
              <a:xfrm>
                <a:off x="925560" y="2817720"/>
                <a:ext cx="1905120" cy="2789280"/>
              </a:xfrm>
              <a:custGeom>
                <a:avLst/>
                <a:gdLst>
                  <a:gd name="textAreaLeft" fmla="*/ 58320 w 1905120"/>
                  <a:gd name="textAreaRight" fmla="*/ 1846800 w 1905120"/>
                  <a:gd name="textAreaTop" fmla="*/ 58320 h 2789280"/>
                  <a:gd name="textAreaBottom" fmla="*/ 2730960 h 2789280"/>
                </a:gdLst>
                <a:ahLst/>
                <a:rect l="textAreaLeft" t="textAreaTop" r="textAreaRight" b="textAreaBottom"/>
                <a:pathLst>
                  <a:path w="21600" h="31623">
                    <a:moveTo>
                      <a:pt x="2268" y="0"/>
                    </a:moveTo>
                    <a:arcTo wR="2268" hR="2268" stAng="16200000" swAng="-5400000"/>
                    <a:lnTo>
                      <a:pt x="0" y="29355"/>
                    </a:lnTo>
                    <a:arcTo wR="2268" hR="2268" stAng="10800000" swAng="-5400000"/>
                    <a:lnTo>
                      <a:pt x="19332" y="31623"/>
                    </a:lnTo>
                    <a:arcTo wR="2268" hR="2268" stAng="5400000" swAng="-5400000"/>
                    <a:lnTo>
                      <a:pt x="21600" y="2268"/>
                    </a:lnTo>
                    <a:arcTo wR="2268" hR="2268" stAng="0" swAng="-5400000"/>
                    <a:close/>
                  </a:path>
                </a:pathLst>
              </a:cu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8200" y="2847600"/>
                <a:ext cx="198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Access Node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95400" y="373212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N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995400" y="441792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B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44400" y="396072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44400" y="472248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558800" y="3350880"/>
                <a:ext cx="631800" cy="1981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CC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696" name="" descr=""/>
            <p:cNvPicPr/>
            <p:nvPr/>
          </p:nvPicPr>
          <p:blipFill>
            <a:blip r:embed="rId1"/>
            <a:stretch/>
          </p:blipFill>
          <p:spPr>
            <a:xfrm>
              <a:off x="7848720" y="5105160"/>
              <a:ext cx="91440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2262240" y="4038480"/>
              <a:ext cx="492120" cy="4572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38880" y="5562360"/>
              <a:ext cx="633600" cy="381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91320" y="368460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53000" y="4267080"/>
              <a:ext cx="833400" cy="152388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24200" y="4267080"/>
              <a:ext cx="18241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583160" y="4267080"/>
              <a:ext cx="750960" cy="1540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653000" y="2742840"/>
              <a:ext cx="1138320" cy="15238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97560" y="5790960"/>
              <a:ext cx="175716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10080" y="4002120"/>
              <a:ext cx="241200" cy="26640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20960" y="4002120"/>
              <a:ext cx="241560" cy="26640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72000" y="4192560"/>
              <a:ext cx="152280" cy="15228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4648320" y="3657240"/>
              <a:ext cx="1143000" cy="61092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709" name="" descr=""/>
            <p:cNvPicPr/>
            <p:nvPr/>
          </p:nvPicPr>
          <p:blipFill>
            <a:blip r:embed="rId2"/>
            <a:stretch/>
          </p:blipFill>
          <p:spPr>
            <a:xfrm>
              <a:off x="7772400" y="3124080"/>
              <a:ext cx="914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7162920" y="343044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91320" y="277020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712" name="" descr=""/>
            <p:cNvPicPr/>
            <p:nvPr/>
          </p:nvPicPr>
          <p:blipFill>
            <a:blip r:embed="rId3"/>
            <a:stretch/>
          </p:blipFill>
          <p:spPr>
            <a:xfrm>
              <a:off x="7772400" y="2209680"/>
              <a:ext cx="914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7162920" y="251604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1524240" y="2345400"/>
            <a:ext cx="5533920" cy="3369600"/>
            <a:chOff x="1524240" y="2345400"/>
            <a:chExt cx="5533920" cy="3369600"/>
          </a:xfrm>
        </p:grpSpPr>
        <p:sp>
          <p:nvSpPr>
            <p:cNvPr id="715" name=""/>
            <p:cNvSpPr/>
            <p:nvPr/>
          </p:nvSpPr>
          <p:spPr>
            <a:xfrm flipH="1">
              <a:off x="5762520" y="39625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11720" y="475380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DMA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24240" y="2345400"/>
              <a:ext cx="183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ime period 3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5762520" y="2971800"/>
              <a:ext cx="1295640" cy="152280"/>
              <a:chOff x="5762520" y="2971800"/>
              <a:chExt cx="1295640" cy="152280"/>
            </a:xfrm>
          </p:grpSpPr>
          <p:grpSp>
            <p:nvGrpSpPr>
              <p:cNvPr id="719" name=""/>
              <p:cNvGrpSpPr/>
              <p:nvPr/>
            </p:nvGrpSpPr>
            <p:grpSpPr>
              <a:xfrm>
                <a:off x="5762520" y="2971800"/>
                <a:ext cx="1295640" cy="152280"/>
                <a:chOff x="5762520" y="2971800"/>
                <a:chExt cx="1295640" cy="15228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5991120" y="2971800"/>
                  <a:ext cx="30492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97cd3"/>
                    </a:gs>
                    <a:gs pos="100000">
                      <a:srgbClr val="1a2f6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753240" y="2971800"/>
                  <a:ext cx="30492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97cd3"/>
                    </a:gs>
                    <a:gs pos="100000">
                      <a:srgbClr val="1a2f6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>
                  <a:off x="5762520" y="3048120"/>
                  <a:ext cx="152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3" name=""/>
              <p:cNvSpPr/>
              <p:nvPr/>
            </p:nvSpPr>
            <p:spPr>
              <a:xfrm>
                <a:off x="6400800" y="29718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5762520" y="5562720"/>
              <a:ext cx="1295640" cy="152280"/>
              <a:chOff x="5762520" y="5562720"/>
              <a:chExt cx="1295640" cy="152280"/>
            </a:xfrm>
          </p:grpSpPr>
          <p:sp>
            <p:nvSpPr>
              <p:cNvPr id="725" name=""/>
              <p:cNvSpPr/>
              <p:nvPr/>
            </p:nvSpPr>
            <p:spPr>
              <a:xfrm>
                <a:off x="6753240" y="556272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5762520" y="563868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943600" y="556272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3019320" y="4495680"/>
              <a:ext cx="1676520" cy="152640"/>
              <a:chOff x="3019320" y="4495680"/>
              <a:chExt cx="1676520" cy="152640"/>
            </a:xfrm>
          </p:grpSpPr>
          <p:sp>
            <p:nvSpPr>
              <p:cNvPr id="729" name=""/>
              <p:cNvSpPr/>
              <p:nvPr/>
            </p:nvSpPr>
            <p:spPr>
              <a:xfrm>
                <a:off x="324792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01004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39092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3019320" y="457200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65760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4" name=""/>
          <p:cNvSpPr/>
          <p:nvPr/>
        </p:nvSpPr>
        <p:spPr>
          <a:xfrm>
            <a:off x="3435120" y="1735560"/>
            <a:ext cx="533340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BA: 622 Mbps / 32 users = 20 Mbps / user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BA: 20 Mbps average; 622 Mbps peak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42000" y="6018840"/>
            <a:ext cx="682524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BA: statistical multiplexing gain of PON BW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4120" y="5866200"/>
            <a:ext cx="818316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983.7 : ONT management and control interface specification for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BA B-PON system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B28-28E7-4A55-9097-0AB18A19291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E9F5A03-7EBD-43CF-A258-16E1DBC641A7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commendation: G.983.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6640" y="913320"/>
            <a:ext cx="75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983.5 : A broadband optical access system with enhanced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rvivability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644400" y="2055960"/>
            <a:ext cx="8118720" cy="3760200"/>
            <a:chOff x="644400" y="2055960"/>
            <a:chExt cx="8118720" cy="3760200"/>
          </a:xfrm>
        </p:grpSpPr>
        <p:grpSp>
          <p:nvGrpSpPr>
            <p:cNvPr id="741" name=""/>
            <p:cNvGrpSpPr/>
            <p:nvPr/>
          </p:nvGrpSpPr>
          <p:grpSpPr>
            <a:xfrm>
              <a:off x="644400" y="2663640"/>
              <a:ext cx="2242080" cy="2788920"/>
              <a:chOff x="644400" y="2663640"/>
              <a:chExt cx="2242080" cy="2788920"/>
            </a:xfrm>
          </p:grpSpPr>
          <p:sp>
            <p:nvSpPr>
              <p:cNvPr id="742" name=""/>
              <p:cNvSpPr/>
              <p:nvPr/>
            </p:nvSpPr>
            <p:spPr>
              <a:xfrm>
                <a:off x="925560" y="2663640"/>
                <a:ext cx="1905120" cy="2788920"/>
              </a:xfrm>
              <a:custGeom>
                <a:avLst/>
                <a:gdLst>
                  <a:gd name="textAreaLeft" fmla="*/ 58320 w 1905120"/>
                  <a:gd name="textAreaRight" fmla="*/ 1846800 w 1905120"/>
                  <a:gd name="textAreaTop" fmla="*/ 58320 h 2788920"/>
                  <a:gd name="textAreaBottom" fmla="*/ 2730600 h 2788920"/>
                </a:gdLst>
                <a:ahLst/>
                <a:rect l="textAreaLeft" t="textAreaTop" r="textAreaRight" b="textAreaBottom"/>
                <a:pathLst>
                  <a:path w="21600" h="31619">
                    <a:moveTo>
                      <a:pt x="2268" y="0"/>
                    </a:moveTo>
                    <a:arcTo wR="2268" hR="2268" stAng="16200000" swAng="-5400000"/>
                    <a:lnTo>
                      <a:pt x="0" y="29351"/>
                    </a:lnTo>
                    <a:arcTo wR="2268" hR="2268" stAng="10800000" swAng="-5400000"/>
                    <a:lnTo>
                      <a:pt x="19332" y="31619"/>
                    </a:lnTo>
                    <a:arcTo wR="2268" hR="2268" stAng="5400000" swAng="-5400000"/>
                    <a:lnTo>
                      <a:pt x="21600" y="2268"/>
                    </a:lnTo>
                    <a:arcTo wR="2268" hR="2268" stAng="0" swAng="-5400000"/>
                    <a:close/>
                  </a:path>
                </a:pathLst>
              </a:cu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98200" y="2693160"/>
                <a:ext cx="198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Access Node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995400" y="3577680"/>
                <a:ext cx="492120" cy="53280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N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95400" y="4263480"/>
                <a:ext cx="492120" cy="53280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B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44400" y="380628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44400" y="456804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558800" y="3196440"/>
                <a:ext cx="631800" cy="1981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CC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749" name="" descr=""/>
            <p:cNvPicPr/>
            <p:nvPr/>
          </p:nvPicPr>
          <p:blipFill>
            <a:blip r:embed="rId1"/>
            <a:stretch/>
          </p:blipFill>
          <p:spPr>
            <a:xfrm>
              <a:off x="7848720" y="4951440"/>
              <a:ext cx="91440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2262240" y="3884400"/>
              <a:ext cx="492120" cy="4568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38880" y="5408640"/>
              <a:ext cx="633600" cy="38052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791320" y="353052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53000" y="4113000"/>
              <a:ext cx="833400" cy="152388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24200" y="4113000"/>
              <a:ext cx="18241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83160" y="4113000"/>
              <a:ext cx="750960" cy="15372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4653000" y="2589120"/>
              <a:ext cx="1138320" cy="152352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97560" y="5637240"/>
              <a:ext cx="175716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10080" y="3848040"/>
              <a:ext cx="241200" cy="26640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720960" y="3848040"/>
              <a:ext cx="241560" cy="26640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72000" y="4038480"/>
              <a:ext cx="152280" cy="15192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4648320" y="3503160"/>
              <a:ext cx="1143000" cy="61092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762" name="" descr=""/>
            <p:cNvPicPr/>
            <p:nvPr/>
          </p:nvPicPr>
          <p:blipFill>
            <a:blip r:embed="rId2"/>
            <a:stretch/>
          </p:blipFill>
          <p:spPr>
            <a:xfrm>
              <a:off x="7772400" y="2970000"/>
              <a:ext cx="91440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7162920" y="327636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261612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765" name="" descr=""/>
            <p:cNvPicPr/>
            <p:nvPr/>
          </p:nvPicPr>
          <p:blipFill>
            <a:blip r:embed="rId3"/>
            <a:stretch/>
          </p:blipFill>
          <p:spPr>
            <a:xfrm>
              <a:off x="7772400" y="2055960"/>
              <a:ext cx="91440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7162920" y="236196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286000" y="1828800"/>
            <a:ext cx="5610240" cy="3427200"/>
            <a:chOff x="2286000" y="1828800"/>
            <a:chExt cx="5610240" cy="3427200"/>
          </a:xfrm>
        </p:grpSpPr>
        <p:sp>
          <p:nvSpPr>
            <p:cNvPr id="768" name=""/>
            <p:cNvSpPr/>
            <p:nvPr/>
          </p:nvSpPr>
          <p:spPr>
            <a:xfrm>
              <a:off x="2286000" y="3351240"/>
              <a:ext cx="49212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62640" y="4875120"/>
              <a:ext cx="633600" cy="38088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86680" y="2743200"/>
              <a:ext cx="633240" cy="38088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86680" y="1828800"/>
              <a:ext cx="633240" cy="38088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819520" y="1979640"/>
            <a:ext cx="4430160" cy="3048120"/>
            <a:chOff x="2819520" y="1979640"/>
            <a:chExt cx="4430160" cy="3048120"/>
          </a:xfrm>
        </p:grpSpPr>
        <p:sp>
          <p:nvSpPr>
            <p:cNvPr id="773" name=""/>
            <p:cNvSpPr/>
            <p:nvPr/>
          </p:nvSpPr>
          <p:spPr>
            <a:xfrm>
              <a:off x="5786280" y="2921040"/>
              <a:ext cx="140616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47960" y="3503880"/>
              <a:ext cx="833040" cy="152388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19520" y="3503880"/>
              <a:ext cx="182376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78120" y="3503880"/>
              <a:ext cx="750600" cy="15372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4647960" y="1979640"/>
              <a:ext cx="1137960" cy="152424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92520" y="5027760"/>
              <a:ext cx="175716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05040" y="3238560"/>
              <a:ext cx="240840" cy="266760"/>
            </a:xfrm>
            <a:prstGeom prst="ellipse">
              <a:avLst/>
            </a:prstGeom>
            <a:noFill/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716280" y="3238560"/>
              <a:ext cx="240840" cy="266760"/>
            </a:xfrm>
            <a:prstGeom prst="ellipse">
              <a:avLst/>
            </a:prstGeom>
            <a:noFill/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566960" y="3429000"/>
              <a:ext cx="152280" cy="15264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4643280" y="2894040"/>
              <a:ext cx="1142640" cy="61128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86280" y="2006640"/>
              <a:ext cx="140616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2285640" y="3808440"/>
            <a:ext cx="609840" cy="685800"/>
            <a:chOff x="2285640" y="3808440"/>
            <a:chExt cx="609840" cy="685800"/>
          </a:xfrm>
        </p:grpSpPr>
        <p:sp>
          <p:nvSpPr>
            <p:cNvPr id="785" name=""/>
            <p:cNvSpPr/>
            <p:nvPr/>
          </p:nvSpPr>
          <p:spPr>
            <a:xfrm flipH="1">
              <a:off x="2285640" y="3808440"/>
              <a:ext cx="60948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86000" y="3808440"/>
              <a:ext cx="60948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3504960" y="3808440"/>
            <a:ext cx="609840" cy="685800"/>
            <a:chOff x="3504960" y="3808440"/>
            <a:chExt cx="609840" cy="685800"/>
          </a:xfrm>
        </p:grpSpPr>
        <p:sp>
          <p:nvSpPr>
            <p:cNvPr id="788" name=""/>
            <p:cNvSpPr/>
            <p:nvPr/>
          </p:nvSpPr>
          <p:spPr>
            <a:xfrm flipH="1">
              <a:off x="3504960" y="3808440"/>
              <a:ext cx="60948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05320" y="3808440"/>
              <a:ext cx="60948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370440" y="5774400"/>
            <a:ext cx="770328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ction against board - network failure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ndant network can be used to transmit low priority traffic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713-9A39-4EE5-8FE2-8AA854AF348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11C84BA-46D2-445C-99A4-1F9D16239BC1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n-going standardis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04920" y="1447920"/>
            <a:ext cx="8534160" cy="4876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44400" y="1981080"/>
            <a:ext cx="8118720" cy="3760920"/>
            <a:chOff x="644400" y="1981080"/>
            <a:chExt cx="8118720" cy="3760920"/>
          </a:xfrm>
        </p:grpSpPr>
        <p:grpSp>
          <p:nvGrpSpPr>
            <p:cNvPr id="794" name=""/>
            <p:cNvGrpSpPr/>
            <p:nvPr/>
          </p:nvGrpSpPr>
          <p:grpSpPr>
            <a:xfrm>
              <a:off x="644400" y="2589120"/>
              <a:ext cx="2242080" cy="2789280"/>
              <a:chOff x="644400" y="2589120"/>
              <a:chExt cx="2242080" cy="2789280"/>
            </a:xfrm>
          </p:grpSpPr>
          <p:sp>
            <p:nvSpPr>
              <p:cNvPr id="795" name=""/>
              <p:cNvSpPr/>
              <p:nvPr/>
            </p:nvSpPr>
            <p:spPr>
              <a:xfrm>
                <a:off x="925560" y="2589120"/>
                <a:ext cx="1905120" cy="2789280"/>
              </a:xfrm>
              <a:custGeom>
                <a:avLst/>
                <a:gdLst>
                  <a:gd name="textAreaLeft" fmla="*/ 58320 w 1905120"/>
                  <a:gd name="textAreaRight" fmla="*/ 1846800 w 1905120"/>
                  <a:gd name="textAreaTop" fmla="*/ 58320 h 2789280"/>
                  <a:gd name="textAreaBottom" fmla="*/ 2730960 h 2789280"/>
                </a:gdLst>
                <a:ahLst/>
                <a:rect l="textAreaLeft" t="textAreaTop" r="textAreaRight" b="textAreaBottom"/>
                <a:pathLst>
                  <a:path w="21600" h="31623">
                    <a:moveTo>
                      <a:pt x="2268" y="0"/>
                    </a:moveTo>
                    <a:arcTo wR="2268" hR="2268" stAng="16200000" swAng="-5400000"/>
                    <a:lnTo>
                      <a:pt x="0" y="29355"/>
                    </a:lnTo>
                    <a:arcTo wR="2268" hR="2268" stAng="10800000" swAng="-5400000"/>
                    <a:lnTo>
                      <a:pt x="19332" y="31623"/>
                    </a:lnTo>
                    <a:arcTo wR="2268" hR="2268" stAng="5400000" swAng="-5400000"/>
                    <a:lnTo>
                      <a:pt x="21600" y="2268"/>
                    </a:lnTo>
                    <a:arcTo wR="2268" hR="2268" stAng="0" swAng="-5400000"/>
                    <a:close/>
                  </a:path>
                </a:pathLst>
              </a:cu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98200" y="2619000"/>
                <a:ext cx="198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Access Node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995400" y="350352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N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995400" y="418932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B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4400" y="373212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44400" y="449388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58800" y="3122280"/>
                <a:ext cx="631800" cy="1981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CC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802" name="" descr=""/>
            <p:cNvPicPr/>
            <p:nvPr/>
          </p:nvPicPr>
          <p:blipFill>
            <a:blip r:embed="rId1"/>
            <a:stretch/>
          </p:blipFill>
          <p:spPr>
            <a:xfrm>
              <a:off x="7848720" y="4876920"/>
              <a:ext cx="914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2262240" y="3809880"/>
              <a:ext cx="492120" cy="4572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238880" y="5334120"/>
              <a:ext cx="63360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91320" y="345600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653000" y="4038480"/>
              <a:ext cx="833400" cy="152424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24200" y="4038480"/>
              <a:ext cx="18241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83160" y="4038480"/>
              <a:ext cx="750960" cy="1540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4653000" y="2514240"/>
              <a:ext cx="1138320" cy="15238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97560" y="5562720"/>
              <a:ext cx="175716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10080" y="3773520"/>
              <a:ext cx="241200" cy="26676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720960" y="3773520"/>
              <a:ext cx="241560" cy="26676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572000" y="3963960"/>
              <a:ext cx="152280" cy="15228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4648320" y="3429000"/>
              <a:ext cx="1143000" cy="6112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815" name="" descr=""/>
            <p:cNvPicPr/>
            <p:nvPr/>
          </p:nvPicPr>
          <p:blipFill>
            <a:blip r:embed="rId2"/>
            <a:stretch/>
          </p:blipFill>
          <p:spPr>
            <a:xfrm>
              <a:off x="7772400" y="2895480"/>
              <a:ext cx="914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7162920" y="3201840"/>
              <a:ext cx="633240" cy="381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91320" y="254160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818" name="" descr=""/>
            <p:cNvPicPr/>
            <p:nvPr/>
          </p:nvPicPr>
          <p:blipFill>
            <a:blip r:embed="rId3"/>
            <a:stretch/>
          </p:blipFill>
          <p:spPr>
            <a:xfrm>
              <a:off x="7772400" y="1981080"/>
              <a:ext cx="914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7162920" y="2287440"/>
              <a:ext cx="633240" cy="381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193840" y="1523880"/>
            <a:ext cx="3753000" cy="990360"/>
            <a:chOff x="2193840" y="1523880"/>
            <a:chExt cx="3753000" cy="990360"/>
          </a:xfrm>
        </p:grpSpPr>
        <p:sp>
          <p:nvSpPr>
            <p:cNvPr id="821" name=""/>
            <p:cNvSpPr/>
            <p:nvPr/>
          </p:nvSpPr>
          <p:spPr>
            <a:xfrm>
              <a:off x="2839680" y="1523880"/>
              <a:ext cx="24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Md BT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S: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1.25 / 2.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/ 10 Gbps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93840" y="2055600"/>
              <a:ext cx="375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: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0.155 / 0.622 / 1.2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/ 2.5 / 10 Gbps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581280" y="1828440"/>
              <a:ext cx="914400" cy="152640"/>
            </a:xfrm>
            <a:prstGeom prst="rightArrow">
              <a:avLst>
                <a:gd name="adj1" fmla="val 50000"/>
                <a:gd name="adj2" fmla="val 149764"/>
              </a:avLst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581280" y="2361960"/>
              <a:ext cx="914400" cy="152280"/>
            </a:xfrm>
            <a:prstGeom prst="rightArrow">
              <a:avLst>
                <a:gd name="adj1" fmla="val 50000"/>
                <a:gd name="adj2" fmla="val 150118"/>
              </a:avLst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357480" y="989640"/>
            <a:ext cx="52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GPON: Gigabit Passive Optical Network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04920" y="1447920"/>
            <a:ext cx="8534160" cy="4876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mmendation for Gigabit PON system is under development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Medium layer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cal Distribution Network: G.982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velength plan: G.983.3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FEC is under discussion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cal interface parameters are under discussion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ed: DS 1.25 Gbps - 10 Gbps ; US 155 Mbps - 10 Gbp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mission Convergence layer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ame structure to be defined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c timeslot and US overhead to be defined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ed timeslot or variable timeslot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oriented or packet oriented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rget: Recommendation approved by end 2003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44E-FD38-4151-B4E1-34CECB599BB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BE2A3E8-D93A-4999-B402-96A0CFF41757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U-T has approved a well balanced set of recommendations covering all aspects of BPON (G.983.1 has been approved in 199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id basis for implementation of a full service access network, offering data, voice and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-going activities are opening an evolution path by focussing on higher bitrates and packet oriented PON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xisting and emerging recommendations are a strong catalyst for the PON marke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4FA-8573-41A5-B108-E4083DA2F9F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5E5F48B-7571-48A7-883C-3E6A7E1FEFCA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6026040" y="1295280"/>
            <a:ext cx="2478240" cy="4757760"/>
          </a:xfrm>
          <a:prstGeom prst="rect">
            <a:avLst/>
          </a:prstGeom>
          <a:ln w="0">
            <a:noFill/>
          </a:ln>
        </p:spPr>
      </p:pic>
      <p:grpSp>
        <p:nvGrpSpPr>
          <p:cNvPr id="831" name=""/>
          <p:cNvGrpSpPr/>
          <p:nvPr/>
        </p:nvGrpSpPr>
        <p:grpSpPr>
          <a:xfrm>
            <a:off x="380880" y="1973160"/>
            <a:ext cx="5180760" cy="3323520"/>
            <a:chOff x="380880" y="1973160"/>
            <a:chExt cx="5180760" cy="3323520"/>
          </a:xfrm>
        </p:grpSpPr>
        <p:grpSp>
          <p:nvGrpSpPr>
            <p:cNvPr id="832" name=""/>
            <p:cNvGrpSpPr/>
            <p:nvPr/>
          </p:nvGrpSpPr>
          <p:grpSpPr>
            <a:xfrm>
              <a:off x="380880" y="1973160"/>
              <a:ext cx="5180760" cy="3323520"/>
              <a:chOff x="380880" y="1973160"/>
              <a:chExt cx="5180760" cy="3323520"/>
            </a:xfrm>
          </p:grpSpPr>
          <p:sp>
            <p:nvSpPr>
              <p:cNvPr id="833" name=""/>
              <p:cNvSpPr/>
              <p:nvPr/>
            </p:nvSpPr>
            <p:spPr>
              <a:xfrm>
                <a:off x="380880" y="1988640"/>
                <a:ext cx="4872600" cy="3308040"/>
              </a:xfrm>
              <a:custGeom>
                <a:avLst/>
                <a:gdLst/>
                <a:ahLst/>
                <a:rect l="l" t="t" r="r" b="b"/>
                <a:pathLst>
                  <a:path w="331" h="215">
                    <a:moveTo>
                      <a:pt x="133" y="11"/>
                    </a:moveTo>
                    <a:cubicBezTo>
                      <a:pt x="92" y="14"/>
                      <a:pt x="79" y="21"/>
                      <a:pt x="66" y="33"/>
                    </a:cubicBezTo>
                    <a:cubicBezTo>
                      <a:pt x="62" y="37"/>
                      <a:pt x="61" y="43"/>
                      <a:pt x="64" y="47"/>
                    </a:cubicBezTo>
                    <a:cubicBezTo>
                      <a:pt x="69" y="54"/>
                      <a:pt x="78" y="57"/>
                      <a:pt x="86" y="59"/>
                    </a:cubicBezTo>
                    <a:lnTo>
                      <a:pt x="86" y="60"/>
                    </a:lnTo>
                    <a:lnTo>
                      <a:pt x="88" y="56"/>
                    </a:lnTo>
                    <a:lnTo>
                      <a:pt x="87" y="56"/>
                    </a:lnTo>
                    <a:cubicBezTo>
                      <a:pt x="43" y="60"/>
                      <a:pt x="0" y="84"/>
                      <a:pt x="0" y="119"/>
                    </a:cubicBezTo>
                    <a:cubicBezTo>
                      <a:pt x="5" y="150"/>
                      <a:pt x="53" y="163"/>
                      <a:pt x="90" y="159"/>
                    </a:cubicBezTo>
                    <a:lnTo>
                      <a:pt x="93" y="158"/>
                    </a:lnTo>
                    <a:lnTo>
                      <a:pt x="90" y="154"/>
                    </a:lnTo>
                    <a:lnTo>
                      <a:pt x="88" y="156"/>
                    </a:lnTo>
                    <a:cubicBezTo>
                      <a:pt x="83" y="161"/>
                      <a:pt x="78" y="168"/>
                      <a:pt x="81" y="175"/>
                    </a:cubicBezTo>
                    <a:cubicBezTo>
                      <a:pt x="89" y="193"/>
                      <a:pt x="113" y="203"/>
                      <a:pt x="136" y="209"/>
                    </a:cubicBezTo>
                    <a:cubicBezTo>
                      <a:pt x="154" y="214"/>
                      <a:pt x="172" y="215"/>
                      <a:pt x="191" y="213"/>
                    </a:cubicBezTo>
                    <a:cubicBezTo>
                      <a:pt x="206" y="212"/>
                      <a:pt x="226" y="211"/>
                      <a:pt x="235" y="201"/>
                    </a:cubicBezTo>
                    <a:lnTo>
                      <a:pt x="236" y="200"/>
                    </a:lnTo>
                    <a:lnTo>
                      <a:pt x="231" y="201"/>
                    </a:lnTo>
                    <a:lnTo>
                      <a:pt x="235" y="203"/>
                    </a:lnTo>
                    <a:cubicBezTo>
                      <a:pt x="272" y="205"/>
                      <a:pt x="308" y="188"/>
                      <a:pt x="323" y="164"/>
                    </a:cubicBezTo>
                    <a:cubicBezTo>
                      <a:pt x="331" y="151"/>
                      <a:pt x="326" y="137"/>
                      <a:pt x="311" y="128"/>
                    </a:cubicBezTo>
                    <a:cubicBezTo>
                      <a:pt x="297" y="119"/>
                      <a:pt x="281" y="114"/>
                      <a:pt x="263" y="111"/>
                    </a:cubicBezTo>
                    <a:lnTo>
                      <a:pt x="261" y="110"/>
                    </a:lnTo>
                    <a:lnTo>
                      <a:pt x="261" y="115"/>
                    </a:lnTo>
                    <a:lnTo>
                      <a:pt x="263" y="115"/>
                    </a:lnTo>
                    <a:cubicBezTo>
                      <a:pt x="287" y="108"/>
                      <a:pt x="311" y="92"/>
                      <a:pt x="309" y="72"/>
                    </a:cubicBezTo>
                    <a:cubicBezTo>
                      <a:pt x="308" y="52"/>
                      <a:pt x="293" y="36"/>
                      <a:pt x="273" y="25"/>
                    </a:cubicBezTo>
                    <a:cubicBezTo>
                      <a:pt x="254" y="14"/>
                      <a:pt x="234" y="7"/>
                      <a:pt x="211" y="4"/>
                    </a:cubicBezTo>
                    <a:cubicBezTo>
                      <a:pt x="184" y="1"/>
                      <a:pt x="155" y="0"/>
                      <a:pt x="131" y="8"/>
                    </a:cubicBezTo>
                    <a:cubicBezTo>
                      <a:pt x="130" y="8"/>
                      <a:pt x="129" y="9"/>
                      <a:pt x="130" y="10"/>
                    </a:cubicBezTo>
                    <a:cubicBezTo>
                      <a:pt x="130" y="11"/>
                      <a:pt x="132" y="11"/>
                      <a:pt x="133" y="11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4280" y="1973160"/>
                <a:ext cx="4887360" cy="3308040"/>
              </a:xfrm>
              <a:custGeom>
                <a:avLst/>
                <a:gdLst/>
                <a:ahLst/>
                <a:rect l="l" t="t" r="r" b="b"/>
                <a:pathLst>
                  <a:path w="332" h="215">
                    <a:moveTo>
                      <a:pt x="175" y="15"/>
                    </a:moveTo>
                    <a:cubicBezTo>
                      <a:pt x="159" y="7"/>
                      <a:pt x="138" y="12"/>
                      <a:pt x="119" y="15"/>
                    </a:cubicBezTo>
                    <a:cubicBezTo>
                      <a:pt x="100" y="18"/>
                      <a:pt x="81" y="22"/>
                      <a:pt x="68" y="34"/>
                    </a:cubicBezTo>
                    <a:cubicBezTo>
                      <a:pt x="63" y="38"/>
                      <a:pt x="62" y="43"/>
                      <a:pt x="66" y="48"/>
                    </a:cubicBezTo>
                    <a:cubicBezTo>
                      <a:pt x="71" y="54"/>
                      <a:pt x="79" y="57"/>
                      <a:pt x="87" y="60"/>
                    </a:cubicBezTo>
                    <a:lnTo>
                      <a:pt x="87" y="60"/>
                    </a:lnTo>
                    <a:lnTo>
                      <a:pt x="89" y="56"/>
                    </a:lnTo>
                    <a:lnTo>
                      <a:pt x="88" y="56"/>
                    </a:lnTo>
                    <a:cubicBezTo>
                      <a:pt x="45" y="60"/>
                      <a:pt x="0" y="84"/>
                      <a:pt x="1" y="119"/>
                    </a:cubicBezTo>
                    <a:cubicBezTo>
                      <a:pt x="7" y="150"/>
                      <a:pt x="55" y="163"/>
                      <a:pt x="92" y="159"/>
                    </a:cubicBezTo>
                    <a:lnTo>
                      <a:pt x="94" y="159"/>
                    </a:lnTo>
                    <a:lnTo>
                      <a:pt x="92" y="155"/>
                    </a:lnTo>
                    <a:lnTo>
                      <a:pt x="90" y="156"/>
                    </a:lnTo>
                    <a:cubicBezTo>
                      <a:pt x="84" y="161"/>
                      <a:pt x="79" y="169"/>
                      <a:pt x="82" y="175"/>
                    </a:cubicBezTo>
                    <a:cubicBezTo>
                      <a:pt x="90" y="193"/>
                      <a:pt x="114" y="204"/>
                      <a:pt x="137" y="209"/>
                    </a:cubicBezTo>
                    <a:cubicBezTo>
                      <a:pt x="155" y="214"/>
                      <a:pt x="174" y="215"/>
                      <a:pt x="192" y="214"/>
                    </a:cubicBezTo>
                    <a:cubicBezTo>
                      <a:pt x="208" y="212"/>
                      <a:pt x="227" y="212"/>
                      <a:pt x="237" y="201"/>
                    </a:cubicBezTo>
                    <a:lnTo>
                      <a:pt x="237" y="200"/>
                    </a:lnTo>
                    <a:lnTo>
                      <a:pt x="233" y="202"/>
                    </a:lnTo>
                    <a:lnTo>
                      <a:pt x="236" y="203"/>
                    </a:lnTo>
                    <a:cubicBezTo>
                      <a:pt x="273" y="206"/>
                      <a:pt x="309" y="189"/>
                      <a:pt x="324" y="164"/>
                    </a:cubicBezTo>
                    <a:cubicBezTo>
                      <a:pt x="332" y="151"/>
                      <a:pt x="327" y="137"/>
                      <a:pt x="312" y="128"/>
                    </a:cubicBezTo>
                    <a:cubicBezTo>
                      <a:pt x="298" y="119"/>
                      <a:pt x="282" y="114"/>
                      <a:pt x="265" y="111"/>
                    </a:cubicBezTo>
                    <a:lnTo>
                      <a:pt x="262" y="111"/>
                    </a:lnTo>
                    <a:lnTo>
                      <a:pt x="262" y="115"/>
                    </a:lnTo>
                    <a:lnTo>
                      <a:pt x="264" y="115"/>
                    </a:lnTo>
                    <a:cubicBezTo>
                      <a:pt x="288" y="109"/>
                      <a:pt x="312" y="93"/>
                      <a:pt x="311" y="72"/>
                    </a:cubicBezTo>
                    <a:cubicBezTo>
                      <a:pt x="309" y="53"/>
                      <a:pt x="295" y="37"/>
                      <a:pt x="274" y="25"/>
                    </a:cubicBezTo>
                    <a:cubicBezTo>
                      <a:pt x="255" y="14"/>
                      <a:pt x="235" y="8"/>
                      <a:pt x="212" y="4"/>
                    </a:cubicBezTo>
                    <a:cubicBezTo>
                      <a:pt x="185" y="1"/>
                      <a:pt x="157" y="0"/>
                      <a:pt x="132" y="8"/>
                    </a:cubicBezTo>
                    <a:cubicBezTo>
                      <a:pt x="131" y="9"/>
                      <a:pt x="131" y="10"/>
                      <a:pt x="131" y="11"/>
                    </a:cubicBezTo>
                    <a:cubicBezTo>
                      <a:pt x="132" y="12"/>
                      <a:pt x="133" y="12"/>
                      <a:pt x="134" y="11"/>
                    </a:cubicBezTo>
                    <a:cubicBezTo>
                      <a:pt x="172" y="2"/>
                      <a:pt x="213" y="5"/>
                      <a:pt x="249" y="19"/>
                    </a:cubicBezTo>
                    <a:cubicBezTo>
                      <a:pt x="280" y="30"/>
                      <a:pt x="310" y="52"/>
                      <a:pt x="304" y="80"/>
                    </a:cubicBezTo>
                    <a:cubicBezTo>
                      <a:pt x="300" y="95"/>
                      <a:pt x="282" y="104"/>
                      <a:pt x="265" y="110"/>
                    </a:cubicBezTo>
                    <a:lnTo>
                      <a:pt x="261" y="111"/>
                    </a:lnTo>
                    <a:cubicBezTo>
                      <a:pt x="260" y="111"/>
                      <a:pt x="259" y="112"/>
                      <a:pt x="259" y="113"/>
                    </a:cubicBezTo>
                    <a:cubicBezTo>
                      <a:pt x="258" y="114"/>
                      <a:pt x="259" y="115"/>
                      <a:pt x="261" y="115"/>
                    </a:cubicBezTo>
                    <a:lnTo>
                      <a:pt x="264" y="116"/>
                    </a:lnTo>
                    <a:cubicBezTo>
                      <a:pt x="285" y="120"/>
                      <a:pt x="310" y="126"/>
                      <a:pt x="319" y="143"/>
                    </a:cubicBezTo>
                    <a:cubicBezTo>
                      <a:pt x="328" y="157"/>
                      <a:pt x="314" y="171"/>
                      <a:pt x="300" y="181"/>
                    </a:cubicBezTo>
                    <a:cubicBezTo>
                      <a:pt x="284" y="194"/>
                      <a:pt x="262" y="199"/>
                      <a:pt x="240" y="199"/>
                    </a:cubicBezTo>
                    <a:lnTo>
                      <a:pt x="236" y="198"/>
                    </a:lnTo>
                    <a:cubicBezTo>
                      <a:pt x="236" y="198"/>
                      <a:pt x="235" y="198"/>
                      <a:pt x="235" y="198"/>
                    </a:cubicBezTo>
                    <a:cubicBezTo>
                      <a:pt x="234" y="197"/>
                      <a:pt x="232" y="198"/>
                      <a:pt x="232" y="199"/>
                    </a:cubicBezTo>
                    <a:lnTo>
                      <a:pt x="231" y="201"/>
                    </a:lnTo>
                    <a:cubicBezTo>
                      <a:pt x="209" y="211"/>
                      <a:pt x="181" y="211"/>
                      <a:pt x="156" y="208"/>
                    </a:cubicBezTo>
                    <a:cubicBezTo>
                      <a:pt x="128" y="205"/>
                      <a:pt x="99" y="195"/>
                      <a:pt x="88" y="175"/>
                    </a:cubicBezTo>
                    <a:cubicBezTo>
                      <a:pt x="86" y="170"/>
                      <a:pt x="89" y="165"/>
                      <a:pt x="92" y="161"/>
                    </a:cubicBezTo>
                    <a:lnTo>
                      <a:pt x="95" y="158"/>
                    </a:lnTo>
                    <a:cubicBezTo>
                      <a:pt x="96" y="158"/>
                      <a:pt x="97" y="157"/>
                      <a:pt x="96" y="156"/>
                    </a:cubicBezTo>
                    <a:cubicBezTo>
                      <a:pt x="96" y="155"/>
                      <a:pt x="94" y="154"/>
                      <a:pt x="93" y="155"/>
                    </a:cubicBezTo>
                    <a:lnTo>
                      <a:pt x="89" y="155"/>
                    </a:lnTo>
                    <a:cubicBezTo>
                      <a:pt x="56" y="158"/>
                      <a:pt x="13" y="147"/>
                      <a:pt x="7" y="119"/>
                    </a:cubicBezTo>
                    <a:cubicBezTo>
                      <a:pt x="6" y="87"/>
                      <a:pt x="46" y="65"/>
                      <a:pt x="85" y="61"/>
                    </a:cubicBezTo>
                    <a:lnTo>
                      <a:pt x="89" y="61"/>
                    </a:lnTo>
                    <a:lnTo>
                      <a:pt x="89" y="61"/>
                    </a:lnTo>
                    <a:lnTo>
                      <a:pt x="87" y="55"/>
                    </a:lnTo>
                    <a:cubicBezTo>
                      <a:pt x="80" y="52"/>
                      <a:pt x="69" y="49"/>
                      <a:pt x="69" y="42"/>
                    </a:cubicBezTo>
                    <a:cubicBezTo>
                      <a:pt x="69" y="33"/>
                      <a:pt x="83" y="28"/>
                      <a:pt x="93" y="25"/>
                    </a:cubicBezTo>
                    <a:cubicBezTo>
                      <a:pt x="102" y="22"/>
                      <a:pt x="110" y="19"/>
                      <a:pt x="120" y="18"/>
                    </a:cubicBezTo>
                    <a:cubicBezTo>
                      <a:pt x="138" y="15"/>
                      <a:pt x="157" y="10"/>
                      <a:pt x="175" y="16"/>
                    </a:cubicBezTo>
                    <a:cubicBezTo>
                      <a:pt x="175" y="16"/>
                      <a:pt x="175" y="16"/>
                      <a:pt x="176" y="16"/>
                    </a:cubicBezTo>
                    <a:cubicBezTo>
                      <a:pt x="176" y="16"/>
                      <a:pt x="176" y="15"/>
                      <a:pt x="175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1452600" y="2658960"/>
              <a:ext cx="3657600" cy="1847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5400" rIns="954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63720"/>
                  <a:tab algn="l" pos="1927080"/>
                  <a:tab algn="l" pos="2890800"/>
                  <a:tab algn="l" pos="3854520"/>
                  <a:tab algn="l" pos="4818240"/>
                  <a:tab algn="l" pos="5781600"/>
                  <a:tab algn="l" pos="6745320"/>
                  <a:tab algn="l" pos="7709040"/>
                  <a:tab algn="l" pos="8672400"/>
                  <a:tab algn="l" pos="9636120"/>
                  <a:tab algn="l" pos="10599840"/>
                </a:tabLst>
              </a:pPr>
              <a:r>
                <a:rPr b="1" lang="en-GB" sz="3200" spc="-1" strike="noStrike">
                  <a:solidFill>
                    <a:srgbClr val="ffcc66"/>
                  </a:solidFill>
                  <a:latin typeface="Comic Sans MS"/>
                </a:rPr>
                <a:t>Do you have</a:t>
              </a:r>
              <a:endParaRPr b="0" lang="en-US" sz="32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63720"/>
                  <a:tab algn="l" pos="1927080"/>
                  <a:tab algn="l" pos="2890800"/>
                  <a:tab algn="l" pos="3854520"/>
                  <a:tab algn="l" pos="4818240"/>
                  <a:tab algn="l" pos="5781600"/>
                  <a:tab algn="l" pos="6745320"/>
                  <a:tab algn="l" pos="7709040"/>
                  <a:tab algn="l" pos="8672400"/>
                  <a:tab algn="l" pos="9636120"/>
                  <a:tab algn="l" pos="10599840"/>
                </a:tabLst>
              </a:pPr>
              <a:r>
                <a:rPr b="1" lang="en-GB" sz="3200" spc="-1" strike="noStrike">
                  <a:solidFill>
                    <a:srgbClr val="ffcc66"/>
                  </a:solidFill>
                  <a:latin typeface="Comic Sans MS"/>
                </a:rPr>
                <a:t> </a:t>
              </a:r>
              <a:r>
                <a:rPr b="1" lang="en-GB" sz="3200" spc="-1" strike="noStrike">
                  <a:solidFill>
                    <a:srgbClr val="ffcc66"/>
                  </a:solidFill>
                  <a:latin typeface="Comic Sans MS"/>
                </a:rPr>
                <a:t>any</a:t>
              </a:r>
              <a:endParaRPr b="0" lang="en-US" sz="32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63720"/>
                  <a:tab algn="l" pos="1927080"/>
                  <a:tab algn="l" pos="2890800"/>
                  <a:tab algn="l" pos="3854520"/>
                  <a:tab algn="l" pos="4818240"/>
                  <a:tab algn="l" pos="5781600"/>
                  <a:tab algn="l" pos="6745320"/>
                  <a:tab algn="l" pos="7709040"/>
                  <a:tab algn="l" pos="8672400"/>
                  <a:tab algn="l" pos="9636120"/>
                  <a:tab algn="l" pos="10599840"/>
                </a:tabLst>
              </a:pPr>
              <a:r>
                <a:rPr b="1" lang="en-GB" sz="3200" spc="-1" strike="noStrike">
                  <a:solidFill>
                    <a:srgbClr val="ffcc66"/>
                  </a:solidFill>
                  <a:latin typeface="Comic Sans MS"/>
                </a:rPr>
                <a:t> </a:t>
              </a:r>
              <a:r>
                <a:rPr b="1" lang="en-GB" sz="3200" spc="-1" strike="noStrike">
                  <a:solidFill>
                    <a:srgbClr val="ffcc66"/>
                  </a:solidFill>
                  <a:latin typeface="Comic Sans MS"/>
                </a:rPr>
                <a:t>questions ?</a:t>
              </a:r>
              <a:endParaRPr b="0" lang="en-US" sz="32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A40A-A3E0-460D-B14A-70F4DCFE679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F1D21DE-4E88-456B-B7FB-0B0301944A87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52600" y="1336680"/>
            <a:ext cx="6499080" cy="550800"/>
          </a:xfrm>
          <a:custGeom>
            <a:avLst/>
            <a:gdLst>
              <a:gd name="textAreaLeft" fmla="*/ 35640 w 6499080"/>
              <a:gd name="textAreaRight" fmla="*/ 6463440 w 649908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254714" h="21600">
                <a:moveTo>
                  <a:pt x="0" y="0"/>
                </a:moveTo>
                <a:lnTo>
                  <a:pt x="254714" y="0"/>
                </a:lnTo>
                <a:lnTo>
                  <a:pt x="254714" y="21600"/>
                </a:lnTo>
                <a:lnTo>
                  <a:pt x="0" y="21600"/>
                </a:lnTo>
                <a:close/>
              </a:path>
              <a:path fill="lightenLess" w="254714" h="21600">
                <a:moveTo>
                  <a:pt x="0" y="0"/>
                </a:moveTo>
                <a:lnTo>
                  <a:pt x="254714" y="0"/>
                </a:lnTo>
                <a:lnTo>
                  <a:pt x="253314" y="1400"/>
                </a:lnTo>
                <a:lnTo>
                  <a:pt x="1400" y="1400"/>
                </a:lnTo>
                <a:close/>
              </a:path>
              <a:path fill="darken" w="254714" h="21600">
                <a:moveTo>
                  <a:pt x="254714" y="0"/>
                </a:moveTo>
                <a:lnTo>
                  <a:pt x="254714" y="21600"/>
                </a:lnTo>
                <a:lnTo>
                  <a:pt x="253314" y="20200"/>
                </a:lnTo>
                <a:lnTo>
                  <a:pt x="253314" y="1400"/>
                </a:lnTo>
                <a:close/>
              </a:path>
              <a:path fill="darkenLess" w="254714" h="21600">
                <a:moveTo>
                  <a:pt x="254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314" y="20200"/>
                </a:lnTo>
                <a:close/>
              </a:path>
              <a:path fill="lighten" w="254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ON Characteristics</a:t>
            </a:r>
            <a:endParaRPr b="0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35240"/>
            <a:ext cx="6510240" cy="544320"/>
          </a:xfrm>
          <a:custGeom>
            <a:avLst/>
            <a:gdLst>
              <a:gd name="textAreaLeft" fmla="*/ 35280 w 6510240"/>
              <a:gd name="textAreaRight" fmla="*/ 6474960 w 6510240"/>
              <a:gd name="textAreaTop" fmla="*/ 35280 h 544320"/>
              <a:gd name="textAreaBottom" fmla="*/ 509040 h 544320"/>
            </a:gdLst>
            <a:ahLst/>
            <a:rect l="textAreaLeft" t="textAreaTop" r="textAreaRight" b="textAreaBottom"/>
            <a:pathLst>
              <a:path w="258186" h="21600">
                <a:moveTo>
                  <a:pt x="0" y="0"/>
                </a:moveTo>
                <a:lnTo>
                  <a:pt x="258186" y="0"/>
                </a:lnTo>
                <a:lnTo>
                  <a:pt x="258186" y="21600"/>
                </a:lnTo>
                <a:lnTo>
                  <a:pt x="0" y="21600"/>
                </a:lnTo>
                <a:close/>
              </a:path>
              <a:path fill="lightenLess" w="258186" h="21600">
                <a:moveTo>
                  <a:pt x="0" y="0"/>
                </a:moveTo>
                <a:lnTo>
                  <a:pt x="258186" y="0"/>
                </a:lnTo>
                <a:lnTo>
                  <a:pt x="256786" y="1400"/>
                </a:lnTo>
                <a:lnTo>
                  <a:pt x="1400" y="1400"/>
                </a:lnTo>
                <a:close/>
              </a:path>
              <a:path fill="darken" w="258186" h="21600">
                <a:moveTo>
                  <a:pt x="258186" y="0"/>
                </a:moveTo>
                <a:lnTo>
                  <a:pt x="258186" y="21600"/>
                </a:lnTo>
                <a:lnTo>
                  <a:pt x="256786" y="20200"/>
                </a:lnTo>
                <a:lnTo>
                  <a:pt x="256786" y="1400"/>
                </a:lnTo>
                <a:close/>
              </a:path>
              <a:path fill="darkenLess" w="258186" h="21600">
                <a:moveTo>
                  <a:pt x="258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786" y="20200"/>
                </a:lnTo>
                <a:close/>
              </a:path>
              <a:path fill="lighten" w="258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ON and Standardisation</a:t>
            </a:r>
            <a:endParaRPr b="0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3400" y="3127320"/>
            <a:ext cx="5938920" cy="500040"/>
          </a:xfrm>
          <a:custGeom>
            <a:avLst/>
            <a:gdLst>
              <a:gd name="textAreaLeft" fmla="*/ 32400 w 5938920"/>
              <a:gd name="textAreaRight" fmla="*/ 5906520 w 59389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56372" h="21600">
                <a:moveTo>
                  <a:pt x="0" y="0"/>
                </a:moveTo>
                <a:lnTo>
                  <a:pt x="256372" y="0"/>
                </a:lnTo>
                <a:lnTo>
                  <a:pt x="256372" y="21600"/>
                </a:lnTo>
                <a:lnTo>
                  <a:pt x="0" y="21600"/>
                </a:lnTo>
                <a:close/>
              </a:path>
              <a:path fill="lightenLess" w="256372" h="21600">
                <a:moveTo>
                  <a:pt x="0" y="0"/>
                </a:moveTo>
                <a:lnTo>
                  <a:pt x="256372" y="0"/>
                </a:lnTo>
                <a:lnTo>
                  <a:pt x="254972" y="1400"/>
                </a:lnTo>
                <a:lnTo>
                  <a:pt x="1400" y="1400"/>
                </a:lnTo>
                <a:close/>
              </a:path>
              <a:path fill="darken" w="256372" h="21600">
                <a:moveTo>
                  <a:pt x="256372" y="0"/>
                </a:moveTo>
                <a:lnTo>
                  <a:pt x="256372" y="21600"/>
                </a:lnTo>
                <a:lnTo>
                  <a:pt x="254972" y="20200"/>
                </a:lnTo>
                <a:lnTo>
                  <a:pt x="254972" y="1400"/>
                </a:lnTo>
                <a:close/>
              </a:path>
              <a:path fill="darkenLess" w="256372" h="21600">
                <a:moveTo>
                  <a:pt x="256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972" y="20200"/>
                </a:lnTo>
                <a:close/>
              </a:path>
              <a:path fill="lighten" w="256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Standardisation groups</a:t>
            </a:r>
            <a:endParaRPr b="0" lang="en-US" sz="2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4826160"/>
            <a:ext cx="5923080" cy="520560"/>
          </a:xfrm>
          <a:custGeom>
            <a:avLst/>
            <a:gdLst>
              <a:gd name="textAreaLeft" fmla="*/ 33480 w 5923080"/>
              <a:gd name="textAreaRight" fmla="*/ 5889600 w 59230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45616" h="21600">
                <a:moveTo>
                  <a:pt x="0" y="0"/>
                </a:moveTo>
                <a:lnTo>
                  <a:pt x="245616" y="0"/>
                </a:lnTo>
                <a:lnTo>
                  <a:pt x="245616" y="21600"/>
                </a:lnTo>
                <a:lnTo>
                  <a:pt x="0" y="21600"/>
                </a:lnTo>
                <a:close/>
              </a:path>
              <a:path fill="lightenLess" w="245616" h="21600">
                <a:moveTo>
                  <a:pt x="0" y="0"/>
                </a:moveTo>
                <a:lnTo>
                  <a:pt x="245616" y="0"/>
                </a:lnTo>
                <a:lnTo>
                  <a:pt x="244216" y="1400"/>
                </a:lnTo>
                <a:lnTo>
                  <a:pt x="1400" y="1400"/>
                </a:lnTo>
                <a:close/>
              </a:path>
              <a:path fill="darken" w="245616" h="21600">
                <a:moveTo>
                  <a:pt x="245616" y="0"/>
                </a:moveTo>
                <a:lnTo>
                  <a:pt x="245616" y="21600"/>
                </a:lnTo>
                <a:lnTo>
                  <a:pt x="244216" y="20200"/>
                </a:lnTo>
                <a:lnTo>
                  <a:pt x="244216" y="1400"/>
                </a:lnTo>
                <a:close/>
              </a:path>
              <a:path fill="darkenLess" w="245616" h="21600">
                <a:moveTo>
                  <a:pt x="245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216" y="20200"/>
                </a:lnTo>
                <a:close/>
              </a:path>
              <a:path fill="lighten" w="245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On-going standardisation activities</a:t>
            </a:r>
            <a:endParaRPr b="0" lang="en-US" sz="2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52600" y="5694480"/>
            <a:ext cx="6499080" cy="550800"/>
          </a:xfrm>
          <a:custGeom>
            <a:avLst/>
            <a:gdLst>
              <a:gd name="textAreaLeft" fmla="*/ 35640 w 6499080"/>
              <a:gd name="textAreaRight" fmla="*/ 6463440 w 649908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254714" h="21600">
                <a:moveTo>
                  <a:pt x="0" y="0"/>
                </a:moveTo>
                <a:lnTo>
                  <a:pt x="254714" y="0"/>
                </a:lnTo>
                <a:lnTo>
                  <a:pt x="254714" y="21600"/>
                </a:lnTo>
                <a:lnTo>
                  <a:pt x="0" y="21600"/>
                </a:lnTo>
                <a:close/>
              </a:path>
              <a:path fill="lightenLess" w="254714" h="21600">
                <a:moveTo>
                  <a:pt x="0" y="0"/>
                </a:moveTo>
                <a:lnTo>
                  <a:pt x="254714" y="0"/>
                </a:lnTo>
                <a:lnTo>
                  <a:pt x="253314" y="1400"/>
                </a:lnTo>
                <a:lnTo>
                  <a:pt x="1400" y="1400"/>
                </a:lnTo>
                <a:close/>
              </a:path>
              <a:path fill="darken" w="254714" h="21600">
                <a:moveTo>
                  <a:pt x="254714" y="0"/>
                </a:moveTo>
                <a:lnTo>
                  <a:pt x="254714" y="21600"/>
                </a:lnTo>
                <a:lnTo>
                  <a:pt x="253314" y="20200"/>
                </a:lnTo>
                <a:lnTo>
                  <a:pt x="253314" y="1400"/>
                </a:lnTo>
                <a:close/>
              </a:path>
              <a:path fill="darkenLess" w="254714" h="21600">
                <a:moveTo>
                  <a:pt x="254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314" y="20200"/>
                </a:lnTo>
                <a:close/>
              </a:path>
              <a:path fill="lighten" w="254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5200" y="3975120"/>
            <a:ext cx="5933880" cy="503280"/>
          </a:xfrm>
          <a:custGeom>
            <a:avLst/>
            <a:gdLst>
              <a:gd name="textAreaLeft" fmla="*/ 32400 w 5933880"/>
              <a:gd name="textAreaRight" fmla="*/ 5901480 w 59338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54506" h="21600">
                <a:moveTo>
                  <a:pt x="0" y="0"/>
                </a:moveTo>
                <a:lnTo>
                  <a:pt x="254506" y="0"/>
                </a:lnTo>
                <a:lnTo>
                  <a:pt x="254506" y="21600"/>
                </a:lnTo>
                <a:lnTo>
                  <a:pt x="0" y="21600"/>
                </a:lnTo>
                <a:close/>
              </a:path>
              <a:path fill="lightenLess" w="254506" h="21600">
                <a:moveTo>
                  <a:pt x="0" y="0"/>
                </a:moveTo>
                <a:lnTo>
                  <a:pt x="254506" y="0"/>
                </a:lnTo>
                <a:lnTo>
                  <a:pt x="253106" y="1400"/>
                </a:lnTo>
                <a:lnTo>
                  <a:pt x="1400" y="1400"/>
                </a:lnTo>
                <a:close/>
              </a:path>
              <a:path fill="darken" w="254506" h="21600">
                <a:moveTo>
                  <a:pt x="254506" y="0"/>
                </a:moveTo>
                <a:lnTo>
                  <a:pt x="254506" y="21600"/>
                </a:lnTo>
                <a:lnTo>
                  <a:pt x="253106" y="20200"/>
                </a:lnTo>
                <a:lnTo>
                  <a:pt x="253106" y="1400"/>
                </a:lnTo>
                <a:close/>
              </a:path>
              <a:path fill="darkenLess" w="254506" h="21600">
                <a:moveTo>
                  <a:pt x="25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106" y="20200"/>
                </a:lnTo>
                <a:close/>
              </a:path>
              <a:path fill="lighten" w="25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GB" sz="1900" spc="-1" strike="noStrike">
                <a:solidFill>
                  <a:srgbClr val="ffffff"/>
                </a:solidFill>
                <a:latin typeface="Arial"/>
              </a:rPr>
              <a:t>xisting PON recommendations</a:t>
            </a:r>
            <a:endParaRPr b="0" lang="en-US" sz="1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E75-9509-49CB-9690-74FE6D5FFD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FCBB1A8-7EB2-4B0A-9ED9-240C25914E13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504800"/>
            <a:ext cx="8534160" cy="487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28200" y="3332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:32 (64)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82880" y="5543640"/>
            <a:ext cx="4343400" cy="492120"/>
            <a:chOff x="2882880" y="5543640"/>
            <a:chExt cx="4343400" cy="492120"/>
          </a:xfrm>
        </p:grpSpPr>
        <p:sp>
          <p:nvSpPr>
            <p:cNvPr id="102" name=""/>
            <p:cNvSpPr/>
            <p:nvPr/>
          </p:nvSpPr>
          <p:spPr>
            <a:xfrm>
              <a:off x="2882880" y="6035760"/>
              <a:ext cx="4343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34880" y="5543640"/>
              <a:ext cx="132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0-20 km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056760" y="1657440"/>
            <a:ext cx="2014200" cy="990360"/>
            <a:chOff x="3056760" y="1657440"/>
            <a:chExt cx="2014200" cy="990360"/>
          </a:xfrm>
        </p:grpSpPr>
        <p:sp>
          <p:nvSpPr>
            <p:cNvPr id="105" name=""/>
            <p:cNvSpPr/>
            <p:nvPr/>
          </p:nvSpPr>
          <p:spPr>
            <a:xfrm>
              <a:off x="3056760" y="1657440"/>
              <a:ext cx="201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Md BT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S: 155/622 Mbit/s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82680" y="2189160"/>
              <a:ext cx="196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: 155/622 Mbit/s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81280" y="1962000"/>
              <a:ext cx="914400" cy="152640"/>
            </a:xfrm>
            <a:prstGeom prst="rightArrow">
              <a:avLst>
                <a:gd name="adj1" fmla="val 50000"/>
                <a:gd name="adj2" fmla="val 149764"/>
              </a:avLst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581280" y="2495520"/>
              <a:ext cx="914400" cy="152280"/>
            </a:xfrm>
            <a:prstGeom prst="rightArrow">
              <a:avLst>
                <a:gd name="adj1" fmla="val 50000"/>
                <a:gd name="adj2" fmla="val 150118"/>
              </a:avLst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PON Characteristic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44400" y="1581120"/>
            <a:ext cx="8118720" cy="4294080"/>
            <a:chOff x="644400" y="1581120"/>
            <a:chExt cx="8118720" cy="4294080"/>
          </a:xfrm>
        </p:grpSpPr>
        <p:grpSp>
          <p:nvGrpSpPr>
            <p:cNvPr id="111" name=""/>
            <p:cNvGrpSpPr/>
            <p:nvPr/>
          </p:nvGrpSpPr>
          <p:grpSpPr>
            <a:xfrm>
              <a:off x="644400" y="2722680"/>
              <a:ext cx="2242080" cy="2789280"/>
              <a:chOff x="644400" y="2722680"/>
              <a:chExt cx="2242080" cy="2789280"/>
            </a:xfrm>
          </p:grpSpPr>
          <p:sp>
            <p:nvSpPr>
              <p:cNvPr id="112" name=""/>
              <p:cNvSpPr/>
              <p:nvPr/>
            </p:nvSpPr>
            <p:spPr>
              <a:xfrm>
                <a:off x="925560" y="2722680"/>
                <a:ext cx="1905120" cy="2789280"/>
              </a:xfrm>
              <a:custGeom>
                <a:avLst/>
                <a:gdLst>
                  <a:gd name="textAreaLeft" fmla="*/ 58320 w 1905120"/>
                  <a:gd name="textAreaRight" fmla="*/ 1846800 w 1905120"/>
                  <a:gd name="textAreaTop" fmla="*/ 58320 h 2789280"/>
                  <a:gd name="textAreaBottom" fmla="*/ 2730960 h 2789280"/>
                </a:gdLst>
                <a:ahLst/>
                <a:rect l="textAreaLeft" t="textAreaTop" r="textAreaRight" b="textAreaBottom"/>
                <a:pathLst>
                  <a:path w="21600" h="31623">
                    <a:moveTo>
                      <a:pt x="2268" y="0"/>
                    </a:moveTo>
                    <a:arcTo wR="2268" hR="2268" stAng="16200000" swAng="-5400000"/>
                    <a:lnTo>
                      <a:pt x="0" y="29355"/>
                    </a:lnTo>
                    <a:arcTo wR="2268" hR="2268" stAng="10800000" swAng="-5400000"/>
                    <a:lnTo>
                      <a:pt x="19332" y="31623"/>
                    </a:lnTo>
                    <a:arcTo wR="2268" hR="2268" stAng="5400000" swAng="-5400000"/>
                    <a:lnTo>
                      <a:pt x="21600" y="2268"/>
                    </a:lnTo>
                    <a:arcTo wR="2268" hR="2268" stAng="0" swAng="-5400000"/>
                    <a:close/>
                  </a:path>
                </a:pathLst>
              </a:cu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98200" y="2752560"/>
                <a:ext cx="198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Access Node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95400" y="363708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N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95400" y="432288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B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44400" y="386568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4400" y="462744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58800" y="3255840"/>
                <a:ext cx="631800" cy="1981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CC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486400" y="1581120"/>
              <a:ext cx="3276720" cy="4294080"/>
              <a:chOff x="5486400" y="1581120"/>
              <a:chExt cx="3276720" cy="4294080"/>
            </a:xfrm>
          </p:grpSpPr>
          <p:pic>
            <p:nvPicPr>
              <p:cNvPr id="12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086600" y="3409920"/>
                <a:ext cx="990720" cy="1270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5486400" y="1962000"/>
                <a:ext cx="837720" cy="1126440"/>
                <a:chOff x="5486400" y="1962000"/>
                <a:chExt cx="837720" cy="11264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486400" y="1962000"/>
                  <a:ext cx="837720" cy="1126440"/>
                </a:xfrm>
                <a:prstGeom prst="cube">
                  <a:avLst>
                    <a:gd name="adj" fmla="val 13333"/>
                  </a:avLst>
                </a:prstGeom>
                <a:solidFill>
                  <a:srgbClr val="00ae00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536440" y="2148480"/>
                  <a:ext cx="274320" cy="891360"/>
                </a:xfrm>
                <a:prstGeom prst="rect">
                  <a:avLst/>
                </a:prstGeom>
                <a:solidFill>
                  <a:srgbClr val="00ae00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875560" y="2148480"/>
                  <a:ext cx="274320" cy="891360"/>
                </a:xfrm>
                <a:prstGeom prst="rect">
                  <a:avLst/>
                </a:prstGeom>
                <a:solidFill>
                  <a:srgbClr val="00ae00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766480" y="2538360"/>
                  <a:ext cx="0" cy="6948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907960" y="2545560"/>
                  <a:ext cx="0" cy="6948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248520" y="2114640"/>
                <a:ext cx="1523520" cy="761400"/>
                <a:chOff x="6248520" y="2114640"/>
                <a:chExt cx="1523520" cy="76140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6248520" y="2114640"/>
                  <a:ext cx="761400" cy="75960"/>
                  <a:chOff x="6248520" y="2114640"/>
                  <a:chExt cx="761400" cy="7596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6248520" y="2114640"/>
                    <a:ext cx="25092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518160" y="2114640"/>
                    <a:ext cx="23508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776280" y="2114640"/>
                    <a:ext cx="23364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6781680" y="2114640"/>
                  <a:ext cx="761760" cy="75960"/>
                  <a:chOff x="6781680" y="2114640"/>
                  <a:chExt cx="761760" cy="759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6781680" y="2114640"/>
                    <a:ext cx="25092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051680" y="2114640"/>
                    <a:ext cx="23508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309800" y="2114640"/>
                    <a:ext cx="23364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248520" y="2800080"/>
                  <a:ext cx="761400" cy="75960"/>
                  <a:chOff x="6248520" y="2800080"/>
                  <a:chExt cx="761400" cy="7596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6248520" y="2800080"/>
                    <a:ext cx="25092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518160" y="2800080"/>
                    <a:ext cx="23508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776280" y="2800080"/>
                    <a:ext cx="23364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7010280" y="2800080"/>
                  <a:ext cx="761760" cy="75960"/>
                  <a:chOff x="7010280" y="2800080"/>
                  <a:chExt cx="761760" cy="7596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7010280" y="2800080"/>
                    <a:ext cx="25092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280280" y="2800080"/>
                    <a:ext cx="23508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7538400" y="2800080"/>
                    <a:ext cx="23364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1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91520" y="1581120"/>
                <a:ext cx="914400" cy="71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96080" y="2316240"/>
                <a:ext cx="914400" cy="71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848720" y="5010120"/>
                <a:ext cx="914400" cy="865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7" name=""/>
          <p:cNvGrpSpPr/>
          <p:nvPr/>
        </p:nvGrpSpPr>
        <p:grpSpPr>
          <a:xfrm>
            <a:off x="2262240" y="2571840"/>
            <a:ext cx="5610240" cy="3276360"/>
            <a:chOff x="2262240" y="2571840"/>
            <a:chExt cx="5610240" cy="3276360"/>
          </a:xfrm>
        </p:grpSpPr>
        <p:sp>
          <p:nvSpPr>
            <p:cNvPr id="148" name=""/>
            <p:cNvSpPr/>
            <p:nvPr/>
          </p:nvSpPr>
          <p:spPr>
            <a:xfrm>
              <a:off x="2262240" y="3255840"/>
              <a:ext cx="492120" cy="4572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62240" y="4780080"/>
              <a:ext cx="492120" cy="4572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2325240" y="400860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aA Md BT"/>
                </a:rPr>
                <a:t>...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2720" y="257184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4146480"/>
              <a:ext cx="633600" cy="381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38880" y="5467320"/>
              <a:ext cx="63360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824200" y="2797200"/>
              <a:ext cx="3763800" cy="1603080"/>
              <a:chOff x="2824200" y="2797200"/>
              <a:chExt cx="3763800" cy="1603080"/>
            </a:xfrm>
          </p:grpSpPr>
          <p:sp>
            <p:nvSpPr>
              <p:cNvPr id="155" name=""/>
              <p:cNvSpPr/>
              <p:nvPr/>
            </p:nvSpPr>
            <p:spPr>
              <a:xfrm>
                <a:off x="5216400" y="2797200"/>
                <a:ext cx="37008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181480" y="4400280"/>
                <a:ext cx="140652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4572000" y="2800080"/>
                <a:ext cx="628560" cy="68112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24200" y="3484440"/>
                <a:ext cx="180180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10080" y="3219480"/>
                <a:ext cx="241200" cy="266400"/>
              </a:xfrm>
              <a:prstGeom prst="ellipse">
                <a:avLst/>
              </a:prstGeom>
              <a:noFill/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83160" y="3484440"/>
                <a:ext cx="598320" cy="91584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4583160" y="3181320"/>
                <a:ext cx="674640" cy="30312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72000" y="3485880"/>
                <a:ext cx="609480" cy="38124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720960" y="3219480"/>
                <a:ext cx="241560" cy="266400"/>
              </a:xfrm>
              <a:prstGeom prst="ellipse">
                <a:avLst/>
              </a:prstGeom>
              <a:noFill/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95680" y="3409920"/>
                <a:ext cx="152640" cy="152280"/>
              </a:xfrm>
              <a:prstGeom prst="ellipse">
                <a:avLst/>
              </a:prstGeom>
              <a:solidFill>
                <a:srgbClr val="ff9933"/>
              </a:solidFill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824200" y="4779720"/>
              <a:ext cx="4430520" cy="914760"/>
              <a:chOff x="2824200" y="4779720"/>
              <a:chExt cx="4430520" cy="914760"/>
            </a:xfrm>
          </p:grpSpPr>
          <p:sp>
            <p:nvSpPr>
              <p:cNvPr id="166" name=""/>
              <p:cNvSpPr/>
              <p:nvPr/>
            </p:nvSpPr>
            <p:spPr>
              <a:xfrm>
                <a:off x="4653000" y="5085000"/>
                <a:ext cx="844560" cy="609480"/>
              </a:xfrm>
              <a:prstGeom prst="line">
                <a:avLst/>
              </a:prstGeom>
              <a:ln w="1908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24200" y="5085000"/>
                <a:ext cx="182412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83160" y="5085000"/>
                <a:ext cx="750960" cy="15408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4653000" y="4779720"/>
                <a:ext cx="280800" cy="30492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97560" y="5694480"/>
                <a:ext cx="175716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10080" y="4820040"/>
                <a:ext cx="241200" cy="266400"/>
              </a:xfrm>
              <a:prstGeom prst="ellipse">
                <a:avLst/>
              </a:prstGeom>
              <a:noFill/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20960" y="4820040"/>
                <a:ext cx="241560" cy="266400"/>
              </a:xfrm>
              <a:prstGeom prst="ellipse">
                <a:avLst/>
              </a:prstGeom>
              <a:noFill/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2000" y="5010480"/>
                <a:ext cx="152280" cy="152280"/>
              </a:xfrm>
              <a:prstGeom prst="ellipse">
                <a:avLst/>
              </a:prstGeom>
              <a:solidFill>
                <a:srgbClr val="ff9933"/>
              </a:solidFill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648320" y="4933800"/>
                <a:ext cx="533160" cy="15228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rot="16200000">
              <a:off x="3438000" y="401940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aA Md BT"/>
                </a:rPr>
                <a:t>...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9160" y="973800"/>
            <a:ext cx="55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PON = Broadband Passive Optical Network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29920" y="1904040"/>
            <a:ext cx="3889800" cy="1448640"/>
            <a:chOff x="529920" y="1904040"/>
            <a:chExt cx="3889800" cy="1448640"/>
          </a:xfrm>
        </p:grpSpPr>
        <p:sp>
          <p:nvSpPr>
            <p:cNvPr id="178" name=""/>
            <p:cNvSpPr/>
            <p:nvPr/>
          </p:nvSpPr>
          <p:spPr>
            <a:xfrm>
              <a:off x="529920" y="1904040"/>
              <a:ext cx="267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ssive optical splitter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13160" y="2362320"/>
              <a:ext cx="1906560" cy="99036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293120" y="5942160"/>
            <a:ext cx="6854400" cy="82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PON is a full service access network :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 for voice, data and video connection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639040" y="4799520"/>
            <a:ext cx="1482120" cy="763200"/>
            <a:chOff x="5639040" y="4799520"/>
            <a:chExt cx="1482120" cy="763200"/>
          </a:xfrm>
        </p:grpSpPr>
        <p:sp>
          <p:nvSpPr>
            <p:cNvPr id="182" name=""/>
            <p:cNvSpPr/>
            <p:nvPr/>
          </p:nvSpPr>
          <p:spPr>
            <a:xfrm>
              <a:off x="5639040" y="4799520"/>
              <a:ext cx="148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ptical fibre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943240" y="5181480"/>
              <a:ext cx="152280" cy="38124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CDF-E6A8-490D-9AFD-E80D10E30FC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C2AA78F-5B2B-45D2-9CF4-28F2EC88462E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TTx with B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076480"/>
            <a:ext cx="9144000" cy="434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23160" y="2557440"/>
            <a:ext cx="1800" cy="3602160"/>
          </a:xfrm>
          <a:prstGeom prst="line">
            <a:avLst/>
          </a:prstGeom>
          <a:ln w="28440">
            <a:solidFill>
              <a:srgbClr val="ffcc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16800" y="2557440"/>
            <a:ext cx="1440" cy="3602160"/>
          </a:xfrm>
          <a:prstGeom prst="line">
            <a:avLst/>
          </a:prstGeom>
          <a:ln w="28440">
            <a:solidFill>
              <a:srgbClr val="ffcc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54720" y="2557440"/>
            <a:ext cx="1440" cy="3602160"/>
          </a:xfrm>
          <a:prstGeom prst="line">
            <a:avLst/>
          </a:prstGeom>
          <a:ln w="28440">
            <a:solidFill>
              <a:srgbClr val="ffcc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32240" y="2557440"/>
            <a:ext cx="1800" cy="3602160"/>
          </a:xfrm>
          <a:prstGeom prst="line">
            <a:avLst/>
          </a:prstGeom>
          <a:ln w="28440">
            <a:solidFill>
              <a:srgbClr val="ffcc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80080" y="4191120"/>
            <a:ext cx="105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819160" y="3295800"/>
            <a:ext cx="533160" cy="0"/>
          </a:xfrm>
          <a:prstGeom prst="line">
            <a:avLst/>
          </a:prstGeom>
          <a:ln w="12600">
            <a:solidFill>
              <a:srgbClr val="f68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219480"/>
            <a:ext cx="147600" cy="15696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2610000"/>
            <a:ext cx="595080" cy="36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3143160"/>
            <a:ext cx="817560" cy="20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523880" y="3524040"/>
            <a:ext cx="83844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523880" y="3828960"/>
            <a:ext cx="9144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057560"/>
            <a:ext cx="1514520" cy="51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448080"/>
            <a:ext cx="1514520" cy="51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838600"/>
            <a:ext cx="1514520" cy="51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6240" y="2247840"/>
            <a:ext cx="1514160" cy="51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720" y="2365200"/>
            <a:ext cx="209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TM NETWORK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56160" y="2990880"/>
            <a:ext cx="171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L Network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320" y="3600360"/>
            <a:ext cx="1368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54720" y="4133880"/>
            <a:ext cx="1706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TS/ISDN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22240" y="414972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5</a:t>
            </a:r>
            <a:endParaRPr b="0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38360" y="2536920"/>
            <a:ext cx="98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B5</a:t>
            </a:r>
            <a:endParaRPr b="0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31080" y="3124080"/>
            <a:ext cx="1091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.703</a:t>
            </a:r>
            <a:endParaRPr b="0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166920"/>
            <a:ext cx="115920" cy="128880"/>
          </a:xfrm>
          <a:prstGeom prst="ellipse">
            <a:avLst/>
          </a:prstGeom>
          <a:noFill/>
          <a:ln w="12600">
            <a:solidFill>
              <a:srgbClr val="f68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828800" y="1319040"/>
          <a:ext cx="127152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19040"/>
                    <a:ext cx="12715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"/>
          <p:cNvGrpSpPr/>
          <p:nvPr/>
        </p:nvGrpSpPr>
        <p:grpSpPr>
          <a:xfrm>
            <a:off x="3352680" y="1371600"/>
            <a:ext cx="5732640" cy="1923840"/>
            <a:chOff x="3352680" y="1371600"/>
            <a:chExt cx="5732640" cy="1923840"/>
          </a:xfrm>
        </p:grpSpPr>
        <p:grpSp>
          <p:nvGrpSpPr>
            <p:cNvPr id="212" name=""/>
            <p:cNvGrpSpPr/>
            <p:nvPr/>
          </p:nvGrpSpPr>
          <p:grpSpPr>
            <a:xfrm>
              <a:off x="3352680" y="1892160"/>
              <a:ext cx="5732640" cy="1403280"/>
              <a:chOff x="3352680" y="1892160"/>
              <a:chExt cx="5732640" cy="140328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3352680" y="2381400"/>
                <a:ext cx="5732640" cy="914040"/>
                <a:chOff x="3352680" y="2381400"/>
                <a:chExt cx="5732640" cy="914040"/>
              </a:xfrm>
            </p:grpSpPr>
            <p:sp>
              <p:nvSpPr>
                <p:cNvPr id="214" name=""/>
                <p:cNvSpPr/>
                <p:nvPr/>
              </p:nvSpPr>
              <p:spPr>
                <a:xfrm flipV="1">
                  <a:off x="3352680" y="2617560"/>
                  <a:ext cx="844560" cy="677880"/>
                </a:xfrm>
                <a:prstGeom prst="line">
                  <a:avLst/>
                </a:prstGeom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450960" y="2381400"/>
                  <a:ext cx="108504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</a:rPr>
                    <a:t>ONU</a:t>
                  </a:r>
                  <a:endParaRPr b="0" lang="en-US" sz="12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770280" y="2768760"/>
                  <a:ext cx="115920" cy="128520"/>
                </a:xfrm>
                <a:prstGeom prst="ellipse">
                  <a:avLst/>
                </a:prstGeom>
                <a:noFill/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17" name=""/>
                <p:cNvGraphicFramePr/>
                <p:nvPr/>
              </p:nvGraphicFramePr>
              <p:xfrm>
                <a:off x="4235400" y="2416320"/>
                <a:ext cx="254160" cy="6778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18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4235400" y="2416320"/>
                          <a:ext cx="254160" cy="677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19" name=""/>
                <p:cNvSpPr/>
                <p:nvPr/>
              </p:nvSpPr>
              <p:spPr>
                <a:xfrm>
                  <a:off x="4500720" y="2635200"/>
                  <a:ext cx="3314520" cy="180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8181720" y="2655720"/>
                  <a:ext cx="601560" cy="180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>
                  <a:off x="8191080" y="3056040"/>
                  <a:ext cx="276120" cy="144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78680" y="2425680"/>
                  <a:ext cx="309600" cy="533520"/>
                </a:xfrm>
                <a:prstGeom prst="rect">
                  <a:avLst/>
                </a:prstGeom>
                <a:solidFill>
                  <a:srgbClr val="00cc99"/>
                </a:solidFill>
                <a:ln w="255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8680" rIns="58680" tIns="28440" bIns="28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374760"/>
                      <a:tab algn="l" pos="749160"/>
                      <a:tab algn="l" pos="1123920"/>
                      <a:tab algn="l" pos="1498680"/>
                      <a:tab algn="l" pos="1873080"/>
                      <a:tab algn="l" pos="2247840"/>
                      <a:tab algn="l" pos="2622600"/>
                      <a:tab algn="l" pos="2997360"/>
                      <a:tab algn="l" pos="3371760"/>
                      <a:tab algn="l" pos="3746520"/>
                      <a:tab algn="l" pos="4121280"/>
                      <a:tab algn="l" pos="4495680"/>
                      <a:tab algn="l" pos="4870440"/>
                      <a:tab algn="l" pos="5245200"/>
                      <a:tab algn="l" pos="5619600"/>
                      <a:tab algn="l" pos="5994360"/>
                      <a:tab algn="l" pos="6369120"/>
                      <a:tab algn="l" pos="6743880"/>
                      <a:tab algn="l" pos="7118280"/>
                      <a:tab algn="l" pos="749304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ANT</a:t>
                  </a:r>
                  <a:endParaRPr b="0" lang="en-US" sz="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8126280" y="2963880"/>
                  <a:ext cx="0" cy="6192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24" name=""/>
                <p:cNvGraphicFramePr/>
                <p:nvPr/>
              </p:nvGraphicFramePr>
              <p:xfrm>
                <a:off x="8445600" y="2960640"/>
                <a:ext cx="225360" cy="2253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25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8445600" y="2960640"/>
                          <a:ext cx="225360" cy="225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26" name=""/>
                <p:cNvGraphicFramePr/>
                <p:nvPr/>
              </p:nvGraphicFramePr>
              <p:xfrm>
                <a:off x="8736120" y="2516040"/>
                <a:ext cx="349200" cy="3430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2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8736120" y="2516040"/>
                          <a:ext cx="349200" cy="343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28" name=""/>
                <p:cNvSpPr/>
                <p:nvPr/>
              </p:nvSpPr>
              <p:spPr>
                <a:xfrm>
                  <a:off x="8031240" y="3029040"/>
                  <a:ext cx="174600" cy="12852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683480" y="2995560"/>
                  <a:ext cx="91440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PS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579360" y="2639880"/>
                  <a:ext cx="15102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ADSL ( &lt; 6 KM )</a:t>
                  </a:r>
                  <a:endParaRPr b="0" lang="en-US" sz="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71600" y="2790720"/>
                  <a:ext cx="1296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&lt; 8 Mbit/s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3889800" y="1892160"/>
                <a:ext cx="75672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FuturaA Bk BT"/>
                  </a:rPr>
                  <a:t>FTTEx</a:t>
                </a:r>
                <a:endParaRPr b="0" lang="en-US" sz="16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233" name="" descr=""/>
            <p:cNvPicPr/>
            <p:nvPr/>
          </p:nvPicPr>
          <p:blipFill>
            <a:blip r:embed="rId9"/>
            <a:stretch/>
          </p:blipFill>
          <p:spPr>
            <a:xfrm>
              <a:off x="3886200" y="1371600"/>
              <a:ext cx="831960" cy="50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3352680" y="1371600"/>
            <a:ext cx="5734080" cy="2865240"/>
            <a:chOff x="3352680" y="1371600"/>
            <a:chExt cx="5734080" cy="2865240"/>
          </a:xfrm>
        </p:grpSpPr>
        <p:grpSp>
          <p:nvGrpSpPr>
            <p:cNvPr id="235" name=""/>
            <p:cNvGrpSpPr/>
            <p:nvPr/>
          </p:nvGrpSpPr>
          <p:grpSpPr>
            <a:xfrm>
              <a:off x="3352680" y="1892160"/>
              <a:ext cx="5734080" cy="2344680"/>
              <a:chOff x="3352680" y="1892160"/>
              <a:chExt cx="5734080" cy="234468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3352680" y="3294000"/>
                <a:ext cx="5734080" cy="942840"/>
                <a:chOff x="3352680" y="3294000"/>
                <a:chExt cx="5734080" cy="942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692240" y="3294000"/>
                  <a:ext cx="108504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</a:rPr>
                    <a:t>ONU</a:t>
                  </a:r>
                  <a:endParaRPr b="0" lang="en-US" sz="12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352680" y="3295800"/>
                  <a:ext cx="1873440" cy="439560"/>
                </a:xfrm>
                <a:prstGeom prst="line">
                  <a:avLst/>
                </a:prstGeom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836960" y="3548160"/>
                  <a:ext cx="115920" cy="128520"/>
                </a:xfrm>
                <a:prstGeom prst="ellipse">
                  <a:avLst/>
                </a:prstGeom>
                <a:noFill/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540400" y="3767040"/>
                  <a:ext cx="2771640" cy="180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41" name=""/>
                <p:cNvGraphicFramePr/>
                <p:nvPr/>
              </p:nvGraphicFramePr>
              <p:xfrm>
                <a:off x="5327640" y="3521160"/>
                <a:ext cx="254160" cy="511200"/>
              </p:xfrm>
              <a:graphic>
                <a:graphicData uri="http://schemas.openxmlformats.org/presentationml/2006/ole">
                  <p:oleObj r:id="rId10" spid="">
                    <p:embed/>
                    <p:pic>
                      <p:nvPicPr>
                        <p:cNvPr id="242" name="" descr=""/>
                        <p:cNvPicPr/>
                        <p:nvPr/>
                      </p:nvPicPr>
                      <p:blipFill>
                        <a:blip r:embed="rId11"/>
                        <a:stretch/>
                      </p:blipFill>
                      <p:spPr>
                        <a:xfrm>
                          <a:off x="5327640" y="3521160"/>
                          <a:ext cx="254160" cy="511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43" name=""/>
                <p:cNvSpPr/>
                <p:nvPr/>
              </p:nvSpPr>
              <p:spPr>
                <a:xfrm flipH="1">
                  <a:off x="8178480" y="3927600"/>
                  <a:ext cx="601560" cy="144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8178480" y="3438360"/>
                  <a:ext cx="276120" cy="180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>
                  <a:off x="8178480" y="4054320"/>
                  <a:ext cx="276120" cy="180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978680" y="3425760"/>
                  <a:ext cx="314280" cy="531720"/>
                </a:xfrm>
                <a:prstGeom prst="rect">
                  <a:avLst/>
                </a:prstGeom>
                <a:solidFill>
                  <a:srgbClr val="00cc99"/>
                </a:solidFill>
                <a:ln w="255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8680" rIns="58680" tIns="28440" bIns="28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374760"/>
                      <a:tab algn="l" pos="749160"/>
                      <a:tab algn="l" pos="1123920"/>
                      <a:tab algn="l" pos="1498680"/>
                      <a:tab algn="l" pos="1873080"/>
                      <a:tab algn="l" pos="2247840"/>
                      <a:tab algn="l" pos="2622600"/>
                      <a:tab algn="l" pos="2997360"/>
                      <a:tab algn="l" pos="3371760"/>
                      <a:tab algn="l" pos="3746520"/>
                      <a:tab algn="l" pos="4121280"/>
                      <a:tab algn="l" pos="4495680"/>
                      <a:tab algn="l" pos="4870440"/>
                      <a:tab algn="l" pos="5245200"/>
                      <a:tab algn="l" pos="5619600"/>
                      <a:tab algn="l" pos="5994360"/>
                      <a:tab algn="l" pos="6369120"/>
                      <a:tab algn="l" pos="6743880"/>
                      <a:tab algn="l" pos="7118280"/>
                      <a:tab algn="l" pos="749304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XNT</a:t>
                  </a:r>
                  <a:endParaRPr b="0" lang="en-US" sz="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8115480" y="3960360"/>
                  <a:ext cx="0" cy="6372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48" name=""/>
                <p:cNvGraphicFramePr/>
                <p:nvPr/>
              </p:nvGraphicFramePr>
              <p:xfrm>
                <a:off x="8410680" y="3540240"/>
                <a:ext cx="323640" cy="349200"/>
              </p:xfrm>
              <a:graphic>
                <a:graphicData uri="http://schemas.openxmlformats.org/presentationml/2006/ole">
                  <p:oleObj r:id="rId12" spid="">
                    <p:embed/>
                    <p:pic>
                      <p:nvPicPr>
                        <p:cNvPr id="249" name="" descr=""/>
                        <p:cNvPicPr/>
                        <p:nvPr/>
                      </p:nvPicPr>
                      <p:blipFill>
                        <a:blip r:embed="rId13"/>
                        <a:stretch/>
                      </p:blipFill>
                      <p:spPr>
                        <a:xfrm>
                          <a:off x="8410680" y="3540240"/>
                          <a:ext cx="323640" cy="349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50" name=""/>
                <p:cNvGraphicFramePr/>
                <p:nvPr/>
              </p:nvGraphicFramePr>
              <p:xfrm>
                <a:off x="8432640" y="3960720"/>
                <a:ext cx="225720" cy="225360"/>
              </p:xfrm>
              <a:graphic>
                <a:graphicData uri="http://schemas.openxmlformats.org/presentationml/2006/ole">
                  <p:oleObj r:id="rId14" spid="">
                    <p:embed/>
                    <p:pic>
                      <p:nvPicPr>
                        <p:cNvPr id="251" name="" descr=""/>
                        <p:cNvPicPr/>
                        <p:nvPr/>
                      </p:nvPicPr>
                      <p:blipFill>
                        <a:blip r:embed="rId15"/>
                        <a:stretch/>
                      </p:blipFill>
                      <p:spPr>
                        <a:xfrm>
                          <a:off x="8432640" y="3960720"/>
                          <a:ext cx="225720" cy="225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52" name=""/>
                <p:cNvGraphicFramePr/>
                <p:nvPr/>
              </p:nvGraphicFramePr>
              <p:xfrm>
                <a:off x="8724960" y="3795840"/>
                <a:ext cx="349200" cy="342720"/>
              </p:xfrm>
              <a:graphic>
                <a:graphicData uri="http://schemas.openxmlformats.org/presentationml/2006/ole">
                  <p:oleObj r:id="rId16" spid="">
                    <p:embed/>
                    <p:pic>
                      <p:nvPicPr>
                        <p:cNvPr id="253" name="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8724960" y="3795840"/>
                          <a:ext cx="349200" cy="342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54" name=""/>
                <p:cNvSpPr/>
                <p:nvPr/>
              </p:nvSpPr>
              <p:spPr>
                <a:xfrm>
                  <a:off x="8432640" y="3381480"/>
                  <a:ext cx="252720" cy="129960"/>
                </a:xfrm>
                <a:prstGeom prst="rect">
                  <a:avLst/>
                </a:prstGeom>
                <a:solidFill>
                  <a:srgbClr val="c8fe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094600" y="3359160"/>
                  <a:ext cx="99216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STB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18640" y="4029120"/>
                  <a:ext cx="174600" cy="12852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670880" y="3995640"/>
                  <a:ext cx="91440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PS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325920" y="3732120"/>
                  <a:ext cx="18212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ADSL/VDSL ( &lt; 1 KM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731640" y="3917880"/>
                  <a:ext cx="13669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&lt; 26 Mbit/s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977720" y="1892160"/>
                <a:ext cx="90612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FuturaA Bk BT"/>
                  </a:rPr>
                  <a:t>FTTCab</a:t>
                </a:r>
                <a:endParaRPr b="0" lang="en-US" sz="16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257800" y="1371600"/>
              <a:ext cx="450720" cy="517680"/>
              <a:chOff x="5257800" y="1371600"/>
              <a:chExt cx="450720" cy="517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257800" y="1371600"/>
                <a:ext cx="450720" cy="517680"/>
              </a:xfrm>
              <a:prstGeom prst="cube">
                <a:avLst>
                  <a:gd name="adj" fmla="val 13333"/>
                </a:avLst>
              </a:prstGeom>
              <a:solidFill>
                <a:srgbClr val="00ae00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284800" y="1457280"/>
                <a:ext cx="147600" cy="40968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67320" y="1457280"/>
                <a:ext cx="147600" cy="40968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08640" y="1636560"/>
                <a:ext cx="0" cy="3204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84600" y="1639800"/>
                <a:ext cx="0" cy="3204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3352680" y="613080"/>
            <a:ext cx="5761080" cy="4711320"/>
            <a:chOff x="3352680" y="613080"/>
            <a:chExt cx="5761080" cy="4711320"/>
          </a:xfrm>
        </p:grpSpPr>
        <p:grpSp>
          <p:nvGrpSpPr>
            <p:cNvPr id="268" name=""/>
            <p:cNvGrpSpPr/>
            <p:nvPr/>
          </p:nvGrpSpPr>
          <p:grpSpPr>
            <a:xfrm>
              <a:off x="3352680" y="1892160"/>
              <a:ext cx="5761080" cy="3432240"/>
              <a:chOff x="3352680" y="1892160"/>
              <a:chExt cx="5761080" cy="343224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3352680" y="3295800"/>
                <a:ext cx="5761080" cy="2028600"/>
                <a:chOff x="3352680" y="3295800"/>
                <a:chExt cx="5761080" cy="20286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3352680" y="3295800"/>
                  <a:ext cx="2967120" cy="1412640"/>
                </a:xfrm>
                <a:prstGeom prst="line">
                  <a:avLst/>
                </a:prstGeom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839920" y="4321080"/>
                  <a:ext cx="108504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</a:rPr>
                    <a:t>ONU</a:t>
                  </a:r>
                  <a:endParaRPr b="0" lang="en-US" sz="12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218200" y="4081320"/>
                  <a:ext cx="115920" cy="128880"/>
                </a:xfrm>
                <a:prstGeom prst="ellipse">
                  <a:avLst/>
                </a:prstGeom>
                <a:noFill/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743880" y="4711680"/>
                  <a:ext cx="1330200" cy="144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74" name=""/>
                <p:cNvGraphicFramePr/>
                <p:nvPr/>
              </p:nvGraphicFramePr>
              <p:xfrm>
                <a:off x="6461280" y="4578480"/>
                <a:ext cx="253800" cy="379440"/>
              </p:xfrm>
              <a:graphic>
                <a:graphicData uri="http://schemas.openxmlformats.org/presentationml/2006/ole">
                  <p:oleObj r:id="rId18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19"/>
                        <a:stretch/>
                      </p:blipFill>
                      <p:spPr>
                        <a:xfrm>
                          <a:off x="6461280" y="4578480"/>
                          <a:ext cx="253800" cy="37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 flipH="1">
                  <a:off x="8151480" y="5016600"/>
                  <a:ext cx="601560" cy="144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8151480" y="4525920"/>
                  <a:ext cx="276120" cy="180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8151480" y="5143680"/>
                  <a:ext cx="276120" cy="144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978680" y="4513320"/>
                  <a:ext cx="336600" cy="533520"/>
                </a:xfrm>
                <a:prstGeom prst="rect">
                  <a:avLst/>
                </a:prstGeom>
                <a:solidFill>
                  <a:srgbClr val="00cc99"/>
                </a:solidFill>
                <a:ln w="255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8680" rIns="58680" tIns="28440" bIns="28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374760"/>
                      <a:tab algn="l" pos="749160"/>
                      <a:tab algn="l" pos="1123920"/>
                      <a:tab algn="l" pos="1498680"/>
                      <a:tab algn="l" pos="1873080"/>
                      <a:tab algn="l" pos="2247840"/>
                      <a:tab algn="l" pos="2622600"/>
                      <a:tab algn="l" pos="2997360"/>
                      <a:tab algn="l" pos="3371760"/>
                      <a:tab algn="l" pos="3746520"/>
                      <a:tab algn="l" pos="4121280"/>
                      <a:tab algn="l" pos="4495680"/>
                      <a:tab algn="l" pos="4870440"/>
                      <a:tab algn="l" pos="5245200"/>
                      <a:tab algn="l" pos="5619600"/>
                      <a:tab algn="l" pos="5994360"/>
                      <a:tab algn="l" pos="6369120"/>
                      <a:tab algn="l" pos="6743880"/>
                      <a:tab algn="l" pos="7118280"/>
                      <a:tab algn="l" pos="749304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XNT</a:t>
                  </a:r>
                  <a:endParaRPr b="0" lang="en-US" sz="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8086680" y="5049360"/>
                  <a:ext cx="0" cy="6372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81" name=""/>
                <p:cNvGraphicFramePr/>
                <p:nvPr/>
              </p:nvGraphicFramePr>
              <p:xfrm>
                <a:off x="8437680" y="4629240"/>
                <a:ext cx="323640" cy="349200"/>
              </p:xfrm>
              <a:graphic>
                <a:graphicData uri="http://schemas.openxmlformats.org/presentationml/2006/ole">
                  <p:oleObj r:id="rId20" spid="">
                    <p:embed/>
                    <p:pic>
                      <p:nvPicPr>
                        <p:cNvPr id="282" name="" descr=""/>
                        <p:cNvPicPr/>
                        <p:nvPr/>
                      </p:nvPicPr>
                      <p:blipFill>
                        <a:blip r:embed="rId21"/>
                        <a:stretch/>
                      </p:blipFill>
                      <p:spPr>
                        <a:xfrm>
                          <a:off x="8437680" y="4629240"/>
                          <a:ext cx="323640" cy="349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83" name=""/>
                <p:cNvGraphicFramePr/>
                <p:nvPr/>
              </p:nvGraphicFramePr>
              <p:xfrm>
                <a:off x="8461440" y="5048280"/>
                <a:ext cx="225360" cy="225360"/>
              </p:xfrm>
              <a:graphic>
                <a:graphicData uri="http://schemas.openxmlformats.org/presentationml/2006/ole">
                  <p:oleObj r:id="rId22" spid="">
                    <p:embed/>
                    <p:pic>
                      <p:nvPicPr>
                        <p:cNvPr id="284" name="" descr=""/>
                        <p:cNvPicPr/>
                        <p:nvPr/>
                      </p:nvPicPr>
                      <p:blipFill>
                        <a:blip r:embed="rId23"/>
                        <a:stretch/>
                      </p:blipFill>
                      <p:spPr>
                        <a:xfrm>
                          <a:off x="8461440" y="5048280"/>
                          <a:ext cx="225360" cy="225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85" name=""/>
                <p:cNvGraphicFramePr/>
                <p:nvPr/>
              </p:nvGraphicFramePr>
              <p:xfrm>
                <a:off x="8751960" y="4883040"/>
                <a:ext cx="349200" cy="343080"/>
              </p:xfrm>
              <a:graphic>
                <a:graphicData uri="http://schemas.openxmlformats.org/presentationml/2006/ole">
                  <p:oleObj r:id="rId24" spid="">
                    <p:embed/>
                    <p:pic>
                      <p:nvPicPr>
                        <p:cNvPr id="286" name="" descr=""/>
                        <p:cNvPicPr/>
                        <p:nvPr/>
                      </p:nvPicPr>
                      <p:blipFill>
                        <a:blip r:embed="rId25"/>
                        <a:stretch/>
                      </p:blipFill>
                      <p:spPr>
                        <a:xfrm>
                          <a:off x="8751960" y="4883040"/>
                          <a:ext cx="349200" cy="343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87" name=""/>
                <p:cNvSpPr/>
                <p:nvPr/>
              </p:nvSpPr>
              <p:spPr>
                <a:xfrm>
                  <a:off x="8461440" y="4470480"/>
                  <a:ext cx="250920" cy="129960"/>
                </a:xfrm>
                <a:prstGeom prst="rect">
                  <a:avLst/>
                </a:prstGeom>
                <a:solidFill>
                  <a:srgbClr val="c8fe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121600" y="4446720"/>
                  <a:ext cx="99216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STB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991640" y="5116680"/>
                  <a:ext cx="174600" cy="12852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643880" y="5083200"/>
                  <a:ext cx="91440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PS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368400" y="4713120"/>
                  <a:ext cx="179352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VDSL/DHN ( &lt; 300 M )</a:t>
                  </a:r>
                  <a:endParaRPr b="0" lang="en-US" sz="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753960" y="4876920"/>
                  <a:ext cx="13669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&lt; 52 Mbit/s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6244200" y="1892160"/>
                <a:ext cx="65628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FuturaA Bk BT"/>
                  </a:rPr>
                  <a:t>FTTC</a:t>
                </a:r>
                <a:endParaRPr b="0" lang="en-US" sz="16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537160" y="613080"/>
              <a:ext cx="1220760" cy="1247400"/>
              <a:chOff x="5537160" y="613080"/>
              <a:chExt cx="1220760" cy="1247400"/>
            </a:xfrm>
          </p:grpSpPr>
          <p:sp>
            <p:nvSpPr>
              <p:cNvPr id="295" name=""/>
              <p:cNvSpPr/>
              <p:nvPr/>
            </p:nvSpPr>
            <p:spPr>
              <a:xfrm>
                <a:off x="6513480" y="762120"/>
                <a:ext cx="44280" cy="1098360"/>
              </a:xfrm>
              <a:prstGeom prst="rect">
                <a:avLst/>
              </a:prstGeom>
              <a:solidFill>
                <a:srgbClr val="ad6900"/>
              </a:solidFill>
              <a:ln w="12600">
                <a:solidFill>
                  <a:srgbClr val="714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89640" y="850680"/>
                <a:ext cx="136440" cy="9504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6554880" y="848880"/>
                <a:ext cx="137880" cy="946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6697800" y="792000"/>
                <a:ext cx="36360" cy="34200"/>
                <a:chOff x="6697800" y="792000"/>
                <a:chExt cx="36360" cy="342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6702480" y="794880"/>
                  <a:ext cx="31680" cy="3132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5" y="0"/>
                      </a:moveTo>
                      <a:lnTo>
                        <a:pt x="0" y="19"/>
                      </a:lnTo>
                      <a:lnTo>
                        <a:pt x="19" y="19"/>
                      </a:lnTo>
                      <a:lnTo>
                        <a:pt x="13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697800" y="79200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4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2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10" y="11"/>
                      </a:lnTo>
                      <a:lnTo>
                        <a:pt x="5" y="11"/>
                      </a:lnTo>
                      <a:lnTo>
                        <a:pt x="7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622920" y="792000"/>
                <a:ext cx="36720" cy="34200"/>
                <a:chOff x="6622920" y="792000"/>
                <a:chExt cx="36720" cy="342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627960" y="794880"/>
                  <a:ext cx="31680" cy="3132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5" y="0"/>
                      </a:moveTo>
                      <a:lnTo>
                        <a:pt x="0" y="19"/>
                      </a:lnTo>
                      <a:lnTo>
                        <a:pt x="19" y="19"/>
                      </a:lnTo>
                      <a:lnTo>
                        <a:pt x="13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622920" y="79200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4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2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9" y="3"/>
                      </a:lnTo>
                      <a:lnTo>
                        <a:pt x="11" y="11"/>
                      </a:lnTo>
                      <a:lnTo>
                        <a:pt x="5" y="11"/>
                      </a:lnTo>
                      <a:lnTo>
                        <a:pt x="7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405480" y="795240"/>
                <a:ext cx="33480" cy="30960"/>
                <a:chOff x="6405480" y="795240"/>
                <a:chExt cx="33480" cy="309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410160" y="796320"/>
                  <a:ext cx="28800" cy="2988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5" y="0"/>
                      </a:moveTo>
                      <a:lnTo>
                        <a:pt x="0" y="18"/>
                      </a:lnTo>
                      <a:lnTo>
                        <a:pt x="17" y="18"/>
                      </a:lnTo>
                      <a:lnTo>
                        <a:pt x="14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79524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1" y="0"/>
                      </a:lnTo>
                      <a:lnTo>
                        <a:pt x="3" y="0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7" y="4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6335640" y="795240"/>
                <a:ext cx="36720" cy="30960"/>
                <a:chOff x="6335640" y="795240"/>
                <a:chExt cx="36720" cy="309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6343560" y="796320"/>
                  <a:ext cx="28800" cy="2988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5" y="0"/>
                      </a:moveTo>
                      <a:lnTo>
                        <a:pt x="0" y="18"/>
                      </a:lnTo>
                      <a:lnTo>
                        <a:pt x="17" y="18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335640" y="79524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4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2" y="0"/>
                      </a:ln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9" y="4"/>
                      </a:lnTo>
                      <a:lnTo>
                        <a:pt x="11" y="10"/>
                      </a:lnTo>
                      <a:lnTo>
                        <a:pt x="5" y="10"/>
                      </a:lnTo>
                      <a:lnTo>
                        <a:pt x="7" y="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6313320" y="831600"/>
                <a:ext cx="444600" cy="14040"/>
              </a:xfrm>
              <a:prstGeom prst="rect">
                <a:avLst/>
              </a:prstGeom>
              <a:solidFill>
                <a:srgbClr val="ad6900"/>
              </a:solidFill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508800" y="866520"/>
                <a:ext cx="52200" cy="25200"/>
              </a:xfrm>
              <a:prstGeom prst="rect">
                <a:avLst/>
              </a:prstGeom>
              <a:solidFill>
                <a:srgbClr val="71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10240" y="831600"/>
                <a:ext cx="54000" cy="0"/>
              </a:xfrm>
              <a:prstGeom prst="line">
                <a:avLst/>
              </a:prstGeom>
              <a:ln w="12600">
                <a:solidFill>
                  <a:srgbClr val="714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86560" y="915840"/>
                <a:ext cx="0" cy="26640"/>
              </a:xfrm>
              <a:prstGeom prst="line">
                <a:avLst/>
              </a:prstGeom>
              <a:ln w="12600">
                <a:solidFill>
                  <a:srgbClr val="714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37160" y="618120"/>
                <a:ext cx="812520" cy="34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02320" y="618120"/>
                <a:ext cx="812520" cy="34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98960" y="618120"/>
                <a:ext cx="812520" cy="34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21200" y="613080"/>
                <a:ext cx="812520" cy="34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99"/>
                    </a:moveTo>
                    <a:arcTo wR="10800" hR="10800" stAng="-63905" swAng="54639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99"/>
                    </a:moveTo>
                    <a:arcTo wR="10800" hR="10800" stAng="-63905" swAng="5463905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276720" y="1116000"/>
            <a:ext cx="5800680" cy="5256000"/>
            <a:chOff x="3276720" y="1116000"/>
            <a:chExt cx="5800680" cy="5256000"/>
          </a:xfrm>
        </p:grpSpPr>
        <p:grpSp>
          <p:nvGrpSpPr>
            <p:cNvPr id="319" name=""/>
            <p:cNvGrpSpPr/>
            <p:nvPr/>
          </p:nvGrpSpPr>
          <p:grpSpPr>
            <a:xfrm>
              <a:off x="3276720" y="1892160"/>
              <a:ext cx="5800680" cy="4479840"/>
              <a:chOff x="3276720" y="1892160"/>
              <a:chExt cx="5800680" cy="447984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3276720" y="3295440"/>
                <a:ext cx="5800680" cy="3076560"/>
                <a:chOff x="3276720" y="3295440"/>
                <a:chExt cx="5800680" cy="30765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276720" y="3295440"/>
                  <a:ext cx="4203720" cy="2554200"/>
                </a:xfrm>
                <a:prstGeom prst="line">
                  <a:avLst/>
                </a:prstGeom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997320" y="5457600"/>
                  <a:ext cx="108504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</a:rPr>
                    <a:t>ONU</a:t>
                  </a:r>
                  <a:endParaRPr b="0" lang="en-US" sz="12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981760" y="4843440"/>
                  <a:ext cx="114120" cy="128520"/>
                </a:xfrm>
                <a:prstGeom prst="ellipse">
                  <a:avLst/>
                </a:prstGeom>
                <a:noFill/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7738920" y="5900760"/>
                  <a:ext cx="219240" cy="2376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25" name=""/>
                <p:cNvGraphicFramePr/>
                <p:nvPr/>
              </p:nvGraphicFramePr>
              <p:xfrm>
                <a:off x="7658280" y="5738760"/>
                <a:ext cx="253800" cy="317520"/>
              </p:xfrm>
              <a:graphic>
                <a:graphicData uri="http://schemas.openxmlformats.org/presentationml/2006/ole">
                  <p:oleObj r:id="rId26" spid="">
                    <p:embed/>
                    <p:pic>
                      <p:nvPicPr>
                        <p:cNvPr id="326" name="" descr=""/>
                        <p:cNvPicPr/>
                        <p:nvPr/>
                      </p:nvPicPr>
                      <p:blipFill>
                        <a:blip r:embed="rId27"/>
                        <a:stretch/>
                      </p:blipFill>
                      <p:spPr>
                        <a:xfrm>
                          <a:off x="7658280" y="5738760"/>
                          <a:ext cx="253800" cy="317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27" name=""/>
                <p:cNvSpPr/>
                <p:nvPr/>
              </p:nvSpPr>
              <p:spPr>
                <a:xfrm flipH="1">
                  <a:off x="8170560" y="6064200"/>
                  <a:ext cx="601560" cy="144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>
                  <a:off x="8170560" y="5573520"/>
                  <a:ext cx="276120" cy="180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>
                  <a:off x="8170560" y="6191280"/>
                  <a:ext cx="276120" cy="144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978680" y="5560920"/>
                  <a:ext cx="336600" cy="533520"/>
                </a:xfrm>
                <a:prstGeom prst="rect">
                  <a:avLst/>
                </a:prstGeom>
                <a:solidFill>
                  <a:srgbClr val="00cc99"/>
                </a:solidFill>
                <a:ln w="255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8680" rIns="58680" tIns="28440" bIns="28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374760"/>
                      <a:tab algn="l" pos="749160"/>
                      <a:tab algn="l" pos="1123920"/>
                      <a:tab algn="l" pos="1498680"/>
                      <a:tab algn="l" pos="1873080"/>
                      <a:tab algn="l" pos="2247840"/>
                      <a:tab algn="l" pos="2622600"/>
                      <a:tab algn="l" pos="2997360"/>
                      <a:tab algn="l" pos="3371760"/>
                      <a:tab algn="l" pos="3746520"/>
                      <a:tab algn="l" pos="4121280"/>
                      <a:tab algn="l" pos="4495680"/>
                      <a:tab algn="l" pos="4870440"/>
                      <a:tab algn="l" pos="5245200"/>
                      <a:tab algn="l" pos="5619600"/>
                      <a:tab algn="l" pos="5994360"/>
                      <a:tab algn="l" pos="6369120"/>
                      <a:tab algn="l" pos="6743880"/>
                      <a:tab algn="l" pos="7118280"/>
                      <a:tab algn="l" pos="749304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ONT</a:t>
                  </a:r>
                  <a:endParaRPr b="0" lang="en-US" sz="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8105760" y="6096960"/>
                  <a:ext cx="0" cy="6372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32" name=""/>
                <p:cNvGraphicFramePr/>
                <p:nvPr/>
              </p:nvGraphicFramePr>
              <p:xfrm>
                <a:off x="8400960" y="5676840"/>
                <a:ext cx="324000" cy="349200"/>
              </p:xfrm>
              <a:graphic>
                <a:graphicData uri="http://schemas.openxmlformats.org/presentationml/2006/ole">
                  <p:oleObj r:id="rId28" spid="">
                    <p:embed/>
                    <p:pic>
                      <p:nvPicPr>
                        <p:cNvPr id="333" name="" descr=""/>
                        <p:cNvPicPr/>
                        <p:nvPr/>
                      </p:nvPicPr>
                      <p:blipFill>
                        <a:blip r:embed="rId29"/>
                        <a:stretch/>
                      </p:blipFill>
                      <p:spPr>
                        <a:xfrm>
                          <a:off x="8400960" y="5676840"/>
                          <a:ext cx="324000" cy="349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334" name=""/>
                <p:cNvGraphicFramePr/>
                <p:nvPr/>
              </p:nvGraphicFramePr>
              <p:xfrm>
                <a:off x="8423280" y="6095880"/>
                <a:ext cx="225360" cy="225360"/>
              </p:xfrm>
              <a:graphic>
                <a:graphicData uri="http://schemas.openxmlformats.org/presentationml/2006/ole">
                  <p:oleObj r:id="rId30" spid="">
                    <p:embed/>
                    <p:pic>
                      <p:nvPicPr>
                        <p:cNvPr id="335" name="" descr=""/>
                        <p:cNvPicPr/>
                        <p:nvPr/>
                      </p:nvPicPr>
                      <p:blipFill>
                        <a:blip r:embed="rId31"/>
                        <a:stretch/>
                      </p:blipFill>
                      <p:spPr>
                        <a:xfrm>
                          <a:off x="8423280" y="6095880"/>
                          <a:ext cx="225360" cy="225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336" name=""/>
                <p:cNvGraphicFramePr/>
                <p:nvPr/>
              </p:nvGraphicFramePr>
              <p:xfrm>
                <a:off x="8715240" y="5932440"/>
                <a:ext cx="349560" cy="341280"/>
              </p:xfrm>
              <a:graphic>
                <a:graphicData uri="http://schemas.openxmlformats.org/presentationml/2006/ole">
                  <p:oleObj r:id="rId32" spid="">
                    <p:embed/>
                    <p:pic>
                      <p:nvPicPr>
                        <p:cNvPr id="337" name="" descr=""/>
                        <p:cNvPicPr/>
                        <p:nvPr/>
                      </p:nvPicPr>
                      <p:blipFill>
                        <a:blip r:embed="rId33"/>
                        <a:stretch/>
                      </p:blipFill>
                      <p:spPr>
                        <a:xfrm>
                          <a:off x="8715240" y="5932440"/>
                          <a:ext cx="349560" cy="341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8" name=""/>
                <p:cNvSpPr/>
                <p:nvPr/>
              </p:nvSpPr>
              <p:spPr>
                <a:xfrm>
                  <a:off x="8423280" y="5518080"/>
                  <a:ext cx="252360" cy="129960"/>
                </a:xfrm>
                <a:prstGeom prst="rect">
                  <a:avLst/>
                </a:prstGeom>
                <a:solidFill>
                  <a:srgbClr val="c8fe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8085240" y="5494320"/>
                  <a:ext cx="99216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STB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010360" y="6165720"/>
                  <a:ext cx="174960" cy="12708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662960" y="6130800"/>
                  <a:ext cx="91440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PS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242760" y="5813280"/>
                  <a:ext cx="1773720" cy="4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&lt; 622 Mbit/s down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&lt; 622 Mbit/s up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7398720" y="1892160"/>
                <a:ext cx="901440" cy="33732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FuturaA Bk BT"/>
                  </a:rPr>
                  <a:t>FTTH/B</a:t>
                </a:r>
                <a:endParaRPr b="0" lang="en-US" sz="16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344" name="" descr=""/>
            <p:cNvPicPr/>
            <p:nvPr/>
          </p:nvPicPr>
          <p:blipFill>
            <a:blip r:embed="rId34"/>
            <a:stretch/>
          </p:blipFill>
          <p:spPr>
            <a:xfrm>
              <a:off x="7391520" y="1116000"/>
              <a:ext cx="95724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"/>
          <p:cNvSpPr/>
          <p:nvPr/>
        </p:nvSpPr>
        <p:spPr>
          <a:xfrm rot="5400000">
            <a:off x="1942560" y="3162240"/>
            <a:ext cx="1295280" cy="609480"/>
          </a:xfrm>
          <a:prstGeom prst="parallelogram">
            <a:avLst>
              <a:gd name="adj" fmla="val 53131"/>
            </a:avLst>
          </a:prstGeom>
          <a:solidFill>
            <a:srgbClr val="66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uturaA Md BT"/>
              </a:rPr>
              <a:t>FIT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92C-B3AA-4404-B2CE-8533A25E170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62F950E-46D9-41AF-9EB5-EBB17AA94189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andardis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117080"/>
            <a:ext cx="815364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U-T SG15 generates Recommendations to standardise access technologies (amongst which PON syste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are backed by vendors and operators in industry forum FSAN (Full Service Access Networ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nefits of wide backing of Recommend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ts val="2798"/>
              </a:lnSpc>
              <a:spcBef>
                <a:spcPts val="499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operability between vendors by common system description and perform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ts val="2798"/>
              </a:lnSpc>
              <a:spcBef>
                <a:spcPts val="499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sing volumes with common specifications, leading to cost-effectiv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ts val="2798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D8B-1883-49A0-B370-CB688089DE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129D487-0CF3-4C48-B767-B957ADFEF39D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commendation: G.98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44400" y="2182680"/>
            <a:ext cx="8118720" cy="4294080"/>
            <a:chOff x="644400" y="2182680"/>
            <a:chExt cx="8118720" cy="4294080"/>
          </a:xfrm>
        </p:grpSpPr>
        <p:grpSp>
          <p:nvGrpSpPr>
            <p:cNvPr id="351" name=""/>
            <p:cNvGrpSpPr/>
            <p:nvPr/>
          </p:nvGrpSpPr>
          <p:grpSpPr>
            <a:xfrm>
              <a:off x="644400" y="2182680"/>
              <a:ext cx="8118720" cy="4294080"/>
              <a:chOff x="644400" y="2182680"/>
              <a:chExt cx="8118720" cy="429408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44400" y="3324240"/>
                <a:ext cx="2242080" cy="2789280"/>
                <a:chOff x="644400" y="3324240"/>
                <a:chExt cx="2242080" cy="27892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925560" y="3324240"/>
                  <a:ext cx="1905120" cy="2789280"/>
                </a:xfrm>
                <a:custGeom>
                  <a:avLst/>
                  <a:gdLst>
                    <a:gd name="textAreaLeft" fmla="*/ 58320 w 1905120"/>
                    <a:gd name="textAreaRight" fmla="*/ 1846800 w 1905120"/>
                    <a:gd name="textAreaTop" fmla="*/ 58320 h 2789280"/>
                    <a:gd name="textAreaBottom" fmla="*/ 2730960 h 2789280"/>
                  </a:gdLst>
                  <a:ahLst/>
                  <a:rect l="textAreaLeft" t="textAreaTop" r="textAreaRight" b="textAreaBottom"/>
                  <a:pathLst>
                    <a:path w="21600" h="31623">
                      <a:moveTo>
                        <a:pt x="2268" y="0"/>
                      </a:moveTo>
                      <a:arcTo wR="2268" hR="2268" stAng="16200000" swAng="-5400000"/>
                      <a:lnTo>
                        <a:pt x="0" y="29355"/>
                      </a:lnTo>
                      <a:arcTo wR="2268" hR="2268" stAng="10800000" swAng="-5400000"/>
                      <a:lnTo>
                        <a:pt x="19332" y="31623"/>
                      </a:lnTo>
                      <a:arcTo wR="2268" hR="2268" stAng="5400000" swAng="-5400000"/>
                      <a:lnTo>
                        <a:pt x="21600" y="2268"/>
                      </a:lnTo>
                      <a:arcTo wR="2268" hR="2268" stAng="0" swAng="-5400000"/>
                      <a:close/>
                    </a:path>
                  </a:pathLst>
                </a:cu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98200" y="3354120"/>
                  <a:ext cx="1988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FuturaA Md BT"/>
                    </a:rPr>
                    <a:t>Access Node</a:t>
                  </a:r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995400" y="4238640"/>
                  <a:ext cx="492120" cy="533160"/>
                </a:xfrm>
                <a:prstGeom prst="rect">
                  <a:avLst/>
                </a:prstGeom>
                <a:noFill/>
                <a:ln w="255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FuturaA Md BT"/>
                    </a:rPr>
                    <a:t>NB</a:t>
                  </a:r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995400" y="4924440"/>
                  <a:ext cx="492120" cy="533160"/>
                </a:xfrm>
                <a:prstGeom prst="rect">
                  <a:avLst/>
                </a:prstGeom>
                <a:noFill/>
                <a:ln w="255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FuturaA Md BT"/>
                    </a:rPr>
                    <a:t>BB</a:t>
                  </a:r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44400" y="4467240"/>
                  <a:ext cx="351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44400" y="5229000"/>
                  <a:ext cx="351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558800" y="3857400"/>
                  <a:ext cx="631800" cy="1981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FuturaA Md BT"/>
                    </a:rPr>
                    <a:t>CC</a:t>
                  </a:r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486400" y="2182680"/>
                <a:ext cx="3276720" cy="4294080"/>
                <a:chOff x="5486400" y="2182680"/>
                <a:chExt cx="3276720" cy="4294080"/>
              </a:xfrm>
            </p:grpSpPr>
            <p:pic>
              <p:nvPicPr>
                <p:cNvPr id="36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086600" y="4011480"/>
                  <a:ext cx="990720" cy="1270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62" name=""/>
                <p:cNvGrpSpPr/>
                <p:nvPr/>
              </p:nvGrpSpPr>
              <p:grpSpPr>
                <a:xfrm>
                  <a:off x="5486400" y="2563560"/>
                  <a:ext cx="837720" cy="1126440"/>
                  <a:chOff x="5486400" y="2563560"/>
                  <a:chExt cx="837720" cy="112644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5486400" y="2563560"/>
                    <a:ext cx="837720" cy="1126440"/>
                  </a:xfrm>
                  <a:prstGeom prst="cube">
                    <a:avLst>
                      <a:gd name="adj" fmla="val 13333"/>
                    </a:avLst>
                  </a:prstGeom>
                  <a:solidFill>
                    <a:srgbClr val="00ae00"/>
                  </a:solidFill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5536440" y="2750040"/>
                    <a:ext cx="274320" cy="891360"/>
                  </a:xfrm>
                  <a:prstGeom prst="rect">
                    <a:avLst/>
                  </a:prstGeom>
                  <a:solidFill>
                    <a:srgbClr val="00ae00"/>
                  </a:solidFill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5875560" y="2750040"/>
                    <a:ext cx="274320" cy="891360"/>
                  </a:xfrm>
                  <a:prstGeom prst="rect">
                    <a:avLst/>
                  </a:prstGeom>
                  <a:solidFill>
                    <a:srgbClr val="00ae00"/>
                  </a:solidFill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766480" y="3139920"/>
                    <a:ext cx="0" cy="69480"/>
                  </a:xfrm>
                  <a:prstGeom prst="line">
                    <a:avLst/>
                  </a:prstGeom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907960" y="3147120"/>
                    <a:ext cx="0" cy="69480"/>
                  </a:xfrm>
                  <a:prstGeom prst="line">
                    <a:avLst/>
                  </a:prstGeom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248520" y="2716200"/>
                  <a:ext cx="1523520" cy="761400"/>
                  <a:chOff x="6248520" y="2716200"/>
                  <a:chExt cx="1523520" cy="761400"/>
                </a:xfrm>
              </p:grpSpPr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6248520" y="2716200"/>
                    <a:ext cx="761400" cy="75960"/>
                    <a:chOff x="6248520" y="2716200"/>
                    <a:chExt cx="761400" cy="7596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6248520" y="2716200"/>
                      <a:ext cx="25092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6518160" y="2716200"/>
                      <a:ext cx="23508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6776280" y="2716200"/>
                      <a:ext cx="23364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6781680" y="2716200"/>
                    <a:ext cx="761760" cy="75960"/>
                    <a:chOff x="6781680" y="2716200"/>
                    <a:chExt cx="761760" cy="7596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6781680" y="2716200"/>
                      <a:ext cx="25092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7051680" y="2716200"/>
                      <a:ext cx="23508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7309800" y="2716200"/>
                      <a:ext cx="23364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6248520" y="3401640"/>
                    <a:ext cx="761400" cy="75960"/>
                    <a:chOff x="6248520" y="3401640"/>
                    <a:chExt cx="761400" cy="7596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6248520" y="3401640"/>
                      <a:ext cx="25092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6518160" y="3401640"/>
                      <a:ext cx="23508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6776280" y="3401640"/>
                      <a:ext cx="23364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7010280" y="3401640"/>
                    <a:ext cx="761760" cy="75960"/>
                    <a:chOff x="7010280" y="3401640"/>
                    <a:chExt cx="761760" cy="7596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7010280" y="3401640"/>
                      <a:ext cx="25092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7280280" y="3401640"/>
                      <a:ext cx="23508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7538400" y="3401640"/>
                      <a:ext cx="23364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pic>
              <p:nvPicPr>
                <p:cNvPr id="3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91520" y="2182680"/>
                  <a:ext cx="914400" cy="71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96080" y="2917800"/>
                  <a:ext cx="914400" cy="71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48720" y="5611680"/>
                  <a:ext cx="91440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8" name=""/>
            <p:cNvSpPr/>
            <p:nvPr/>
          </p:nvSpPr>
          <p:spPr>
            <a:xfrm>
              <a:off x="2262240" y="3857760"/>
              <a:ext cx="492120" cy="4572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62240" y="5381640"/>
              <a:ext cx="492120" cy="4572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6200000">
              <a:off x="2325240" y="46101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aA Md BT"/>
                </a:rPr>
                <a:t>...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2720" y="317340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3080" y="4748040"/>
              <a:ext cx="633600" cy="381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38880" y="6068880"/>
              <a:ext cx="633600" cy="381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16400" y="3398760"/>
              <a:ext cx="3700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5002200"/>
              <a:ext cx="140652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572000" y="3402000"/>
              <a:ext cx="628560" cy="6811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24200" y="4086360"/>
              <a:ext cx="180180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10080" y="3821040"/>
              <a:ext cx="241200" cy="266760"/>
            </a:xfrm>
            <a:prstGeom prst="ellipse">
              <a:avLst/>
            </a:prstGeom>
            <a:noFill/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2680" y="4087800"/>
              <a:ext cx="1828800" cy="9144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583160" y="4011480"/>
              <a:ext cx="674640" cy="7488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72000" y="4087800"/>
              <a:ext cx="609480" cy="38088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20960" y="3821040"/>
              <a:ext cx="241560" cy="266760"/>
            </a:xfrm>
            <a:prstGeom prst="ellipse">
              <a:avLst/>
            </a:prstGeom>
            <a:noFill/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95680" y="4011480"/>
              <a:ext cx="152640" cy="15264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2824200" y="5381280"/>
              <a:ext cx="4430520" cy="914760"/>
              <a:chOff x="2824200" y="5381280"/>
              <a:chExt cx="4430520" cy="914760"/>
            </a:xfrm>
          </p:grpSpPr>
          <p:sp>
            <p:nvSpPr>
              <p:cNvPr id="405" name=""/>
              <p:cNvSpPr/>
              <p:nvPr/>
            </p:nvSpPr>
            <p:spPr>
              <a:xfrm>
                <a:off x="4653000" y="5686560"/>
                <a:ext cx="844560" cy="60948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824200" y="5686560"/>
                <a:ext cx="182412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583160" y="5686560"/>
                <a:ext cx="750960" cy="15408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4653000" y="5381280"/>
                <a:ext cx="280800" cy="30492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97560" y="6296040"/>
                <a:ext cx="175716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610080" y="5421600"/>
                <a:ext cx="241200" cy="266400"/>
              </a:xfrm>
              <a:prstGeom prst="ellipse">
                <a:avLst/>
              </a:prstGeom>
              <a:noFill/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20960" y="5421600"/>
                <a:ext cx="241560" cy="266400"/>
              </a:xfrm>
              <a:prstGeom prst="ellipse">
                <a:avLst/>
              </a:prstGeom>
              <a:noFill/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572000" y="5612040"/>
                <a:ext cx="152280" cy="152280"/>
              </a:xfrm>
              <a:prstGeom prst="ellipse">
                <a:avLst/>
              </a:prstGeom>
              <a:solidFill>
                <a:srgbClr val="ff9933"/>
              </a:solidFill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648320" y="5535360"/>
                <a:ext cx="533160" cy="15228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 rot="16200000">
              <a:off x="3438000" y="462132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aA Md BT"/>
                </a:rPr>
                <a:t>...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76720" y="4011480"/>
              <a:ext cx="152280" cy="15264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05520" y="4392720"/>
              <a:ext cx="152280" cy="15228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92640" y="4239720"/>
              <a:ext cx="522360" cy="228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81480" y="4468680"/>
              <a:ext cx="533520" cy="228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93400" y="837000"/>
            <a:ext cx="770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982 : Optical access networks to support services up to the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DN primary rate or equivalent bit rate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0080" y="1751400"/>
            <a:ext cx="3492360" cy="1313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cal Distribution Network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N class A:   5 - 20 dB los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N class B: 10 - 25 dB los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N class C: 15 - 30 dB los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8D9-BEBD-415A-98F8-6AF7D085D2F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8A4F6E0-4B1F-46C8-B9EF-4C784AA0DDB6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commendation:  G.983.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44400" y="2894040"/>
            <a:ext cx="2242080" cy="2789280"/>
            <a:chOff x="644400" y="2894040"/>
            <a:chExt cx="2242080" cy="2789280"/>
          </a:xfrm>
        </p:grpSpPr>
        <p:sp>
          <p:nvSpPr>
            <p:cNvPr id="424" name=""/>
            <p:cNvSpPr/>
            <p:nvPr/>
          </p:nvSpPr>
          <p:spPr>
            <a:xfrm>
              <a:off x="925560" y="2894040"/>
              <a:ext cx="1905120" cy="2789280"/>
            </a:xfrm>
            <a:custGeom>
              <a:avLst/>
              <a:gdLst>
                <a:gd name="textAreaLeft" fmla="*/ 58320 w 1905120"/>
                <a:gd name="textAreaRight" fmla="*/ 1846800 w 1905120"/>
                <a:gd name="textAreaTop" fmla="*/ 58320 h 2789280"/>
                <a:gd name="textAreaBottom" fmla="*/ 2730960 h 2789280"/>
              </a:gdLst>
              <a:ahLst/>
              <a:rect l="textAreaLeft" t="textAreaTop" r="textAreaRight" b="textAreaBottom"/>
              <a:pathLst>
                <a:path w="21600" h="31623">
                  <a:moveTo>
                    <a:pt x="2268" y="0"/>
                  </a:moveTo>
                  <a:arcTo wR="2268" hR="2268" stAng="16200000" swAng="-5400000"/>
                  <a:lnTo>
                    <a:pt x="0" y="29355"/>
                  </a:lnTo>
                  <a:arcTo wR="2268" hR="2268" stAng="10800000" swAng="-5400000"/>
                  <a:lnTo>
                    <a:pt x="19332" y="31623"/>
                  </a:lnTo>
                  <a:arcTo wR="2268" hR="2268" stAng="5400000" swAng="-5400000"/>
                  <a:lnTo>
                    <a:pt x="21600" y="2268"/>
                  </a:lnTo>
                  <a:arcTo wR="2268" hR="2268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98200" y="2923920"/>
              <a:ext cx="198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Access Node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95400" y="3808440"/>
              <a:ext cx="492120" cy="533160"/>
            </a:xfrm>
            <a:prstGeom prst="rect">
              <a:avLst/>
            </a:prstGeom>
            <a:noFill/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NB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95400" y="4494240"/>
              <a:ext cx="492120" cy="533160"/>
            </a:xfrm>
            <a:prstGeom prst="rect">
              <a:avLst/>
            </a:prstGeom>
            <a:noFill/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BB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4037040"/>
              <a:ext cx="35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4400" y="4798800"/>
              <a:ext cx="35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8800" y="3427200"/>
              <a:ext cx="631800" cy="1981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CC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848720" y="5181480"/>
            <a:ext cx="914400" cy="8654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2262240" y="4114800"/>
            <a:ext cx="49212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Md BT"/>
              </a:rPr>
              <a:t>LT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238880" y="5638680"/>
            <a:ext cx="633600" cy="3812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A Md BT"/>
              </a:rPr>
              <a:t>ONU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3760920"/>
            <a:ext cx="140652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53000" y="4343400"/>
            <a:ext cx="833400" cy="152388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24200" y="4343400"/>
            <a:ext cx="182412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83160" y="4343400"/>
            <a:ext cx="750960" cy="15408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653000" y="2819160"/>
            <a:ext cx="1138320" cy="152388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97560" y="5867280"/>
            <a:ext cx="175716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10080" y="4078440"/>
            <a:ext cx="241200" cy="266400"/>
          </a:xfrm>
          <a:prstGeom prst="ellipse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20960" y="4078440"/>
            <a:ext cx="241560" cy="266400"/>
          </a:xfrm>
          <a:prstGeom prst="ellipse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4268880"/>
            <a:ext cx="152280" cy="1522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648320" y="3733560"/>
            <a:ext cx="1143000" cy="61092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5920" y="913320"/>
            <a:ext cx="84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983.1 + amendment : Broadband optical access systems based on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ssive optical networks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7772400" y="3200400"/>
            <a:ext cx="914400" cy="7128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7162920" y="3506760"/>
            <a:ext cx="633240" cy="3808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A Md BT"/>
              </a:rPr>
              <a:t>ONU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2846520"/>
            <a:ext cx="140652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7772400" y="2286000"/>
            <a:ext cx="914400" cy="712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7162920" y="2592360"/>
            <a:ext cx="633240" cy="3808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A Md BT"/>
              </a:rPr>
              <a:t>ONU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529600" y="434664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:32 (64)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882880" y="5832360"/>
            <a:ext cx="4343400" cy="492120"/>
            <a:chOff x="2882880" y="5832360"/>
            <a:chExt cx="4343400" cy="492120"/>
          </a:xfrm>
        </p:grpSpPr>
        <p:sp>
          <p:nvSpPr>
            <p:cNvPr id="452" name=""/>
            <p:cNvSpPr/>
            <p:nvPr/>
          </p:nvSpPr>
          <p:spPr>
            <a:xfrm>
              <a:off x="2882880" y="6324480"/>
              <a:ext cx="4343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34880" y="5832360"/>
              <a:ext cx="132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0-20 km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499120" y="1905120"/>
            <a:ext cx="3585240" cy="990360"/>
            <a:chOff x="2499120" y="1905120"/>
            <a:chExt cx="3585240" cy="990360"/>
          </a:xfrm>
        </p:grpSpPr>
        <p:sp>
          <p:nvSpPr>
            <p:cNvPr id="455" name=""/>
            <p:cNvSpPr/>
            <p:nvPr/>
          </p:nvSpPr>
          <p:spPr>
            <a:xfrm>
              <a:off x="2499120" y="1905120"/>
              <a:ext cx="358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Md BT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S: 155/622 Mbit/s @ 1530 nm ± 50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21800" y="2436840"/>
              <a:ext cx="353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: 155/622 Mbit/s @ 1310 nm ± 50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3400" y="2209680"/>
              <a:ext cx="914400" cy="152640"/>
            </a:xfrm>
            <a:prstGeom prst="rightArrow">
              <a:avLst>
                <a:gd name="adj1" fmla="val 50000"/>
                <a:gd name="adj2" fmla="val 149764"/>
              </a:avLst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3803400" y="2743200"/>
              <a:ext cx="914400" cy="152280"/>
            </a:xfrm>
            <a:prstGeom prst="rightArrow">
              <a:avLst>
                <a:gd name="adj1" fmla="val 50000"/>
                <a:gd name="adj2" fmla="val 150118"/>
              </a:avLst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971440" y="2971800"/>
            <a:ext cx="4038840" cy="2743200"/>
            <a:chOff x="2971440" y="2971800"/>
            <a:chExt cx="4038840" cy="2743200"/>
          </a:xfrm>
        </p:grpSpPr>
        <p:grpSp>
          <p:nvGrpSpPr>
            <p:cNvPr id="460" name=""/>
            <p:cNvGrpSpPr/>
            <p:nvPr/>
          </p:nvGrpSpPr>
          <p:grpSpPr>
            <a:xfrm>
              <a:off x="5714640" y="2971800"/>
              <a:ext cx="1295640" cy="152280"/>
              <a:chOff x="5714640" y="2971800"/>
              <a:chExt cx="1295640" cy="152280"/>
            </a:xfrm>
          </p:grpSpPr>
          <p:sp>
            <p:nvSpPr>
              <p:cNvPr id="461" name=""/>
              <p:cNvSpPr/>
              <p:nvPr/>
            </p:nvSpPr>
            <p:spPr>
              <a:xfrm>
                <a:off x="5943600" y="29718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705720" y="297180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5714640" y="304812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5714640" y="5562720"/>
              <a:ext cx="1295640" cy="152280"/>
              <a:chOff x="5714640" y="5562720"/>
              <a:chExt cx="1295640" cy="152280"/>
            </a:xfrm>
          </p:grpSpPr>
          <p:sp>
            <p:nvSpPr>
              <p:cNvPr id="465" name=""/>
              <p:cNvSpPr/>
              <p:nvPr/>
            </p:nvSpPr>
            <p:spPr>
              <a:xfrm>
                <a:off x="6705720" y="556272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5714640" y="563868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714640" y="3886200"/>
              <a:ext cx="1295640" cy="152280"/>
              <a:chOff x="5714640" y="3886200"/>
              <a:chExt cx="1295640" cy="152280"/>
            </a:xfrm>
          </p:grpSpPr>
          <p:sp>
            <p:nvSpPr>
              <p:cNvPr id="468" name=""/>
              <p:cNvSpPr/>
              <p:nvPr/>
            </p:nvSpPr>
            <p:spPr>
              <a:xfrm flipH="1">
                <a:off x="5714640" y="396252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24480" y="38862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05720" y="388620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2971440" y="4495680"/>
              <a:ext cx="1676880" cy="152640"/>
              <a:chOff x="2971440" y="4495680"/>
              <a:chExt cx="1676880" cy="152640"/>
            </a:xfrm>
          </p:grpSpPr>
          <p:sp>
            <p:nvSpPr>
              <p:cNvPr id="472" name=""/>
              <p:cNvSpPr/>
              <p:nvPr/>
            </p:nvSpPr>
            <p:spPr>
              <a:xfrm>
                <a:off x="320040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62520" y="4495680"/>
                <a:ext cx="30456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8128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34340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2971440" y="457200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363840" y="475380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DMA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048120" y="2880360"/>
            <a:ext cx="2480400" cy="3207240"/>
            <a:chOff x="3048120" y="2880360"/>
            <a:chExt cx="2480400" cy="3207240"/>
          </a:xfrm>
        </p:grpSpPr>
        <p:grpSp>
          <p:nvGrpSpPr>
            <p:cNvPr id="479" name=""/>
            <p:cNvGrpSpPr/>
            <p:nvPr/>
          </p:nvGrpSpPr>
          <p:grpSpPr>
            <a:xfrm>
              <a:off x="3048120" y="3809880"/>
              <a:ext cx="1447560" cy="152640"/>
              <a:chOff x="3048120" y="3809880"/>
              <a:chExt cx="1447560" cy="152640"/>
            </a:xfrm>
          </p:grpSpPr>
          <p:sp>
            <p:nvSpPr>
              <p:cNvPr id="480" name=""/>
              <p:cNvSpPr/>
              <p:nvPr/>
            </p:nvSpPr>
            <p:spPr>
              <a:xfrm>
                <a:off x="3962520" y="3809880"/>
                <a:ext cx="30456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657600" y="38098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048120" y="3809880"/>
                <a:ext cx="304560" cy="1526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352680" y="38098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343400" y="388620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4698360" y="4772880"/>
              <a:ext cx="745560" cy="1314720"/>
              <a:chOff x="4698360" y="4772880"/>
              <a:chExt cx="745560" cy="1314720"/>
            </a:xfrm>
          </p:grpSpPr>
          <p:sp>
            <p:nvSpPr>
              <p:cNvPr id="486" name=""/>
              <p:cNvSpPr/>
              <p:nvPr/>
            </p:nvSpPr>
            <p:spPr>
              <a:xfrm rot="3724200">
                <a:off x="5113080" y="567504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3724200">
                <a:off x="4969800" y="54054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3724200">
                <a:off x="4684680" y="486684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3724200">
                <a:off x="4827240" y="513612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372640" y="5952960"/>
                <a:ext cx="71280" cy="13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4619880" y="2880360"/>
              <a:ext cx="908640" cy="1218240"/>
              <a:chOff x="4619880" y="2880360"/>
              <a:chExt cx="908640" cy="1218240"/>
            </a:xfrm>
          </p:grpSpPr>
          <p:sp>
            <p:nvSpPr>
              <p:cNvPr id="492" name=""/>
              <p:cNvSpPr/>
              <p:nvPr/>
            </p:nvSpPr>
            <p:spPr>
              <a:xfrm rot="18348600">
                <a:off x="5153400" y="311328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8348600">
                <a:off x="4974840" y="335988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8348600">
                <a:off x="4618440" y="385452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8348600">
                <a:off x="4796280" y="36072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5439600" y="2880360"/>
                <a:ext cx="88920" cy="12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3381120" y="341208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DM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7467480" y="2286000"/>
            <a:ext cx="304920" cy="152280"/>
          </a:xfrm>
          <a:prstGeom prst="rect">
            <a:avLst/>
          </a:pr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467480" y="3200400"/>
            <a:ext cx="304920" cy="15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467480" y="5334120"/>
            <a:ext cx="304920" cy="1522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a5002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CEC-00A8-41E6-8EC4-C7F7B23CFC0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57B23DA-6321-4A30-9CE3-9677EC1DAA1D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commendation: G.983.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644400" y="2894040"/>
            <a:ext cx="2242080" cy="2789280"/>
            <a:chOff x="644400" y="2894040"/>
            <a:chExt cx="2242080" cy="2789280"/>
          </a:xfrm>
        </p:grpSpPr>
        <p:sp>
          <p:nvSpPr>
            <p:cNvPr id="504" name=""/>
            <p:cNvSpPr/>
            <p:nvPr/>
          </p:nvSpPr>
          <p:spPr>
            <a:xfrm>
              <a:off x="925560" y="2894040"/>
              <a:ext cx="1905120" cy="2789280"/>
            </a:xfrm>
            <a:custGeom>
              <a:avLst/>
              <a:gdLst>
                <a:gd name="textAreaLeft" fmla="*/ 58320 w 1905120"/>
                <a:gd name="textAreaRight" fmla="*/ 1846800 w 1905120"/>
                <a:gd name="textAreaTop" fmla="*/ 58320 h 2789280"/>
                <a:gd name="textAreaBottom" fmla="*/ 2730960 h 2789280"/>
              </a:gdLst>
              <a:ahLst/>
              <a:rect l="textAreaLeft" t="textAreaTop" r="textAreaRight" b="textAreaBottom"/>
              <a:pathLst>
                <a:path w="21600" h="31623">
                  <a:moveTo>
                    <a:pt x="2268" y="0"/>
                  </a:moveTo>
                  <a:arcTo wR="2268" hR="2268" stAng="16200000" swAng="-5400000"/>
                  <a:lnTo>
                    <a:pt x="0" y="29355"/>
                  </a:lnTo>
                  <a:arcTo wR="2268" hR="2268" stAng="10800000" swAng="-5400000"/>
                  <a:lnTo>
                    <a:pt x="19332" y="31623"/>
                  </a:lnTo>
                  <a:arcTo wR="2268" hR="2268" stAng="5400000" swAng="-5400000"/>
                  <a:lnTo>
                    <a:pt x="21600" y="2268"/>
                  </a:lnTo>
                  <a:arcTo wR="2268" hR="2268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98200" y="2923920"/>
              <a:ext cx="198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Access Node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95400" y="3808440"/>
              <a:ext cx="492120" cy="533160"/>
            </a:xfrm>
            <a:prstGeom prst="rect">
              <a:avLst/>
            </a:prstGeom>
            <a:noFill/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NB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95400" y="4494240"/>
              <a:ext cx="492120" cy="533160"/>
            </a:xfrm>
            <a:prstGeom prst="rect">
              <a:avLst/>
            </a:prstGeom>
            <a:noFill/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BB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4400" y="4037040"/>
              <a:ext cx="35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4400" y="4798800"/>
              <a:ext cx="35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58800" y="3427200"/>
              <a:ext cx="631800" cy="1981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CC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7848720" y="5181480"/>
            <a:ext cx="914400" cy="8654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262240" y="4114800"/>
            <a:ext cx="49212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Md BT"/>
              </a:rPr>
              <a:t>LT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8880" y="5638680"/>
            <a:ext cx="633600" cy="3812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A Md BT"/>
              </a:rPr>
              <a:t>ONU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91320" y="3760920"/>
            <a:ext cx="140652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53000" y="4343400"/>
            <a:ext cx="833400" cy="152388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24200" y="4343400"/>
            <a:ext cx="182412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83160" y="4343400"/>
            <a:ext cx="750960" cy="15408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653000" y="2819160"/>
            <a:ext cx="1138320" cy="152388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97560" y="5867280"/>
            <a:ext cx="175716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10080" y="4078440"/>
            <a:ext cx="241200" cy="266400"/>
          </a:xfrm>
          <a:prstGeom prst="ellipse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720960" y="4078440"/>
            <a:ext cx="241560" cy="266400"/>
          </a:xfrm>
          <a:prstGeom prst="ellipse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0" y="4268880"/>
            <a:ext cx="152280" cy="1522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648320" y="3733560"/>
            <a:ext cx="1143000" cy="61092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5560" y="913320"/>
            <a:ext cx="786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983.2 + amendment : ONT management and control interface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cification for ATM PON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7772400" y="3200400"/>
            <a:ext cx="914400" cy="7128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7162920" y="3506760"/>
            <a:ext cx="633240" cy="3808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A Md BT"/>
              </a:rPr>
              <a:t>ONU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91320" y="2846520"/>
            <a:ext cx="140652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7772400" y="2286000"/>
            <a:ext cx="914400" cy="712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7162920" y="2592360"/>
            <a:ext cx="633240" cy="3808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A Md BT"/>
              </a:rPr>
              <a:t>ONU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048120" y="2880360"/>
            <a:ext cx="2480400" cy="3207240"/>
            <a:chOff x="3048120" y="2880360"/>
            <a:chExt cx="2480400" cy="3207240"/>
          </a:xfrm>
        </p:grpSpPr>
        <p:grpSp>
          <p:nvGrpSpPr>
            <p:cNvPr id="531" name=""/>
            <p:cNvGrpSpPr/>
            <p:nvPr/>
          </p:nvGrpSpPr>
          <p:grpSpPr>
            <a:xfrm>
              <a:off x="3048120" y="3809880"/>
              <a:ext cx="1447560" cy="152640"/>
              <a:chOff x="3048120" y="3809880"/>
              <a:chExt cx="1447560" cy="152640"/>
            </a:xfrm>
          </p:grpSpPr>
          <p:sp>
            <p:nvSpPr>
              <p:cNvPr id="532" name=""/>
              <p:cNvSpPr/>
              <p:nvPr/>
            </p:nvSpPr>
            <p:spPr>
              <a:xfrm>
                <a:off x="3962520" y="3809880"/>
                <a:ext cx="30456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657600" y="38098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048120" y="3809880"/>
                <a:ext cx="304560" cy="1526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352680" y="38098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343400" y="388620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698360" y="4772880"/>
              <a:ext cx="745560" cy="1314720"/>
              <a:chOff x="4698360" y="4772880"/>
              <a:chExt cx="745560" cy="1314720"/>
            </a:xfrm>
          </p:grpSpPr>
          <p:sp>
            <p:nvSpPr>
              <p:cNvPr id="538" name=""/>
              <p:cNvSpPr/>
              <p:nvPr/>
            </p:nvSpPr>
            <p:spPr>
              <a:xfrm rot="3724200">
                <a:off x="5113080" y="567504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3724200">
                <a:off x="4969800" y="54054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3724200">
                <a:off x="4684680" y="486684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3724200">
                <a:off x="4827240" y="513612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372640" y="5952960"/>
                <a:ext cx="71280" cy="13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19880" y="2880360"/>
              <a:ext cx="908640" cy="1218240"/>
              <a:chOff x="4619880" y="2880360"/>
              <a:chExt cx="908640" cy="1218240"/>
            </a:xfrm>
          </p:grpSpPr>
          <p:sp>
            <p:nvSpPr>
              <p:cNvPr id="544" name=""/>
              <p:cNvSpPr/>
              <p:nvPr/>
            </p:nvSpPr>
            <p:spPr>
              <a:xfrm rot="18348600">
                <a:off x="5153400" y="311328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8348600">
                <a:off x="4974840" y="335988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8348600">
                <a:off x="4618440" y="385452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8348600">
                <a:off x="4796280" y="36072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5439600" y="2880360"/>
                <a:ext cx="88920" cy="12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3381120" y="341208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DM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7467480" y="2286000"/>
            <a:ext cx="304920" cy="152280"/>
          </a:xfrm>
          <a:prstGeom prst="rect">
            <a:avLst/>
          </a:pr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7480" y="3200400"/>
            <a:ext cx="304920" cy="15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467480" y="5334120"/>
            <a:ext cx="304920" cy="1522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a5002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6320" y="1827720"/>
            <a:ext cx="489276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Us managed by LT via OMCI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NT Management and Control Interface)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971440" y="2971800"/>
            <a:ext cx="4038840" cy="2743200"/>
            <a:chOff x="2971440" y="2971800"/>
            <a:chExt cx="4038840" cy="2743200"/>
          </a:xfrm>
        </p:grpSpPr>
        <p:grpSp>
          <p:nvGrpSpPr>
            <p:cNvPr id="555" name=""/>
            <p:cNvGrpSpPr/>
            <p:nvPr/>
          </p:nvGrpSpPr>
          <p:grpSpPr>
            <a:xfrm>
              <a:off x="5714640" y="2971800"/>
              <a:ext cx="1295640" cy="152280"/>
              <a:chOff x="5714640" y="2971800"/>
              <a:chExt cx="1295640" cy="152280"/>
            </a:xfrm>
          </p:grpSpPr>
          <p:sp>
            <p:nvSpPr>
              <p:cNvPr id="556" name=""/>
              <p:cNvSpPr/>
              <p:nvPr/>
            </p:nvSpPr>
            <p:spPr>
              <a:xfrm>
                <a:off x="5943600" y="29718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705720" y="297180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5714640" y="304812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714640" y="5562720"/>
              <a:ext cx="1295640" cy="152280"/>
              <a:chOff x="5714640" y="5562720"/>
              <a:chExt cx="1295640" cy="152280"/>
            </a:xfrm>
          </p:grpSpPr>
          <p:sp>
            <p:nvSpPr>
              <p:cNvPr id="560" name=""/>
              <p:cNvSpPr/>
              <p:nvPr/>
            </p:nvSpPr>
            <p:spPr>
              <a:xfrm>
                <a:off x="6705720" y="556272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714640" y="563868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5714640" y="3886200"/>
              <a:ext cx="1295640" cy="152280"/>
              <a:chOff x="5714640" y="3886200"/>
              <a:chExt cx="1295640" cy="152280"/>
            </a:xfrm>
          </p:grpSpPr>
          <p:sp>
            <p:nvSpPr>
              <p:cNvPr id="563" name=""/>
              <p:cNvSpPr/>
              <p:nvPr/>
            </p:nvSpPr>
            <p:spPr>
              <a:xfrm flipH="1">
                <a:off x="5714640" y="396252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324480" y="38862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705720" y="388620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971440" y="4495680"/>
              <a:ext cx="1676880" cy="152640"/>
              <a:chOff x="2971440" y="4495680"/>
              <a:chExt cx="1676880" cy="152640"/>
            </a:xfrm>
          </p:grpSpPr>
          <p:sp>
            <p:nvSpPr>
              <p:cNvPr id="567" name=""/>
              <p:cNvSpPr/>
              <p:nvPr/>
            </p:nvSpPr>
            <p:spPr>
              <a:xfrm>
                <a:off x="320040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962520" y="4495680"/>
                <a:ext cx="30456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58128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34340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2971440" y="457200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3363840" y="475380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DMA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FE9-B037-42BD-877A-38355DE26D9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B95578B-2F69-4847-8CEB-B6AB7E1B3B08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commendation: G.983.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94120" y="913320"/>
            <a:ext cx="84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983.3 : A broadband optical access system with increased service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pability by wavelength allocation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44400" y="2209680"/>
            <a:ext cx="8118720" cy="3760920"/>
            <a:chOff x="644400" y="2209680"/>
            <a:chExt cx="8118720" cy="3760920"/>
          </a:xfrm>
        </p:grpSpPr>
        <p:grpSp>
          <p:nvGrpSpPr>
            <p:cNvPr id="577" name=""/>
            <p:cNvGrpSpPr/>
            <p:nvPr/>
          </p:nvGrpSpPr>
          <p:grpSpPr>
            <a:xfrm>
              <a:off x="644400" y="2817720"/>
              <a:ext cx="2242080" cy="2789280"/>
              <a:chOff x="644400" y="2817720"/>
              <a:chExt cx="2242080" cy="2789280"/>
            </a:xfrm>
          </p:grpSpPr>
          <p:sp>
            <p:nvSpPr>
              <p:cNvPr id="578" name=""/>
              <p:cNvSpPr/>
              <p:nvPr/>
            </p:nvSpPr>
            <p:spPr>
              <a:xfrm>
                <a:off x="925560" y="2817720"/>
                <a:ext cx="1905120" cy="2789280"/>
              </a:xfrm>
              <a:custGeom>
                <a:avLst/>
                <a:gdLst>
                  <a:gd name="textAreaLeft" fmla="*/ 58320 w 1905120"/>
                  <a:gd name="textAreaRight" fmla="*/ 1846800 w 1905120"/>
                  <a:gd name="textAreaTop" fmla="*/ 58320 h 2789280"/>
                  <a:gd name="textAreaBottom" fmla="*/ 2730960 h 2789280"/>
                </a:gdLst>
                <a:ahLst/>
                <a:rect l="textAreaLeft" t="textAreaTop" r="textAreaRight" b="textAreaBottom"/>
                <a:pathLst>
                  <a:path w="21600" h="31623">
                    <a:moveTo>
                      <a:pt x="2268" y="0"/>
                    </a:moveTo>
                    <a:arcTo wR="2268" hR="2268" stAng="16200000" swAng="-5400000"/>
                    <a:lnTo>
                      <a:pt x="0" y="29355"/>
                    </a:lnTo>
                    <a:arcTo wR="2268" hR="2268" stAng="10800000" swAng="-5400000"/>
                    <a:lnTo>
                      <a:pt x="19332" y="31623"/>
                    </a:lnTo>
                    <a:arcTo wR="2268" hR="2268" stAng="5400000" swAng="-5400000"/>
                    <a:lnTo>
                      <a:pt x="21600" y="2268"/>
                    </a:lnTo>
                    <a:arcTo wR="2268" hR="2268" stAng="0" swAng="-5400000"/>
                    <a:close/>
                  </a:path>
                </a:pathLst>
              </a:cu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98200" y="2847600"/>
                <a:ext cx="198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Access Node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95400" y="373212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N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995400" y="441792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B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4400" y="396072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4400" y="472248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558800" y="3350880"/>
                <a:ext cx="631800" cy="1981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CC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7848720" y="5105160"/>
              <a:ext cx="91440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2262240" y="4038480"/>
              <a:ext cx="492120" cy="4572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38880" y="5562360"/>
              <a:ext cx="633600" cy="381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91320" y="368460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53000" y="4267080"/>
              <a:ext cx="833400" cy="152388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24200" y="4267080"/>
              <a:ext cx="18241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83160" y="4267080"/>
              <a:ext cx="750960" cy="1540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4653000" y="2742840"/>
              <a:ext cx="1138320" cy="15238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97560" y="5790960"/>
              <a:ext cx="175716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10080" y="4002120"/>
              <a:ext cx="241200" cy="26640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720960" y="4002120"/>
              <a:ext cx="241560" cy="26640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72000" y="4192560"/>
              <a:ext cx="152280" cy="15228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648320" y="3657240"/>
              <a:ext cx="1143000" cy="61092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7772400" y="3124080"/>
              <a:ext cx="914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7162920" y="343044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791320" y="277020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3"/>
            <a:stretch/>
          </p:blipFill>
          <p:spPr>
            <a:xfrm>
              <a:off x="7772400" y="2209680"/>
              <a:ext cx="914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7162920" y="251604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0" y="1600200"/>
            <a:ext cx="0" cy="487692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225720" y="1751760"/>
            <a:ext cx="4130280" cy="3812040"/>
            <a:chOff x="225720" y="1751760"/>
            <a:chExt cx="4130280" cy="3812040"/>
          </a:xfrm>
        </p:grpSpPr>
        <p:sp>
          <p:nvSpPr>
            <p:cNvPr id="606" name=""/>
            <p:cNvSpPr/>
            <p:nvPr/>
          </p:nvSpPr>
          <p:spPr>
            <a:xfrm>
              <a:off x="762120" y="327672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2120" y="502920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76520" y="1751760"/>
              <a:ext cx="108612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G.983.1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25720" y="26661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US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25720" y="44028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S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59480" y="327564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94400" y="501228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95280" y="2514600"/>
              <a:ext cx="2286000" cy="730080"/>
            </a:xfrm>
            <a:prstGeom prst="rect">
              <a:avLst/>
            </a:prstGeom>
            <a:gradFill rotWithShape="0">
              <a:gsLst>
                <a:gs pos="0">
                  <a:srgbClr val="597cd3"/>
                </a:gs>
                <a:gs pos="100000">
                  <a:srgbClr val="1a2f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295280" y="4267080"/>
              <a:ext cx="2286000" cy="7304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a500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27720" y="3351960"/>
              <a:ext cx="7477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26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37760" y="3382200"/>
              <a:ext cx="7477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36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91440" y="5134680"/>
              <a:ext cx="747720" cy="39888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48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01120" y="5164920"/>
              <a:ext cx="747720" cy="39888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58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650120" y="1751760"/>
            <a:ext cx="4130280" cy="4116600"/>
            <a:chOff x="4650120" y="1751760"/>
            <a:chExt cx="4130280" cy="4116600"/>
          </a:xfrm>
        </p:grpSpPr>
        <p:sp>
          <p:nvSpPr>
            <p:cNvPr id="620" name=""/>
            <p:cNvSpPr/>
            <p:nvPr/>
          </p:nvSpPr>
          <p:spPr>
            <a:xfrm>
              <a:off x="6172200" y="1751760"/>
              <a:ext cx="108612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G.983.3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186520" y="289548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186520" y="541008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650120" y="22849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US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50120" y="47836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S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83880" y="281844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218800" y="527112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19680" y="2133720"/>
              <a:ext cx="2286000" cy="730080"/>
            </a:xfrm>
            <a:prstGeom prst="rect">
              <a:avLst/>
            </a:prstGeom>
            <a:gradFill rotWithShape="0">
              <a:gsLst>
                <a:gs pos="0">
                  <a:srgbClr val="597cd3"/>
                </a:gs>
                <a:gs pos="100000">
                  <a:srgbClr val="1a2f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9680" y="4648320"/>
              <a:ext cx="604800" cy="7300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a500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2120" y="2894760"/>
              <a:ext cx="7477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26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62160" y="2925000"/>
              <a:ext cx="7477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36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04800" y="5469480"/>
              <a:ext cx="1400040" cy="39888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480-150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86520" y="411480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183880" y="403776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719680" y="3352680"/>
              <a:ext cx="2286000" cy="7304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Future Use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52120" y="4113720"/>
              <a:ext cx="747720" cy="3988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38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62160" y="4143960"/>
              <a:ext cx="747720" cy="3988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46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86720" y="4648320"/>
              <a:ext cx="604800" cy="73008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800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01120" y="4648320"/>
              <a:ext cx="604800" cy="7300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F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552360" y="5469480"/>
              <a:ext cx="1400040" cy="398880"/>
            </a:xfrm>
            <a:prstGeom prst="rect">
              <a:avLst/>
            </a:prstGeom>
            <a:solidFill>
              <a:srgbClr val="ff66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539-1565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78760" y="5469480"/>
              <a:ext cx="336240" cy="3988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76200" y="5469480"/>
            <a:ext cx="6419880" cy="1084680"/>
            <a:chOff x="376200" y="5469480"/>
            <a:chExt cx="6419880" cy="1084680"/>
          </a:xfrm>
        </p:grpSpPr>
        <p:sp>
          <p:nvSpPr>
            <p:cNvPr id="642" name=""/>
            <p:cNvSpPr/>
            <p:nvPr/>
          </p:nvSpPr>
          <p:spPr>
            <a:xfrm>
              <a:off x="376200" y="5850360"/>
              <a:ext cx="6419880" cy="70380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cc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istributive video (analogue and/or digital)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dicated wavelength connections (US and/or DS)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0520" y="5469480"/>
              <a:ext cx="2712240" cy="39888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cc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Enhancement Band :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1B6-78C0-464F-AC0E-746850EE3BA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390856A-E95F-48F1-935B-990AA8D984AA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09:59:26Z</dcterms:created>
  <dc:creator>bell alcatel</dc:creator>
  <dc:description/>
  <dc:language>en-US</dc:language>
  <cp:lastModifiedBy>delegateitu</cp:lastModifiedBy>
  <cp:lastPrinted>2001-04-24T15:23:59Z</cp:lastPrinted>
  <dcterms:modified xsi:type="dcterms:W3CDTF">2002-03-14T07:44:20Z</dcterms:modified>
  <cp:revision>184</cp:revision>
  <dc:subject/>
  <dc:title>No Slide Title</dc:title>
</cp:coreProperties>
</file>