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174288" cy="75057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10234800" cy="70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3312720" y="531360"/>
            <a:ext cx="3608280" cy="26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499"/>
              </a:lnSpc>
              <a:spcBef>
                <a:spcPts val="75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2"/>
          </p:nvPr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3"/>
          </p:nvPr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241E411-FD87-42E7-9556-0EF94857612D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esentation gibt Überb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oals achieved in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urrent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ut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23AAA9-0643-445B-8B27-F33A23934DD2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VCSR results will increase furthermore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tim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umber of Mix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am Threshh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ain Absolute Accu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lain Relative Accura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20370FA-DF07-4AEB-9453-EFFDFC0286DC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397160" y="3357720"/>
            <a:ext cx="7503840" cy="319536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imple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mall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fficient Error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ajor Requirement from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Verification for legal purp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 Improve Recognition for Tonal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364760" y="335232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a Information In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dec negotiation per S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tus der FE Standardis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urrent Activities in Speech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urrent Activities in Application and protocol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de Range of Particip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hat is D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hich Requirements were set ?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25 % Reduction for Well Matched Training / Test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50 % Reduction for Mismatched Training / T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dden 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ack End was 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lection C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road Test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ecognition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squalification Crite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istent Performance over all Test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D87A687-802F-450E-A5BC-D36E67B3362E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ature Extractio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calculation of cepstral featu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ature Compres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data reduction by using vector quant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raming, Bit-Stream Formatting, Error Prote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 Re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nput signal de-nois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aveform Process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additional waveform-based de-no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epstral Calcu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calculation of cepstral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ind Equaliz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on-line cepstral mean rem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and 16 kHz Extens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processing of 11 and 16 kHz sig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bination with VAD i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799240" y="6743520"/>
            <a:ext cx="443520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982F5D1-C353-4BFC-B85E-5C2F333443F3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6743520"/>
            <a:ext cx="4435560" cy="3553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443556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799240" y="0"/>
            <a:ext cx="4435200" cy="35568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3313080" y="531720"/>
            <a:ext cx="3608280" cy="26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364760" y="3371400"/>
            <a:ext cx="7504200" cy="31957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ature Extra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– calculation of noise robust cepstral features from input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ature Compres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compress cepstral features by using vector quant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aming, Bit-Stream Formatting, Error Prote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data processing for channel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ise Reduc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input signal de-nois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aveform Process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additional waveform-based de-noi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epstral Calcul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calculation of cepstral feat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ind Equaliz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on-line cepstral mean rem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1 and 16 kHz Extens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processing of 11 and 16 kHz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A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voice activity detection for non-speech frame drop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49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0780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49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0780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23960" indent="0" algn="r">
              <a:lnSpc>
                <a:spcPts val="33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743200" y="152280"/>
            <a:ext cx="6781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23960" indent="-723960" algn="r">
              <a:lnSpc>
                <a:spcPts val="33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23960" indent="0" algn="r">
              <a:lnSpc>
                <a:spcPts val="33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496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07800" y="28191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496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07800" y="4813560"/>
            <a:ext cx="278352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743200" y="152280"/>
            <a:ext cx="678168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723960" indent="-723960" algn="r">
              <a:lnSpc>
                <a:spcPts val="33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1920" y="48135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1920" y="2819160"/>
            <a:ext cx="421884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4813560"/>
            <a:ext cx="8645400" cy="18208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038480" y="6858000"/>
            <a:ext cx="1638360" cy="431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28191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9000"/>
          </a:bodyPr>
          <a:p>
            <a:pPr marL="282960" indent="-2829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1915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1040" indent="-17892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1836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94600" indent="-1980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94600" indent="-1980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94600" indent="-1980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839080" y="6934320"/>
            <a:ext cx="109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uturaA Bk BT"/>
              </a:rPr>
              <a:t>15.03.200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uturaA Bk BT"/>
              </a:rPr>
              <a:t>Seite </a:t>
            </a:r>
            <a:fld id="{8876FE93-8D08-49D4-80C1-38AC27503A65}" type="slidenum">
              <a:rPr b="0" lang="fr-FR" sz="11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7108920"/>
            <a:ext cx="1981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FuturaA Bk BT"/>
              </a:rPr>
              <a:t>Bernhard Noé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rcRect l="20641" t="10207" r="0" b="76285"/>
          <a:stretch/>
        </p:blipFill>
        <p:spPr>
          <a:xfrm>
            <a:off x="2103480" y="822240"/>
            <a:ext cx="8062920" cy="1006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304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TSI  ST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6705720"/>
            <a:ext cx="2209680" cy="588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2971800"/>
            <a:ext cx="8610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499"/>
              </a:lnSpc>
              <a:spcBef>
                <a:spcPts val="751"/>
              </a:spcBef>
              <a:spcAft>
                <a:spcPts val="201"/>
              </a:spcAft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TSI STQ-Aurora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stributed Speech Recognition (DS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6858000"/>
            <a:ext cx="937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hard Noé                                                                                Bernhard.Noe@alcatel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00400" y="304920"/>
            <a:ext cx="3657240" cy="877320"/>
            <a:chOff x="3200400" y="304920"/>
            <a:chExt cx="3657240" cy="877320"/>
          </a:xfrm>
        </p:grpSpPr>
        <p:graphicFrame>
          <p:nvGraphicFramePr>
            <p:cNvPr id="47" name=""/>
            <p:cNvGraphicFramePr/>
            <p:nvPr/>
          </p:nvGraphicFramePr>
          <p:xfrm>
            <a:off x="3200400" y="304920"/>
            <a:ext cx="3494880" cy="877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00400" y="304920"/>
                      <a:ext cx="3494880" cy="87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" name=""/>
            <p:cNvSpPr/>
            <p:nvPr/>
          </p:nvSpPr>
          <p:spPr>
            <a:xfrm>
              <a:off x="3687840" y="812160"/>
              <a:ext cx="316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de-DE" sz="1400" spc="-1" strike="noStrike">
                  <a:solidFill>
                    <a:srgbClr val="ffff99"/>
                  </a:solidFill>
                  <a:latin typeface="Arial"/>
                </a:rPr>
                <a:t>Distributed Speech Recogni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8680" y="299160"/>
            <a:ext cx="9155880" cy="12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499"/>
              </a:lnSpc>
              <a:spcBef>
                <a:spcPts val="75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08680" y="1756080"/>
            <a:ext cx="9155880" cy="43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23960" indent="0" algn="r">
              <a:lnSpc>
                <a:spcPts val="3300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844720" indent="0" algn="ct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tabLst>
                <a:tab algn="l" pos="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035160" indent="-2311200" algn="ct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225960" indent="-2502000" algn="ctr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16400" indent="-2692440" algn="ctr">
              <a:lnSpc>
                <a:spcPts val="3498"/>
              </a:lnSpc>
              <a:spcBef>
                <a:spcPts val="499"/>
              </a:spcBef>
              <a:spcAft>
                <a:spcPts val="201"/>
              </a:spcAft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16400" indent="-26924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16400" indent="-269244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-End Standar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09480" y="2057400"/>
          <a:ext cx="8991720" cy="200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899172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98320" y="4141800"/>
          <a:ext cx="8990280" cy="2008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4141800"/>
                    <a:ext cx="8990280" cy="20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-End Standar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ion and Encoding /De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1973160"/>
            <a:ext cx="8645400" cy="38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normAutofit/>
          </a:bodyPr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ression: Split VQ of pairwise grouped Cepstral Features with 6 /8 bit Resolution per Pai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raming, Bit-Stream and Error Pro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19368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C Code generated for a Frame-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ulitframe format, synchronisation sequence, header field and error protection are as in ETSI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S 201 108 (WI00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packet str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cludes VAD bit (Wi008 on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rror Mitigation Scheme based on CRC and first derivative of feature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213336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666880" y="158760"/>
            <a:ext cx="58197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WI00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,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80520" y="4495320"/>
            <a:ext cx="9410760" cy="20955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ork item (WI 030) “DSR front-end extension for tonal language recognition and Speech Reconstruction” since Jun 0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Recognition in Tonal-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r-based Speech Reconstruction for Verification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80880" y="1828800"/>
          <a:ext cx="9215640" cy="222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921564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666880" y="158760"/>
            <a:ext cx="58197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WI0030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, Activiti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9487080" cy="46483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Rate 10msec, Minimum Set of additional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rate &lt; 1000 bits 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Requirements and Test-Set for “Intelligibili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 of Requirements for “Tonal-Language Recognition evaluation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BM &amp; Motorola are mainly contrib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666880" y="158760"/>
            <a:ext cx="58197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Applications and Protocol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 , Activiti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9487080" cy="46479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8000"/>
          </a:bodyPr>
          <a:p>
            <a:pPr marL="280080" indent="-2800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 and Reuse existing Protocols as far as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DSR Model first but keep it open for further Extensions (Multimodal I/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DSR into 3G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 Extensions necessary for DSR within 3GPP, IETF ,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ransport and Session Protoco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Meta information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Extensions for Multimod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438280" y="158760"/>
            <a:ext cx="617220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Applications and Protocol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port and Sess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9487080" cy="46479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D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TF, BargeIn and Speech Segments in DTX Mod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c Negotita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Protocol (work in progres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 RTP, definition of RTP payload for D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ssion Protocol (work in progres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to use SIP /SDP as it is adopted by 3GP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s for Codec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438280" y="158760"/>
            <a:ext cx="61722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Applications and Protocol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iaison to other Standardization bodie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6840" y="1676160"/>
            <a:ext cx="9487080" cy="46479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8000"/>
          </a:bodyPr>
          <a:p>
            <a:pPr marL="280080" indent="-2800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R was launched into 3GPP in July 2001 (Goal: bring DSR into Release 5), now probably Release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R has achieved state 1 (some questions to be solv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1771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between AMR based SR and DSR based S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1771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open issues: service examples, billing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0600" indent="-1771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ubgroup in 3GPP: Speech Enable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ve Extensions necessary for DSR within 3GPP, IETF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U - T  SG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6280" indent="-1897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to avoid duplication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304920" y="166680"/>
            <a:ext cx="9867960" cy="70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8645760" cy="487692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ndardisation of DSR Front-End including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SR Front-End Standard (WI007) published in Feb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anced Front-End (WI008) selected in Feb 2002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pproval of Standard planned for Mid 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SR Front-End Extension for Tonal-Language Recognition and Speech Reconstruction (WI 0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finition of Applications and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 definition, Client /Server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19368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aison to other Standardisation bodi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ntribution to other Standardisation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43200" y="152280"/>
            <a:ext cx="6781680" cy="10670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Participa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666880"/>
            <a:ext cx="8645400" cy="289584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7000"/>
          </a:bodyPr>
          <a:p>
            <a:pPr marL="277200" indent="-2772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9800" indent="-1875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atel, Comverse, Ericsson, France Telecom, Hewlett Packard, Hutchinson, IBM, Microsoft, Mitsubishi, Motorola, Nokia, Nuance, Qualcomm, Siemens, Speech Works, Texas Instruments, Verbaltek, VoiceSignals, e.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man of Aurora:  David Pearce, Moto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66880" y="228600"/>
            <a:ext cx="632484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WI008 Front-E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Overview, 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1600200"/>
            <a:ext cx="20066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3333cc"/>
                </a:solidFill>
                <a:latin typeface="Arial"/>
              </a:rPr>
              <a:t>Appli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322600">
            <a:off x="1306080" y="2468160"/>
            <a:ext cx="452520" cy="636840"/>
          </a:xfrm>
          <a:prstGeom prst="triangle">
            <a:avLst>
              <a:gd name="adj" fmla="val 50000"/>
            </a:avLst>
          </a:prstGeom>
          <a:solidFill>
            <a:srgbClr val="fff7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06640" y="2425680"/>
            <a:ext cx="1144440" cy="735120"/>
          </a:xfrm>
          <a:prstGeom prst="rect">
            <a:avLst/>
          </a:prstGeom>
          <a:solidFill>
            <a:srgbClr val="fff7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06640" y="2523960"/>
            <a:ext cx="131436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i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62400" y="2449440"/>
            <a:ext cx="1144440" cy="698400"/>
          </a:xfrm>
          <a:prstGeom prst="rect">
            <a:avLst/>
          </a:prstGeom>
          <a:solidFill>
            <a:srgbClr val="fff7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0" y="2536920"/>
            <a:ext cx="128592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0480" y="2425680"/>
            <a:ext cx="3306960" cy="69840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0480" y="2438280"/>
            <a:ext cx="274176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er Independent (S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0480" y="3649680"/>
            <a:ext cx="1144800" cy="60156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ne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56240" y="3649680"/>
            <a:ext cx="947880" cy="60156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3880" y="3662280"/>
            <a:ext cx="1144440" cy="60192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mm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661240" y="2425680"/>
            <a:ext cx="1144800" cy="71136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717040" y="2463840"/>
            <a:ext cx="111276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-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31760" y="2768760"/>
            <a:ext cx="196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51120" y="2768760"/>
            <a:ext cx="155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51080" y="2768760"/>
            <a:ext cx="211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06840" y="2768760"/>
            <a:ext cx="59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407440" y="2768760"/>
            <a:ext cx="253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593640" y="2608200"/>
            <a:ext cx="437760" cy="343080"/>
            <a:chOff x="593640" y="2608200"/>
            <a:chExt cx="437760" cy="343080"/>
          </a:xfrm>
        </p:grpSpPr>
        <p:sp>
          <p:nvSpPr>
            <p:cNvPr id="120" name=""/>
            <p:cNvSpPr/>
            <p:nvPr/>
          </p:nvSpPr>
          <p:spPr>
            <a:xfrm>
              <a:off x="593640" y="2608200"/>
              <a:ext cx="437760" cy="3430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93640" y="2608200"/>
              <a:ext cx="0" cy="31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V="1">
            <a:off x="5622840" y="3111480"/>
            <a:ext cx="0" cy="527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880320" y="3111120"/>
            <a:ext cx="0" cy="538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8180280" y="3123720"/>
            <a:ext cx="0" cy="55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91160" y="2228760"/>
            <a:ext cx="33120" cy="2648160"/>
          </a:xfrm>
          <a:prstGeom prst="line">
            <a:avLst/>
          </a:prstGeom>
          <a:ln w="28440">
            <a:solidFill>
              <a:srgbClr val="d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18640" y="4287960"/>
            <a:ext cx="34430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ront -End / Termin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47320" y="4287960"/>
            <a:ext cx="308484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160" rIns="10116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ack -End / Serv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7924320" y="2057400"/>
            <a:ext cx="1258920" cy="3556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876920" y="2252520"/>
            <a:ext cx="25200" cy="2624400"/>
          </a:xfrm>
          <a:prstGeom prst="line">
            <a:avLst/>
          </a:prstGeom>
          <a:ln w="28440">
            <a:solidFill>
              <a:srgbClr val="d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1371600"/>
            <a:ext cx="4635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ransmission channel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G,  IP, ITU, etc</a:t>
            </a:r>
            <a:r>
              <a:rPr b="0" lang="en-US" sz="2000" spc="-1" strike="noStrike">
                <a:solidFill>
                  <a:srgbClr val="ff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12960" y="1652760"/>
            <a:ext cx="1949400" cy="625320"/>
          </a:xfrm>
          <a:prstGeom prst="line">
            <a:avLst/>
          </a:prstGeom>
          <a:ln w="28440">
            <a:solidFill>
              <a:srgbClr val="d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4860720" y="1616040"/>
            <a:ext cx="1793880" cy="723960"/>
          </a:xfrm>
          <a:prstGeom prst="line">
            <a:avLst/>
          </a:prstGeom>
          <a:ln w="28440">
            <a:solidFill>
              <a:srgbClr val="d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3160" y="4952520"/>
            <a:ext cx="9410760" cy="20955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/>
          </a:bodyPr>
          <a:p>
            <a:pPr marL="285840" indent="-28584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independent, Low Delay, Medium Complexit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rate &lt; 4.8 kbit /sec, support 8k,11k and 16k Sampl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Robust, Match WI007 Performance for Clean Spee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erformance (25% / 50% Reduction of WER to WI00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2286000"/>
            <a:ext cx="2819520" cy="1447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3200400"/>
            <a:ext cx="27432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>
              <a:lnSpc>
                <a:spcPts val="3498"/>
              </a:lnSpc>
              <a:spcBef>
                <a:spcPts val="15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008 Front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666880" y="158760"/>
            <a:ext cx="58197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WI008 Front-E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9410760" cy="20955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68000"/>
          </a:bodyPr>
          <a:p>
            <a:pPr marL="194040" indent="-1940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ubmission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formance Results on Small Vocabul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bases in Jan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1314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Candidates from Nokia, Ericsson, Qualcomm/OGI/ICSI, Motorola and Alcatel/France-Télé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4040" indent="-19404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Submission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erformance Results on Small and Large Vocabul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bases in Jan 0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400" indent="-13140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Candidates from Qualcomm/OGI/ICSI and  Motorola/France-Télécom/Alca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666880" y="228600"/>
            <a:ext cx="5819760" cy="8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rora  WI008 Front-E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3040" y="2016000"/>
            <a:ext cx="974736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760" bIns="50760" anchor="t">
            <a:spAutoFit/>
          </a:bodyPr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844560" indent="-844560">
              <a:lnSpc>
                <a:spcPct val="100000"/>
              </a:lnSpc>
              <a:tabLst>
                <a:tab algn="l" pos="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9410760" cy="209556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48000"/>
          </a:bodyPr>
          <a:p>
            <a:pPr marL="137160" indent="-1371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vocabulary databases (10 dig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480" indent="-92880">
              <a:lnSpc>
                <a:spcPts val="25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world SDC Databases and synthetic TI-Digits Database with artificially adde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480" indent="-928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-Based Recognizer, Pre-tuned but then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 vocabulary database (5000 Wor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480" indent="-928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 Street Journal Database with artificially added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21480" indent="-9288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5000"/>
              <a:buFont typeface="Monotype Sorts" charset="2"/>
              <a:buChar char="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neme-based Recognizer with languag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ts val="25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ly 93 Test sets with Different Languages, Noise levels, Microphones, Noise types  and  different Mismatch between Training and Te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-137160">
              <a:lnSpc>
                <a:spcPts val="2500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election Criteria: Absolute Recognitio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ts val="25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716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66880" y="228600"/>
            <a:ext cx="581976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160" rIns="10116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-End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1760" y="2971440"/>
            <a:ext cx="8645400" cy="381780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rmAutofit fontScale="91000"/>
          </a:bodyPr>
          <a:p>
            <a:pPr marL="259920" indent="-2599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best Performance:  Absolute Accuracy 84.82 %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eighted sum of all Test-Sets with Files ranging from 0 - 20dB SNR + Clean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erformance in most of the Test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Clr>
                <a:srgbClr val="ff6600"/>
              </a:buClr>
              <a:buSzPct val="70000"/>
              <a:buFont typeface="Wingdings" charset="2"/>
              <a:buChar char=""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Featur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/Ram /Rom:   ~ 12.55 wMops /3.8 /3.7kWo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 Latency: 63 msec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rate: 4.8 kbit/se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9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ts val="3498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Mot._Labs._Prfrd_Vert_frmt" descr=""/>
          <p:cNvPicPr/>
          <p:nvPr/>
        </p:nvPicPr>
        <p:blipFill>
          <a:blip r:embed="rId1"/>
          <a:stretch/>
        </p:blipFill>
        <p:spPr>
          <a:xfrm>
            <a:off x="4114800" y="1828800"/>
            <a:ext cx="1546200" cy="9493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981080"/>
            <a:ext cx="1676160" cy="482760"/>
          </a:xfrm>
          <a:prstGeom prst="rect">
            <a:avLst/>
          </a:prstGeom>
          <a:ln w="0">
            <a:noFill/>
          </a:ln>
        </p:spPr>
      </p:pic>
      <p:pic>
        <p:nvPicPr>
          <p:cNvPr id="146" name="FTR&amp;D2" descr=""/>
          <p:cNvPicPr/>
          <p:nvPr/>
        </p:nvPicPr>
        <p:blipFill>
          <a:blip r:embed="rId3"/>
          <a:stretch/>
        </p:blipFill>
        <p:spPr>
          <a:xfrm>
            <a:off x="1523880" y="1905120"/>
            <a:ext cx="151452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171440" y="2279520"/>
            <a:ext cx="7758360" cy="186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erminal Front-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908920" y="2855880"/>
            <a:ext cx="9972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to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20920" y="3390840"/>
            <a:ext cx="57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18480" y="3390840"/>
            <a:ext cx="507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7040" y="2808360"/>
            <a:ext cx="1793880" cy="1077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Feature Extra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0520" y="2808360"/>
            <a:ext cx="1793880" cy="1077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Feature Compres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259680" y="2808360"/>
            <a:ext cx="2458800" cy="1077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Framing, Bit-Stream,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Error Prote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94400" y="3390840"/>
            <a:ext cx="66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7640" y="3390840"/>
            <a:ext cx="509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2838600"/>
            <a:ext cx="9093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input sig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809200" y="63054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23920" rIns="223920" tIns="-111960" bIns="-11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4720" y="4530600"/>
            <a:ext cx="7940520" cy="237816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 Ex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35160" y="5989680"/>
            <a:ext cx="1504800" cy="69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oise Reduc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100320" y="5987880"/>
            <a:ext cx="1567080" cy="7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aveform Process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987880"/>
            <a:ext cx="1706400" cy="7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epstrum Calcul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86600" y="5994360"/>
            <a:ext cx="1722600" cy="698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lind Equal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09920" y="5032440"/>
            <a:ext cx="1844640" cy="7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1 and 16 kHz Exten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67400" y="6310440"/>
            <a:ext cx="3618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23920" rIns="223920" tIns="-107280" bIns="-10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39960" y="6311880"/>
            <a:ext cx="36036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23920" rIns="223920" tIns="-107280" bIns="-107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5867280"/>
            <a:ext cx="1144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input sign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35600" y="6307200"/>
            <a:ext cx="362160" cy="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23920" rIns="223920" tIns="-108720" bIns="-108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9120" y="6305400"/>
            <a:ext cx="453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23920" rIns="223920" tIns="-111960" bIns="-111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978760" y="5715000"/>
            <a:ext cx="11941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3920" rIns="223920" tIns="111960" bIns="111960" anchor="t">
            <a:noAutofit/>
          </a:bodyPr>
          <a:p>
            <a:pPr algn="ctr"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to feat. comp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-End Standar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Processing in the Termi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990720" y="3962520"/>
            <a:ext cx="129528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0" y="3962520"/>
            <a:ext cx="670572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101160" rIns="101160" tIns="50400" bIns="50400" anchor="t">
            <a:noAutofit/>
          </a:bodyPr>
          <a:p>
            <a:pPr marL="285840" indent="0" algn="ctr">
              <a:lnSpc>
                <a:spcPts val="2999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nt-End Standar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l Processing in th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47800" y="2133720"/>
            <a:ext cx="5400720" cy="2073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coding, Error Mitigation and Decompre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3680" y="3576600"/>
            <a:ext cx="529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3124080"/>
            <a:ext cx="2230200" cy="930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it-Stream Decoding,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rror Mitig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18040" y="3581280"/>
            <a:ext cx="973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3124080"/>
            <a:ext cx="1828800" cy="928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eatu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ompress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19920" y="35812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65960" rIns="165960" tIns="-82800" bIns="-82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86600" y="2590920"/>
            <a:ext cx="1235160" cy="1674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2819520"/>
            <a:ext cx="1020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6320" rIns="166320" tIns="83160" bIns="83160" anchor="t">
            <a:noAutofit/>
          </a:bodyPr>
          <a:p>
            <a:pPr algn="ctr">
              <a:tabLst>
                <a:tab algn="l" pos="0"/>
                <a:tab algn="l" pos="1009800"/>
                <a:tab algn="l" pos="2019240"/>
                <a:tab algn="l" pos="3029040"/>
                <a:tab algn="l" pos="4038480"/>
                <a:tab algn="l" pos="5048280"/>
                <a:tab algn="l" pos="6058080"/>
                <a:tab algn="l" pos="7067520"/>
                <a:tab algn="l" pos="8077320"/>
                <a:tab algn="l" pos="9086760"/>
                <a:tab algn="l" pos="1009656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from</a:t>
            </a:r>
            <a:br>
              <a:rPr sz="1500"/>
            </a:br>
            <a:r>
              <a:rPr b="1" i="1" lang="en-US" sz="15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45:05Z</dcterms:created>
  <dc:creator>ptbutle</dc:creator>
  <dc:description>Überarbeitet: Hintergunrdschwärzung
bereinigt</dc:description>
  <dc:language>en-US</dc:language>
  <cp:lastModifiedBy>Bernhard Noé</cp:lastModifiedBy>
  <cp:lastPrinted>2002-03-14T10:54:50Z</cp:lastPrinted>
  <dcterms:modified xsi:type="dcterms:W3CDTF">2002-03-14T11:10:35Z</dcterms:modified>
  <cp:revision>16</cp:revision>
  <dc:subject/>
  <dc:title>Kein Folientitel</dc:title>
</cp:coreProperties>
</file>