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92913" cy="100726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80829-2B2C-4256-BA42-5E73074EE5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33350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92B23-DA98-4194-8682-F7FDFC003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33350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33350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FA3A1-9C2B-4B6E-BEDD-477E6FED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33350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33350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33350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67931-D6EE-4DFA-8FD8-B649A8FDF5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92906-E4F9-409B-B4D0-E235A2EB9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3FC18-33C8-4C9F-95E1-08F504D85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37CC4-AAB1-4812-8B67-A829DBF48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AF75B-60BD-4517-AA15-B8F8D9233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BC684-48C5-4404-BE13-3714F7994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3350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C743B-0102-4424-9B27-F995497E7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33350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C91FE-736F-40A4-9FCC-96497A206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3350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6697D-F94D-43EF-801B-3762BA043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cc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5562720"/>
            <a:ext cx="6951960" cy="8395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270160" y="5451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696080" y="5562720"/>
            <a:ext cx="801720" cy="8794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685800" y="609588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09480" y="5562720"/>
            <a:ext cx="6951960" cy="8395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2270160" y="5451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 txBox="1"/>
          <p:nvPr/>
        </p:nvSpPr>
        <p:spPr>
          <a:xfrm>
            <a:off x="1676520" y="5715000"/>
            <a:ext cx="51051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33cccc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tandardization in E-health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50000">
                    <a:srgbClr val="33cccc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7696080" y="5562720"/>
            <a:ext cx="801720" cy="879480"/>
          </a:xfrm>
          <a:prstGeom prst="rect">
            <a:avLst/>
          </a:prstGeom>
          <a:ln w="0">
            <a:noFill/>
          </a:ln>
        </p:spPr>
      </p:pic>
      <p:sp>
        <p:nvSpPr>
          <p:cNvPr id="10" name=""/>
          <p:cNvSpPr/>
          <p:nvPr/>
        </p:nvSpPr>
        <p:spPr>
          <a:xfrm>
            <a:off x="609480" y="380880"/>
            <a:ext cx="7925040" cy="50292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905120" y="647712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Workshop on Standardization in E-health, Geneva, 23-25 May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38088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4DA44-81E9-4E72-8372-7E377DADE243}" type="datetime">
              <a:rPr b="0" lang="ja-JP" sz="1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26/0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sldNum" idx="2"/>
          </p:nvPr>
        </p:nvSpPr>
        <p:spPr>
          <a:xfrm>
            <a:off x="6933960" y="647676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  <a:ea typeface="MS PGothic"/>
              </a:rPr>
              <a:t>Session 7</a:t>
            </a:r>
            <a:br>
              <a:rPr sz="2800"/>
            </a:br>
            <a:r>
              <a:rPr b="1" lang="en-US" sz="2800" spc="-1" strike="noStrike">
                <a:solidFill>
                  <a:srgbClr val="a50021"/>
                </a:solidFill>
                <a:latin typeface="Times New Roman"/>
                <a:ea typeface="MS PGothic"/>
              </a:rPr>
              <a:t>Conclusions &amp; Recommendations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33"/>
                </a:solidFill>
                <a:latin typeface="Times New Roman"/>
              </a:rPr>
              <a:t>Isao Nakajima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33"/>
                </a:solidFill>
                <a:latin typeface="Times New Roman"/>
              </a:rPr>
              <a:t>Vice-Rapporteur ITU-D SG-2 Q14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33"/>
                </a:solidFill>
                <a:latin typeface="Times New Roman"/>
              </a:rPr>
              <a:t>Tokai University Institute of Medical Sciences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1F890-92D9-43E9-825A-3F7C8FCEEA86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DDD5AC-F71C-4677-B331-AD6ABA4FA8B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  <a:ea typeface="MS PGothic"/>
              </a:rPr>
              <a:t>Presentations in Session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  <a:ea typeface="MS PGothic"/>
              </a:rPr>
              <a:t>MPEG-4 video transmission on image and video coding/ Mr. M. Hashimoto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  <a:ea typeface="MS PGothic"/>
              </a:rPr>
              <a:t>Standard encoding protocols on image and video coding/ Mr. D. Lindbergh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33"/>
                </a:solidFill>
                <a:latin typeface="Times New Roman"/>
              </a:rPr>
              <a:t>Success of DICOM standard/Mr. C. Loef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  <a:ea typeface="MS PGothic"/>
              </a:rPr>
              <a:t>Clinical Study on MPEG-2 Compression Based on the Rec. ITU-R BT. 500-9/ I. Nakajima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6897D-7F01-4436-B0CC-16BC8CAD216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30C66E-50B6-46D0-A088-98FC7452CA3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  <a:ea typeface="MS PGothic"/>
              </a:rPr>
              <a:t>Highlights from Presentation 1</a:t>
            </a:r>
            <a:br>
              <a:rPr sz="2800"/>
            </a:br>
            <a:r>
              <a:rPr b="1" lang="en-US" sz="2800" spc="-1" strike="noStrike">
                <a:solidFill>
                  <a:srgbClr val="a50021"/>
                </a:solidFill>
                <a:latin typeface="Times New Roman"/>
                <a:ea typeface="MS PGothic"/>
              </a:rPr>
              <a:t>“MPEG-4 video transmission on image and video coding”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2057400"/>
            <a:ext cx="7467840" cy="28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  <a:ea typeface="MS PGothic"/>
              </a:rPr>
              <a:t>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  <a:ea typeface="MS PGothic"/>
              </a:rPr>
              <a:t>MPEG-4 video transmission was developed and applied to support real time telemedic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  <a:ea typeface="MS PGothic"/>
              </a:rPr>
              <a:t>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  <a:ea typeface="MS PGothic"/>
              </a:rPr>
              <a:t>Using multi-screen and vital data display, medical doctor can obtain realistic sensations at a triage cen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  <a:ea typeface="MS PGothic"/>
              </a:rPr>
              <a:t>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  <a:ea typeface="MS PGothic"/>
              </a:rPr>
              <a:t>An algorithm using the spatial similarity in pictures was developed to recover raster errors and conceal packet lo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E6BBD-451B-4C1A-A17B-BE6836C4DD6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4CB145-6ED8-4084-A46A-6396F1BB83C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  <a:ea typeface="MS PGothic"/>
              </a:rPr>
              <a:t>Highlights from Presentation 2</a:t>
            </a:r>
            <a:br>
              <a:rPr sz="2800"/>
            </a:br>
            <a:r>
              <a:rPr b="1" lang="en-US" sz="2800" spc="-1" strike="noStrike">
                <a:solidFill>
                  <a:srgbClr val="a50021"/>
                </a:solidFill>
                <a:latin typeface="Times New Roman"/>
                <a:ea typeface="MS PGothic"/>
              </a:rPr>
              <a:t>“Standard encoding protocols on image and video coding”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  <a:ea typeface="MS PGothic"/>
              </a:rPr>
              <a:t>ITU-T SG-16, Q.6/16 activities are presented.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  <a:ea typeface="MS PGothic"/>
              </a:rPr>
              <a:t>Overview of image coding standards, JPEG, JBIG, and JPEG-2000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  <a:ea typeface="MS PGothic"/>
              </a:rPr>
              <a:t>Overview of several video coding standards, especially H.261, H.263, and H.264/AVC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  <a:ea typeface="MS PGothic"/>
              </a:rPr>
              <a:t>As regards H.264 (a joint effort of ITU-T SG 16 and MPEG), gains of more than 50% can be achieved over MPEG-2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B3A77-6D01-4162-AF65-FFEC66E380E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1E800A-9614-443F-B733-79ABCBF5EF0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886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  <a:ea typeface="MS PGothic"/>
              </a:rPr>
              <a:t>Highlights from Presentation 3</a:t>
            </a:r>
            <a:br>
              <a:rPr sz="2800"/>
            </a:br>
            <a:r>
              <a:rPr b="1" lang="en-US" sz="2800" spc="-1" strike="noStrike">
                <a:solidFill>
                  <a:srgbClr val="a50021"/>
                </a:solidFill>
                <a:latin typeface="Times New Roman"/>
                <a:ea typeface="MS PGothic"/>
              </a:rPr>
              <a:t>“Success of DICOM standard”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  <a:ea typeface="MS PGothic"/>
              </a:rPr>
              <a:t>DICOM is well positioned to continue to serve integration needs of medical imaging, including workflow, evidence information recording, effective access to imaging results in the enterprise.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  <a:ea typeface="MS PGothic"/>
              </a:rPr>
              <a:t>Active cooperation with other standards assures DICOM objects integration into future EHR – whether by reference, or through well-defined trans-coding mechanisms.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458CD-30BF-46C3-B1BC-95687DBEA88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3FAAC9-B62E-4EDE-A94B-C8B916EBC4D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  <a:ea typeface="MS PGothic"/>
              </a:rPr>
              <a:t>Highlights from Presentation 4</a:t>
            </a:r>
            <a:br>
              <a:rPr sz="2800"/>
            </a:br>
            <a:r>
              <a:rPr b="1" lang="en-US" sz="2800" spc="-1" strike="noStrike">
                <a:solidFill>
                  <a:srgbClr val="a50021"/>
                </a:solidFill>
                <a:latin typeface="Times New Roman"/>
                <a:ea typeface="MS PGothic"/>
              </a:rPr>
              <a:t>“Clinical Study on MPEG-2 Compression Based on the Rec. ITU-R BT. 500-9”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  <a:ea typeface="MS PGothic"/>
              </a:rPr>
              <a:t>Based on the Rec. ITU-R BT. 500-9, clinical study on MPEG-2 compression was performed.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  <a:ea typeface="MS PGothic"/>
              </a:rPr>
              <a:t>It is reported that at least 3 Mbps bandwidth required to transmit MPEG-2 with SD format.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  <a:ea typeface="MS PGothic"/>
              </a:rPr>
              <a:t>It is possible to calculate circuit(transponder) capacity based on suitable bandwidth and traffic numbers.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  <a:ea typeface="MS PGothic"/>
              </a:rPr>
              <a:t>It is reported that video in ambulance might be effective to save human life and reduce medical cost, if reliability channels are secured.  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664C6-03C3-46BE-90E7-86676287A95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4AC6F8-893A-4A5C-A2C4-34CA8566162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  <a:ea typeface="MS PGothic"/>
              </a:rPr>
              <a:t>Overview of issues in the session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  <a:ea typeface="MS PGothic"/>
              </a:rPr>
              <a:t>DICOM is well positioned to continue to serve integration needs of medical imaging, including workflow, evidence information recording, effective access to imaging results in the enterprise.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33"/>
                </a:solidFill>
                <a:latin typeface="Times New Roman"/>
                <a:ea typeface="MS PGothic"/>
              </a:rPr>
              <a:t>Advance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  <a:ea typeface="MS PGothic"/>
              </a:rPr>
              <a:t>video</a:t>
            </a:r>
            <a:r>
              <a:rPr b="0" lang="en-GB" sz="2400" spc="-1" strike="noStrike">
                <a:solidFill>
                  <a:srgbClr val="990033"/>
                </a:solidFill>
                <a:latin typeface="Times New Roman"/>
                <a:ea typeface="MS PGothic"/>
              </a:rPr>
              <a:t> coding (H.264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  <a:ea typeface="MS PGothic"/>
              </a:rPr>
              <a:t>/</a:t>
            </a:r>
            <a:r>
              <a:rPr b="0" lang="en-GB" sz="2400" spc="-1" strike="noStrike">
                <a:solidFill>
                  <a:srgbClr val="990033"/>
                </a:solidFill>
                <a:latin typeface="Times New Roman"/>
                <a:ea typeface="MS PGothic"/>
              </a:rPr>
              <a:t>A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  <a:ea typeface="MS PGothic"/>
              </a:rPr>
              <a:t>V</a:t>
            </a:r>
            <a:r>
              <a:rPr b="0" lang="en-GB" sz="2400" spc="-1" strike="noStrike">
                <a:solidFill>
                  <a:srgbClr val="990033"/>
                </a:solidFill>
                <a:latin typeface="Times New Roman"/>
                <a:ea typeface="MS PGothic"/>
              </a:rPr>
              <a:t>C) might be expected to support telemedicine, not only for video conferencing but also for remote medical diagnosis.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  <a:ea typeface="MS PGothic"/>
              </a:rPr>
              <a:t>Increased compression gains will enable signals with good video quality over lower bandwidth channels.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79CAA-A3DC-45AA-BAC5-B3BE236B995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FB6FE2-3C18-4690-B5B7-BF8811F6597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  <a:ea typeface="MS PGothic"/>
              </a:rPr>
              <a:t>Recommendations and follow-up actions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1143000"/>
            <a:ext cx="7696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  <a:ea typeface="MS PGothic"/>
              </a:rPr>
              <a:t>ITU-T and DICOM should investigate the potential areas where collaboration between the two organizations would be mutually benefici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  <a:ea typeface="MS PGothic"/>
              </a:rPr>
              <a:t>ITU-T should investigate the application of H.264 for performance of remote medical observation with real cases</a:t>
            </a:r>
            <a:r>
              <a:rPr b="0" lang="ja-JP" sz="2400" spc="-1" strike="noStrike">
                <a:solidFill>
                  <a:srgbClr val="990033"/>
                </a:solidFill>
                <a:latin typeface="Times New Roman"/>
                <a:ea typeface="MS PGothic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  <a:ea typeface="MS PGothic"/>
              </a:rPr>
              <a:t>ITU-T (with support from ITU-R) should develop a suitable video coding for fading channel to support mobile telemedicine, especially ambulatory appli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83C05-817B-4155-960B-65D26E85906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FAC65E-5DC2-4C9E-8760-59ED3969C05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7T17:05:20Z</dcterms:created>
  <dc:creator>TSB</dc:creator>
  <dc:description/>
  <dc:language>en-US</dc:language>
  <cp:lastModifiedBy>TSB-Simao</cp:lastModifiedBy>
  <dcterms:modified xsi:type="dcterms:W3CDTF">2003-05-26T19:18:03Z</dcterms:modified>
  <cp:revision>85</cp:revision>
  <dc:subject/>
  <dc:title>PowerPoint Presentation</dc:title>
</cp:coreProperties>
</file>