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4A99-01C8-4467-92B3-8497EC5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9590-1532-4C59-BCAA-F3A440A7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E51E-E758-4F33-9753-01247DB1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8A67-EC66-4815-ADBF-71156DA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7A0BA-90B5-40E1-8B43-754280584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07387-015E-48EE-9118-FAD6C078F8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037AC-446F-4698-9BFD-830FEF34D3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94DE8-C099-4A28-A9CF-457060DCA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72B2C-47AA-4E50-A4F4-37A93FB32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ED60F-895B-4D35-B195-23476A3173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A017-D2EB-4F55-923D-F52DC83D8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80D-DBF4-44D8-946E-CEB6907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3857-8F43-4EF3-B90D-1F6AB5D80A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DDD8-2CBF-49C2-A456-2DEDFEC427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E4183-1529-4B14-82AF-4C97B1607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EDAAE-0093-4E8F-9837-0209DB3B97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B21F3-1CEC-4E42-94C6-9610F746B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54C7-939B-42D2-8DC3-8A28E180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B751-A719-4978-AB77-BC28586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5428-0FAF-487D-8E97-713A241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708C-42BB-47C6-A15F-C9840EF7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09BF-C7B7-40F3-AA52-D4CB8EA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3387-734C-4C80-B523-0CA3391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0A87-1E07-43B6-A5BC-2D85D9A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CF3-106F-43B3-A45A-68CC45AE573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E4FC16A0-EF57-41BC-B2B5-BC941A0F16E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4080" y="11188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Interoperability &amp; QoS Implications of </a:t>
            </a:r>
            <a:br>
              <a:rPr sz="4800"/>
            </a:b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ISO TC215 WG2.1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16120" y="3631680"/>
            <a:ext cx="7696080" cy="24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odd Cooper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t.cooper@ieee.org)</a:t>
            </a:r>
            <a:endParaRPr b="0" lang="en-US" sz="20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hairman, IEEE 1073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echnical Director, MDCIG / IEEE-ISTO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esident, Breakthrough Solutions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Primary focus is on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2306520" y="2190600"/>
            <a:ext cx="6837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Point-of-Care (POC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6520" y="2989440"/>
            <a:ext cx="683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Medical Devi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98600" y="3700440"/>
            <a:ext cx="684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53060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ISO/IEEE 11073 Health informatics 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Point-of-care medical device communications -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E460-4150-47C4-B3E2-700FD4A05B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E6450C-FCE6-4104-BE90-B121084F10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X73’s architecture ensures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1844640" y="2190600"/>
            <a:ext cx="7299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ue interoperability across all 7-lay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om the connector to the end appl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3198960"/>
            <a:ext cx="72993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oS mechanisms designed to support the strong requirements placed on regulated medic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4640" y="4491000"/>
            <a:ext cx="72993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tainability as communications technology and application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BDF4-6B4D-40CE-ABF3-C0FFD4D91B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EE80FB-5C64-400E-B96F-F521212732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19320" y="1627200"/>
          <a:ext cx="5715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62720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119320" y="2541600"/>
          <a:ext cx="571500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9320" y="2541600"/>
                    <a:ext cx="5715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19320" y="3456000"/>
          <a:ext cx="57150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9320" y="345600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119320" y="4446720"/>
          <a:ext cx="5715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9320" y="444672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119320" y="5437080"/>
          <a:ext cx="57150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19320" y="543708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BBB0-0407-4868-A73F-B5BBD1F8831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159F8A-2D1D-43A6-8921-53CEF4676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5718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dical Device Data Language (MD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antics needed to communicate a device’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 status and contro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1428840"/>
          <a:ext cx="5715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2884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371600" y="4095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sists of three main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menclature (1073.1.1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ain Information Model (DIM) (1073.1.2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ice Specializations (1073.1.3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B556-6EA5-4FF8-829F-1916C676BF3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63C2F3-19BA-4FF7-BC16-318A5296D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30280" y="1044720"/>
            <a:ext cx="771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omencla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 set of numeric codes that identify ev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item that is communicated between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138400" y="2109960"/>
          <a:ext cx="548640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109960"/>
                    <a:ext cx="548640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8E71-10EC-4D5D-AECA-F5A399A2BEE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4828FE2-13B0-4EE5-81D6-9EB0B6370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8120" y="1433520"/>
            <a:ext cx="75358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omain Information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n object oriented data model that specifies objects, attributes, attribute groups, event reports, and services that may be used to communicate device data and to control / configure the reporting of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es not imply a specific implement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s include Medical Device System, Virtual Medical Device, Numeric, Enumeration, Real-Time Sample Array, Battery, Scanners, Alert Monitor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08FA-D6DF-4F22-9940-255312E3C16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8B33E3-855C-4F8A-A62D-22399DD3D7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1720" y="23760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78160" y="1011240"/>
          <a:ext cx="4077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1011240"/>
                    <a:ext cx="4077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954080" y="1301760"/>
            <a:ext cx="180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Domain Information Model Subjec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C80C-56DD-4774-9AF1-C650E639927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FAEFE5-461B-4E1D-8D6B-9A4B4C8430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16040" y="933480"/>
            <a:ext cx="7278840" cy="56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5AF7-4365-48FA-AC86-3DFB7B16426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5C4C55-5A6D-4FF1-BF5F-F3F88B835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3734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eneralized application profile standard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50880" y="1274760"/>
          <a:ext cx="57150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274760"/>
                    <a:ext cx="5715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808280" y="2949480"/>
            <a:ext cx="7335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 generic (non-device specific) set of data and services needed to initiate, configure, and maintain communic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8280" y="4140360"/>
            <a:ext cx="733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onnect ~ Disconnect, Create ~ Delete, Get ~ Set, Event Report, Invoke, et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08280" y="5013360"/>
            <a:ext cx="733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tandard Services:  ACSE, ROSE, CMISE, ASN.1, MDER (based on BER+), Et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08280" y="5896080"/>
            <a:ext cx="7335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Beginning work on XML &amp; Web Services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A96E-9255-4A6D-84C6-FA02F6DC9F0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3311CF-98AF-497B-B75A-93F10E0E5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28736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Inform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00200" y="3040200"/>
            <a:ext cx="1981080" cy="2699280"/>
            <a:chOff x="1600200" y="3040200"/>
            <a:chExt cx="1981080" cy="2699280"/>
          </a:xfrm>
        </p:grpSpPr>
        <p:sp>
          <p:nvSpPr>
            <p:cNvPr id="205" name=""/>
            <p:cNvSpPr/>
            <p:nvPr/>
          </p:nvSpPr>
          <p:spPr>
            <a:xfrm>
              <a:off x="1600200" y="4183200"/>
              <a:ext cx="1981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stract Synta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ASN.1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30402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62520" y="4183200"/>
            <a:ext cx="4800600" cy="1556280"/>
            <a:chOff x="3962520" y="4183200"/>
            <a:chExt cx="4800600" cy="1556280"/>
          </a:xfrm>
        </p:grpSpPr>
        <p:sp>
          <p:nvSpPr>
            <p:cNvPr id="208" name=""/>
            <p:cNvSpPr/>
            <p:nvPr/>
          </p:nvSpPr>
          <p:spPr>
            <a:xfrm>
              <a:off x="6782040" y="4183200"/>
              <a:ext cx="1981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ransfer Synta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MDER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4640400"/>
              <a:ext cx="2590920" cy="486000"/>
            </a:xfrm>
            <a:prstGeom prst="rightArrow">
              <a:avLst>
                <a:gd name="adj1" fmla="val 50000"/>
                <a:gd name="adj2" fmla="val 13327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24480" y="1668600"/>
            <a:ext cx="2819520" cy="2347920"/>
            <a:chOff x="6324480" y="1668600"/>
            <a:chExt cx="2819520" cy="2347920"/>
          </a:xfrm>
        </p:grpSpPr>
        <p:sp>
          <p:nvSpPr>
            <p:cNvPr id="211" name=""/>
            <p:cNvSpPr/>
            <p:nvPr/>
          </p:nvSpPr>
          <p:spPr>
            <a:xfrm>
              <a:off x="6324480" y="166860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n-the-Wire’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67480" y="30402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F9B5-938D-48A0-A431-07AED0D80C6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7563A5-9832-43B2-828F-D35BC2C721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3280" y="2057040"/>
            <a:ext cx="72007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33cc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SO TC215 Interoperability &amp; Qo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2120" y="3195720"/>
            <a:ext cx="721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90000"/>
              <a:buFont typeface="Wingdings" charset="2"/>
              <a:buChar char="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TC215 WG 2.1 X73 Standard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43280" y="4249800"/>
            <a:ext cx="7200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25600" indent="-5256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90000"/>
              <a:buFont typeface="Wingdings" charset="2"/>
              <a:buChar char="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QoS for Point-of-Care Medical Device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9D9E-675A-4C9B-9275-C921BA4315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4170133-296A-476E-8E6D-8C67D9BAB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3840" y="1512720"/>
            <a:ext cx="67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eneralized application profile standard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1240" y="208764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ofil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19200" y="2552760"/>
            <a:ext cx="6724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ecific set of capabilities tailored for a class of communication needs /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200" y="3886200"/>
            <a:ext cx="672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mits the options that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19200" y="4468680"/>
            <a:ext cx="672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maining options must be discovered and in some cases negotiated when a connection is made (enabling plug-n-play interoperability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5DC3-EBAB-46A2-A4C7-7289B45E3CC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5509AD-6114-4850-BF5C-5550D7CA5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2920" y="1454040"/>
            <a:ext cx="783108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18F6-9B28-4842-819E-EF004AF2E13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BB73AA-855F-4663-8497-D8F05AFB64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444680" y="1447920"/>
          <a:ext cx="5715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44792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550960" y="2954160"/>
            <a:ext cx="80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DA-Based Cable Conn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73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50960" y="3411360"/>
            <a:ext cx="80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DA-Based Infrared Wirel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73.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50960" y="4554360"/>
            <a:ext cx="659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 Wireless – high emphasis on Q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0960" y="5011560"/>
            <a:ext cx="80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Based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6760" y="2573280"/>
            <a:ext cx="770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ailabl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oint-to-point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ransport standar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38200" y="4173480"/>
            <a:ext cx="770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port standard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under consider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50800" y="5735520"/>
            <a:ext cx="769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Shared IT infrastructure with guarantee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6D10-2F76-4A4F-9A65-80EECF6291B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95BAE9-1323-4504-B065-5A06A5E70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46040" y="1305000"/>
          <a:ext cx="5715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30500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09480" y="2427120"/>
          <a:ext cx="853452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27120"/>
                    <a:ext cx="853452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919080" y="3908520"/>
            <a:ext cx="8224920" cy="2086560"/>
            <a:chOff x="919080" y="3908520"/>
            <a:chExt cx="8224920" cy="2086560"/>
          </a:xfrm>
        </p:grpSpPr>
        <p:sp>
          <p:nvSpPr>
            <p:cNvPr id="241" name=""/>
            <p:cNvSpPr/>
            <p:nvPr/>
          </p:nvSpPr>
          <p:spPr>
            <a:xfrm>
              <a:off x="993960" y="5384880"/>
              <a:ext cx="7619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xamples: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 Access Point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ired-to-Wireless Transport Gateway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919080" y="3908520"/>
            <a:ext cx="8224920" cy="115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19080" y="3908520"/>
                      <a:ext cx="822492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791-4379-4DE4-84EB-E1E84DB9B2B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2C000CB-81ED-4F90-8EAB-5C2A6E03C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65360" y="1246320"/>
          <a:ext cx="57150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5360" y="1246320"/>
                    <a:ext cx="5715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859040" y="2397240"/>
            <a:ext cx="6476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4680" indent="-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Interoperability between different application-layer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63760" y="5608800"/>
            <a:ext cx="7680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L7 / IEEE Gateway: IEEE 1073.6.1.1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L7 - Observation Reporting 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62120" y="4016520"/>
          <a:ext cx="838188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016520"/>
                    <a:ext cx="83818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3523-8F56-4973-8D7A-8C56863BF34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A38384-2CFA-49B6-AE2C-6AA9E73B7D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38600" y="1333440"/>
            <a:ext cx="1481040" cy="1422360"/>
          </a:xfrm>
          <a:prstGeom prst="cloudCallout">
            <a:avLst>
              <a:gd name="adj1" fmla="val -42069"/>
              <a:gd name="adj2" fmla="val 28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05680" y="1333440"/>
            <a:ext cx="1481040" cy="1422360"/>
          </a:xfrm>
          <a:prstGeom prst="cloudCallout">
            <a:avLst>
              <a:gd name="adj1" fmla="val -41745"/>
              <a:gd name="adj2" fmla="val 20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L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0760" y="1333440"/>
            <a:ext cx="8078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57840" y="1536840"/>
            <a:ext cx="942840" cy="1015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L7/10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4080" y="3162240"/>
            <a:ext cx="808200" cy="88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L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98600" y="19432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19640" y="194328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00680" y="194328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5320" y="2781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10000" y="2705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9120" y="3162240"/>
            <a:ext cx="807840" cy="88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26360" y="1333440"/>
            <a:ext cx="80820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L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86720" y="194328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4440" y="4876920"/>
            <a:ext cx="772956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1880" indent="-461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7-IEEE JWG Project Scop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ication and definition of interfaces to support interoperability between HL7 and 11073 based systems for Point-Of-Care testing / monitoring use cas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ECD9-1D02-48F7-B5BF-A69A596B36A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743466-20A0-4CAC-A840-CF95BC93F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13000" y="1876320"/>
            <a:ext cx="398772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X73 – Real-time plug-n-play interoperability across all 7-lay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583240" y="1785960"/>
          <a:ext cx="309564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1785960"/>
                    <a:ext cx="30956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481040" y="3882960"/>
            <a:ext cx="39877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r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ice-to-device up 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ice-to-EM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D771-2F12-41A5-9BBC-0EC1079B49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65F4FA-14DB-45AF-8FB9-DB25D524F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X73 includes QoS management support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/>
          <p:nvPr/>
        </p:nvSpPr>
        <p:spPr>
          <a:xfrm>
            <a:off x="1844640" y="2190600"/>
            <a:ext cx="72993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gotiated Bandwidth at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44640" y="2787480"/>
            <a:ext cx="72993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-up configuration minimizes network usage to that which is needed for client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44640" y="3778200"/>
            <a:ext cx="7299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ment Information Bases (MIBs) provide dynamic visibility to communications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4640" y="5095800"/>
            <a:ext cx="7299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te models and confirmed delivery provide a high level of reliability for medical 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83F4-794D-44E4-AB75-F5BF195BF1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866677-EF24-4138-B886-B1540B15A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rivers of X73 Qo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/>
          <p:nvPr/>
        </p:nvSpPr>
        <p:spPr>
          <a:xfrm>
            <a:off x="1844640" y="2190600"/>
            <a:ext cx="72993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gulated industry:  “Safe &amp; Effec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44640" y="2787480"/>
            <a:ext cx="72993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nical Use Cases for devices – esp. real-time requirements:  User needs &amp; expec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44640" y="3778200"/>
            <a:ext cx="7299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nsport and service profile technologies (LAN based vs. point-to-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44640" y="4694400"/>
            <a:ext cx="7299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ystem wide topologies (local vs. wide are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44640" y="5291280"/>
            <a:ext cx="7299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n-clinical stakeholders (…fin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3C04-D45D-4172-99A1-9C8E021B97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454DC2A-AE5C-4D60-81EA-E61A1081F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Key X73 QoS consideration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/>
          <p:nvPr/>
        </p:nvSpPr>
        <p:spPr>
          <a:xfrm>
            <a:off x="1844640" y="2190600"/>
            <a:ext cx="72993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liability – FMEA, error detection &amp;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44640" y="2787480"/>
            <a:ext cx="7299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tency – from device detection to end annunciation for the data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44640" y="3745080"/>
            <a:ext cx="7299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ority – Not all medical device data has the same communications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44640" y="4700520"/>
            <a:ext cx="7299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ndwidth – Allocation and dynamic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BB80-C4E6-4B44-989B-02CAD6CD25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7FFD3A-A826-44D3-A6CB-C1DAE5003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6160" y="236160"/>
            <a:ext cx="755316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  <a:ea typeface="굴림"/>
              </a:rPr>
              <a:t>ISO TC 215 Interoperability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  <a:ea typeface="굴림"/>
              </a:rPr>
              <a:t>Interoperabilit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 :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 ability of two or more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굴림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바탕"/>
              </a:rPr>
              <a:t>or components to </a:t>
            </a:r>
            <a:r>
              <a:rPr b="0" lang="en-US" sz="2600" spc="-1" strike="noStrike">
                <a:solidFill>
                  <a:srgbClr val="3333cc"/>
                </a:solidFill>
                <a:latin typeface="Trebuchet MS"/>
                <a:ea typeface="바탕"/>
              </a:rPr>
              <a:t>exchange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바탕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바탕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바탕"/>
              </a:rPr>
              <a:t>to </a:t>
            </a:r>
            <a:r>
              <a:rPr b="0" lang="en-US" sz="2600" spc="-1" strike="noStrike">
                <a:solidFill>
                  <a:srgbClr val="cc3300"/>
                </a:solidFill>
                <a:latin typeface="Trebuchet MS"/>
                <a:ea typeface="바탕"/>
              </a:rPr>
              <a:t>use the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바탕"/>
              </a:rPr>
              <a:t> that has been exchang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바탕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바탕"/>
              </a:rPr>
              <a:t>source : IEEE Standard Computer Dictionary : A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바탕"/>
              </a:rPr>
              <a:t>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바탕"/>
              </a:rPr>
              <a:t>Compilation of IEEE Standard Computer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바탕"/>
              </a:rPr>
              <a:t>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바탕"/>
              </a:rPr>
              <a:t>Glossaries, IEEE, 1990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rebuchet MS"/>
                <a:ea typeface="바탕"/>
              </a:rPr>
              <a:t>Functional interope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hared Architectures, Methods &amp; Frame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rebuchet MS"/>
                <a:ea typeface="바탕"/>
              </a:rPr>
              <a:t>Semantic interope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Shared data types, terminologies, codin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775B-1CD1-48E3-A145-B74F0B6428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766F33-FA43-42D3-95C2-97E121608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X73 Data Categorizatio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>
            <a:off x="1844640" y="1897200"/>
            <a:ext cx="7299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erts (both physiological &amp; techn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44640" y="2452680"/>
            <a:ext cx="7299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al-time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44640" y="2998800"/>
            <a:ext cx="7299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al-time Parameters (Breath-to-bre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4640" y="3527280"/>
            <a:ext cx="729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n-RT Parameters (battery level, metric lab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44640" y="4083120"/>
            <a:ext cx="7299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n-RT Event (low batt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44640" y="4646520"/>
            <a:ext cx="729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44640" y="5168880"/>
            <a:ext cx="729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y / Arch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44640" y="5716440"/>
            <a:ext cx="729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E6C-7E30-425E-A9A9-B80FEDDF516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BE866E1-9BC3-4C14-B4A2-B539D2B60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98600" y="0"/>
          <a:ext cx="7502400" cy="6599160"/>
        </p:xfrm>
        <a:graphic>
          <a:graphicData uri="http://schemas.openxmlformats.org/drawingml/2006/table">
            <a:tbl>
              <a:tblPr/>
              <a:tblGrid>
                <a:gridCol w="1906560"/>
                <a:gridCol w="1618920"/>
                <a:gridCol w="1175040"/>
                <a:gridCol w="1544400"/>
                <a:gridCol w="1257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ta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ndwid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o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li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t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er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 (64B/Al.), Intermit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T-Wa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 (120 to 4KB/s/chan) Predic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&lt;RT&gt; or CS=3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T-Param’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-Med, Predic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-RT Param’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 (20B/p), Unpredi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-RT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-Med, Unpredi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C: 3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S: 5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tr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predi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C: 3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S: 5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story / Arch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, Bursty, Unpredi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-&gt;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ush: &gt;5 sec; Pull: &lt; 5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b Brow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, Bursty, Unpredi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-&gt;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-5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BC5C-3AA6-4DFE-BB5D-5148CDEE6908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C405AB-FCC7-4937-9246-E36BA8A99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X73 QoS Issue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/>
          <p:nvPr/>
        </p:nvSpPr>
        <p:spPr>
          <a:xfrm>
            <a:off x="1844640" y="1897200"/>
            <a:ext cx="72993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tenc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oritization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d Bandwidth managemen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cross multiple manufactures / de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44640" y="3795840"/>
            <a:ext cx="729936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liabilit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oritization policies – guaranteed B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fault detection &amp; An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44640" y="5264280"/>
            <a:ext cx="7299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ceful system performance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4640" y="5853240"/>
            <a:ext cx="7299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-existence Management (esp. RF wire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C571-F766-486A-96A5-F5F90BED560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BE45E9-8AE6-4267-9513-201466E832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And what about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"/>
          <p:cNvSpPr/>
          <p:nvPr/>
        </p:nvSpPr>
        <p:spPr>
          <a:xfrm>
            <a:off x="1844640" y="2328840"/>
            <a:ext cx="72993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mote Control:  a virtual plug-n-play remote control networ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4640" y="3363840"/>
            <a:ext cx="7299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access:  Real-time vital signs viewing across the world (w/security, authenticatio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6CA2-CE6F-423A-9AC7-7EA6B617F5B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2E5323-4115-4551-9C35-6B6B4613D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1163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onclusions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/>
          <p:nvPr/>
        </p:nvSpPr>
        <p:spPr>
          <a:xfrm>
            <a:off x="1844640" y="1746360"/>
            <a:ext cx="72993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73 are the only comprehensive point-of-care medical device communication standards on the horiz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44640" y="2946240"/>
            <a:ext cx="72993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additional pilot projects to show capabilities of X73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870360"/>
            <a:ext cx="72993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ealth care providers and management organizations must demand medical device interoperability using X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44640" y="5095800"/>
            <a:ext cx="7299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 welcome support in adding security, web services, and rigorous LAN-based QoS support to our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0573-6D4B-4F1D-9832-51F7E5653E2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E0BCF34-0BE0-4944-A3C0-0B10E6ACC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  <a:ea typeface="굴림"/>
              </a:rPr>
              <a:t>ISO TC 215 Interoperability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6160" y="1371600"/>
            <a:ext cx="773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G 1: EHR architecture and mode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G 2: Messaging architecture &amp; meth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G 3: Terminology Meth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 algn="just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G 4: Shared security archite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 algn="just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G 5: Shared health card framewor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7A6B-5CD6-4818-8EED-15A6FEAC53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8764C00-1F7B-49C8-8A0F-E24C16A2F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6160" y="380880"/>
            <a:ext cx="7553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  <a:ea typeface="굴림"/>
              </a:rPr>
              <a:t>ISO TC 215 Interoperability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7440" y="1336320"/>
            <a:ext cx="76662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For Quality of Service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WG 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 - Health indicators conceptual frame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WG 2 -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Quality indicators for health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information made available on the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굴림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BE8D-61AB-44C4-ACF0-11AE12F276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3E7033-20B4-4219-9CF4-7378FA509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 TC215 Health Informati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739880" y="2438280"/>
            <a:ext cx="39877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62960" indent="-46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cus is primarily on Level 7 Interoper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583240" y="1785960"/>
          <a:ext cx="309564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1785960"/>
                    <a:ext cx="30956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708200" y="4192560"/>
            <a:ext cx="3987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edical Device Communications covers all 7 lay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7921-4BF2-4E80-BD90-7D810D5F551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61972F-7CB1-40D4-B77D-B801D9FFF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 TC215 Health Informati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25520" y="1154160"/>
          <a:ext cx="565632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154160"/>
                    <a:ext cx="565632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0150-6323-4056-9122-FC935D53C5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DFC2BC-C95B-41F2-B82D-D525F758B6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/CEN X73 Proc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417680"/>
            <a:ext cx="5791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Work Plan for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cl. resolution of all issues between IEEE, ISO, and C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0942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28800" y="2332080"/>
            <a:ext cx="5790960" cy="1295280"/>
            <a:chOff x="1828800" y="2332080"/>
            <a:chExt cx="5790960" cy="1295280"/>
          </a:xfrm>
        </p:grpSpPr>
        <p:sp>
          <p:nvSpPr>
            <p:cNvPr id="118" name=""/>
            <p:cNvSpPr/>
            <p:nvPr/>
          </p:nvSpPr>
          <p:spPr>
            <a:xfrm>
              <a:off x="1828800" y="2712960"/>
              <a:ext cx="57909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velop and Ballot Draft Using IEEE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23320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16880" y="3168360"/>
            <a:ext cx="1527120" cy="1345320"/>
            <a:chOff x="7616880" y="3168360"/>
            <a:chExt cx="1527120" cy="1345320"/>
          </a:xfrm>
        </p:grpSpPr>
        <p:sp>
          <p:nvSpPr>
            <p:cNvPr id="121" name=""/>
            <p:cNvSpPr/>
            <p:nvPr/>
          </p:nvSpPr>
          <p:spPr>
            <a:xfrm flipV="1">
              <a:off x="7616880" y="4463640"/>
              <a:ext cx="4586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8075520" y="3170160"/>
              <a:ext cx="2880" cy="130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16880" y="3168360"/>
              <a:ext cx="458640" cy="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33224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     fails ISO     DIS/FDIS  bal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20" y="1798560"/>
            <a:ext cx="1523520" cy="2743200"/>
            <a:chOff x="304920" y="1798560"/>
            <a:chExt cx="1523520" cy="2743200"/>
          </a:xfrm>
        </p:grpSpPr>
        <p:sp>
          <p:nvSpPr>
            <p:cNvPr id="126" name=""/>
            <p:cNvSpPr/>
            <p:nvPr/>
          </p:nvSpPr>
          <p:spPr>
            <a:xfrm flipH="1">
              <a:off x="1447560" y="17985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560" y="1798560"/>
              <a:ext cx="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560" y="45417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920" y="27115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leted Published Stand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3627360"/>
            <a:ext cx="6400800" cy="1295280"/>
            <a:chOff x="1828800" y="3627360"/>
            <a:chExt cx="6400800" cy="1295280"/>
          </a:xfrm>
        </p:grpSpPr>
        <p:sp>
          <p:nvSpPr>
            <p:cNvPr id="131" name=""/>
            <p:cNvSpPr/>
            <p:nvPr/>
          </p:nvSpPr>
          <p:spPr>
            <a:xfrm>
              <a:off x="1828800" y="4008240"/>
              <a:ext cx="57909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llot Approved IEEE 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ing ISO Process (DIS/FDI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1680" y="362736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560" y="362736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 passes IEEE bal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828800" y="4923000"/>
            <a:ext cx="6553080" cy="1294920"/>
            <a:chOff x="1828800" y="4923000"/>
            <a:chExt cx="6553080" cy="1294920"/>
          </a:xfrm>
        </p:grpSpPr>
        <p:grpSp>
          <p:nvGrpSpPr>
            <p:cNvPr id="135" name=""/>
            <p:cNvGrpSpPr/>
            <p:nvPr/>
          </p:nvGrpSpPr>
          <p:grpSpPr>
            <a:xfrm>
              <a:off x="1828800" y="4923000"/>
              <a:ext cx="5790960" cy="1294920"/>
              <a:chOff x="1828800" y="4923000"/>
              <a:chExt cx="5790960" cy="129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1828800" y="5303880"/>
                <a:ext cx="579096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ublish ISO/IEEE/CEN Stand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11680" y="4923000"/>
                <a:ext cx="0" cy="38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876560" y="492300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 passes ISO DIS/FDIS bal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6E11-F761-42E2-BC74-5008E109B7A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306FCAA-16C3-48FD-BFEE-08218DA91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SO/IEEE 11073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44640" y="2190600"/>
            <a:ext cx="7299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Provide real-time plug-n-play interoperability for patient-connected medical devic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X73 Charter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48909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leveraging off-the-shelf technologies, scaling across a wide range of system complexities, and supporting commercially viable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1400" y="3287880"/>
            <a:ext cx="73026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Facilitate the efficient exchange of vital signs and medical device data, acquired at the point-of-care, in all health car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31A1-C602-4CA7-9491-8EF4CF08FC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EB3BD7-77B6-4808-AA9A-A8C1AA605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Todd Cooper</dc:creator>
  <dc:description>An overview presentation of the QoS considerations that flow from the ISO TC215 WG2.1 sub-working group on Health Informatics - Point-of-Care Medical Device Communications.</dc:description>
  <dc:language>en-US</dc:language>
  <cp:lastModifiedBy>tcooper</cp:lastModifiedBy>
  <cp:lastPrinted>2001-03-15T13:10:50Z</cp:lastPrinted>
  <dcterms:modified xsi:type="dcterms:W3CDTF">2003-05-25T09:54:44Z</dcterms:modified>
  <cp:revision>147</cp:revision>
  <dc:subject/>
  <dc:title>ITU-T eHealth: Interoperability &amp; QoS Implications of ISO TC215 WG2.1</dc:title>
</cp:coreProperties>
</file>