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1.png" ContentType="image/png"/>
  <Override PartName="/ppt/media/image8.pct" ContentType="image/x-pict"/>
  <Override PartName="/ppt/media/image1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F4AD6-9081-4AE8-B6D5-35150C6526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652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0652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74032-1AE2-4701-A4E4-8066FA55B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0652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648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0652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648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A074C-3A03-436F-BFA5-B42AC1B72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0652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04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4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0652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04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4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A222F-757B-4C15-910E-45F80E38B4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97BC1-D355-48BC-BCE1-3DBF22022C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065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F08A4-F4AD-4A5C-BF57-CE58353969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65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19B28-4B69-49B3-B7B4-1D84549BF4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0652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648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E6CBB-C7C8-4517-A246-7C249DA2D8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DD4F0-A290-4223-9F64-591F4DD7D6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55634-41BB-445A-8089-1EF47E9FFB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0652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648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0652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CEFCE-F47E-43A6-BAD7-1583D1A7F8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065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F8954-49A0-4ED9-80E2-C4B06A900D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652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648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648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9AAA1-EB7B-4839-AC79-FD5E4858F2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652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648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0652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B8138-A1DC-4018-88CF-948D0D16FE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0652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0652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9B528-A053-4C6C-AC01-E0E36CF433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652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648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0652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648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92054-F6F2-4209-B203-8CC0397593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0652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704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34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0652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704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34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82D26-531B-47A2-B2EB-587B1562D4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65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41319-1EA4-468F-B04F-62F14FFDD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652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648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A3E90-CAEC-443C-9A36-6A38BF30F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97D93-EF07-4348-A977-84082CEDD3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AC7C2-C82A-4DA1-8561-D8DA3CED9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0652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648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0652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FE1C5-AFB8-4562-B3A0-04B0F01F8F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652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648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648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DC594-C2FA-43D7-B28F-76FF9DAA6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652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648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0652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374B-FB65-49DF-9678-FAC2ADAD6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124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8840" y="1447560"/>
            <a:ext cx="789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6461280"/>
            <a:ext cx="9090000" cy="337320"/>
            <a:chOff x="0" y="6461280"/>
            <a:chExt cx="9090000" cy="337320"/>
          </a:xfrm>
        </p:grpSpPr>
        <p:sp>
          <p:nvSpPr>
            <p:cNvPr id="3" name=""/>
            <p:cNvSpPr/>
            <p:nvPr/>
          </p:nvSpPr>
          <p:spPr>
            <a:xfrm>
              <a:off x="0" y="6461280"/>
              <a:ext cx="909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99"/>
                  </a:solidFill>
                  <a:latin typeface="Arial"/>
                </a:rPr>
                <a:t>Patrik F</a:t>
              </a:r>
              <a:r>
                <a:rPr b="1" lang="de-DE" sz="1000" spc="-1" strike="noStrike">
                  <a:solidFill>
                    <a:srgbClr val="003399"/>
                  </a:solidFill>
                  <a:latin typeface="Arial"/>
                </a:rPr>
                <a:t>ältström</a:t>
              </a:r>
              <a:r>
                <a:rPr b="1" lang="en-US" sz="1000" spc="-1" strike="noStrike">
                  <a:solidFill>
                    <a:srgbClr val="003399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.</a:t>
              </a:r>
              <a:r>
                <a:rPr b="1" lang="en-US" sz="1000" spc="-1" strike="noStrike">
                  <a:solidFill>
                    <a:srgbClr val="003399"/>
                  </a:solidFill>
                  <a:latin typeface="Arial"/>
                </a:rPr>
                <a:t>     </a:t>
              </a:r>
              <a:r>
                <a:rPr b="1" lang="de-DE" sz="1000" spc="-1" strike="noStrike">
                  <a:solidFill>
                    <a:srgbClr val="003399"/>
                  </a:solidFill>
                  <a:latin typeface="Arial"/>
                </a:rPr>
                <a:t>ITU Tutorial Workshop on ENUM     </a:t>
              </a: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.     </a:t>
              </a:r>
              <a:r>
                <a:rPr b="1" lang="de-DE" sz="1000" spc="-1" strike="noStrike">
                  <a:solidFill>
                    <a:srgbClr val="003399"/>
                  </a:solidFill>
                  <a:latin typeface="Arial"/>
                </a:rPr>
                <a:t> Feb 8, </a:t>
              </a:r>
              <a:r>
                <a:rPr b="1" lang="en-US" sz="1000" spc="-1" strike="noStrike">
                  <a:solidFill>
                    <a:srgbClr val="003399"/>
                  </a:solidFill>
                  <a:latin typeface="Arial"/>
                </a:rPr>
                <a:t> 2002, </a:t>
              </a:r>
              <a:r>
                <a:rPr b="1" lang="de-DE" sz="1000" spc="-1" strike="noStrike">
                  <a:solidFill>
                    <a:srgbClr val="003399"/>
                  </a:solidFill>
                  <a:latin typeface="Arial"/>
                </a:rPr>
                <a:t>Geneva </a:t>
              </a:r>
              <a:endParaRPr b="0" lang="en-US" sz="1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04800" y="6465240"/>
              <a:ext cx="794304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170560" y="6324120"/>
            <a:ext cx="765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AEC2-5775-45AD-B1E6-8078D16CC8C9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942320" y="228600"/>
            <a:ext cx="1125360" cy="69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34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6461280"/>
            <a:ext cx="9090000" cy="337320"/>
            <a:chOff x="0" y="6461280"/>
            <a:chExt cx="9090000" cy="337320"/>
          </a:xfrm>
        </p:grpSpPr>
        <p:sp>
          <p:nvSpPr>
            <p:cNvPr id="45" name=""/>
            <p:cNvSpPr/>
            <p:nvPr/>
          </p:nvSpPr>
          <p:spPr>
            <a:xfrm>
              <a:off x="0" y="6461280"/>
              <a:ext cx="909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99"/>
                  </a:solidFill>
                  <a:latin typeface="Arial"/>
                </a:rPr>
                <a:t>Patrik F</a:t>
              </a:r>
              <a:r>
                <a:rPr b="1" lang="de-DE" sz="1000" spc="-1" strike="noStrike">
                  <a:solidFill>
                    <a:srgbClr val="003399"/>
                  </a:solidFill>
                  <a:latin typeface="Arial"/>
                </a:rPr>
                <a:t>ältström</a:t>
              </a:r>
              <a:r>
                <a:rPr b="1" lang="en-US" sz="1000" spc="-1" strike="noStrike">
                  <a:solidFill>
                    <a:srgbClr val="003399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.</a:t>
              </a:r>
              <a:r>
                <a:rPr b="1" lang="en-US" sz="1000" spc="-1" strike="noStrike">
                  <a:solidFill>
                    <a:srgbClr val="003399"/>
                  </a:solidFill>
                  <a:latin typeface="Arial"/>
                </a:rPr>
                <a:t>     </a:t>
              </a:r>
              <a:r>
                <a:rPr b="1" lang="de-DE" sz="1000" spc="-1" strike="noStrike">
                  <a:solidFill>
                    <a:srgbClr val="003399"/>
                  </a:solidFill>
                  <a:latin typeface="Arial"/>
                </a:rPr>
                <a:t>ITU Tutorial Workshop on ENUM     </a:t>
              </a: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.     </a:t>
              </a:r>
              <a:r>
                <a:rPr b="1" lang="de-DE" sz="1000" spc="-1" strike="noStrike">
                  <a:solidFill>
                    <a:srgbClr val="003399"/>
                  </a:solidFill>
                  <a:latin typeface="Arial"/>
                </a:rPr>
                <a:t> Feb 8, </a:t>
              </a:r>
              <a:r>
                <a:rPr b="1" lang="en-US" sz="1000" spc="-1" strike="noStrike">
                  <a:solidFill>
                    <a:srgbClr val="003399"/>
                  </a:solidFill>
                  <a:latin typeface="Arial"/>
                </a:rPr>
                <a:t> 2002, </a:t>
              </a:r>
              <a:r>
                <a:rPr b="1" lang="de-DE" sz="1000" spc="-1" strike="noStrike">
                  <a:solidFill>
                    <a:srgbClr val="003399"/>
                  </a:solidFill>
                  <a:latin typeface="Arial"/>
                </a:rPr>
                <a:t>Geneva </a:t>
              </a:r>
              <a:endParaRPr b="0" lang="en-US" sz="1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604800" y="6465240"/>
              <a:ext cx="794304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8170560" y="6324120"/>
            <a:ext cx="765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C31A-1D9D-4D67-8DF7-37271A70C6FD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942320" y="228600"/>
            <a:ext cx="1125360" cy="696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99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3399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33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33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image" Target="../media/image7.pct"/><Relationship Id="rId4" Type="http://schemas.openxmlformats.org/officeDocument/2006/relationships/image" Target="../media/image7.pct"/><Relationship Id="rId5" Type="http://schemas.openxmlformats.org/officeDocument/2006/relationships/image" Target="../media/image10.pct"/><Relationship Id="rId6" Type="http://schemas.openxmlformats.org/officeDocument/2006/relationships/image" Target="../media/image11.pct"/><Relationship Id="rId7" Type="http://schemas.openxmlformats.org/officeDocument/2006/relationships/image" Target="../media/image7.pct"/><Relationship Id="rId8" Type="http://schemas.openxmlformats.org/officeDocument/2006/relationships/image" Target="../media/image7.pct"/><Relationship Id="rId9" Type="http://schemas.openxmlformats.org/officeDocument/2006/relationships/image" Target="../media/image12.pct"/><Relationship Id="rId10" Type="http://schemas.openxmlformats.org/officeDocument/2006/relationships/image" Target="../media/image13.pct"/><Relationship Id="rId11" Type="http://schemas.openxmlformats.org/officeDocument/2006/relationships/image" Target="../media/image13.pct"/><Relationship Id="rId12" Type="http://schemas.openxmlformats.org/officeDocument/2006/relationships/image" Target="../media/image9.pct"/><Relationship Id="rId13" Type="http://schemas.openxmlformats.org/officeDocument/2006/relationships/image" Target="../media/image9.pct"/><Relationship Id="rId14" Type="http://schemas.openxmlformats.org/officeDocument/2006/relationships/image" Target="../media/image7.pct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image" Target="../media/image7.pct"/><Relationship Id="rId4" Type="http://schemas.openxmlformats.org/officeDocument/2006/relationships/image" Target="../media/image7.pct"/><Relationship Id="rId5" Type="http://schemas.openxmlformats.org/officeDocument/2006/relationships/image" Target="../media/image10.pct"/><Relationship Id="rId6" Type="http://schemas.openxmlformats.org/officeDocument/2006/relationships/image" Target="../media/image11.pct"/><Relationship Id="rId7" Type="http://schemas.openxmlformats.org/officeDocument/2006/relationships/image" Target="../media/image7.pct"/><Relationship Id="rId8" Type="http://schemas.openxmlformats.org/officeDocument/2006/relationships/image" Target="../media/image7.pct"/><Relationship Id="rId9" Type="http://schemas.openxmlformats.org/officeDocument/2006/relationships/image" Target="../media/image12.pct"/><Relationship Id="rId10" Type="http://schemas.openxmlformats.org/officeDocument/2006/relationships/image" Target="../media/image13.pct"/><Relationship Id="rId11" Type="http://schemas.openxmlformats.org/officeDocument/2006/relationships/image" Target="../media/image13.pct"/><Relationship Id="rId12" Type="http://schemas.openxmlformats.org/officeDocument/2006/relationships/image" Target="../media/image9.pct"/><Relationship Id="rId13" Type="http://schemas.openxmlformats.org/officeDocument/2006/relationships/image" Target="../media/image9.pct"/><Relationship Id="rId14" Type="http://schemas.openxmlformats.org/officeDocument/2006/relationships/image" Target="../media/image7.pct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image" Target="../media/image7.pct"/><Relationship Id="rId4" Type="http://schemas.openxmlformats.org/officeDocument/2006/relationships/image" Target="../media/image7.pct"/><Relationship Id="rId5" Type="http://schemas.openxmlformats.org/officeDocument/2006/relationships/image" Target="../media/image10.pct"/><Relationship Id="rId6" Type="http://schemas.openxmlformats.org/officeDocument/2006/relationships/image" Target="../media/image11.pct"/><Relationship Id="rId7" Type="http://schemas.openxmlformats.org/officeDocument/2006/relationships/image" Target="../media/image7.pct"/><Relationship Id="rId8" Type="http://schemas.openxmlformats.org/officeDocument/2006/relationships/image" Target="../media/image7.pct"/><Relationship Id="rId9" Type="http://schemas.openxmlformats.org/officeDocument/2006/relationships/image" Target="../media/image12.pct"/><Relationship Id="rId10" Type="http://schemas.openxmlformats.org/officeDocument/2006/relationships/image" Target="../media/image13.pct"/><Relationship Id="rId11" Type="http://schemas.openxmlformats.org/officeDocument/2006/relationships/image" Target="../media/image13.pct"/><Relationship Id="rId12" Type="http://schemas.openxmlformats.org/officeDocument/2006/relationships/image" Target="../media/image9.pct"/><Relationship Id="rId13" Type="http://schemas.openxmlformats.org/officeDocument/2006/relationships/image" Target="../media/image9.pct"/><Relationship Id="rId14" Type="http://schemas.openxmlformats.org/officeDocument/2006/relationships/image" Target="../media/image7.pct"/><Relationship Id="rId1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iana.org/arpa-dom/" TargetMode="External"/><Relationship Id="rId2" Type="http://schemas.openxmlformats.org/officeDocument/2006/relationships/hyperlink" Target="http://www.iana.org/arpa-dom/" TargetMode="Externa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image" Target="../media/image6.pct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image" Target="../media/image6.pct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image" Target="../media/image7.pct"/><Relationship Id="rId5" Type="http://schemas.openxmlformats.org/officeDocument/2006/relationships/image" Target="../media/image9.pct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Explanation of ENUM (RFC 2916)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atrik F</a:t>
            </a:r>
            <a:r>
              <a:rPr b="1" lang="de-DE" sz="2800" spc="-1" strike="noStrike">
                <a:solidFill>
                  <a:srgbClr val="003399"/>
                </a:solidFill>
                <a:latin typeface="Arial"/>
              </a:rPr>
              <a:t>ältström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rea Director, Applications Area</a:t>
            </a:r>
            <a:r>
              <a:rPr b="1" lang="de-DE" sz="2800" spc="-1" strike="noStrike">
                <a:solidFill>
                  <a:srgbClr val="003399"/>
                </a:solidFill>
                <a:latin typeface="Arial"/>
              </a:rPr>
              <a:t>, 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IETF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124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Example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2133720"/>
            <a:ext cx="1219320" cy="76176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971800" y="2209320"/>
            <a:ext cx="457200" cy="6858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590920" y="3047760"/>
            <a:ext cx="457200" cy="6858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715000" y="2438280"/>
            <a:ext cx="838080" cy="60984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2895480"/>
            <a:ext cx="1752480" cy="2286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67280" y="3276720"/>
            <a:ext cx="1295640" cy="6858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333760" y="3200400"/>
            <a:ext cx="152280" cy="9907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514240" y="3962520"/>
            <a:ext cx="152280" cy="9903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181480" y="4343400"/>
            <a:ext cx="152640" cy="9907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5181480"/>
            <a:ext cx="1752840" cy="2286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5562720"/>
            <a:ext cx="1752480" cy="2286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362320" y="2514600"/>
            <a:ext cx="1295280" cy="781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08040" cy="8128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3200400" y="1523880"/>
            <a:ext cx="773280" cy="784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2362320" y="3581280"/>
            <a:ext cx="772920" cy="784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4876920" y="2743200"/>
            <a:ext cx="1295280" cy="781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6934320" y="3657600"/>
            <a:ext cx="608040" cy="812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6400800" y="1905120"/>
            <a:ext cx="773280" cy="78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4952880" y="3962520"/>
            <a:ext cx="773280" cy="784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6858000" y="5410080"/>
            <a:ext cx="736560" cy="785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0"/>
          <a:stretch/>
        </p:blipFill>
        <p:spPr>
          <a:xfrm>
            <a:off x="1981080" y="4800600"/>
            <a:ext cx="1181160" cy="7142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1"/>
          <a:stretch/>
        </p:blipFill>
        <p:spPr>
          <a:xfrm>
            <a:off x="4419720" y="5105520"/>
            <a:ext cx="1181160" cy="714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62120" y="2133720"/>
            <a:ext cx="7238880" cy="2590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88" name="Hello" descr=""/>
          <p:cNvPicPr/>
          <p:nvPr/>
        </p:nvPicPr>
        <p:blipFill>
          <a:blip r:embed="rId12"/>
          <a:stretch/>
        </p:blipFill>
        <p:spPr>
          <a:xfrm>
            <a:off x="0" y="1447920"/>
            <a:ext cx="1084320" cy="1371600"/>
          </a:xfrm>
          <a:prstGeom prst="rect">
            <a:avLst/>
          </a:prstGeom>
          <a:ln w="0">
            <a:noFill/>
          </a:ln>
        </p:spPr>
      </p:pic>
      <p:pic>
        <p:nvPicPr>
          <p:cNvPr id="189" name="Hello" descr=""/>
          <p:cNvPicPr/>
          <p:nvPr/>
        </p:nvPicPr>
        <p:blipFill>
          <a:blip r:embed="rId13"/>
          <a:stretch/>
        </p:blipFill>
        <p:spPr>
          <a:xfrm>
            <a:off x="8001000" y="4191120"/>
            <a:ext cx="10843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6705720" y="990720"/>
            <a:ext cx="2252520" cy="784080"/>
            <a:chOff x="6705720" y="990720"/>
            <a:chExt cx="2252520" cy="784080"/>
          </a:xfrm>
        </p:grpSpPr>
        <p:pic>
          <p:nvPicPr>
            <p:cNvPr id="191" name="" descr=""/>
            <p:cNvPicPr/>
            <p:nvPr/>
          </p:nvPicPr>
          <p:blipFill>
            <a:blip r:embed="rId14"/>
            <a:stretch/>
          </p:blipFill>
          <p:spPr>
            <a:xfrm>
              <a:off x="6705720" y="990720"/>
              <a:ext cx="77292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7544880" y="1219320"/>
              <a:ext cx="14133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DNS-Server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80880" y="3429000"/>
            <a:ext cx="7010640" cy="13716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580920" y="1219320"/>
            <a:ext cx="1295640" cy="563868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588600">
            <a:off x="456480" y="3200400"/>
            <a:ext cx="9849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588600">
            <a:off x="456840" y="3576240"/>
            <a:ext cx="756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PST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912800">
            <a:off x="3248640" y="5834160"/>
            <a:ext cx="1454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alled party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6912800">
            <a:off x="2836800" y="5808960"/>
            <a:ext cx="15321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alling party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96480" y="2133720"/>
            <a:ext cx="1300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P-Serv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67240" y="1066680"/>
            <a:ext cx="1300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P-Serv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98720" y="4038480"/>
            <a:ext cx="1085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15000" y="4648320"/>
            <a:ext cx="1085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124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VoIP via SIP to VoIP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28800" y="2133720"/>
            <a:ext cx="1219320" cy="76176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971800" y="2209320"/>
            <a:ext cx="457200" cy="6858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590920" y="3047760"/>
            <a:ext cx="457200" cy="6858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715000" y="2438280"/>
            <a:ext cx="838080" cy="60984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2895480"/>
            <a:ext cx="1752480" cy="2286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67280" y="3276720"/>
            <a:ext cx="1295640" cy="6858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333760" y="3200400"/>
            <a:ext cx="152280" cy="9907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514240" y="3962520"/>
            <a:ext cx="152280" cy="9903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5181480" y="4343400"/>
            <a:ext cx="152640" cy="9907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95480" y="5181480"/>
            <a:ext cx="1752840" cy="2286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4120" y="5562720"/>
            <a:ext cx="1752480" cy="2286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362320" y="2514600"/>
            <a:ext cx="1295280" cy="781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08040" cy="8128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3200400" y="1523880"/>
            <a:ext cx="773280" cy="784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2362320" y="3581280"/>
            <a:ext cx="772920" cy="7844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4876920" y="2743200"/>
            <a:ext cx="1295280" cy="781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6934320" y="3657600"/>
            <a:ext cx="608040" cy="8128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6400800" y="1905120"/>
            <a:ext cx="773280" cy="7840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4952880" y="3962520"/>
            <a:ext cx="773280" cy="784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9"/>
          <a:stretch/>
        </p:blipFill>
        <p:spPr>
          <a:xfrm>
            <a:off x="6858000" y="5410080"/>
            <a:ext cx="736560" cy="7858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0"/>
          <a:stretch/>
        </p:blipFill>
        <p:spPr>
          <a:xfrm>
            <a:off x="1981080" y="4800600"/>
            <a:ext cx="1181160" cy="714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1"/>
          <a:stretch/>
        </p:blipFill>
        <p:spPr>
          <a:xfrm>
            <a:off x="4419720" y="5105520"/>
            <a:ext cx="1181160" cy="7142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914400" y="1828800"/>
            <a:ext cx="838080" cy="30492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905120" y="2057040"/>
            <a:ext cx="1523880" cy="15228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057400"/>
            <a:ext cx="3048120" cy="22860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6934320" y="2438280"/>
            <a:ext cx="457200" cy="144792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230" name="Hello" descr=""/>
          <p:cNvPicPr/>
          <p:nvPr/>
        </p:nvPicPr>
        <p:blipFill>
          <a:blip r:embed="rId12"/>
          <a:stretch/>
        </p:blipFill>
        <p:spPr>
          <a:xfrm>
            <a:off x="0" y="1447920"/>
            <a:ext cx="1084320" cy="1371600"/>
          </a:xfrm>
          <a:prstGeom prst="rect">
            <a:avLst/>
          </a:prstGeom>
          <a:ln w="0">
            <a:noFill/>
          </a:ln>
        </p:spPr>
      </p:pic>
      <p:pic>
        <p:nvPicPr>
          <p:cNvPr id="231" name="Hello" descr=""/>
          <p:cNvPicPr/>
          <p:nvPr/>
        </p:nvPicPr>
        <p:blipFill>
          <a:blip r:embed="rId13"/>
          <a:stretch/>
        </p:blipFill>
        <p:spPr>
          <a:xfrm>
            <a:off x="8001000" y="4191120"/>
            <a:ext cx="10843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6705720" y="990720"/>
            <a:ext cx="2252520" cy="784080"/>
            <a:chOff x="6705720" y="990720"/>
            <a:chExt cx="2252520" cy="784080"/>
          </a:xfrm>
        </p:grpSpPr>
        <p:pic>
          <p:nvPicPr>
            <p:cNvPr id="233" name="" descr=""/>
            <p:cNvPicPr/>
            <p:nvPr/>
          </p:nvPicPr>
          <p:blipFill>
            <a:blip r:embed="rId14"/>
            <a:stretch/>
          </p:blipFill>
          <p:spPr>
            <a:xfrm>
              <a:off x="6705720" y="990720"/>
              <a:ext cx="77292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7544880" y="1219320"/>
              <a:ext cx="14133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DNS-Server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 flipV="1">
            <a:off x="3657600" y="1294920"/>
            <a:ext cx="3200400" cy="38124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733920" y="1447920"/>
            <a:ext cx="3200400" cy="38088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29400" y="2514600"/>
            <a:ext cx="533520" cy="137160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48280" y="1709640"/>
            <a:ext cx="10476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NUM”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96480" y="2133720"/>
            <a:ext cx="1300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P-Serv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67240" y="1066680"/>
            <a:ext cx="1300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P-Serv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8720" y="4038480"/>
            <a:ext cx="1085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15000" y="4648320"/>
            <a:ext cx="1085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124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VoIP via PSTN to PSTN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828800" y="2133720"/>
            <a:ext cx="1219320" cy="76176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971800" y="2209320"/>
            <a:ext cx="457200" cy="6858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590920" y="3047760"/>
            <a:ext cx="457200" cy="6858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715000" y="2438280"/>
            <a:ext cx="838080" cy="60984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29000" y="2895480"/>
            <a:ext cx="1752480" cy="2286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67280" y="3276720"/>
            <a:ext cx="1295640" cy="6858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333760" y="3200400"/>
            <a:ext cx="152280" cy="9907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514240" y="3962520"/>
            <a:ext cx="152280" cy="9903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181480" y="4343400"/>
            <a:ext cx="152640" cy="9907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95480" y="5181480"/>
            <a:ext cx="1752840" cy="2286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4120" y="5562720"/>
            <a:ext cx="1752480" cy="2286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362320" y="2514600"/>
            <a:ext cx="1295280" cy="7812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08040" cy="8128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3200400" y="1523880"/>
            <a:ext cx="773280" cy="784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2362320" y="3581280"/>
            <a:ext cx="772920" cy="7844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4876920" y="2743200"/>
            <a:ext cx="1295280" cy="7812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>
            <a:off x="6934320" y="3657600"/>
            <a:ext cx="608040" cy="8128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7"/>
          <a:stretch/>
        </p:blipFill>
        <p:spPr>
          <a:xfrm>
            <a:off x="6400800" y="1905120"/>
            <a:ext cx="773280" cy="7840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8"/>
          <a:stretch/>
        </p:blipFill>
        <p:spPr>
          <a:xfrm>
            <a:off x="4952880" y="3962520"/>
            <a:ext cx="773280" cy="7840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9"/>
          <a:stretch/>
        </p:blipFill>
        <p:spPr>
          <a:xfrm>
            <a:off x="6858000" y="5410080"/>
            <a:ext cx="736560" cy="7858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0"/>
          <a:stretch/>
        </p:blipFill>
        <p:spPr>
          <a:xfrm>
            <a:off x="1981080" y="4800600"/>
            <a:ext cx="1181160" cy="7142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1"/>
          <a:stretch/>
        </p:blipFill>
        <p:spPr>
          <a:xfrm>
            <a:off x="4419720" y="5105520"/>
            <a:ext cx="1181160" cy="7142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914400" y="1828800"/>
            <a:ext cx="838080" cy="30492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905120" y="2057040"/>
            <a:ext cx="1523880" cy="15228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743200" y="2057400"/>
            <a:ext cx="914400" cy="182880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90920" y="4114800"/>
            <a:ext cx="4647960" cy="167652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270" name="Hello" descr=""/>
          <p:cNvPicPr/>
          <p:nvPr/>
        </p:nvPicPr>
        <p:blipFill>
          <a:blip r:embed="rId12"/>
          <a:stretch/>
        </p:blipFill>
        <p:spPr>
          <a:xfrm>
            <a:off x="0" y="1447920"/>
            <a:ext cx="1084320" cy="1371600"/>
          </a:xfrm>
          <a:prstGeom prst="rect">
            <a:avLst/>
          </a:prstGeom>
          <a:ln w="0">
            <a:noFill/>
          </a:ln>
        </p:spPr>
      </p:pic>
      <p:pic>
        <p:nvPicPr>
          <p:cNvPr id="271" name="Hello" descr=""/>
          <p:cNvPicPr/>
          <p:nvPr/>
        </p:nvPicPr>
        <p:blipFill>
          <a:blip r:embed="rId13"/>
          <a:stretch/>
        </p:blipFill>
        <p:spPr>
          <a:xfrm>
            <a:off x="8001000" y="4191120"/>
            <a:ext cx="10843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72" name=""/>
          <p:cNvGrpSpPr/>
          <p:nvPr/>
        </p:nvGrpSpPr>
        <p:grpSpPr>
          <a:xfrm>
            <a:off x="6705720" y="990720"/>
            <a:ext cx="2252520" cy="784080"/>
            <a:chOff x="6705720" y="990720"/>
            <a:chExt cx="2252520" cy="784080"/>
          </a:xfrm>
        </p:grpSpPr>
        <p:pic>
          <p:nvPicPr>
            <p:cNvPr id="273" name="" descr=""/>
            <p:cNvPicPr/>
            <p:nvPr/>
          </p:nvPicPr>
          <p:blipFill>
            <a:blip r:embed="rId14"/>
            <a:stretch/>
          </p:blipFill>
          <p:spPr>
            <a:xfrm>
              <a:off x="6705720" y="990720"/>
              <a:ext cx="77292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544880" y="1219320"/>
              <a:ext cx="14133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DNS-Server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 flipV="1">
            <a:off x="3657600" y="1294920"/>
            <a:ext cx="3200400" cy="38124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733920" y="1447920"/>
            <a:ext cx="3200400" cy="38088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48280" y="1709640"/>
            <a:ext cx="10476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NUM”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96480" y="2133720"/>
            <a:ext cx="1300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P-Serv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667240" y="1066680"/>
            <a:ext cx="1300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P-Serv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98720" y="4038480"/>
            <a:ext cx="1085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15000" y="4648320"/>
            <a:ext cx="1085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124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Step 1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789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ake an E.164 number and create a fully qualified domain name in a single highly defined and structured domai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+46-8-971234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+468971234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4.3.2.1.7.9.8.6.4.e164.arpa.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57080" y="3886200"/>
            <a:ext cx="6311160" cy="1255680"/>
            <a:chOff x="757080" y="3886200"/>
            <a:chExt cx="6311160" cy="1255680"/>
          </a:xfrm>
        </p:grpSpPr>
        <p:sp>
          <p:nvSpPr>
            <p:cNvPr id="285" name=""/>
            <p:cNvSpPr/>
            <p:nvPr/>
          </p:nvSpPr>
          <p:spPr>
            <a:xfrm>
              <a:off x="757080" y="4227480"/>
              <a:ext cx="3124080" cy="914400"/>
            </a:xfrm>
            <a:prstGeom prst="ellipse">
              <a:avLst/>
            </a:prstGeom>
            <a:noFill/>
            <a:ln w="38160">
              <a:solidFill>
                <a:srgbClr val="ff0f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28480" y="3886200"/>
              <a:ext cx="2039760" cy="621720"/>
            </a:xfrm>
            <a:prstGeom prst="rect">
              <a:avLst/>
            </a:prstGeom>
            <a:noFill/>
            <a:ln w="38160">
              <a:solidFill>
                <a:srgbClr val="ff0f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The input to the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NAPTR algorithm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cxnSp>
          <p:nvCxnSpPr>
            <p:cNvPr id="287" name=""/>
            <p:cNvCxnSpPr>
              <a:stCxn id="286" idx="1"/>
              <a:endCxn id="285" idx="6"/>
            </p:cNvCxnSpPr>
            <p:nvPr/>
          </p:nvCxnSpPr>
          <p:spPr>
            <a:xfrm flipH="1">
              <a:off x="3899520" y="4227480"/>
              <a:ext cx="1089720" cy="457920"/>
            </a:xfrm>
            <a:prstGeom prst="straightConnector1">
              <a:avLst/>
            </a:prstGeom>
            <a:ln w="38160">
              <a:solidFill>
                <a:srgbClr val="ff0f02"/>
              </a:solidFill>
              <a:miter/>
              <a:tailEnd len="med" type="triangle" w="med"/>
            </a:ln>
          </p:spPr>
        </p:cxnSp>
      </p:grp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124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Step 1, Explanation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789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Each digit can become a definable and distributed “zone” in DNS ter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elegation can (doesn’t have to) happen at every digit, including at last digi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Zones such as country codes, area codes or primary delegated blocks of numbers can be delegated as well as individual numbers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NS defines authoritative name servers for NAPTR/service resource record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124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Step 2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789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Lookup NAPTR RR’s in DNS, and apply NAPTR/ENUM algorith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4.3.2.1.7.9.8.6.4.e164.arpa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!^.*$!mailto:spam@paf.se!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!^+46(.*)$!ldap://ldap.telco.se/cn=0\1!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Use rewrite rules using regular expressions which operate on the E.164 number (+468971234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124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Regular Expressions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789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For ENUM, the NAPTR regexp field may yield an (unchanged) UR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!&lt;regexp&gt;!&lt;string&gt;!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atch &lt;regexp&gt; on original E.164, and apply rewrite rule &lt;string&gt;”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261520" y="4343400"/>
            <a:ext cx="46303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Monaco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Monaco"/>
              </a:rPr>
              <a:t>^ - Match beginning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Monaco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Monaco"/>
              </a:rPr>
              <a:t>$ - Match en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Monaco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Monaco"/>
              </a:rPr>
              <a:t>. - Match any charact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Monaco"/>
              </a:rPr>
              <a:t>.* - Match any number of any charact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Monaco"/>
              </a:rPr>
              <a:t>() - Grouping, \n in &lt;string&gt; is replaced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Monaco"/>
              </a:rPr>
              <a:t>     with group number ‘n’ in &lt;regexp&gt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124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Step 2 in detail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821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$ORIGIN 4.3.2.1.7.9.8.6.4.e164.arpa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IN NAPTR 10 10 ”U” ”mailto+E2U”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”!^.*$!mailto:spam@paf.se!”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IN NAPTR 20 10 ”U” ”ldap+E2U”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”!^+46(.*)$!ldap://ldap.telco.se/cn=0\1”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Note that no line break should be in the record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1760" y="2819520"/>
            <a:ext cx="7124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Status / Issues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18840" y="1447560"/>
            <a:ext cx="789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RFC 2916 published in September 2000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he domain e164.arpa delegated to RIPE NC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IPE NCC appointed by the IAB according to RFC 2916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ITU SG2/WP1/2 liaison statement: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ember state can inform ITU on entry of numbers in ENUM tre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720360" y="152280"/>
            <a:ext cx="7124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Status (done)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034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Problem we want to solve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4160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9C3D490-4FE3-4359-AD67-BF9460F1D55F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720" y="6603480"/>
            <a:ext cx="50004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ENUM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23600" y="152280"/>
            <a:ext cx="7124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Status (done)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789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Instructions to RIPE NC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ny “request” not coming from TSB is to be forwarded to TSB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f TSB says no, no delegation is to be don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ll evaluation of any “request” is to be done by TSB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IPE NCC is only creating and evaluating the technical data which they need for the actual delega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IPE NCC is to communicate with TSB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IPE NCC is to make public any communication regarding a “request”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6629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Status (not done)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23400" y="1676520"/>
            <a:ext cx="7534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Helvetica"/>
              <a:buChar char="•"/>
              <a:tabLst>
                <a:tab algn="l" pos="3894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elegation of domains below e164.arpa to managing entities that are appointed by member stat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Helvetica"/>
              <a:buChar char="–"/>
              <a:tabLst>
                <a:tab algn="l" pos="3894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 few “requests” have been passed to TSB, which have responded very quick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Helvetica"/>
              <a:buChar char="•"/>
              <a:tabLst>
                <a:tab algn="l" pos="3894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ational issues are not resolved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Helvetica"/>
              <a:buChar char="–"/>
              <a:tabLst>
                <a:tab algn="l" pos="3894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e have not heard that issues related to verification of holder of E.164 number are resolved anywhe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034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Issues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4065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124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Issue 1: Competition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789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he DNS requires a unique roo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ore on this lat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 DNS, we have a question on how to have competition in general, since one commercial company “had too large a market share”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mpetition for registrations of DNS records is ensured using a registry/registrar model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One registry which runs the DNS serv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ompetition at this level is handled when choosing the registry, because that can only be one organizatio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any registrars which the customer talk wi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Registrars decide for example price for a registratio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124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Issue 2.1: Unique root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789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hy is a unique root used in ENUM?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ay I have phone number +468971234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 can choose between a.com and b.com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 choose b.com, and get the DNS domai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4.3.2.1.7.9.8.6.4.b.com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xel is to call m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He knows my phone number, +468971234, on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How is he to know that it is in b.com and not a.com I have my data?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General issues in RFC 2836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e need a “Golden Tree” for E.164 numbe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f0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124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Issue 2.2: Selection of root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789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f02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dress and </a:t>
            </a:r>
            <a:r>
              <a:rPr b="1" lang="en-US" sz="2800" spc="-1" strike="noStrike">
                <a:solidFill>
                  <a:srgbClr val="ff0f02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outing </a:t>
            </a:r>
            <a:r>
              <a:rPr b="1" lang="en-US" sz="2800" spc="-1" strike="noStrike">
                <a:solidFill>
                  <a:srgbClr val="ff0f02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arameters </a:t>
            </a:r>
            <a:r>
              <a:rPr b="1" lang="en-US" sz="2800" spc="-1" strike="noStrike">
                <a:solidFill>
                  <a:srgbClr val="ff0f02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re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See contribution from ISO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99"/>
                </a:solidFill>
                <a:uFillTx/>
                <a:latin typeface="Arial"/>
                <a:hlinkClick r:id="rId1"/>
              </a:rPr>
              <a:t>See </a:t>
            </a:r>
            <a:r>
              <a:rPr b="0" lang="en-US" sz="2800" spc="-1" strike="noStrike" u="sng">
                <a:solidFill>
                  <a:srgbClr val="990099"/>
                </a:solidFill>
                <a:uFillTx/>
                <a:latin typeface="Arial"/>
                <a:hlinkClick r:id="rId2"/>
              </a:rPr>
              <a:t>http://www.iana.org/arpa-dom/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-addr.arp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Pv4-address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p6.arp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Pv6-address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164.arp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E.164 numb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124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Issue 3: Alternatives?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789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he implementation of a globally unique ENUM tree provides ample opportunity for competition at the national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Having ENUM using domain e164.arpa means that one still have: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003399"/>
              </a:buClr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bility to have dialing plans in other domain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003399"/>
              </a:buClr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mpetition regarding registration according to registry/registrar model on all levels in DNS tre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003399"/>
              </a:buClr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mpetition when selecting the registri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003399"/>
              </a:buClr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mpetition regarding servic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124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3.1 Alternative Dial plans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789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A user very seldom dial an E.164 number on his phon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nside Cisco, people dial 58509 to m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Outside Cisco, from Sweden, people must dial 0014085258509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Not all dialed numbers are E.164 numbe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eople use dialing plan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ialing plan information can be resolved by the use of same technology as ENUM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124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3.2 Registry / Registrar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789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A registry runs the DNS server for a specific domain nam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one domain -&gt; one regist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A customer contacts a registrar when he want to have things registered, not the registr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Registrar verify customer data, do billing, and send data to registry when delegation is to be done, changed or cancelle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See next slide…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124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3.3 Selection of registry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789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Registries are needed which runs the DN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On a country cod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side a country code, according to local polic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he model we use today with DNS i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17040" y="3594240"/>
            <a:ext cx="294228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lder of a doma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65320" y="4432320"/>
            <a:ext cx="140004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gistr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95600" y="5194440"/>
            <a:ext cx="151884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gistra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48240" y="5346720"/>
            <a:ext cx="151884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gistra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0520" y="5499000"/>
            <a:ext cx="151884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gistra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28200" y="5346720"/>
            <a:ext cx="168804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gistran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2" idx="0"/>
            <a:endCxn id="321" idx="2"/>
          </p:cNvCxnSpPr>
          <p:nvPr/>
        </p:nvCxnSpPr>
        <p:spPr>
          <a:xfrm flipH="1" flipV="1">
            <a:off x="2765160" y="4901760"/>
            <a:ext cx="1491120" cy="293040"/>
          </a:xfrm>
          <a:prstGeom prst="straightConnector1">
            <a:avLst/>
          </a:prstGeom>
          <a:ln w="12600">
            <a:solidFill>
              <a:srgbClr val="003399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327" name=""/>
          <p:cNvCxnSpPr>
            <a:stCxn id="323" idx="0"/>
            <a:endCxn id="321" idx="2"/>
          </p:cNvCxnSpPr>
          <p:nvPr/>
        </p:nvCxnSpPr>
        <p:spPr>
          <a:xfrm flipH="1" flipV="1">
            <a:off x="2765160" y="4901400"/>
            <a:ext cx="1643760" cy="445320"/>
          </a:xfrm>
          <a:prstGeom prst="straightConnector1">
            <a:avLst/>
          </a:prstGeom>
          <a:ln w="12600">
            <a:solidFill>
              <a:srgbClr val="003399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328" name=""/>
          <p:cNvCxnSpPr>
            <a:stCxn id="324" idx="0"/>
            <a:endCxn id="321" idx="2"/>
          </p:cNvCxnSpPr>
          <p:nvPr/>
        </p:nvCxnSpPr>
        <p:spPr>
          <a:xfrm flipH="1" flipV="1">
            <a:off x="2764800" y="4901760"/>
            <a:ext cx="1796040" cy="597600"/>
          </a:xfrm>
          <a:prstGeom prst="straightConnector1">
            <a:avLst/>
          </a:prstGeom>
          <a:ln w="12600">
            <a:solidFill>
              <a:srgbClr val="003399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329" name=""/>
          <p:cNvCxnSpPr>
            <a:stCxn id="324" idx="3"/>
            <a:endCxn id="325" idx="1"/>
          </p:cNvCxnSpPr>
          <p:nvPr/>
        </p:nvCxnSpPr>
        <p:spPr>
          <a:xfrm flipV="1">
            <a:off x="5327280" y="5581080"/>
            <a:ext cx="693000" cy="153000"/>
          </a:xfrm>
          <a:prstGeom prst="straightConnector1">
            <a:avLst/>
          </a:prstGeom>
          <a:ln w="12600">
            <a:solidFill>
              <a:srgbClr val="003399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330" name=""/>
          <p:cNvCxnSpPr>
            <a:stCxn id="321" idx="0"/>
            <a:endCxn id="320" idx="2"/>
          </p:cNvCxnSpPr>
          <p:nvPr/>
        </p:nvCxnSpPr>
        <p:spPr>
          <a:xfrm flipH="1" flipV="1">
            <a:off x="2088360" y="4063320"/>
            <a:ext cx="677160" cy="369000"/>
          </a:xfrm>
          <a:prstGeom prst="straightConnector1">
            <a:avLst/>
          </a:prstGeom>
          <a:ln w="12600">
            <a:solidFill>
              <a:srgbClr val="003399"/>
            </a:solidFill>
            <a:miter/>
            <a:headEnd len="med" type="stealth" w="med"/>
            <a:tailEnd len="med" type="stealth" w="med"/>
          </a:ln>
        </p:spPr>
      </p:cxnSp>
      <p:sp>
        <p:nvSpPr>
          <p:cNvPr id="331" name=""/>
          <p:cNvSpPr/>
          <p:nvPr/>
        </p:nvSpPr>
        <p:spPr>
          <a:xfrm>
            <a:off x="6027480" y="5351400"/>
            <a:ext cx="294228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Holder of a doma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75880" y="304920"/>
            <a:ext cx="7124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Problem statements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1120" y="1752120"/>
            <a:ext cx="7839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How do network elements (gateways, SIP servers etc) find services on the Internet if you only have a telephone (E.164) number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289080" indent="0">
              <a:spcBef>
                <a:spcPts val="7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289080" indent="-289080">
              <a:spcBef>
                <a:spcPts val="700"/>
              </a:spcBef>
              <a:buClr>
                <a:srgbClr val="003399"/>
              </a:buClr>
              <a:buFont typeface="Helvetica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How can subscribers define their preferences for incoming communications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124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3.4 Services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8840" y="1447560"/>
            <a:ext cx="789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 customer in ENUM announces what services he subscribes t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Web homepag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P service (VoIP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elephon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ach one of these services can be handled by separate contracts between customer and service provid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hese contracts have nothing to do with the announcement via ENUM of their existen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124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The big picture…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434760" y="1201680"/>
            <a:ext cx="1412280" cy="39888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RIPE-NCC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951520" y="1201680"/>
            <a:ext cx="1239840" cy="39888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ETF/IAB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52800" y="2027160"/>
            <a:ext cx="2614680" cy="39888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Registry for countr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71200" y="2725560"/>
            <a:ext cx="27136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Registrar for countr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823840" y="2878200"/>
            <a:ext cx="27136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Registrar for countr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976120" y="3030480"/>
            <a:ext cx="27136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Registrar for countr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15800" y="3868560"/>
            <a:ext cx="299412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ENUM Service provide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68440" y="4021200"/>
            <a:ext cx="299412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ENUM Service provide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20720" y="4173480"/>
            <a:ext cx="299412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ENUM Service provide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7600" y="5773680"/>
            <a:ext cx="136944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ustome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4960" y="4859280"/>
            <a:ext cx="217404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ervice provide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or telephon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99440" y="4097160"/>
            <a:ext cx="217404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ervice provide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or emai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652080" y="4249800"/>
            <a:ext cx="217404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ervice provide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or emai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04360" y="4402080"/>
            <a:ext cx="217404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ervice provide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or emai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7240" y="5011560"/>
            <a:ext cx="217404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ervice provide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or telephon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9880" y="5164200"/>
            <a:ext cx="217404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ervice provide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or telephon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4" idx="1"/>
            <a:endCxn id="350" idx="3"/>
          </p:cNvCxnSpPr>
          <p:nvPr/>
        </p:nvCxnSpPr>
        <p:spPr>
          <a:xfrm rot="10800000">
            <a:off x="2660040" y="5520600"/>
            <a:ext cx="1531080" cy="45792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12600">
            <a:solidFill>
              <a:srgbClr val="003399"/>
            </a:solidFill>
            <a:miter/>
            <a:tailEnd len="med" type="stealth" w="med"/>
          </a:ln>
        </p:spPr>
      </p:cxnSp>
      <p:cxnSp>
        <p:nvCxnSpPr>
          <p:cNvPr id="352" name=""/>
          <p:cNvCxnSpPr>
            <a:stCxn id="344" idx="3"/>
            <a:endCxn id="348" idx="2"/>
          </p:cNvCxnSpPr>
          <p:nvPr/>
        </p:nvCxnSpPr>
        <p:spPr>
          <a:xfrm flipV="1">
            <a:off x="5573880" y="5116320"/>
            <a:ext cx="2318400" cy="862560"/>
          </a:xfrm>
          <a:prstGeom prst="curvedConnector2">
            <a:avLst/>
          </a:prstGeom>
          <a:ln w="12600">
            <a:solidFill>
              <a:srgbClr val="003399"/>
            </a:solidFill>
            <a:miter/>
            <a:tailEnd len="med" type="stealth" w="med"/>
          </a:ln>
        </p:spPr>
      </p:cxnSp>
      <p:cxnSp>
        <p:nvCxnSpPr>
          <p:cNvPr id="353" name=""/>
          <p:cNvCxnSpPr>
            <a:stCxn id="344" idx="0"/>
            <a:endCxn id="343" idx="2"/>
          </p:cNvCxnSpPr>
          <p:nvPr/>
        </p:nvCxnSpPr>
        <p:spPr>
          <a:xfrm flipV="1" rot="16200000">
            <a:off x="3854520" y="4745160"/>
            <a:ext cx="1191240" cy="865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3399"/>
            </a:solidFill>
            <a:miter/>
            <a:tailEnd len="med" type="stealth" w="med"/>
          </a:ln>
        </p:spPr>
      </p:cxnSp>
      <p:cxnSp>
        <p:nvCxnSpPr>
          <p:cNvPr id="354" name=""/>
          <p:cNvCxnSpPr>
            <a:stCxn id="343" idx="0"/>
            <a:endCxn id="340" idx="2"/>
          </p:cNvCxnSpPr>
          <p:nvPr/>
        </p:nvCxnSpPr>
        <p:spPr>
          <a:xfrm flipH="1" flipV="1" rot="5400000">
            <a:off x="3809160" y="3648240"/>
            <a:ext cx="734040" cy="316800"/>
          </a:xfrm>
          <a:prstGeom prst="curvedConnector5">
            <a:avLst>
              <a:gd name="adj1" fmla="val 50000"/>
              <a:gd name="adj2" fmla="val 49943"/>
              <a:gd name="adj3" fmla="val 50000"/>
            </a:avLst>
          </a:prstGeom>
          <a:ln w="12600">
            <a:solidFill>
              <a:srgbClr val="003399"/>
            </a:solidFill>
            <a:miter/>
            <a:tailEnd len="med" type="stealth" w="med"/>
          </a:ln>
        </p:spPr>
      </p:cxnSp>
      <p:cxnSp>
        <p:nvCxnSpPr>
          <p:cNvPr id="355" name=""/>
          <p:cNvCxnSpPr>
            <a:stCxn id="340" idx="0"/>
            <a:endCxn id="337" idx="2"/>
          </p:cNvCxnSpPr>
          <p:nvPr/>
        </p:nvCxnSpPr>
        <p:spPr>
          <a:xfrm flipH="1" flipV="1" rot="5400000">
            <a:off x="4050360" y="2719440"/>
            <a:ext cx="594360" cy="27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3399"/>
            </a:solidFill>
            <a:miter/>
            <a:tailEnd len="med" type="stealth" w="med"/>
          </a:ln>
        </p:spPr>
      </p:cxnSp>
      <p:cxnSp>
        <p:nvCxnSpPr>
          <p:cNvPr id="356" name=""/>
          <p:cNvCxnSpPr>
            <a:stCxn id="337" idx="0"/>
            <a:endCxn id="335" idx="2"/>
          </p:cNvCxnSpPr>
          <p:nvPr/>
        </p:nvCxnSpPr>
        <p:spPr>
          <a:xfrm flipV="1" rot="16200000">
            <a:off x="4042800" y="1708920"/>
            <a:ext cx="416520" cy="219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3399"/>
            </a:solidFill>
            <a:miter/>
            <a:tailEnd len="med" type="stealth" w="med"/>
          </a:ln>
        </p:spPr>
      </p:cxnSp>
      <p:cxnSp>
        <p:nvCxnSpPr>
          <p:cNvPr id="357" name=""/>
          <p:cNvCxnSpPr>
            <a:stCxn id="336" idx="1"/>
            <a:endCxn id="335" idx="3"/>
          </p:cNvCxnSpPr>
          <p:nvPr/>
        </p:nvCxnSpPr>
        <p:spPr>
          <a:xfrm rot="10800000">
            <a:off x="4852440" y="1405800"/>
            <a:ext cx="1091160" cy="1080"/>
          </a:xfrm>
          <a:prstGeom prst="curvedConnector2">
            <a:avLst/>
          </a:prstGeom>
          <a:ln w="12600">
            <a:solidFill>
              <a:srgbClr val="003399"/>
            </a:solidFill>
            <a:miter/>
            <a:tailEnd len="med" type="stealth" w="med"/>
          </a:ln>
        </p:spPr>
      </p:cxnSp>
      <p:sp>
        <p:nvSpPr>
          <p:cNvPr id="358" name=""/>
          <p:cNvSpPr/>
          <p:nvPr/>
        </p:nvSpPr>
        <p:spPr>
          <a:xfrm>
            <a:off x="1149840" y="1295280"/>
            <a:ext cx="1410480" cy="39888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TU-T TSB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37" idx="0"/>
            <a:endCxn id="358" idx="2"/>
          </p:cNvCxnSpPr>
          <p:nvPr/>
        </p:nvCxnSpPr>
        <p:spPr>
          <a:xfrm flipV="1" rot="16200000">
            <a:off x="2946600" y="612720"/>
            <a:ext cx="322920" cy="2505960"/>
          </a:xfrm>
          <a:prstGeom prst="curvedConnector5">
            <a:avLst>
              <a:gd name="adj1" fmla="val 49665"/>
              <a:gd name="adj2" fmla="val 50000"/>
              <a:gd name="adj3" fmla="val 49665"/>
            </a:avLst>
          </a:prstGeom>
          <a:ln w="12600">
            <a:solidFill>
              <a:srgbClr val="003399"/>
            </a:solidFill>
            <a:miter/>
            <a:tailEnd len="med" type="stealth" w="med"/>
          </a:ln>
        </p:spPr>
      </p:cxnSp>
      <p:cxnSp>
        <p:nvCxnSpPr>
          <p:cNvPr id="360" name=""/>
          <p:cNvCxnSpPr>
            <a:stCxn id="358" idx="3"/>
            <a:endCxn id="335" idx="1"/>
          </p:cNvCxnSpPr>
          <p:nvPr/>
        </p:nvCxnSpPr>
        <p:spPr>
          <a:xfrm flipV="1">
            <a:off x="2567160" y="1406160"/>
            <a:ext cx="862560" cy="94320"/>
          </a:xfrm>
          <a:prstGeom prst="curvedConnector5">
            <a:avLst>
              <a:gd name="adj1" fmla="val 49895"/>
              <a:gd name="adj2" fmla="val 49808"/>
              <a:gd name="adj3" fmla="val 49895"/>
            </a:avLst>
          </a:prstGeom>
          <a:ln w="12600">
            <a:solidFill>
              <a:srgbClr val="003399"/>
            </a:solidFill>
            <a:miter/>
            <a:tailEnd len="med" type="stealth" w="med"/>
          </a:ln>
        </p:spPr>
      </p:cxnSp>
    </p:spTree>
  </p:cSld>
  <p:transition>
    <p:pull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2948040" y="1066680"/>
            <a:ext cx="3249720" cy="31845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2741040" y="4800600"/>
            <a:ext cx="366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trik Fältström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f@cisco.com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124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Today, many addresses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26640" y="2209680"/>
            <a:ext cx="19148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el:+46-8-97123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33080" y="2624040"/>
            <a:ext cx="29084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mailto:paf@example.com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28720" y="3124080"/>
            <a:ext cx="20916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el:+46-70605123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91840" y="3614760"/>
            <a:ext cx="2565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p:paf@example.com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42960" y="3048120"/>
            <a:ext cx="1352520" cy="933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523880" y="4267080"/>
            <a:ext cx="1219320" cy="1060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447920" y="1600200"/>
            <a:ext cx="1371600" cy="1201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0" y="2514600"/>
            <a:ext cx="1217520" cy="1871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6934320" y="4114800"/>
            <a:ext cx="1811160" cy="1592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895480" y="2209680"/>
            <a:ext cx="3353040" cy="15264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743200" y="2895120"/>
            <a:ext cx="3048120" cy="38124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819520" y="3352320"/>
            <a:ext cx="3429000" cy="114300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895480" y="3885840"/>
            <a:ext cx="3048120" cy="685800"/>
          </a:xfrm>
          <a:prstGeom prst="line">
            <a:avLst/>
          </a:prstGeom>
          <a:ln w="50760">
            <a:solidFill>
              <a:srgbClr val="3333cc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124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With ENUM, only one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26640" y="2209680"/>
            <a:ext cx="19148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el:+46-8-97123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33080" y="2624040"/>
            <a:ext cx="29084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mailto:paf@example.com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28720" y="3124080"/>
            <a:ext cx="20916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el:+46-70605123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91840" y="3614760"/>
            <a:ext cx="2565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p:paf@example.com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42960" y="3048120"/>
            <a:ext cx="1352520" cy="93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523880" y="4267080"/>
            <a:ext cx="1219320" cy="1060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447920" y="1600200"/>
            <a:ext cx="1371600" cy="1201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0" y="2514600"/>
            <a:ext cx="1217520" cy="1871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6934320" y="4114800"/>
            <a:ext cx="1811160" cy="1592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233400" y="3124080"/>
            <a:ext cx="2091600" cy="34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f02"/>
                </a:solidFill>
                <a:latin typeface="Arial"/>
              </a:rPr>
              <a:t>tel:+46-70605123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27200" y="5105520"/>
            <a:ext cx="319788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Give this number to friends: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+46-8-97123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1294920" y="3962160"/>
            <a:ext cx="5715000" cy="1066680"/>
          </a:xfrm>
          <a:prstGeom prst="line">
            <a:avLst/>
          </a:prstGeom>
          <a:ln w="50760">
            <a:solidFill>
              <a:srgbClr val="3333cc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666880" y="2895480"/>
            <a:ext cx="1143000" cy="45720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2666880"/>
            <a:ext cx="819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NUM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2895480"/>
            <a:ext cx="1523880" cy="45720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Technical solution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4160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720813C-4DE0-464F-8D13-5086A5A19C85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7720" y="6603480"/>
            <a:ext cx="50004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ENUM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75880" y="304920"/>
            <a:ext cx="7124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Solution in short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8002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003399"/>
              </a:buClr>
              <a:buFont typeface="Helvetica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ut domain names derived from telephone numbers in the global domain name system, DN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003399"/>
              </a:buClr>
              <a:buFont typeface="Helvetica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ETF ENUM Working Group created to solve the problem of using the DNS for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65200">
              <a:spcBef>
                <a:spcPts val="499"/>
              </a:spcBef>
              <a:buClr>
                <a:srgbClr val="003399"/>
              </a:buClr>
              <a:buFont typeface="Helvetica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domain name i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565200">
              <a:spcBef>
                <a:spcPts val="499"/>
              </a:spcBef>
              <a:buClr>
                <a:srgbClr val="003399"/>
              </a:buClr>
              <a:buFont typeface="Helvetica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[Numbers re-formatted as domain names]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565200">
              <a:spcBef>
                <a:spcPts val="499"/>
              </a:spcBef>
              <a:buClr>
                <a:srgbClr val="003399"/>
              </a:buClr>
              <a:buFont typeface="Helvetica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URI ou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565200">
              <a:spcBef>
                <a:spcPts val="499"/>
              </a:spcBef>
              <a:buClr>
                <a:srgbClr val="003399"/>
              </a:buClr>
              <a:buFont typeface="Helvetica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[mailto, sip, tel, http or other URI scheme]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003399"/>
              </a:buClr>
              <a:buFont typeface="Helvetica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olution: NAPTR record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003399"/>
              </a:buClr>
              <a:buFont typeface="Helvetica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Use the URI’s for the communica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124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ENUM in a nutshell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2860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take phone numbe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23623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2286000"/>
            <a:ext cx="2819520" cy="45972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+46-8-6859131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33526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turn into     domain nam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3657600"/>
            <a:ext cx="5333760" cy="45972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1.3.1.9.5.8.6.8.6.4.e164.arpa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5562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return list of URI’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5867280"/>
            <a:ext cx="3733560" cy="45972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sip:paf@cisco.com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2743200"/>
            <a:ext cx="0" cy="99072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4724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ask the DN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4114800"/>
            <a:ext cx="0" cy="114300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5638680"/>
            <a:ext cx="0" cy="30492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4114800"/>
            <a:ext cx="0" cy="114300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5257800"/>
            <a:ext cx="3809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mailto:paf@cisco.com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V="1">
            <a:off x="3505320" y="2286000"/>
            <a:ext cx="533160" cy="27432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400800" y="3505320"/>
            <a:ext cx="1219320" cy="167616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25280" y="3809880"/>
            <a:ext cx="14684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all setup”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ENUM use in more detail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5486400"/>
            <a:ext cx="251460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08360" y="4724280"/>
            <a:ext cx="223632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p:paf@cisco.com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352680" y="2286000"/>
            <a:ext cx="533520" cy="27432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1600" y="2209680"/>
            <a:ext cx="330768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1.3.1.9.5.8.6.8.6.4.e164.arpa.?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5460840"/>
            <a:ext cx="157464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86720" y="4724280"/>
            <a:ext cx="15458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Dia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+468685913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581280" y="1600200"/>
            <a:ext cx="2252880" cy="784080"/>
            <a:chOff x="3581280" y="1600200"/>
            <a:chExt cx="2252880" cy="78408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3581280" y="1600200"/>
              <a:ext cx="77328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420800" y="1828800"/>
              <a:ext cx="14133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DNS-Server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683680" y="4952880"/>
            <a:ext cx="1250280" cy="1185840"/>
            <a:chOff x="5683680" y="4952880"/>
            <a:chExt cx="1250280" cy="1185840"/>
          </a:xfrm>
        </p:grpSpPr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5867280" y="4952880"/>
              <a:ext cx="773280" cy="7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683680" y="5791320"/>
              <a:ext cx="12502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Sip server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pic>
        <p:nvPicPr>
          <p:cNvPr id="158" name="Oldphone" descr=""/>
          <p:cNvPicPr/>
          <p:nvPr/>
        </p:nvPicPr>
        <p:blipFill>
          <a:blip r:embed="rId3"/>
          <a:stretch/>
        </p:blipFill>
        <p:spPr>
          <a:xfrm>
            <a:off x="7467480" y="2362320"/>
            <a:ext cx="85896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2793960" y="4952880"/>
            <a:ext cx="1085760" cy="1185840"/>
            <a:chOff x="2793960" y="4952880"/>
            <a:chExt cx="1085760" cy="1185840"/>
          </a:xfrm>
        </p:grpSpPr>
        <p:pic>
          <p:nvPicPr>
            <p:cNvPr id="160" name="" descr=""/>
            <p:cNvPicPr/>
            <p:nvPr/>
          </p:nvPicPr>
          <p:blipFill>
            <a:blip r:embed="rId4"/>
            <a:stretch/>
          </p:blipFill>
          <p:spPr>
            <a:xfrm>
              <a:off x="2971800" y="4952880"/>
              <a:ext cx="773280" cy="7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793960" y="5791320"/>
              <a:ext cx="10857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Gateway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pic>
        <p:nvPicPr>
          <p:cNvPr id="162" name="Hello" descr=""/>
          <p:cNvPicPr/>
          <p:nvPr/>
        </p:nvPicPr>
        <p:blipFill>
          <a:blip r:embed="rId5"/>
          <a:stretch/>
        </p:blipFill>
        <p:spPr>
          <a:xfrm>
            <a:off x="380880" y="4648320"/>
            <a:ext cx="1084320" cy="1371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346400" y="3124080"/>
            <a:ext cx="223632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p:paf@cisco.com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3T13:36:48Z</dcterms:created>
  <dc:creator>k13</dc:creator>
  <dc:description/>
  <dc:language>en-US</dc:language>
  <cp:lastModifiedBy>Patrik Fältström</cp:lastModifiedBy>
  <cp:lastPrinted>2001-11-23T14:05:44Z</cp:lastPrinted>
  <dcterms:modified xsi:type="dcterms:W3CDTF">2002-02-05T18:07:15Z</dcterms:modified>
  <cp:revision>38</cp:revision>
  <dc:subject/>
  <dc:title>RIPE NCC  ENUM Operations   </dc:title>
</cp:coreProperties>
</file>