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1E5-CE00-4ED8-B45E-3ACC466D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24D-101B-4102-94F2-316B17C4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712-1A73-4111-92FA-244CC2DC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995-2FAF-4CAB-9BAB-F4981F4C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BB4BC-A564-498D-AF41-46A55E9DF0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38CD2-DB06-4E2D-9C10-1F188C8F22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DAB9E-E8F5-4D29-9B57-8E48FFF97A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B6B2F-C885-43AA-B8EA-4CDE703B32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91D9F-85FA-4147-ABE2-AFB1D8C574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5290D-7042-4703-A9E5-721F444B05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716BE-3CD1-43BA-BADD-C6D0436765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9F0-00A7-4097-967C-B0733644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C32AD-C44A-4B5E-94FB-648628AF07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1AA90-2F02-457B-A31D-A07EC6A9AD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E211C-1E36-407F-8C2D-E65C8D9F2B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12B63-C317-48F5-84E7-085189D55C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A3549-585C-4577-9F41-385BB41A98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6DA-2EA9-419A-B556-E8D8868B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55A-1AC0-4692-9C70-998EF279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D29-CC17-4D85-9AEB-1BA35C16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6FB-7634-4BB2-BE26-9EDB5322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B6A-FA6E-4D57-9E99-C7634958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0BD-FD8F-4E71-BC69-F308FAA4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D6A-B425-4234-A4D7-F663E62D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499"/>
              </a:spcBef>
              <a:spcAft>
                <a:spcPts val="250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60120" indent="-1918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43880" indent="-1918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728000" indent="-1918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728000" indent="-1918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728000" indent="-1918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26A7-27F4-4932-AD44-68F16A060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1440"/>
            <a:ext cx="606600" cy="136872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000" y="1523880"/>
            <a:ext cx="784548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D299-17AF-4104-906F-ED06F4E7F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37360" y="6019920"/>
            <a:ext cx="203220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609480" cy="1371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380880"/>
            <a:ext cx="594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bruary 8th, 2002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U ENUM Tutorial 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19920"/>
            <a:ext cx="33526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islas Bourg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té de régulation des télé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é Intern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 Interconnexion et Nouvelles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200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operative work in France on ENUM implem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C4A57-DA74-4627-8398-1E0C60D937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operative work in France on ENUM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75248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52480"/>
            <a:ext cx="8534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 consultation was performed in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form actors, to identify main issues, to draw up possible answers, how could France participat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ibutions from a great diversity of actors: telephone service providers, ISPs, Internet registries and registrars, equipment manufacturers, associations, research bodies, consulting fi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trong consensus on several requirements for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dhoc working group is pursuing cooperative work on ENUM implementation 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tential applications and uses of ENUM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k on various implementation models at Tie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bed, 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dhoc group has a consultative role for the contributions of France to ITU SG2 or ETSI SPAN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FF5-0A13-4B65-AEBF-6B743F5707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General considerations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676520"/>
            <a:ext cx="8534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NUM domain name is strongly linked to a E.164 telephone number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ENUM domain name is built on a resource already assigned,  used to provide services and strictly regulated for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ENUM domain name is just another way of representing a E.164 number to be used as a key identifier in an IP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33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entities are going to be involved in the management of an ENUM domain name than in the management of names in « .com », « .fr »,..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ing questions are crucial for the competitive situation towards end users and for consumer protection: that’s why numbering is managed by neutral organizations with objective and non discriminatory rules for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AF9-6740-43FB-AA0F-3132016845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r>
              <a:rPr b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752480"/>
            <a:ext cx="8839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E.164 numbering plan integrity should be maintain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e ENUM subscriber must be the assignee of an E164 numb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legation of ENUM domains should strictly follow at each level procedures for assignment of E.164 number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TU-T should be designated in a written document, agreed with Internet governance bodies, as the administrative responsible organisation of the Tier 0 doma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mplementation procedures must take due account of different format,method of management of E164 numbering plans, obligations imposed to operators by regulation on numbe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e same confidence in ENUM domain names should be assured as the confidence in E.164 numb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42C-CF7C-4EC6-8FDC-F9B02DC5EF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r>
              <a:rPr b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82880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ertion of E.164 numbers within the ENUM DNS tree should be the result of an ‘Opt-in’ scheme at eac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ertion of numbers in ENUM should occur in manner  that is in full compliance with all relevant national regulatory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s for delegation at Tier 0 should be rapidly completed    in a recognized written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oice of the TLD is not the main debate: e164.arpa is fine provided ITU-T has the responsibility of it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er 0 Registry should be chosen on an open procedure by I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greement on e164.arpa if ITU-T is not recognized as the domain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76"/>
              </a:spcBef>
              <a:spcAft>
                <a:spcPts val="1188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30F-6563-4B24-92CC-F3912B91D8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r>
              <a:rPr b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competitive situation between ENUM-based ASP should be maintained and depends on the Tier 2 implementation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links between a Tier 2 entity and an ASP will occur, the risk has been identified that the first ASP would be the only one able to provide ENUM-bas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question occurs whatever the Tier 2 will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33cc"/>
              </a:buClr>
              <a:buSzPct val="20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er 2 implementation need careful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spcAft>
                <a:spcPts val="1188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F62-5D84-4C80-9F25-8AA8B97590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mplementation at Tier 1 et Tier 2</a:t>
            </a:r>
            <a:r>
              <a:rPr b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lementation at Tier 1 and Tier 2 are national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orts to create an harmonised framework for implementation are welcomed and encour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ic requirements should be agreed up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t no implementation model should preclude the choice for a Member State to determine the rules for administration issues at Tier 1 and Tier 2, between several proposed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final decision in France, with regard to the concerns abo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stbed may be useful to validate models: France has called for trial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C20-1F8B-42FC-BA10-FC776B5DC6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ier 2 implementation</a:t>
            </a:r>
            <a:r>
              <a:rPr b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2388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wo main concerns should be kept in mind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herence with the numbering plan and its management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etitive situation between ASPs and prevention of customer lock-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promote competition between Tier 2 registrars doesn’t address enough these concer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proper validation mechanism involving the TSP is needed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to deal with Tier 2 registrars based outside the scope of national/european regula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urgently, the way to ensure a competitive environment between ASPs should be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d user should be able to choose its ASPs independently of its Tier 2 regist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risk has been identified that the first chosen ASP will be the only one able to provide ENUM services and that the end used will be locked-in in the first Tier 2 regist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C07-491F-49C7-93A3-D67A1C8150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75248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8839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ot of issues have still no answer or should be precisely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 the status of RFC 2916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ch a written agreement about domain responsibilities and procedures at the internation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 carefully Tier 2 implementation models and the need for their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4B4-4CDB-441B-8CAB-C38B57D2F2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ART</dc:creator>
  <dc:description/>
  <dc:language>en-US</dc:language>
  <cp:lastModifiedBy>ART</cp:lastModifiedBy>
  <cp:lastPrinted>2001-12-26T10:01:56Z</cp:lastPrinted>
  <dcterms:modified xsi:type="dcterms:W3CDTF">2002-02-06T07:56:29Z</dcterms:modified>
  <cp:revision>485</cp:revision>
  <dc:subject/>
  <dc:title>La régulation des télécommunications</dc:title>
</cp:coreProperties>
</file>