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1E8-B488-41AD-AF1A-271CBA5E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9F5-5554-4538-AE7A-408F6406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DCC-AF08-4F76-81E9-B4C82BC0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108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702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7108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702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6F4-07A5-42BB-A67C-88FE3B33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688-0F74-414D-BE3F-CC65B881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3A4-3F37-4D6A-9E69-6243B95E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9C4-6072-400A-98BE-2E2F6CF8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E35-4143-4C85-A232-5F959B43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915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1FA-5E7E-4090-9B23-FFCBC191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C9D-4571-46EB-8A2A-584183F3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DEE-C055-4235-9F80-F953D0B7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114-79C2-44CB-971B-37573898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95560" cy="6858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790960" y="6172200"/>
            <a:ext cx="301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1920" y="624852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C7CB-1FF4-43FE-B6DB-F800FB5AA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u_t-105" descr=""/>
          <p:cNvPicPr/>
          <p:nvPr/>
        </p:nvPicPr>
        <p:blipFill>
          <a:blip r:embed="rId2"/>
          <a:stretch/>
        </p:blipFill>
        <p:spPr>
          <a:xfrm>
            <a:off x="0" y="0"/>
            <a:ext cx="1200240" cy="525600"/>
          </a:xfrm>
          <a:prstGeom prst="rect">
            <a:avLst/>
          </a:prstGeom>
          <a:ln w="0">
            <a:noFill/>
          </a:ln>
        </p:spPr>
      </p:pic>
      <p:pic>
        <p:nvPicPr>
          <p:cNvPr id="7" name="itubl_b-105" descr=""/>
          <p:cNvPicPr/>
          <p:nvPr/>
        </p:nvPicPr>
        <p:blipFill>
          <a:blip r:embed="rId3"/>
          <a:stretch/>
        </p:blipFill>
        <p:spPr>
          <a:xfrm>
            <a:off x="0" y="523800"/>
            <a:ext cx="1200240" cy="52560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0" y="685800"/>
            <a:ext cx="5167440" cy="7061040"/>
            <a:chOff x="0" y="685800"/>
            <a:chExt cx="5167440" cy="7061040"/>
          </a:xfrm>
        </p:grpSpPr>
        <p:pic>
          <p:nvPicPr>
            <p:cNvPr id="9" name="gl-1" descr=""/>
            <p:cNvPicPr/>
            <p:nvPr/>
          </p:nvPicPr>
          <p:blipFill>
            <a:blip r:embed="rId4"/>
            <a:stretch/>
          </p:blipFill>
          <p:spPr>
            <a:xfrm>
              <a:off x="0" y="685800"/>
              <a:ext cx="1181160" cy="704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gr-1" descr=""/>
            <p:cNvPicPr/>
            <p:nvPr/>
          </p:nvPicPr>
          <p:blipFill>
            <a:blip r:embed="rId5"/>
            <a:stretch/>
          </p:blipFill>
          <p:spPr>
            <a:xfrm>
              <a:off x="1195560" y="698400"/>
              <a:ext cx="3971880" cy="704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1143000" y="0"/>
            <a:ext cx="8001000" cy="523800"/>
          </a:xfrm>
          <a:prstGeom prst="rect">
            <a:avLst/>
          </a:prstGeom>
          <a:solidFill>
            <a:srgbClr val="000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150560" y="54000"/>
            <a:ext cx="54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International Telecommunicatio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: Convergence of Technology and Intere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 Tutorial Workshop on EN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va, February 8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33640" y="4724280"/>
            <a:ext cx="4648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Sh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obert.shaw@itu.i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U Internet Strategy and Policy Ad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Telecommunication 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6361200"/>
            <a:ext cx="76201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views expressed in this paper are those of the author and may not necessarily reflect the opinions of the ITU or its members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IP Teleph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d solely across the public Int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s underlying transport or signalling technology for PSTN services (e.g., using SS7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telephony on full end-to-end “private” IP networks (e.g., using “softswitch technology”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s of the above with gateways between Internet or private IP-based networks and the PST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all often treated differently from policy or regulatory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this really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ress something is to assign it a unique value from a bounded range of values. Uniqueness is critical to functiona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addresses are unique, each assignment must be coordinated with all other assign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this coordination problem usually means that names and numbers are administered by some form of collective action. That is, by groups rather than by individuals or a fi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this really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teresting and difficult policy problems are created by the need for collective action among businesses and organizations that might otherwise be rivals or autonomo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ional agent for the exercise of collective choice and the processes used are always the difficult 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ase of ENUM, the historically different treatment of E.164 TNs and the DNS makes this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: Technical Converg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f addressing calls that pass from one network service to an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idely possible to originate calls from IP address-based networks to oth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ncommon to terminate calls from other networks to IP address-base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ess a subscriber on an IP address-based network, some sort of global addressing scheme across PSTN and IP address-based network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 seen as “glue” solu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(shhhh..…) ENUM is also roundabout way to assign E.164 resources to SIP 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UM: IETF &amp; IT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lephone numbering, regulators and policy makers have played increased “public policy” rol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 has widespread commercialization, speculation, unintended use,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U &amp; IETF “convergence of interest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ization of DNS has dissolved original IETF vision of doing the “right thing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1591 speaks of “service to the community” and not “rights of ownershi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ound remarkably like government public policy objectiv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Example of Mischief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anks to E. Porteneuve in France &amp; ccTLDWat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nic.td claims “The International Caribbean Telecom” is responsible for the country code .td (Cha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it has called the “Trade Doma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not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authoritative name server for .td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tomcash.com &amp; contactbytel.com as authoritative for Ch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should not happ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 country code look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f it 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ja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 servers for contactbytel.com and www.nic.td are on same Internet host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bytel.com deals in “audiotext” services (ahem.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information give for domains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io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ddresses for the same party are given as NYC, British Virgin Islands, London (only anonymous emai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like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alid cont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agine this scenario in E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licious redirection to high-tariffed audiotext services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public policy issu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G View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effects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national numbering 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ition between service provi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ecommunications network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por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ier se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services calls (including passing of location inform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over personal reco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of sl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Secretary-General’s Report to ITU Council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UM potentially renews the question of the appropriate framework for management of naming and addressing in an increasingly converged telecommunications and Internet/IP enviro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ational and international level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countries are clearly starting to look at their ccTLDs as part of their national communications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9:25:51Z</dcterms:created>
  <dc:creator>Robert Shaw</dc:creator>
  <dc:description/>
  <dc:language>en-US</dc:language>
  <cp:lastModifiedBy>comas</cp:lastModifiedBy>
  <dcterms:modified xsi:type="dcterms:W3CDTF">2002-02-11T07:47:24Z</dcterms:modified>
  <cp:revision>318</cp:revision>
  <dc:subject/>
  <dc:title>PowerPoint Presentation</dc:title>
</cp:coreProperties>
</file>