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F12E-F520-499C-A092-148A42A1C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87A5-D011-473D-8997-2FC872BFB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33D6-2D8B-4FA2-92E7-F752D0FE1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740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356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740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356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29C7-0269-444A-AB79-E09004EDF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240" y="72360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17BA-4617-43C1-82BF-2FBC57589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740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356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24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740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356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E89A-C82A-42F4-818C-6718FEC85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1F82-C7D8-4FB8-8BB5-FA9D07A6D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EDA7F-273F-408B-BCBC-4C01829B0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72360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1F68-E1BE-462D-AE37-88EBFBFFD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BD9C-39DC-4711-AAEA-CBB9237F0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2300-EC13-4588-B3CD-44C7D107D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4BC2-9BB1-4942-9714-E002937AB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108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19368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19200" indent="-13968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960560" indent="-17604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960560" indent="-17604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960560" indent="-17604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295280" y="64861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© British Telecommunications plc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86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ED6D-F3AE-45D0-9484-7EE430232C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33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10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792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84520" algn="ctr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845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845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10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6765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TSI work on ENUM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TSI Technical Re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80880" y="54097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ny Hol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Texact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umbering Addressing &amp; Route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irman ETSI SPAN 11 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760" y="3733920"/>
            <a:ext cx="2387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U February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Background 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5053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38280" y="323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35053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715000" y="323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99640" y="3505320"/>
            <a:ext cx="79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e000c"/>
                </a:solidFill>
                <a:latin typeface="Arial"/>
              </a:rPr>
              <a:t>1     2     3      4      5      6     7     8     9     10   11    12   1      2     3     4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001000" y="3236760"/>
            <a:ext cx="914400" cy="304560"/>
            <a:chOff x="8001000" y="3236760"/>
            <a:chExt cx="914400" cy="304560"/>
          </a:xfrm>
        </p:grpSpPr>
        <p:sp>
          <p:nvSpPr>
            <p:cNvPr id="103" name=""/>
            <p:cNvSpPr/>
            <p:nvPr/>
          </p:nvSpPr>
          <p:spPr>
            <a:xfrm>
              <a:off x="8001000" y="3236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58200" y="3236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15400" y="3236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62012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657600"/>
            <a:ext cx="0" cy="609480"/>
          </a:xfrm>
          <a:prstGeom prst="line">
            <a:avLst/>
          </a:prstGeom>
          <a:ln w="38160">
            <a:solidFill>
              <a:srgbClr val="fe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693960"/>
            <a:ext cx="0" cy="609840"/>
          </a:xfrm>
          <a:prstGeom prst="line">
            <a:avLst/>
          </a:prstGeom>
          <a:ln w="38160">
            <a:solidFill>
              <a:srgbClr val="fe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800" y="4303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000c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5200" y="4303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000c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523880"/>
            <a:ext cx="992160" cy="1136160"/>
            <a:chOff x="838080" y="1523880"/>
            <a:chExt cx="992160" cy="1136160"/>
          </a:xfrm>
        </p:grpSpPr>
        <p:sp>
          <p:nvSpPr>
            <p:cNvPr id="112" name=""/>
            <p:cNvSpPr/>
            <p:nvPr/>
          </p:nvSpPr>
          <p:spPr>
            <a:xfrm>
              <a:off x="990360" y="1600200"/>
              <a:ext cx="777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G2 Su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1523880"/>
              <a:ext cx="992160" cy="91296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057400" y="1523880"/>
            <a:ext cx="1006560" cy="912960"/>
            <a:chOff x="2057400" y="1523880"/>
            <a:chExt cx="1006560" cy="912960"/>
          </a:xfrm>
        </p:grpSpPr>
        <p:sp>
          <p:nvSpPr>
            <p:cNvPr id="115" name=""/>
            <p:cNvSpPr/>
            <p:nvPr/>
          </p:nvSpPr>
          <p:spPr>
            <a:xfrm>
              <a:off x="2209680" y="1523880"/>
              <a:ext cx="85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SI ini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57400" y="1523880"/>
              <a:ext cx="992160" cy="91296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76720" y="1523880"/>
            <a:ext cx="992160" cy="912960"/>
            <a:chOff x="3276720" y="1523880"/>
            <a:chExt cx="992160" cy="912960"/>
          </a:xfrm>
        </p:grpSpPr>
        <p:sp>
          <p:nvSpPr>
            <p:cNvPr id="118" name=""/>
            <p:cNvSpPr/>
            <p:nvPr/>
          </p:nvSpPr>
          <p:spPr>
            <a:xfrm>
              <a:off x="3505320" y="16002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G2 R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6720" y="1523880"/>
              <a:ext cx="992160" cy="91296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990720" y="5029200"/>
            <a:ext cx="5965560" cy="912600"/>
            <a:chOff x="990720" y="5029200"/>
            <a:chExt cx="5965560" cy="912600"/>
          </a:xfrm>
        </p:grpSpPr>
        <p:sp>
          <p:nvSpPr>
            <p:cNvPr id="121" name=""/>
            <p:cNvSpPr/>
            <p:nvPr/>
          </p:nvSpPr>
          <p:spPr>
            <a:xfrm>
              <a:off x="990720" y="5029200"/>
              <a:ext cx="992160" cy="9126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029200"/>
              <a:ext cx="992160" cy="9126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29000" y="5029200"/>
              <a:ext cx="992160" cy="9126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8320" y="5029200"/>
              <a:ext cx="992160" cy="9126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67280" y="5029200"/>
              <a:ext cx="992160" cy="9126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6680" y="5181480"/>
              <a:ext cx="85428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 SG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5800" y="5333760"/>
              <a:ext cx="104472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5840" y="5257800"/>
              <a:ext cx="9291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52880" y="5181480"/>
              <a:ext cx="6098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73400" y="5333760"/>
              <a:ext cx="1082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hl’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419720" y="1523880"/>
            <a:ext cx="1005840" cy="912600"/>
            <a:chOff x="4419720" y="1523880"/>
            <a:chExt cx="1005840" cy="912600"/>
          </a:xfrm>
        </p:grpSpPr>
        <p:sp>
          <p:nvSpPr>
            <p:cNvPr id="132" name=""/>
            <p:cNvSpPr/>
            <p:nvPr/>
          </p:nvSpPr>
          <p:spPr>
            <a:xfrm>
              <a:off x="4495680" y="1599840"/>
              <a:ext cx="92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SI S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19720" y="1523880"/>
              <a:ext cx="991800" cy="91260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562720" y="15238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2 Genv Ad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1523880"/>
            <a:ext cx="992160" cy="912960"/>
          </a:xfrm>
          <a:prstGeom prst="rect">
            <a:avLst/>
          </a:prstGeom>
          <a:noFill/>
          <a:ln w="31680">
            <a:solidFill>
              <a:srgbClr val="cd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05720" y="1523880"/>
            <a:ext cx="1005840" cy="912600"/>
            <a:chOff x="6705720" y="1523880"/>
            <a:chExt cx="1005840" cy="912600"/>
          </a:xfrm>
        </p:grpSpPr>
        <p:sp>
          <p:nvSpPr>
            <p:cNvPr id="137" name=""/>
            <p:cNvSpPr/>
            <p:nvPr/>
          </p:nvSpPr>
          <p:spPr>
            <a:xfrm>
              <a:off x="6781680" y="1599840"/>
              <a:ext cx="92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SI S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05720" y="1523880"/>
              <a:ext cx="991800" cy="91260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924680" y="1523880"/>
            <a:ext cx="992160" cy="912960"/>
            <a:chOff x="7924680" y="1523880"/>
            <a:chExt cx="992160" cy="912960"/>
          </a:xfrm>
        </p:grpSpPr>
        <p:sp>
          <p:nvSpPr>
            <p:cNvPr id="140" name=""/>
            <p:cNvSpPr/>
            <p:nvPr/>
          </p:nvSpPr>
          <p:spPr>
            <a:xfrm>
              <a:off x="8000640" y="167616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G2 Gen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4680" y="1523880"/>
              <a:ext cx="992160" cy="91296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295280" y="2438280"/>
            <a:ext cx="0" cy="106704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362320"/>
            <a:ext cx="380880" cy="114300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2438280"/>
            <a:ext cx="0" cy="106704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038480" y="2438280"/>
            <a:ext cx="609840" cy="106704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52880" y="2438280"/>
            <a:ext cx="914400" cy="106704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410080" y="2438280"/>
            <a:ext cx="1524240" cy="106704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933960" y="2438280"/>
            <a:ext cx="22860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391160" y="2438280"/>
            <a:ext cx="68580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63120" y="2438280"/>
            <a:ext cx="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476760" y="2438280"/>
            <a:ext cx="60948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47920" y="3504960"/>
            <a:ext cx="685800" cy="15238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285640" y="3504960"/>
            <a:ext cx="304920" cy="15238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505320" y="3504960"/>
            <a:ext cx="0" cy="15238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733920" y="3504960"/>
            <a:ext cx="2286000" cy="15238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581280" y="3504960"/>
            <a:ext cx="1371600" cy="15238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520" y="7621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ing has dic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0760" y="6019920"/>
            <a:ext cx="42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xamples of nationa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1D9A-349D-4DC6-B614-DE19D6A2C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7760" y="-381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ETSI Technical Specification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066680"/>
            <a:ext cx="7254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basic set of principles that should be adhered to in order to maximise potential benefits from publicly available ENUM implementations with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s at drawing together a a co-ordinated approach should not only result in a firm foundation for ENUM activities within the European environment but should also assist in enhancing the competitive communications environmen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19320" y="228600"/>
          <a:ext cx="1752480" cy="53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17524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14400" y="5257800"/>
            <a:ext cx="784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81039"/>
                </a:solidFill>
                <a:latin typeface="Arial"/>
              </a:rPr>
              <a:t>The importance of gaining the support or all relevant parties</a:t>
            </a:r>
            <a:r>
              <a:rPr b="1" i="1" lang="en-US" sz="2800" spc="-1" strike="noStrike">
                <a:solidFill>
                  <a:srgbClr val="98103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81039"/>
                </a:solidFill>
                <a:latin typeface="Arial"/>
              </a:rPr>
              <a:t>was recognised as a prime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C123-78B4-4E18-A817-305618584D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Some emerging principles within Europe from ETSI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371600"/>
            <a:ext cx="80773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164 integrity must be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ance with Data Protection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rence to ITU Recommendations and IETF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ance with National Regulator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facilitate a competitiv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user ‘Opt i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network functions must not be compromised e.g. Number Portability, Carrier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594360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81039"/>
                </a:solidFill>
                <a:latin typeface="Arial"/>
              </a:rPr>
              <a:t>All provide good safe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533520"/>
          <a:ext cx="1752840" cy="53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33520"/>
                    <a:ext cx="17528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BF44-6477-489A-82C9-946BE1F02A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Major Issues of concern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219320"/>
            <a:ext cx="76201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ing based on false information b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and validat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se of data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ENUM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B784-62C1-40A6-8A80-7E1393157D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What still needs to be done?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523880"/>
            <a:ext cx="83059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ons  must be encouraged to actively consider  national implementation aspe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TSI Framework document needs to be completed and formally ag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sues surrounding the choice of gTLD must be resolv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effort must be put into completion of the ITU studies to facilitate the insertion of Country Codes within the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E043-B0E5-4F78-8179-A1F39D20D7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3880" y="13716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8103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137960" y="3962520"/>
            <a:ext cx="4151520" cy="1836000"/>
            <a:chOff x="1137960" y="3962520"/>
            <a:chExt cx="4151520" cy="1836000"/>
          </a:xfrm>
        </p:grpSpPr>
        <p:sp>
          <p:nvSpPr>
            <p:cNvPr id="175" name=""/>
            <p:cNvSpPr/>
            <p:nvPr/>
          </p:nvSpPr>
          <p:spPr>
            <a:xfrm>
              <a:off x="1137960" y="4008600"/>
              <a:ext cx="370728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ny Hol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Texact Technolog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irman ETSI SPAN11 N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-mail: tony.ar.holmes@bt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520" y="3962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CD5AF-2486-4126-8040-8054CC2040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22:29:07Z</dcterms:created>
  <dc:creator>BT</dc:creator>
  <dc:description/>
  <dc:language>en-US</dc:language>
  <cp:lastModifiedBy>BT</cp:lastModifiedBy>
  <cp:lastPrinted>2001-11-22T10:19:46Z</cp:lastPrinted>
  <dcterms:modified xsi:type="dcterms:W3CDTF">2002-02-08T09:58:02Z</dcterms:modified>
  <cp:revision>10</cp:revision>
  <dc:subject/>
  <dc:title>ITU-T SG2 &amp; ETSI work on ENUM  ENUM Supplement &amp; the ETSI Technical Repor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Benjamin Braun</vt:lpwstr>
  </property>
  <property fmtid="{D5CDD505-2E9C-101B-9397-08002B2CF9AE}" pid="3" name="_AdHocReviewCycleID">
    <vt:r8>1177369486</vt:r8>
  </property>
  <property fmtid="{D5CDD505-2E9C-101B-9397-08002B2CF9AE}" pid="4" name="_AuthorEmail">
    <vt:lpwstr>mcfadden@21st-century-texts.com</vt:lpwstr>
  </property>
  <property fmtid="{D5CDD505-2E9C-101B-9397-08002B2CF9AE}" pid="5" name="_AuthorEmailDisplayName">
    <vt:lpwstr>Mark McFadden</vt:lpwstr>
  </property>
  <property fmtid="{D5CDD505-2E9C-101B-9397-08002B2CF9AE}" pid="6" name="_EmailSubject">
    <vt:lpwstr>ENUM Presentation to ICANN by Tony Holmes and Mark McFadden</vt:lpwstr>
  </property>
</Properties>
</file>