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D499-AC46-4B5D-9477-C7C33133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BFB8-55E9-4167-9E47-3CEE129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4869-0448-47B4-B9BA-72B777A2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5558-69BA-406C-BDD8-AB4B16A6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10A5-6446-4621-AF87-CC220F44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DD06E-3B25-470C-B4F9-8D0FB4DE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7DC18-6378-4D19-B706-19F09A2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901C1-3418-4FCA-A193-C711B818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7675-7E63-426C-BF34-12B34AB3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F68D9-C29B-47AB-A49E-BCF86164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9D65E-6615-4A98-986E-AD9E6FA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5557-B566-4F93-8291-6E6DD707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3876-D786-4570-B6E0-A04752B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EF9ED-965D-4901-9935-B73393C0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BAECD-AECA-4F0D-BD9A-A1D57666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DD352-3DF8-4658-9CAC-0192B059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0DB75-7679-4292-A1FE-1A7478C8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C47D-6725-4D2A-936A-0BBC081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0511-E65F-45E1-BEC0-5E1B6AC9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20E0-4FBF-4AAD-AEB2-9C5C54A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3EA1-C306-4C6A-83DF-5AB25AA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ACAF-2D94-44A1-AB04-DAA45AD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6DB6-6150-4245-9C9F-A6D4864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CE2F-0510-4759-85E2-2CD735C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F130-E3DE-40FC-8D51-39A9B5DF200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3C70-50C2-4BD7-A1B5-048B4BC18F37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328B370C-B60E-44CF-A782-C19EC181AD3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342-82FB-4C51-8813-EFF50553A6D1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and ITU-D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Bangalore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1650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Issues, working methods and collaboration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00280" y="481788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. Georges Sebek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TU</a:t>
            </a:r>
            <a:r>
              <a:rPr b="0" lang="fr-CH" sz="2400" spc="-1" strike="noStrike">
                <a:solidFill>
                  <a:srgbClr val="ffffff"/>
                </a:solidFill>
                <a:latin typeface="Trebuchet MS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SB Engineer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95320" y="380880"/>
            <a:ext cx="71978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ccess Network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2520" y="1995480"/>
            <a:ext cx="779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11"/>
              </a:spcBef>
              <a:buClr>
                <a:srgbClr val="ffffff"/>
              </a:buClr>
              <a:buSzPct val="8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Q.1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1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ccess Network Transport Standardization Plan, issue 4 (Feb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1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Trebuchet MS"/>
              </a:rPr>
              <a:t>Access Network Transport Work Plan, issue 3 (Feb. 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5C62-EA22-4F92-8874-71B2B354E5B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C8F834-5511-49F9-ACFD-A75496D48A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5080" y="380520"/>
            <a:ext cx="7227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ANT standardization pla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8080" y="1576080"/>
            <a:ext cx="7765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339933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339933"/>
                </a:solidFill>
                <a:latin typeface="Trebuchet MS"/>
              </a:rPr>
              <a:t>Identif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Existing stand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Topics/standards under develo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Possible duplication and/or overla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Market nee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AAE1-03FA-48C0-87C0-E8C5F655B6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F8A0091-CB57-4EB0-9109-820677B2A8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880" y="380520"/>
            <a:ext cx="71992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e ANT work pla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11200" y="198288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 coordination/negotiation for additional work on ANT (who, when, where, etc.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provide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 overview of ongoing ANT activi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revise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 ANT standardization plan as requir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monitor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 progress of ANT standards wor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7B79-1A8A-4426-9BC2-EA4B748FFC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E62A0E9-534F-4411-9F26-F61A8FBEEF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2320" y="203040"/>
            <a:ext cx="732168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0066"/>
                </a:solidFill>
                <a:latin typeface="Verdana"/>
              </a:rPr>
              <a:t>ANT reference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scenarios for correlation of standards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4760" y="1590840"/>
            <a:ext cx="754884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9933"/>
                </a:solidFill>
                <a:latin typeface="Trebuchet MS"/>
              </a:rPr>
              <a:t>The scenarios are intended 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identification of key reference points in a scenar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classification of interfa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identification of services that can be carried across interfa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classification of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identification of end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points for service deliv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BC23-6C21-41DE-AF0F-B14899AFCA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E5DB06F-C73F-4CC2-9BC9-4BA9614F90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720" y="177480"/>
            <a:ext cx="71992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000066"/>
                </a:solidFill>
                <a:latin typeface="Verdana"/>
              </a:rPr>
              <a:t>ANT reference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scenarios for correlation of standards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3520" y="1727280"/>
            <a:ext cx="751032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investigation of inter</a:t>
            </a:r>
            <a:r>
              <a:rPr b="0" lang="fr-CH" sz="2800" spc="-1" strike="noStrike">
                <a:solidFill>
                  <a:srgbClr val="003366"/>
                </a:solidFill>
                <a:latin typeface="Trebuchet MS"/>
              </a:rPr>
              <a:t>action</a:t>
            </a: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 between all compon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acilitate identification of access network transport technolog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Be generic enough to facilitate scenario development across all technologies and Standards Development Organizations (SDOs) are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977D-12EC-45B5-889C-969CAD7EBA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CDF37AC-8AD0-435E-8614-BE0D76F3C8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59120" y="220680"/>
            <a:ext cx="71848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ANT,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logical represent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89000" y="1579680"/>
            <a:ext cx="6635880" cy="4039920"/>
            <a:chOff x="1989000" y="1579680"/>
            <a:chExt cx="6635880" cy="4039920"/>
          </a:xfrm>
        </p:grpSpPr>
        <p:sp>
          <p:nvSpPr>
            <p:cNvPr id="124" name=""/>
            <p:cNvSpPr/>
            <p:nvPr/>
          </p:nvSpPr>
          <p:spPr>
            <a:xfrm>
              <a:off x="7680240" y="4145040"/>
              <a:ext cx="944640" cy="6444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79760" y="2460600"/>
              <a:ext cx="2122560" cy="115272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0560" y="4390920"/>
              <a:ext cx="2284560" cy="11034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97080" y="2944800"/>
              <a:ext cx="1689120" cy="25146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11480" y="2373480"/>
              <a:ext cx="707760" cy="4618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8360" y="240516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67280" y="2600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2960" y="3846600"/>
              <a:ext cx="522000" cy="658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0920" y="38782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7320" y="407340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29360" y="42670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X]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83440" y="2868480"/>
              <a:ext cx="846000" cy="486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8640" y="290052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42920" y="3094200"/>
              <a:ext cx="58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9440" y="3165480"/>
              <a:ext cx="485640" cy="2761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75240" y="3228840"/>
              <a:ext cx="33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h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2640" y="3197160"/>
              <a:ext cx="9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2360" y="3984480"/>
              <a:ext cx="398520" cy="236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0080" y="40147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68760" y="4849920"/>
              <a:ext cx="398160" cy="2365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7280" y="4881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28000" y="42433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1280" y="443700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82640" y="277020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27920" y="296388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99280" y="315756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X]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1520" y="46893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8960" y="4883040"/>
              <a:ext cx="57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50320" y="5076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Y]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80240" y="3340080"/>
              <a:ext cx="408240" cy="804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513480" y="3056040"/>
              <a:ext cx="682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42120" y="3600360"/>
              <a:ext cx="1440" cy="790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784680" y="3378240"/>
              <a:ext cx="807840" cy="77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2978280" y="3440160"/>
              <a:ext cx="458640" cy="395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19440" y="4106880"/>
              <a:ext cx="533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966760" y="4491000"/>
              <a:ext cx="54612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854760" y="2894040"/>
              <a:ext cx="1800" cy="32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18400" y="3024360"/>
              <a:ext cx="73080" cy="6660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560" y="390852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27520" y="345276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2360" y="3530520"/>
              <a:ext cx="17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P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2360" y="24796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7920" y="255600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I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24880" y="27496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240" y="2827440"/>
              <a:ext cx="109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277960" y="3960720"/>
              <a:ext cx="323640" cy="73080"/>
              <a:chOff x="5277960" y="3960720"/>
              <a:chExt cx="323640" cy="73080"/>
            </a:xfrm>
          </p:grpSpPr>
          <p:sp>
            <p:nvSpPr>
              <p:cNvPr id="170" name=""/>
              <p:cNvSpPr/>
              <p:nvPr/>
            </p:nvSpPr>
            <p:spPr>
              <a:xfrm flipH="1">
                <a:off x="5277960" y="3995640"/>
                <a:ext cx="3236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6840" y="3960720"/>
                <a:ext cx="68400" cy="73080"/>
              </a:xfrm>
              <a:prstGeom prst="ellipse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H="1" flipV="1">
              <a:off x="2917440" y="2571480"/>
              <a:ext cx="1476360" cy="322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095720" y="2658960"/>
              <a:ext cx="47520" cy="322200"/>
              <a:chOff x="4095720" y="2658960"/>
              <a:chExt cx="47520" cy="322200"/>
            </a:xfrm>
          </p:grpSpPr>
          <p:sp>
            <p:nvSpPr>
              <p:cNvPr id="174" name=""/>
              <p:cNvSpPr/>
              <p:nvPr/>
            </p:nvSpPr>
            <p:spPr>
              <a:xfrm>
                <a:off x="4117680" y="2658960"/>
                <a:ext cx="1800" cy="32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95720" y="2787480"/>
                <a:ext cx="47520" cy="68400"/>
              </a:xfrm>
              <a:prstGeom prst="ellipse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022640" y="3724200"/>
              <a:ext cx="209520" cy="212760"/>
              <a:chOff x="4022640" y="3724200"/>
              <a:chExt cx="209520" cy="212760"/>
            </a:xfrm>
          </p:grpSpPr>
          <p:sp>
            <p:nvSpPr>
              <p:cNvPr id="177" name=""/>
              <p:cNvSpPr/>
              <p:nvPr/>
            </p:nvSpPr>
            <p:spPr>
              <a:xfrm>
                <a:off x="4022640" y="3724200"/>
                <a:ext cx="209520" cy="2127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95720" y="3795480"/>
                <a:ext cx="68040" cy="73080"/>
              </a:xfrm>
              <a:prstGeom prst="ellipse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208400" y="1801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8400" y="1849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8400" y="1897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8400" y="1944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8400" y="1992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8400" y="203976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8400" y="2087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8400" y="2133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8400" y="2181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8400" y="2228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08400" y="2276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8400" y="23241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8400" y="23716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8400" y="241920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8400" y="24670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08400" y="2514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08400" y="25621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8400" y="26100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8400" y="2657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8400" y="2705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8400" y="275256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08400" y="28004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08400" y="28479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08400" y="2894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08400" y="2941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08400" y="29894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8400" y="30369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3084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08400" y="31320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08400" y="3179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08400" y="32274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08400" y="3274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08400" y="3322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08400" y="3370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08400" y="34178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8400" y="346536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08400" y="3513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8400" y="3560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08400" y="36082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08400" y="3654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08400" y="37018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08400" y="3749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8400" y="37972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08400" y="3844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08400" y="38926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08400" y="3940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08400" y="3987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08400" y="4035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08400" y="40831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08400" y="4130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08400" y="41781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08400" y="4226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08400" y="4273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08400" y="43210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08400" y="4368960"/>
              <a:ext cx="7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08400" y="44146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08400" y="4462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08400" y="45100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08400" y="4557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08400" y="4605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8400" y="46530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08400" y="4700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08400" y="474804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08400" y="4795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08400" y="48434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08400" y="48909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8400" y="49388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8400" y="4986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08400" y="5033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08400" y="5081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08400" y="51274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08400" y="5175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8400" y="5222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08400" y="52704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08400" y="53182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08400" y="5365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8400" y="5413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8400" y="546084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08400" y="5508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08400" y="5556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08400" y="5603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11840" y="1789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11840" y="1836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11840" y="1884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11840" y="19321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11840" y="1979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11840" y="20271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11840" y="2075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11840" y="2122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1840" y="21700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11840" y="2217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11840" y="2265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11840" y="23130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11840" y="2360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11840" y="24084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11840" y="2455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11840" y="2503440"/>
              <a:ext cx="79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11840" y="2549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11840" y="2597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11840" y="2644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11840" y="26924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1840" y="27399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11840" y="27874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11840" y="2835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11840" y="2882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11840" y="29304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11840" y="29782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11840" y="3025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11840" y="3073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1840" y="3121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1840" y="3168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11840" y="3216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1840" y="3262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11840" y="33098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11840" y="3357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11840" y="34052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11840" y="3452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1840" y="35002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1840" y="35481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1840" y="35956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11840" y="3643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11840" y="36910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11840" y="37386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1840" y="37861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11840" y="383364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11840" y="3881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11840" y="3929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11840" y="3976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11840" y="4022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11840" y="40705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11840" y="4118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11840" y="41655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11840" y="421308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11840" y="42609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11840" y="43084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11840" y="43560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1840" y="4403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11840" y="44514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11840" y="44989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11840" y="454644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11840" y="45943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11840" y="46418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11840" y="4689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11840" y="4737240"/>
              <a:ext cx="7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11840" y="478296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11840" y="48308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11840" y="48783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11840" y="49258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11840" y="49737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11840" y="50212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11840" y="50688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11840" y="511668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11840" y="516420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11840" y="52117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11840" y="5259240"/>
              <a:ext cx="792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11840" y="530712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11840" y="5354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11840" y="540216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11840" y="54500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11840" y="5497560"/>
              <a:ext cx="79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11840" y="5543640"/>
              <a:ext cx="7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53200" y="3421080"/>
              <a:ext cx="1428840" cy="95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800760" y="3620880"/>
              <a:ext cx="1800" cy="323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64400" y="3749760"/>
              <a:ext cx="71280" cy="68040"/>
            </a:xfrm>
            <a:prstGeom prst="ellipse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42520" y="392256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06400" y="4000680"/>
              <a:ext cx="120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40720" y="194328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9560" y="2019240"/>
              <a:ext cx="10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5360" y="19303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41720" y="1998720"/>
              <a:ext cx="15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x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40200" y="214956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254200" y="2216160"/>
              <a:ext cx="323640" cy="73080"/>
              <a:chOff x="5254200" y="2216160"/>
              <a:chExt cx="323640" cy="7308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5254200" y="2251080"/>
                <a:ext cx="3236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81280" y="2216160"/>
                <a:ext cx="68400" cy="73080"/>
              </a:xfrm>
              <a:prstGeom prst="ellipse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415120" y="197820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15120" y="204948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5120" y="2120760"/>
              <a:ext cx="1260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5120" y="219240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5120" y="226368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5120" y="233352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5120" y="2405160"/>
              <a:ext cx="126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42840" y="1593720"/>
              <a:ext cx="185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 Network (A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9000" y="1579680"/>
              <a:ext cx="168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ustomer Premi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52800" y="181296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etwork (CP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36360" y="1579680"/>
              <a:ext cx="1233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720" y="181296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C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10120" y="427356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05680" y="4349880"/>
              <a:ext cx="194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X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3767040" y="4390560"/>
              <a:ext cx="557280" cy="422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060800" y="4470480"/>
              <a:ext cx="71280" cy="323640"/>
              <a:chOff x="4060800" y="4470480"/>
              <a:chExt cx="71280" cy="323640"/>
            </a:xfrm>
          </p:grpSpPr>
          <p:sp>
            <p:nvSpPr>
              <p:cNvPr id="369" name=""/>
              <p:cNvSpPr/>
              <p:nvPr/>
            </p:nvSpPr>
            <p:spPr>
              <a:xfrm>
                <a:off x="4095720" y="4470480"/>
                <a:ext cx="1440" cy="323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60800" y="4601880"/>
                <a:ext cx="71280" cy="66240"/>
              </a:xfrm>
              <a:prstGeom prst="ellipse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1B85-694E-41FB-B168-E79DF363182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18E350-B235-4D4B-B9E6-5DFA3834B1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49600" y="250920"/>
            <a:ext cx="71992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ANT, physical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represent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43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1AEF-B176-4664-931B-62931D3660A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0D97338-50BF-40E3-8D49-D373FA6947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07920" y="177480"/>
            <a:ext cx="7335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ANT, componen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45680" y="1852200"/>
            <a:ext cx="77979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rvice Function: such as Video Server and Video Service Provider for video servi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ore Network: such as Telecommunication network, PSTN, N-ISDN, B-ISD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Access Network: such as CATV network, ADSL/VDSL, fibre network, RITL, satelli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PN (Customer Premises Network): such as Access Unit, TV, PC, Phone, Wireless Ph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B648-7388-49DC-9963-D149CFA50F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A1F0291-580E-47AA-8BE1-202CC6D070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98560" y="177840"/>
            <a:ext cx="7345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ANT, func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50720" y="1779120"/>
            <a:ext cx="779292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1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1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ross connecting, including grooming, on demand connection and configur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1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11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Physical media adapt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5212-1304-4E2D-B0D9-976675B1D8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5E7BA58-89A9-48D7-A5D7-EAD59E6966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3760" y="177840"/>
            <a:ext cx="70102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ANT, scenario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74320" y="893880"/>
            <a:ext cx="7969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sion of Voice/Data/Video services over existing infrastructur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sion of Voice/Data/Video services over Cable Networks using B-ISD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use of ADSL or VDSL to provide video bandwidth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(or BB service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ver copper pair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bre Access scenario, Fibre In The Loo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use of Radio in the Local Loo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cess using satelli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rebuchet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 of Internet acc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61D0-102B-4252-B78A-81592A79F3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C3A4B1C-E2BD-4917-AB77-0B3DD560BF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8840" y="380880"/>
            <a:ext cx="7473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Main issues covered by ITU-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46320" y="1447560"/>
            <a:ext cx="76960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IP-related issues, IMT-2000, accounting r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</a:rPr>
              <a:t>ITU-T IP Proj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</a:rPr>
              <a:t>IPCablecom Proj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48640" indent="-54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ultimedia, access network (e.g. xDSL), security, numbering and addressing, inter-operability, languages, TMN, IPR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Mediacom 2004 Proj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ENU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ASN.1 Proj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OT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NG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50760" indent="-511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rebuchet MS"/>
                <a:ea typeface="Arial"/>
              </a:rPr>
              <a:t>Performance &amp; Q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346D-EF77-4F27-9076-C42C91A956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2E6F75-E6DE-4B66-A01D-472D90C23F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07920" y="192240"/>
            <a:ext cx="73357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NT scenario 4,  physical represent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819440" y="1765440"/>
            <a:ext cx="7133760" cy="4353840"/>
            <a:chOff x="1819440" y="1765440"/>
            <a:chExt cx="7133760" cy="4353840"/>
          </a:xfrm>
        </p:grpSpPr>
        <p:sp>
          <p:nvSpPr>
            <p:cNvPr id="381" name=""/>
            <p:cNvSpPr/>
            <p:nvPr/>
          </p:nvSpPr>
          <p:spPr>
            <a:xfrm flipH="1">
              <a:off x="3354480" y="2423880"/>
              <a:ext cx="3989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62160" y="1765440"/>
              <a:ext cx="1710360" cy="655560"/>
            </a:xfrm>
            <a:custGeom>
              <a:avLst/>
              <a:gdLst/>
              <a:ahLst/>
              <a:rect l="l" t="t" r="r" b="b"/>
              <a:pathLst>
                <a:path w="878" h="525">
                  <a:moveTo>
                    <a:pt x="878" y="0"/>
                  </a:moveTo>
                  <a:lnTo>
                    <a:pt x="789" y="2"/>
                  </a:lnTo>
                  <a:lnTo>
                    <a:pt x="702" y="12"/>
                  </a:lnTo>
                  <a:lnTo>
                    <a:pt x="617" y="23"/>
                  </a:lnTo>
                  <a:lnTo>
                    <a:pt x="537" y="41"/>
                  </a:lnTo>
                  <a:lnTo>
                    <a:pt x="460" y="64"/>
                  </a:lnTo>
                  <a:lnTo>
                    <a:pt x="387" y="91"/>
                  </a:lnTo>
                  <a:lnTo>
                    <a:pt x="319" y="120"/>
                  </a:lnTo>
                  <a:lnTo>
                    <a:pt x="287" y="137"/>
                  </a:lnTo>
                  <a:lnTo>
                    <a:pt x="257" y="155"/>
                  </a:lnTo>
                  <a:lnTo>
                    <a:pt x="228" y="172"/>
                  </a:lnTo>
                  <a:lnTo>
                    <a:pt x="201" y="191"/>
                  </a:lnTo>
                  <a:lnTo>
                    <a:pt x="174" y="211"/>
                  </a:lnTo>
                  <a:lnTo>
                    <a:pt x="150" y="232"/>
                  </a:lnTo>
                  <a:lnTo>
                    <a:pt x="126" y="253"/>
                  </a:lnTo>
                  <a:lnTo>
                    <a:pt x="106" y="274"/>
                  </a:lnTo>
                  <a:lnTo>
                    <a:pt x="86" y="298"/>
                  </a:lnTo>
                  <a:lnTo>
                    <a:pt x="68" y="321"/>
                  </a:lnTo>
                  <a:lnTo>
                    <a:pt x="53" y="346"/>
                  </a:lnTo>
                  <a:lnTo>
                    <a:pt x="39" y="369"/>
                  </a:lnTo>
                  <a:lnTo>
                    <a:pt x="27" y="394"/>
                  </a:lnTo>
                  <a:lnTo>
                    <a:pt x="17" y="419"/>
                  </a:lnTo>
                  <a:lnTo>
                    <a:pt x="9" y="446"/>
                  </a:lnTo>
                  <a:lnTo>
                    <a:pt x="4" y="471"/>
                  </a:lnTo>
                  <a:lnTo>
                    <a:pt x="1" y="498"/>
                  </a:lnTo>
                  <a:lnTo>
                    <a:pt x="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2160" y="2418840"/>
              <a:ext cx="1710360" cy="653400"/>
            </a:xfrm>
            <a:custGeom>
              <a:avLst/>
              <a:gdLst/>
              <a:ahLst/>
              <a:rect l="l" t="t" r="r" b="b"/>
              <a:pathLst>
                <a:path w="878" h="526">
                  <a:moveTo>
                    <a:pt x="878" y="526"/>
                  </a:moveTo>
                  <a:lnTo>
                    <a:pt x="789" y="524"/>
                  </a:lnTo>
                  <a:lnTo>
                    <a:pt x="702" y="516"/>
                  </a:lnTo>
                  <a:lnTo>
                    <a:pt x="617" y="503"/>
                  </a:lnTo>
                  <a:lnTo>
                    <a:pt x="537" y="485"/>
                  </a:lnTo>
                  <a:lnTo>
                    <a:pt x="460" y="462"/>
                  </a:lnTo>
                  <a:lnTo>
                    <a:pt x="387" y="437"/>
                  </a:lnTo>
                  <a:lnTo>
                    <a:pt x="319" y="406"/>
                  </a:lnTo>
                  <a:lnTo>
                    <a:pt x="287" y="391"/>
                  </a:lnTo>
                  <a:lnTo>
                    <a:pt x="257" y="373"/>
                  </a:lnTo>
                  <a:lnTo>
                    <a:pt x="228" y="354"/>
                  </a:lnTo>
                  <a:lnTo>
                    <a:pt x="201" y="335"/>
                  </a:lnTo>
                  <a:lnTo>
                    <a:pt x="174" y="315"/>
                  </a:lnTo>
                  <a:lnTo>
                    <a:pt x="150" y="294"/>
                  </a:lnTo>
                  <a:lnTo>
                    <a:pt x="126" y="273"/>
                  </a:lnTo>
                  <a:lnTo>
                    <a:pt x="106" y="252"/>
                  </a:lnTo>
                  <a:lnTo>
                    <a:pt x="86" y="228"/>
                  </a:lnTo>
                  <a:lnTo>
                    <a:pt x="68" y="205"/>
                  </a:lnTo>
                  <a:lnTo>
                    <a:pt x="53" y="182"/>
                  </a:lnTo>
                  <a:lnTo>
                    <a:pt x="39" y="157"/>
                  </a:lnTo>
                  <a:lnTo>
                    <a:pt x="27" y="132"/>
                  </a:lnTo>
                  <a:lnTo>
                    <a:pt x="17" y="107"/>
                  </a:lnTo>
                  <a:lnTo>
                    <a:pt x="9" y="82"/>
                  </a:lnTo>
                  <a:lnTo>
                    <a:pt x="4" y="55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72520" y="2418840"/>
              <a:ext cx="1713960" cy="653400"/>
            </a:xfrm>
            <a:custGeom>
              <a:avLst/>
              <a:gdLst/>
              <a:ahLst/>
              <a:rect l="l" t="t" r="r" b="b"/>
              <a:pathLst>
                <a:path w="880" h="526">
                  <a:moveTo>
                    <a:pt x="0" y="526"/>
                  </a:moveTo>
                  <a:lnTo>
                    <a:pt x="90" y="524"/>
                  </a:lnTo>
                  <a:lnTo>
                    <a:pt x="178" y="516"/>
                  </a:lnTo>
                  <a:lnTo>
                    <a:pt x="262" y="503"/>
                  </a:lnTo>
                  <a:lnTo>
                    <a:pt x="343" y="485"/>
                  </a:lnTo>
                  <a:lnTo>
                    <a:pt x="420" y="462"/>
                  </a:lnTo>
                  <a:lnTo>
                    <a:pt x="492" y="437"/>
                  </a:lnTo>
                  <a:lnTo>
                    <a:pt x="561" y="406"/>
                  </a:lnTo>
                  <a:lnTo>
                    <a:pt x="592" y="391"/>
                  </a:lnTo>
                  <a:lnTo>
                    <a:pt x="623" y="373"/>
                  </a:lnTo>
                  <a:lnTo>
                    <a:pt x="652" y="354"/>
                  </a:lnTo>
                  <a:lnTo>
                    <a:pt x="679" y="335"/>
                  </a:lnTo>
                  <a:lnTo>
                    <a:pt x="705" y="315"/>
                  </a:lnTo>
                  <a:lnTo>
                    <a:pt x="730" y="294"/>
                  </a:lnTo>
                  <a:lnTo>
                    <a:pt x="754" y="273"/>
                  </a:lnTo>
                  <a:lnTo>
                    <a:pt x="774" y="252"/>
                  </a:lnTo>
                  <a:lnTo>
                    <a:pt x="793" y="228"/>
                  </a:lnTo>
                  <a:lnTo>
                    <a:pt x="811" y="205"/>
                  </a:lnTo>
                  <a:lnTo>
                    <a:pt x="827" y="182"/>
                  </a:lnTo>
                  <a:lnTo>
                    <a:pt x="840" y="157"/>
                  </a:lnTo>
                  <a:lnTo>
                    <a:pt x="853" y="132"/>
                  </a:lnTo>
                  <a:lnTo>
                    <a:pt x="862" y="107"/>
                  </a:lnTo>
                  <a:lnTo>
                    <a:pt x="871" y="82"/>
                  </a:lnTo>
                  <a:lnTo>
                    <a:pt x="876" y="55"/>
                  </a:lnTo>
                  <a:lnTo>
                    <a:pt x="879" y="28"/>
                  </a:lnTo>
                  <a:lnTo>
                    <a:pt x="88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2520" y="1765440"/>
              <a:ext cx="1713960" cy="655560"/>
            </a:xfrm>
            <a:custGeom>
              <a:avLst/>
              <a:gdLst/>
              <a:ahLst/>
              <a:rect l="l" t="t" r="r" b="b"/>
              <a:pathLst>
                <a:path w="880" h="525">
                  <a:moveTo>
                    <a:pt x="0" y="0"/>
                  </a:moveTo>
                  <a:lnTo>
                    <a:pt x="90" y="2"/>
                  </a:lnTo>
                  <a:lnTo>
                    <a:pt x="178" y="12"/>
                  </a:lnTo>
                  <a:lnTo>
                    <a:pt x="262" y="23"/>
                  </a:lnTo>
                  <a:lnTo>
                    <a:pt x="343" y="41"/>
                  </a:lnTo>
                  <a:lnTo>
                    <a:pt x="420" y="64"/>
                  </a:lnTo>
                  <a:lnTo>
                    <a:pt x="492" y="91"/>
                  </a:lnTo>
                  <a:lnTo>
                    <a:pt x="561" y="120"/>
                  </a:lnTo>
                  <a:lnTo>
                    <a:pt x="592" y="137"/>
                  </a:lnTo>
                  <a:lnTo>
                    <a:pt x="623" y="155"/>
                  </a:lnTo>
                  <a:lnTo>
                    <a:pt x="652" y="172"/>
                  </a:lnTo>
                  <a:lnTo>
                    <a:pt x="679" y="191"/>
                  </a:lnTo>
                  <a:lnTo>
                    <a:pt x="705" y="211"/>
                  </a:lnTo>
                  <a:lnTo>
                    <a:pt x="730" y="232"/>
                  </a:lnTo>
                  <a:lnTo>
                    <a:pt x="754" y="253"/>
                  </a:lnTo>
                  <a:lnTo>
                    <a:pt x="774" y="274"/>
                  </a:lnTo>
                  <a:lnTo>
                    <a:pt x="793" y="298"/>
                  </a:lnTo>
                  <a:lnTo>
                    <a:pt x="811" y="321"/>
                  </a:lnTo>
                  <a:lnTo>
                    <a:pt x="827" y="346"/>
                  </a:lnTo>
                  <a:lnTo>
                    <a:pt x="840" y="369"/>
                  </a:lnTo>
                  <a:lnTo>
                    <a:pt x="853" y="394"/>
                  </a:lnTo>
                  <a:lnTo>
                    <a:pt x="862" y="419"/>
                  </a:lnTo>
                  <a:lnTo>
                    <a:pt x="871" y="446"/>
                  </a:lnTo>
                  <a:lnTo>
                    <a:pt x="876" y="471"/>
                  </a:lnTo>
                  <a:lnTo>
                    <a:pt x="879" y="498"/>
                  </a:lnTo>
                  <a:lnTo>
                    <a:pt x="880" y="52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8560" y="4354920"/>
              <a:ext cx="1472400" cy="768240"/>
            </a:xfrm>
            <a:custGeom>
              <a:avLst/>
              <a:gdLst/>
              <a:ahLst/>
              <a:rect l="l" t="t" r="r" b="b"/>
              <a:pathLst>
                <a:path w="756" h="616">
                  <a:moveTo>
                    <a:pt x="756" y="0"/>
                  </a:moveTo>
                  <a:lnTo>
                    <a:pt x="679" y="4"/>
                  </a:lnTo>
                  <a:lnTo>
                    <a:pt x="603" y="12"/>
                  </a:lnTo>
                  <a:lnTo>
                    <a:pt x="532" y="27"/>
                  </a:lnTo>
                  <a:lnTo>
                    <a:pt x="461" y="48"/>
                  </a:lnTo>
                  <a:lnTo>
                    <a:pt x="395" y="73"/>
                  </a:lnTo>
                  <a:lnTo>
                    <a:pt x="333" y="104"/>
                  </a:lnTo>
                  <a:lnTo>
                    <a:pt x="276" y="141"/>
                  </a:lnTo>
                  <a:lnTo>
                    <a:pt x="222" y="180"/>
                  </a:lnTo>
                  <a:lnTo>
                    <a:pt x="172" y="224"/>
                  </a:lnTo>
                  <a:lnTo>
                    <a:pt x="150" y="247"/>
                  </a:lnTo>
                  <a:lnTo>
                    <a:pt x="130" y="270"/>
                  </a:lnTo>
                  <a:lnTo>
                    <a:pt x="110" y="295"/>
                  </a:lnTo>
                  <a:lnTo>
                    <a:pt x="91" y="322"/>
                  </a:lnTo>
                  <a:lnTo>
                    <a:pt x="74" y="347"/>
                  </a:lnTo>
                  <a:lnTo>
                    <a:pt x="59" y="376"/>
                  </a:lnTo>
                  <a:lnTo>
                    <a:pt x="46" y="403"/>
                  </a:lnTo>
                  <a:lnTo>
                    <a:pt x="35" y="432"/>
                  </a:lnTo>
                  <a:lnTo>
                    <a:pt x="23" y="461"/>
                  </a:lnTo>
                  <a:lnTo>
                    <a:pt x="15" y="492"/>
                  </a:lnTo>
                  <a:lnTo>
                    <a:pt x="8" y="521"/>
                  </a:lnTo>
                  <a:lnTo>
                    <a:pt x="4" y="552"/>
                  </a:lnTo>
                  <a:lnTo>
                    <a:pt x="1" y="585"/>
                  </a:lnTo>
                  <a:lnTo>
                    <a:pt x="0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68560" y="5121000"/>
              <a:ext cx="1472400" cy="770400"/>
            </a:xfrm>
            <a:custGeom>
              <a:avLst/>
              <a:gdLst/>
              <a:ahLst/>
              <a:rect l="l" t="t" r="r" b="b"/>
              <a:pathLst>
                <a:path w="756" h="618">
                  <a:moveTo>
                    <a:pt x="756" y="618"/>
                  </a:moveTo>
                  <a:lnTo>
                    <a:pt x="679" y="614"/>
                  </a:lnTo>
                  <a:lnTo>
                    <a:pt x="603" y="606"/>
                  </a:lnTo>
                  <a:lnTo>
                    <a:pt x="532" y="591"/>
                  </a:lnTo>
                  <a:lnTo>
                    <a:pt x="461" y="570"/>
                  </a:lnTo>
                  <a:lnTo>
                    <a:pt x="395" y="543"/>
                  </a:lnTo>
                  <a:lnTo>
                    <a:pt x="333" y="512"/>
                  </a:lnTo>
                  <a:lnTo>
                    <a:pt x="276" y="477"/>
                  </a:lnTo>
                  <a:lnTo>
                    <a:pt x="222" y="436"/>
                  </a:lnTo>
                  <a:lnTo>
                    <a:pt x="172" y="394"/>
                  </a:lnTo>
                  <a:lnTo>
                    <a:pt x="150" y="371"/>
                  </a:lnTo>
                  <a:lnTo>
                    <a:pt x="130" y="346"/>
                  </a:lnTo>
                  <a:lnTo>
                    <a:pt x="110" y="320"/>
                  </a:lnTo>
                  <a:lnTo>
                    <a:pt x="91" y="295"/>
                  </a:lnTo>
                  <a:lnTo>
                    <a:pt x="74" y="268"/>
                  </a:lnTo>
                  <a:lnTo>
                    <a:pt x="59" y="241"/>
                  </a:lnTo>
                  <a:lnTo>
                    <a:pt x="46" y="212"/>
                  </a:lnTo>
                  <a:lnTo>
                    <a:pt x="35" y="183"/>
                  </a:lnTo>
                  <a:lnTo>
                    <a:pt x="23" y="154"/>
                  </a:lnTo>
                  <a:lnTo>
                    <a:pt x="15" y="125"/>
                  </a:lnTo>
                  <a:lnTo>
                    <a:pt x="8" y="95"/>
                  </a:lnTo>
                  <a:lnTo>
                    <a:pt x="4" y="6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41320" y="5121000"/>
              <a:ext cx="1476720" cy="770400"/>
            </a:xfrm>
            <a:custGeom>
              <a:avLst/>
              <a:gdLst/>
              <a:ahLst/>
              <a:rect l="l" t="t" r="r" b="b"/>
              <a:pathLst>
                <a:path w="758" h="618">
                  <a:moveTo>
                    <a:pt x="0" y="618"/>
                  </a:moveTo>
                  <a:lnTo>
                    <a:pt x="77" y="614"/>
                  </a:lnTo>
                  <a:lnTo>
                    <a:pt x="153" y="606"/>
                  </a:lnTo>
                  <a:lnTo>
                    <a:pt x="226" y="591"/>
                  </a:lnTo>
                  <a:lnTo>
                    <a:pt x="295" y="570"/>
                  </a:lnTo>
                  <a:lnTo>
                    <a:pt x="361" y="543"/>
                  </a:lnTo>
                  <a:lnTo>
                    <a:pt x="424" y="512"/>
                  </a:lnTo>
                  <a:lnTo>
                    <a:pt x="482" y="477"/>
                  </a:lnTo>
                  <a:lnTo>
                    <a:pt x="536" y="436"/>
                  </a:lnTo>
                  <a:lnTo>
                    <a:pt x="585" y="394"/>
                  </a:lnTo>
                  <a:lnTo>
                    <a:pt x="608" y="371"/>
                  </a:lnTo>
                  <a:lnTo>
                    <a:pt x="628" y="346"/>
                  </a:lnTo>
                  <a:lnTo>
                    <a:pt x="647" y="320"/>
                  </a:lnTo>
                  <a:lnTo>
                    <a:pt x="667" y="295"/>
                  </a:lnTo>
                  <a:lnTo>
                    <a:pt x="683" y="268"/>
                  </a:lnTo>
                  <a:lnTo>
                    <a:pt x="698" y="241"/>
                  </a:lnTo>
                  <a:lnTo>
                    <a:pt x="712" y="212"/>
                  </a:lnTo>
                  <a:lnTo>
                    <a:pt x="723" y="183"/>
                  </a:lnTo>
                  <a:lnTo>
                    <a:pt x="734" y="154"/>
                  </a:lnTo>
                  <a:lnTo>
                    <a:pt x="742" y="125"/>
                  </a:lnTo>
                  <a:lnTo>
                    <a:pt x="749" y="95"/>
                  </a:lnTo>
                  <a:lnTo>
                    <a:pt x="753" y="64"/>
                  </a:lnTo>
                  <a:lnTo>
                    <a:pt x="756" y="33"/>
                  </a:lnTo>
                  <a:lnTo>
                    <a:pt x="75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41320" y="4354920"/>
              <a:ext cx="1476720" cy="768240"/>
            </a:xfrm>
            <a:custGeom>
              <a:avLst/>
              <a:gdLst/>
              <a:ahLst/>
              <a:rect l="l" t="t" r="r" b="b"/>
              <a:pathLst>
                <a:path w="758" h="616">
                  <a:moveTo>
                    <a:pt x="0" y="0"/>
                  </a:moveTo>
                  <a:lnTo>
                    <a:pt x="77" y="4"/>
                  </a:lnTo>
                  <a:lnTo>
                    <a:pt x="153" y="12"/>
                  </a:lnTo>
                  <a:lnTo>
                    <a:pt x="226" y="27"/>
                  </a:lnTo>
                  <a:lnTo>
                    <a:pt x="295" y="48"/>
                  </a:lnTo>
                  <a:lnTo>
                    <a:pt x="361" y="73"/>
                  </a:lnTo>
                  <a:lnTo>
                    <a:pt x="424" y="104"/>
                  </a:lnTo>
                  <a:lnTo>
                    <a:pt x="482" y="141"/>
                  </a:lnTo>
                  <a:lnTo>
                    <a:pt x="536" y="180"/>
                  </a:lnTo>
                  <a:lnTo>
                    <a:pt x="585" y="224"/>
                  </a:lnTo>
                  <a:lnTo>
                    <a:pt x="608" y="247"/>
                  </a:lnTo>
                  <a:lnTo>
                    <a:pt x="628" y="270"/>
                  </a:lnTo>
                  <a:lnTo>
                    <a:pt x="647" y="295"/>
                  </a:lnTo>
                  <a:lnTo>
                    <a:pt x="667" y="322"/>
                  </a:lnTo>
                  <a:lnTo>
                    <a:pt x="683" y="347"/>
                  </a:lnTo>
                  <a:lnTo>
                    <a:pt x="698" y="376"/>
                  </a:lnTo>
                  <a:lnTo>
                    <a:pt x="712" y="403"/>
                  </a:lnTo>
                  <a:lnTo>
                    <a:pt x="723" y="432"/>
                  </a:lnTo>
                  <a:lnTo>
                    <a:pt x="734" y="461"/>
                  </a:lnTo>
                  <a:lnTo>
                    <a:pt x="742" y="492"/>
                  </a:lnTo>
                  <a:lnTo>
                    <a:pt x="749" y="521"/>
                  </a:lnTo>
                  <a:lnTo>
                    <a:pt x="753" y="552"/>
                  </a:lnTo>
                  <a:lnTo>
                    <a:pt x="756" y="585"/>
                  </a:lnTo>
                  <a:lnTo>
                    <a:pt x="758" y="61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67800" y="5056200"/>
              <a:ext cx="41205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9480" y="2079360"/>
              <a:ext cx="4716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81080" y="208440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39920" y="2089440"/>
              <a:ext cx="37080" cy="1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05640" y="2443680"/>
              <a:ext cx="367920" cy="2988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188" y="0"/>
                  </a:moveTo>
                  <a:lnTo>
                    <a:pt x="189" y="0"/>
                  </a:lnTo>
                  <a:lnTo>
                    <a:pt x="189" y="19"/>
                  </a:lnTo>
                  <a:lnTo>
                    <a:pt x="189" y="23"/>
                  </a:lnTo>
                  <a:lnTo>
                    <a:pt x="2" y="23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1960" y="2830680"/>
              <a:ext cx="381600" cy="39600"/>
            </a:xfrm>
            <a:custGeom>
              <a:avLst/>
              <a:gdLst/>
              <a:ahLst/>
              <a:rect l="l" t="t" r="r" b="b"/>
              <a:pathLst>
                <a:path w="196" h="33">
                  <a:moveTo>
                    <a:pt x="195" y="0"/>
                  </a:moveTo>
                  <a:lnTo>
                    <a:pt x="196" y="0"/>
                  </a:lnTo>
                  <a:lnTo>
                    <a:pt x="196" y="25"/>
                  </a:lnTo>
                  <a:lnTo>
                    <a:pt x="196" y="33"/>
                  </a:lnTo>
                  <a:lnTo>
                    <a:pt x="2" y="3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05640" y="2017080"/>
              <a:ext cx="367920" cy="34920"/>
            </a:xfrm>
            <a:custGeom>
              <a:avLst/>
              <a:gdLst/>
              <a:ahLst/>
              <a:rect l="l" t="t" r="r" b="b"/>
              <a:pathLst>
                <a:path w="189" h="27">
                  <a:moveTo>
                    <a:pt x="188" y="0"/>
                  </a:moveTo>
                  <a:lnTo>
                    <a:pt x="189" y="0"/>
                  </a:lnTo>
                  <a:lnTo>
                    <a:pt x="189" y="19"/>
                  </a:lnTo>
                  <a:lnTo>
                    <a:pt x="189" y="27"/>
                  </a:lnTo>
                  <a:lnTo>
                    <a:pt x="2" y="2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92600" y="2500920"/>
              <a:ext cx="23976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66040" y="2505960"/>
              <a:ext cx="11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200" y="2910600"/>
              <a:ext cx="2394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085120" y="291492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73560" y="1837080"/>
              <a:ext cx="241560" cy="1187640"/>
            </a:xfrm>
            <a:custGeom>
              <a:avLst/>
              <a:gdLst/>
              <a:ahLst/>
              <a:rect l="l" t="t" r="r" b="b"/>
              <a:pathLst>
                <a:path w="124" h="952">
                  <a:moveTo>
                    <a:pt x="124" y="0"/>
                  </a:moveTo>
                  <a:lnTo>
                    <a:pt x="124" y="952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121" y="10"/>
                  </a:lnTo>
                  <a:lnTo>
                    <a:pt x="3" y="10"/>
                  </a:lnTo>
                  <a:lnTo>
                    <a:pt x="5" y="4"/>
                  </a:lnTo>
                  <a:lnTo>
                    <a:pt x="5" y="948"/>
                  </a:lnTo>
                  <a:lnTo>
                    <a:pt x="3" y="944"/>
                  </a:lnTo>
                  <a:lnTo>
                    <a:pt x="121" y="944"/>
                  </a:lnTo>
                  <a:lnTo>
                    <a:pt x="117" y="948"/>
                  </a:lnTo>
                  <a:lnTo>
                    <a:pt x="117" y="4"/>
                  </a:lnTo>
                  <a:lnTo>
                    <a:pt x="121" y="1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17120" y="4933800"/>
              <a:ext cx="134280" cy="117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555000" y="2326680"/>
              <a:ext cx="38952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3613320" y="2253600"/>
              <a:ext cx="31752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555000" y="2433600"/>
              <a:ext cx="38952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607560" y="2436480"/>
              <a:ext cx="317520" cy="16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77920" y="2181600"/>
              <a:ext cx="379800" cy="5011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15360" y="2208960"/>
              <a:ext cx="3564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12560" y="221400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O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99880" y="2363760"/>
              <a:ext cx="3369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092040" y="2366280"/>
              <a:ext cx="17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NT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99880" y="2516040"/>
              <a:ext cx="3895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87360" y="252108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un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94000" y="2528640"/>
              <a:ext cx="70200" cy="1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28920" y="2533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07560" y="2423880"/>
              <a:ext cx="2703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3160" y="2301480"/>
              <a:ext cx="134640" cy="11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14600" y="2304000"/>
              <a:ext cx="35280" cy="222120"/>
            </a:xfrm>
            <a:custGeom>
              <a:avLst/>
              <a:gdLst/>
              <a:ahLst/>
              <a:rect l="l" t="t" r="r" b="b"/>
              <a:pathLst>
                <a:path w="18" h="177">
                  <a:moveTo>
                    <a:pt x="0" y="7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18" y="4"/>
                  </a:lnTo>
                  <a:lnTo>
                    <a:pt x="18" y="174"/>
                  </a:lnTo>
                  <a:lnTo>
                    <a:pt x="17" y="174"/>
                  </a:lnTo>
                  <a:lnTo>
                    <a:pt x="15" y="177"/>
                  </a:lnTo>
                  <a:lnTo>
                    <a:pt x="13" y="177"/>
                  </a:lnTo>
                  <a:lnTo>
                    <a:pt x="10" y="177"/>
                  </a:lnTo>
                  <a:lnTo>
                    <a:pt x="9" y="177"/>
                  </a:lnTo>
                  <a:lnTo>
                    <a:pt x="6" y="177"/>
                  </a:lnTo>
                  <a:lnTo>
                    <a:pt x="6" y="174"/>
                  </a:lnTo>
                  <a:lnTo>
                    <a:pt x="4" y="174"/>
                  </a:lnTo>
                  <a:lnTo>
                    <a:pt x="4" y="172"/>
                  </a:lnTo>
                  <a:lnTo>
                    <a:pt x="0" y="17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83640" y="2374200"/>
              <a:ext cx="99360" cy="8172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26" y="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3" y="7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49" y="23"/>
                  </a:lnTo>
                  <a:lnTo>
                    <a:pt x="51" y="27"/>
                  </a:lnTo>
                  <a:lnTo>
                    <a:pt x="51" y="33"/>
                  </a:lnTo>
                  <a:lnTo>
                    <a:pt x="51" y="42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7" y="48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4" y="54"/>
                  </a:lnTo>
                  <a:lnTo>
                    <a:pt x="44" y="58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40" y="62"/>
                  </a:lnTo>
                  <a:lnTo>
                    <a:pt x="38" y="62"/>
                  </a:lnTo>
                  <a:lnTo>
                    <a:pt x="38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2" y="6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9" y="60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8" y="7"/>
                  </a:lnTo>
                  <a:lnTo>
                    <a:pt x="9" y="7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77520" y="2369160"/>
              <a:ext cx="111240" cy="94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57" y="37"/>
                  </a:moveTo>
                  <a:lnTo>
                    <a:pt x="57" y="46"/>
                  </a:lnTo>
                  <a:lnTo>
                    <a:pt x="55" y="48"/>
                  </a:lnTo>
                  <a:lnTo>
                    <a:pt x="55" y="52"/>
                  </a:lnTo>
                  <a:lnTo>
                    <a:pt x="54" y="56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47" y="66"/>
                  </a:lnTo>
                  <a:lnTo>
                    <a:pt x="46" y="66"/>
                  </a:lnTo>
                  <a:lnTo>
                    <a:pt x="44" y="67"/>
                  </a:lnTo>
                  <a:lnTo>
                    <a:pt x="43" y="67"/>
                  </a:lnTo>
                  <a:lnTo>
                    <a:pt x="43" y="69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1" y="73"/>
                  </a:lnTo>
                  <a:lnTo>
                    <a:pt x="21" y="69"/>
                  </a:lnTo>
                  <a:lnTo>
                    <a:pt x="18" y="69"/>
                  </a:lnTo>
                  <a:lnTo>
                    <a:pt x="15" y="67"/>
                  </a:lnTo>
                  <a:lnTo>
                    <a:pt x="14" y="66"/>
                  </a:lnTo>
                  <a:lnTo>
                    <a:pt x="11" y="66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8" y="62"/>
                  </a:lnTo>
                  <a:lnTo>
                    <a:pt x="8" y="58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50" y="13"/>
                  </a:lnTo>
                  <a:lnTo>
                    <a:pt x="54" y="13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7" y="27"/>
                  </a:lnTo>
                  <a:lnTo>
                    <a:pt x="57" y="37"/>
                  </a:lnTo>
                  <a:lnTo>
                    <a:pt x="50" y="3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0" y="23"/>
                  </a:lnTo>
                  <a:lnTo>
                    <a:pt x="46" y="17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5" y="13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7" y="37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52"/>
                  </a:lnTo>
                  <a:lnTo>
                    <a:pt x="15" y="58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30" y="66"/>
                  </a:lnTo>
                  <a:lnTo>
                    <a:pt x="32" y="66"/>
                  </a:lnTo>
                  <a:lnTo>
                    <a:pt x="33" y="64"/>
                  </a:lnTo>
                  <a:lnTo>
                    <a:pt x="39" y="64"/>
                  </a:lnTo>
                  <a:lnTo>
                    <a:pt x="39" y="62"/>
                  </a:lnTo>
                  <a:lnTo>
                    <a:pt x="41" y="62"/>
                  </a:lnTo>
                  <a:lnTo>
                    <a:pt x="41" y="58"/>
                  </a:lnTo>
                  <a:lnTo>
                    <a:pt x="44" y="58"/>
                  </a:lnTo>
                  <a:lnTo>
                    <a:pt x="46" y="56"/>
                  </a:lnTo>
                  <a:lnTo>
                    <a:pt x="47" y="52"/>
                  </a:lnTo>
                  <a:lnTo>
                    <a:pt x="47" y="48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50" y="37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5040" y="2017080"/>
              <a:ext cx="43992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54200" y="2022120"/>
              <a:ext cx="16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3400" y="2086560"/>
              <a:ext cx="187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88200" y="2091600"/>
              <a:ext cx="7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88360" y="4372560"/>
              <a:ext cx="1464840" cy="1192680"/>
            </a:xfrm>
            <a:custGeom>
              <a:avLst/>
              <a:gdLst/>
              <a:ahLst/>
              <a:rect l="l" t="t" r="r" b="b"/>
              <a:pathLst>
                <a:path w="752" h="956">
                  <a:moveTo>
                    <a:pt x="114" y="0"/>
                  </a:moveTo>
                  <a:lnTo>
                    <a:pt x="91" y="4"/>
                  </a:lnTo>
                  <a:lnTo>
                    <a:pt x="70" y="14"/>
                  </a:lnTo>
                  <a:lnTo>
                    <a:pt x="51" y="27"/>
                  </a:lnTo>
                  <a:lnTo>
                    <a:pt x="33" y="47"/>
                  </a:lnTo>
                  <a:lnTo>
                    <a:pt x="19" y="70"/>
                  </a:lnTo>
                  <a:lnTo>
                    <a:pt x="10" y="97"/>
                  </a:lnTo>
                  <a:lnTo>
                    <a:pt x="3" y="128"/>
                  </a:lnTo>
                  <a:lnTo>
                    <a:pt x="0" y="159"/>
                  </a:lnTo>
                  <a:lnTo>
                    <a:pt x="0" y="796"/>
                  </a:lnTo>
                  <a:lnTo>
                    <a:pt x="3" y="829"/>
                  </a:lnTo>
                  <a:lnTo>
                    <a:pt x="10" y="858"/>
                  </a:lnTo>
                  <a:lnTo>
                    <a:pt x="19" y="887"/>
                  </a:lnTo>
                  <a:lnTo>
                    <a:pt x="33" y="910"/>
                  </a:lnTo>
                  <a:lnTo>
                    <a:pt x="51" y="929"/>
                  </a:lnTo>
                  <a:lnTo>
                    <a:pt x="70" y="945"/>
                  </a:lnTo>
                  <a:lnTo>
                    <a:pt x="91" y="952"/>
                  </a:lnTo>
                  <a:lnTo>
                    <a:pt x="114" y="956"/>
                  </a:lnTo>
                  <a:lnTo>
                    <a:pt x="639" y="956"/>
                  </a:lnTo>
                  <a:lnTo>
                    <a:pt x="661" y="952"/>
                  </a:lnTo>
                  <a:lnTo>
                    <a:pt x="683" y="945"/>
                  </a:lnTo>
                  <a:lnTo>
                    <a:pt x="702" y="929"/>
                  </a:lnTo>
                  <a:lnTo>
                    <a:pt x="719" y="910"/>
                  </a:lnTo>
                  <a:lnTo>
                    <a:pt x="733" y="887"/>
                  </a:lnTo>
                  <a:lnTo>
                    <a:pt x="744" y="858"/>
                  </a:lnTo>
                  <a:lnTo>
                    <a:pt x="749" y="829"/>
                  </a:lnTo>
                  <a:lnTo>
                    <a:pt x="752" y="796"/>
                  </a:lnTo>
                  <a:lnTo>
                    <a:pt x="752" y="159"/>
                  </a:lnTo>
                  <a:lnTo>
                    <a:pt x="749" y="128"/>
                  </a:lnTo>
                  <a:lnTo>
                    <a:pt x="744" y="97"/>
                  </a:lnTo>
                  <a:lnTo>
                    <a:pt x="733" y="70"/>
                  </a:lnTo>
                  <a:lnTo>
                    <a:pt x="719" y="47"/>
                  </a:lnTo>
                  <a:lnTo>
                    <a:pt x="702" y="27"/>
                  </a:lnTo>
                  <a:lnTo>
                    <a:pt x="683" y="14"/>
                  </a:lnTo>
                  <a:lnTo>
                    <a:pt x="661" y="4"/>
                  </a:lnTo>
                  <a:lnTo>
                    <a:pt x="639" y="0"/>
                  </a:lnTo>
                  <a:lnTo>
                    <a:pt x="11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031600" y="4704120"/>
              <a:ext cx="658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82440" y="47113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ubl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941960" y="4911120"/>
              <a:ext cx="874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25560" y="491868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19440" y="3257280"/>
              <a:ext cx="17452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92400" y="3264840"/>
              <a:ext cx="89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ber to the H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81720" y="4711320"/>
              <a:ext cx="47304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90800" y="4716720"/>
              <a:ext cx="22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53600" y="4723920"/>
              <a:ext cx="3708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17160" y="5078880"/>
              <a:ext cx="370080" cy="2484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188" y="0"/>
                  </a:moveTo>
                  <a:lnTo>
                    <a:pt x="190" y="0"/>
                  </a:lnTo>
                  <a:lnTo>
                    <a:pt x="190" y="18"/>
                  </a:lnTo>
                  <a:lnTo>
                    <a:pt x="188" y="18"/>
                  </a:lnTo>
                  <a:lnTo>
                    <a:pt x="188" y="21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0"/>
                  </a:lnTo>
                  <a:lnTo>
                    <a:pt x="1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05640" y="5460120"/>
              <a:ext cx="381600" cy="42120"/>
            </a:xfrm>
            <a:custGeom>
              <a:avLst/>
              <a:gdLst/>
              <a:ahLst/>
              <a:rect l="l" t="t" r="r" b="b"/>
              <a:pathLst>
                <a:path w="196" h="35">
                  <a:moveTo>
                    <a:pt x="194" y="0"/>
                  </a:moveTo>
                  <a:lnTo>
                    <a:pt x="196" y="0"/>
                  </a:lnTo>
                  <a:lnTo>
                    <a:pt x="196" y="25"/>
                  </a:lnTo>
                  <a:lnTo>
                    <a:pt x="194" y="25"/>
                  </a:lnTo>
                  <a:lnTo>
                    <a:pt x="194" y="35"/>
                  </a:lnTo>
                  <a:lnTo>
                    <a:pt x="2" y="35"/>
                  </a:lnTo>
                  <a:lnTo>
                    <a:pt x="0" y="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17160" y="4649400"/>
              <a:ext cx="370080" cy="32760"/>
            </a:xfrm>
            <a:custGeom>
              <a:avLst/>
              <a:gdLst/>
              <a:ahLst/>
              <a:rect l="l" t="t" r="r" b="b"/>
              <a:pathLst>
                <a:path w="190" h="28">
                  <a:moveTo>
                    <a:pt x="188" y="0"/>
                  </a:moveTo>
                  <a:lnTo>
                    <a:pt x="190" y="0"/>
                  </a:lnTo>
                  <a:lnTo>
                    <a:pt x="190" y="22"/>
                  </a:lnTo>
                  <a:lnTo>
                    <a:pt x="188" y="22"/>
                  </a:lnTo>
                  <a:lnTo>
                    <a:pt x="188" y="28"/>
                  </a:lnTo>
                  <a:lnTo>
                    <a:pt x="1" y="2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6280" y="5130720"/>
              <a:ext cx="2394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79720" y="5135760"/>
              <a:ext cx="11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66760" y="5542560"/>
              <a:ext cx="23760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5880" y="554760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87240" y="4466880"/>
              <a:ext cx="241560" cy="1187640"/>
            </a:xfrm>
            <a:custGeom>
              <a:avLst/>
              <a:gdLst/>
              <a:ahLst/>
              <a:rect l="l" t="t" r="r" b="b"/>
              <a:pathLst>
                <a:path w="124" h="952">
                  <a:moveTo>
                    <a:pt x="124" y="0"/>
                  </a:moveTo>
                  <a:lnTo>
                    <a:pt x="124" y="952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120" y="9"/>
                  </a:lnTo>
                  <a:lnTo>
                    <a:pt x="3" y="9"/>
                  </a:lnTo>
                  <a:lnTo>
                    <a:pt x="5" y="5"/>
                  </a:lnTo>
                  <a:lnTo>
                    <a:pt x="5" y="948"/>
                  </a:lnTo>
                  <a:lnTo>
                    <a:pt x="3" y="944"/>
                  </a:lnTo>
                  <a:lnTo>
                    <a:pt x="120" y="944"/>
                  </a:lnTo>
                  <a:lnTo>
                    <a:pt x="117" y="948"/>
                  </a:lnTo>
                  <a:lnTo>
                    <a:pt x="117" y="5"/>
                  </a:lnTo>
                  <a:lnTo>
                    <a:pt x="120" y="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88360" y="4811760"/>
              <a:ext cx="383400" cy="50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79800" y="4928760"/>
              <a:ext cx="23940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52160" y="4933800"/>
              <a:ext cx="118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09600" y="5083200"/>
              <a:ext cx="38952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01760" y="508608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un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05520" y="5093280"/>
              <a:ext cx="720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342600" y="50986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17280" y="5056200"/>
              <a:ext cx="270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28800" y="5889600"/>
              <a:ext cx="1683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94200" y="5896800"/>
              <a:ext cx="86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ber to the Cur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20600" y="4956480"/>
              <a:ext cx="387360" cy="498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49760" y="5070960"/>
              <a:ext cx="37368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0200" y="507600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ON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41840" y="5222880"/>
              <a:ext cx="4244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44440" y="522792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un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flipV="1">
              <a:off x="7330320" y="2423520"/>
              <a:ext cx="634680" cy="1940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61400" y="2326680"/>
              <a:ext cx="21600" cy="224280"/>
            </a:xfrm>
            <a:custGeom>
              <a:avLst/>
              <a:gdLst/>
              <a:ahLst/>
              <a:rect l="l" t="t" r="r" b="b"/>
              <a:pathLst>
                <a:path w="11" h="180">
                  <a:moveTo>
                    <a:pt x="0" y="10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1" y="176"/>
                  </a:lnTo>
                  <a:lnTo>
                    <a:pt x="10" y="176"/>
                  </a:lnTo>
                  <a:lnTo>
                    <a:pt x="8" y="178"/>
                  </a:lnTo>
                  <a:lnTo>
                    <a:pt x="7" y="178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40520" y="2396160"/>
              <a:ext cx="63720" cy="846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18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2" y="46"/>
                  </a:lnTo>
                  <a:lnTo>
                    <a:pt x="32" y="50"/>
                  </a:lnTo>
                  <a:lnTo>
                    <a:pt x="30" y="50"/>
                  </a:lnTo>
                  <a:lnTo>
                    <a:pt x="30" y="54"/>
                  </a:lnTo>
                  <a:lnTo>
                    <a:pt x="29" y="54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29" y="58"/>
                  </a:lnTo>
                  <a:lnTo>
                    <a:pt x="27" y="58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22" y="68"/>
                  </a:lnTo>
                  <a:lnTo>
                    <a:pt x="18" y="68"/>
                  </a:lnTo>
                  <a:lnTo>
                    <a:pt x="11" y="68"/>
                  </a:lnTo>
                  <a:lnTo>
                    <a:pt x="11" y="66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7" y="62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38000" y="2391120"/>
              <a:ext cx="68400" cy="95040"/>
            </a:xfrm>
            <a:custGeom>
              <a:avLst/>
              <a:gdLst/>
              <a:ahLst/>
              <a:rect l="l" t="t" r="r" b="b"/>
              <a:pathLst>
                <a:path w="35" h="76">
                  <a:moveTo>
                    <a:pt x="35" y="37"/>
                  </a:moveTo>
                  <a:lnTo>
                    <a:pt x="35" y="47"/>
                  </a:lnTo>
                  <a:lnTo>
                    <a:pt x="34" y="50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33" y="60"/>
                  </a:lnTo>
                  <a:lnTo>
                    <a:pt x="33" y="62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7" y="68"/>
                  </a:lnTo>
                  <a:lnTo>
                    <a:pt x="27" y="72"/>
                  </a:lnTo>
                  <a:lnTo>
                    <a:pt x="24" y="72"/>
                  </a:lnTo>
                  <a:lnTo>
                    <a:pt x="24" y="74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17" y="76"/>
                  </a:lnTo>
                  <a:lnTo>
                    <a:pt x="17" y="74"/>
                  </a:lnTo>
                  <a:lnTo>
                    <a:pt x="13" y="74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9" y="68"/>
                  </a:lnTo>
                  <a:lnTo>
                    <a:pt x="8" y="68"/>
                  </a:lnTo>
                  <a:lnTo>
                    <a:pt x="6" y="68"/>
                  </a:lnTo>
                  <a:lnTo>
                    <a:pt x="6" y="66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5" y="60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3" y="16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5"/>
                  </a:lnTo>
                  <a:lnTo>
                    <a:pt x="35" y="29"/>
                  </a:lnTo>
                  <a:lnTo>
                    <a:pt x="35" y="37"/>
                  </a:lnTo>
                  <a:lnTo>
                    <a:pt x="33" y="37"/>
                  </a:lnTo>
                  <a:lnTo>
                    <a:pt x="33" y="29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28" y="20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4"/>
                  </a:lnTo>
                  <a:lnTo>
                    <a:pt x="9" y="60"/>
                  </a:lnTo>
                  <a:lnTo>
                    <a:pt x="13" y="62"/>
                  </a:lnTo>
                  <a:lnTo>
                    <a:pt x="15" y="66"/>
                  </a:lnTo>
                  <a:lnTo>
                    <a:pt x="17" y="66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0" y="66"/>
                  </a:lnTo>
                  <a:lnTo>
                    <a:pt x="23" y="66"/>
                  </a:lnTo>
                  <a:lnTo>
                    <a:pt x="24" y="62"/>
                  </a:lnTo>
                  <a:lnTo>
                    <a:pt x="26" y="62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8" y="58"/>
                  </a:lnTo>
                  <a:lnTo>
                    <a:pt x="30" y="54"/>
                  </a:lnTo>
                  <a:lnTo>
                    <a:pt x="30" y="50"/>
                  </a:lnTo>
                  <a:lnTo>
                    <a:pt x="31" y="50"/>
                  </a:lnTo>
                  <a:lnTo>
                    <a:pt x="33" y="41"/>
                  </a:lnTo>
                  <a:lnTo>
                    <a:pt x="33" y="37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855120" y="4691520"/>
              <a:ext cx="439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75720" y="4699080"/>
              <a:ext cx="16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41680" y="4764240"/>
              <a:ext cx="18900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06480" y="4769280"/>
              <a:ext cx="7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776760" y="5490000"/>
              <a:ext cx="60984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31200" y="549792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ur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908960" y="5043600"/>
              <a:ext cx="330840" cy="1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885560" y="5043600"/>
              <a:ext cx="354240" cy="7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4908960" y="4888800"/>
              <a:ext cx="330840" cy="166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4885560" y="4978080"/>
              <a:ext cx="354240" cy="77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17280" y="5353200"/>
              <a:ext cx="10029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49240" y="5238360"/>
              <a:ext cx="33120" cy="224280"/>
            </a:xfrm>
            <a:custGeom>
              <a:avLst/>
              <a:gdLst/>
              <a:ahLst/>
              <a:rect l="l" t="t" r="r" b="b"/>
              <a:pathLst>
                <a:path w="17" h="179">
                  <a:moveTo>
                    <a:pt x="0" y="9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7" y="5"/>
                  </a:lnTo>
                  <a:lnTo>
                    <a:pt x="17" y="173"/>
                  </a:lnTo>
                  <a:lnTo>
                    <a:pt x="15" y="173"/>
                  </a:lnTo>
                  <a:lnTo>
                    <a:pt x="14" y="175"/>
                  </a:lnTo>
                  <a:lnTo>
                    <a:pt x="11" y="175"/>
                  </a:lnTo>
                  <a:lnTo>
                    <a:pt x="10" y="179"/>
                  </a:lnTo>
                  <a:lnTo>
                    <a:pt x="8" y="175"/>
                  </a:lnTo>
                  <a:lnTo>
                    <a:pt x="6" y="175"/>
                  </a:lnTo>
                  <a:lnTo>
                    <a:pt x="6" y="173"/>
                  </a:lnTo>
                  <a:lnTo>
                    <a:pt x="3" y="173"/>
                  </a:lnTo>
                  <a:lnTo>
                    <a:pt x="0" y="16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17920" y="5307840"/>
              <a:ext cx="99360" cy="82440"/>
            </a:xfrm>
            <a:custGeom>
              <a:avLst/>
              <a:gdLst/>
              <a:ahLst/>
              <a:rect l="l" t="t" r="r" b="b"/>
              <a:pathLst>
                <a:path w="51" h="65">
                  <a:moveTo>
                    <a:pt x="26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3"/>
                  </a:lnTo>
                  <a:lnTo>
                    <a:pt x="46" y="13"/>
                  </a:lnTo>
                  <a:lnTo>
                    <a:pt x="46" y="19"/>
                  </a:lnTo>
                  <a:lnTo>
                    <a:pt x="48" y="19"/>
                  </a:lnTo>
                  <a:lnTo>
                    <a:pt x="48" y="25"/>
                  </a:lnTo>
                  <a:lnTo>
                    <a:pt x="51" y="27"/>
                  </a:lnTo>
                  <a:lnTo>
                    <a:pt x="51" y="32"/>
                  </a:lnTo>
                  <a:lnTo>
                    <a:pt x="51" y="40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41" y="59"/>
                  </a:lnTo>
                  <a:lnTo>
                    <a:pt x="40" y="59"/>
                  </a:lnTo>
                  <a:lnTo>
                    <a:pt x="40" y="61"/>
                  </a:lnTo>
                  <a:lnTo>
                    <a:pt x="37" y="61"/>
                  </a:lnTo>
                  <a:lnTo>
                    <a:pt x="37" y="65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12" y="65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9" y="59"/>
                  </a:lnTo>
                  <a:lnTo>
                    <a:pt x="8" y="59"/>
                  </a:lnTo>
                  <a:lnTo>
                    <a:pt x="8" y="56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8" y="11"/>
                  </a:lnTo>
                  <a:lnTo>
                    <a:pt x="8" y="7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0000" y="5303520"/>
              <a:ext cx="111240" cy="9432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57" y="36"/>
                  </a:moveTo>
                  <a:lnTo>
                    <a:pt x="57" y="46"/>
                  </a:lnTo>
                  <a:lnTo>
                    <a:pt x="56" y="50"/>
                  </a:lnTo>
                  <a:lnTo>
                    <a:pt x="56" y="52"/>
                  </a:lnTo>
                  <a:lnTo>
                    <a:pt x="53" y="54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48" y="65"/>
                  </a:lnTo>
                  <a:lnTo>
                    <a:pt x="45" y="65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4" y="69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33" y="73"/>
                  </a:lnTo>
                  <a:lnTo>
                    <a:pt x="33" y="75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2" y="73"/>
                  </a:lnTo>
                  <a:lnTo>
                    <a:pt x="22" y="69"/>
                  </a:lnTo>
                  <a:lnTo>
                    <a:pt x="19" y="69"/>
                  </a:lnTo>
                  <a:lnTo>
                    <a:pt x="16" y="67"/>
                  </a:lnTo>
                  <a:lnTo>
                    <a:pt x="15" y="65"/>
                  </a:lnTo>
                  <a:lnTo>
                    <a:pt x="12" y="65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9" y="58"/>
                  </a:lnTo>
                  <a:lnTo>
                    <a:pt x="4" y="52"/>
                  </a:lnTo>
                  <a:lnTo>
                    <a:pt x="4" y="50"/>
                  </a:lnTo>
                  <a:lnTo>
                    <a:pt x="4" y="48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39" y="0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0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0" y="36"/>
                  </a:lnTo>
                  <a:lnTo>
                    <a:pt x="50" y="29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5" y="17"/>
                  </a:lnTo>
                  <a:lnTo>
                    <a:pt x="44" y="15"/>
                  </a:lnTo>
                  <a:lnTo>
                    <a:pt x="41" y="15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8" y="9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0" y="11"/>
                  </a:lnTo>
                  <a:lnTo>
                    <a:pt x="20" y="15"/>
                  </a:lnTo>
                  <a:lnTo>
                    <a:pt x="16" y="15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9" y="40"/>
                  </a:lnTo>
                  <a:lnTo>
                    <a:pt x="9" y="46"/>
                  </a:lnTo>
                  <a:lnTo>
                    <a:pt x="11" y="48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2" y="52"/>
                  </a:lnTo>
                  <a:lnTo>
                    <a:pt x="16" y="58"/>
                  </a:lnTo>
                  <a:lnTo>
                    <a:pt x="20" y="60"/>
                  </a:lnTo>
                  <a:lnTo>
                    <a:pt x="22" y="60"/>
                  </a:lnTo>
                  <a:lnTo>
                    <a:pt x="23" y="63"/>
                  </a:lnTo>
                  <a:lnTo>
                    <a:pt x="28" y="63"/>
                  </a:lnTo>
                  <a:lnTo>
                    <a:pt x="30" y="65"/>
                  </a:lnTo>
                  <a:lnTo>
                    <a:pt x="33" y="65"/>
                  </a:lnTo>
                  <a:lnTo>
                    <a:pt x="33" y="63"/>
                  </a:lnTo>
                  <a:lnTo>
                    <a:pt x="38" y="63"/>
                  </a:lnTo>
                  <a:lnTo>
                    <a:pt x="39" y="60"/>
                  </a:lnTo>
                  <a:lnTo>
                    <a:pt x="41" y="60"/>
                  </a:lnTo>
                  <a:lnTo>
                    <a:pt x="41" y="58"/>
                  </a:lnTo>
                  <a:lnTo>
                    <a:pt x="44" y="58"/>
                  </a:lnTo>
                  <a:lnTo>
                    <a:pt x="45" y="54"/>
                  </a:lnTo>
                  <a:lnTo>
                    <a:pt x="48" y="52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49240" y="4943880"/>
              <a:ext cx="33120" cy="221760"/>
            </a:xfrm>
            <a:custGeom>
              <a:avLst/>
              <a:gdLst/>
              <a:ahLst/>
              <a:rect l="l" t="t" r="r" b="b"/>
              <a:pathLst>
                <a:path w="17" h="180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7" y="4"/>
                  </a:lnTo>
                  <a:lnTo>
                    <a:pt x="17" y="174"/>
                  </a:lnTo>
                  <a:lnTo>
                    <a:pt x="15" y="174"/>
                  </a:lnTo>
                  <a:lnTo>
                    <a:pt x="14" y="176"/>
                  </a:lnTo>
                  <a:lnTo>
                    <a:pt x="11" y="176"/>
                  </a:lnTo>
                  <a:lnTo>
                    <a:pt x="10" y="180"/>
                  </a:lnTo>
                  <a:lnTo>
                    <a:pt x="8" y="176"/>
                  </a:lnTo>
                  <a:lnTo>
                    <a:pt x="6" y="176"/>
                  </a:lnTo>
                  <a:lnTo>
                    <a:pt x="6" y="174"/>
                  </a:lnTo>
                  <a:lnTo>
                    <a:pt x="3" y="174"/>
                  </a:lnTo>
                  <a:lnTo>
                    <a:pt x="0" y="17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17920" y="5013720"/>
              <a:ext cx="99360" cy="795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26" y="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6" y="19"/>
                  </a:lnTo>
                  <a:lnTo>
                    <a:pt x="48" y="19"/>
                  </a:lnTo>
                  <a:lnTo>
                    <a:pt x="48" y="25"/>
                  </a:lnTo>
                  <a:lnTo>
                    <a:pt x="51" y="27"/>
                  </a:lnTo>
                  <a:lnTo>
                    <a:pt x="51" y="33"/>
                  </a:lnTo>
                  <a:lnTo>
                    <a:pt x="51" y="43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54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1" y="56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7" y="62"/>
                  </a:lnTo>
                  <a:lnTo>
                    <a:pt x="37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26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2" y="66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8" y="56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10000" y="5008680"/>
              <a:ext cx="111240" cy="9216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57" y="37"/>
                  </a:moveTo>
                  <a:lnTo>
                    <a:pt x="57" y="47"/>
                  </a:lnTo>
                  <a:lnTo>
                    <a:pt x="56" y="50"/>
                  </a:lnTo>
                  <a:lnTo>
                    <a:pt x="56" y="54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48" y="66"/>
                  </a:lnTo>
                  <a:lnTo>
                    <a:pt x="45" y="66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4" y="72"/>
                  </a:lnTo>
                  <a:lnTo>
                    <a:pt x="39" y="72"/>
                  </a:lnTo>
                  <a:lnTo>
                    <a:pt x="39" y="74"/>
                  </a:lnTo>
                  <a:lnTo>
                    <a:pt x="33" y="74"/>
                  </a:lnTo>
                  <a:lnTo>
                    <a:pt x="33" y="76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19" y="72"/>
                  </a:lnTo>
                  <a:lnTo>
                    <a:pt x="16" y="68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1" y="66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0" y="2"/>
                  </a:lnTo>
                  <a:lnTo>
                    <a:pt x="22" y="0"/>
                  </a:lnTo>
                  <a:lnTo>
                    <a:pt x="39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8" y="6"/>
                  </a:lnTo>
                  <a:lnTo>
                    <a:pt x="50" y="14"/>
                  </a:lnTo>
                  <a:lnTo>
                    <a:pt x="53" y="14"/>
                  </a:lnTo>
                  <a:lnTo>
                    <a:pt x="53" y="18"/>
                  </a:lnTo>
                  <a:lnTo>
                    <a:pt x="53" y="18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7" y="29"/>
                  </a:lnTo>
                  <a:lnTo>
                    <a:pt x="57" y="37"/>
                  </a:lnTo>
                  <a:lnTo>
                    <a:pt x="50" y="37"/>
                  </a:lnTo>
                  <a:lnTo>
                    <a:pt x="50" y="29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45" y="18"/>
                  </a:lnTo>
                  <a:lnTo>
                    <a:pt x="44" y="14"/>
                  </a:lnTo>
                  <a:lnTo>
                    <a:pt x="41" y="14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41"/>
                  </a:lnTo>
                  <a:lnTo>
                    <a:pt x="9" y="47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2" y="54"/>
                  </a:lnTo>
                  <a:lnTo>
                    <a:pt x="16" y="60"/>
                  </a:lnTo>
                  <a:lnTo>
                    <a:pt x="20" y="62"/>
                  </a:lnTo>
                  <a:lnTo>
                    <a:pt x="22" y="62"/>
                  </a:lnTo>
                  <a:lnTo>
                    <a:pt x="23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39" y="62"/>
                  </a:lnTo>
                  <a:lnTo>
                    <a:pt x="41" y="62"/>
                  </a:lnTo>
                  <a:lnTo>
                    <a:pt x="41" y="60"/>
                  </a:lnTo>
                  <a:lnTo>
                    <a:pt x="44" y="60"/>
                  </a:lnTo>
                  <a:lnTo>
                    <a:pt x="45" y="56"/>
                  </a:lnTo>
                  <a:lnTo>
                    <a:pt x="48" y="54"/>
                  </a:lnTo>
                  <a:lnTo>
                    <a:pt x="48" y="50"/>
                  </a:lnTo>
                  <a:lnTo>
                    <a:pt x="49" y="50"/>
                  </a:lnTo>
                  <a:lnTo>
                    <a:pt x="50" y="41"/>
                  </a:lnTo>
                  <a:lnTo>
                    <a:pt x="50" y="37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14600" y="4532040"/>
              <a:ext cx="761400" cy="33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32240" y="4554720"/>
              <a:ext cx="48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60040" y="45622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47600" y="4629600"/>
              <a:ext cx="27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31480" y="4634640"/>
              <a:ext cx="11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P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10480" y="5153400"/>
              <a:ext cx="582120" cy="21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25960" y="5178240"/>
              <a:ext cx="488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14520" y="518580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13960" y="524556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86320" y="5250600"/>
              <a:ext cx="8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85440" y="2533680"/>
              <a:ext cx="5824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00920" y="2555640"/>
              <a:ext cx="48888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90560" y="2563560"/>
              <a:ext cx="107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18440" y="2630880"/>
              <a:ext cx="204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90800" y="2635920"/>
              <a:ext cx="8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52720" y="5468040"/>
              <a:ext cx="771120" cy="3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0720" y="5490000"/>
              <a:ext cx="486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01040" y="549792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86080" y="5562360"/>
              <a:ext cx="27072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69240" y="5567400"/>
              <a:ext cx="11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P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26720" y="4843800"/>
              <a:ext cx="381600" cy="498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473520" y="4956480"/>
              <a:ext cx="3232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64960" y="496116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O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47960" y="5110920"/>
              <a:ext cx="4226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49480" y="5115960"/>
              <a:ext cx="20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unc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77520" y="2146680"/>
              <a:ext cx="385560" cy="498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24680" y="2259360"/>
              <a:ext cx="323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14320" y="2264400"/>
              <a:ext cx="17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OL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99480" y="2413800"/>
              <a:ext cx="391320" cy="1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89840" y="241884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un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93600" y="2426040"/>
              <a:ext cx="7200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29240" y="2431080"/>
              <a:ext cx="21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06560" y="2319120"/>
              <a:ext cx="31320" cy="221760"/>
            </a:xfrm>
            <a:custGeom>
              <a:avLst/>
              <a:gdLst/>
              <a:ahLst/>
              <a:rect l="l" t="t" r="r" b="b"/>
              <a:pathLst>
                <a:path w="16" h="178">
                  <a:moveTo>
                    <a:pt x="0" y="8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5" y="0"/>
                  </a:lnTo>
                  <a:lnTo>
                    <a:pt x="13" y="0"/>
                  </a:lnTo>
                  <a:lnTo>
                    <a:pt x="16" y="4"/>
                  </a:lnTo>
                  <a:lnTo>
                    <a:pt x="16" y="174"/>
                  </a:lnTo>
                  <a:lnTo>
                    <a:pt x="15" y="174"/>
                  </a:lnTo>
                  <a:lnTo>
                    <a:pt x="13" y="178"/>
                  </a:lnTo>
                  <a:lnTo>
                    <a:pt x="11" y="178"/>
                  </a:lnTo>
                  <a:lnTo>
                    <a:pt x="9" y="178"/>
                  </a:lnTo>
                  <a:lnTo>
                    <a:pt x="8" y="178"/>
                  </a:lnTo>
                  <a:lnTo>
                    <a:pt x="5" y="178"/>
                  </a:lnTo>
                  <a:lnTo>
                    <a:pt x="5" y="174"/>
                  </a:lnTo>
                  <a:lnTo>
                    <a:pt x="2" y="174"/>
                  </a:lnTo>
                  <a:lnTo>
                    <a:pt x="2" y="172"/>
                  </a:lnTo>
                  <a:lnTo>
                    <a:pt x="0" y="17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773440" y="2388960"/>
              <a:ext cx="99360" cy="8244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25" y="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37" y="2"/>
                  </a:lnTo>
                  <a:lnTo>
                    <a:pt x="37" y="4"/>
                  </a:lnTo>
                  <a:lnTo>
                    <a:pt x="40" y="4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2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8" y="23"/>
                  </a:lnTo>
                  <a:lnTo>
                    <a:pt x="51" y="27"/>
                  </a:lnTo>
                  <a:lnTo>
                    <a:pt x="51" y="31"/>
                  </a:lnTo>
                  <a:lnTo>
                    <a:pt x="51" y="43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47" y="49"/>
                  </a:lnTo>
                  <a:lnTo>
                    <a:pt x="47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8"/>
                  </a:lnTo>
                  <a:lnTo>
                    <a:pt x="42" y="58"/>
                  </a:lnTo>
                  <a:lnTo>
                    <a:pt x="42" y="60"/>
                  </a:lnTo>
                  <a:lnTo>
                    <a:pt x="40" y="60"/>
                  </a:lnTo>
                  <a:lnTo>
                    <a:pt x="40" y="62"/>
                  </a:lnTo>
                  <a:lnTo>
                    <a:pt x="37" y="62"/>
                  </a:lnTo>
                  <a:lnTo>
                    <a:pt x="37" y="64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25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3" y="64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6" y="58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65880" y="2383560"/>
              <a:ext cx="113040" cy="921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58" y="35"/>
                  </a:moveTo>
                  <a:lnTo>
                    <a:pt x="58" y="47"/>
                  </a:lnTo>
                  <a:lnTo>
                    <a:pt x="57" y="49"/>
                  </a:lnTo>
                  <a:lnTo>
                    <a:pt x="57" y="53"/>
                  </a:lnTo>
                  <a:lnTo>
                    <a:pt x="54" y="56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48" y="66"/>
                  </a:lnTo>
                  <a:lnTo>
                    <a:pt x="46" y="66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4" y="70"/>
                  </a:lnTo>
                  <a:lnTo>
                    <a:pt x="40" y="70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29" y="74"/>
                  </a:lnTo>
                  <a:lnTo>
                    <a:pt x="29" y="74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19" y="70"/>
                  </a:lnTo>
                  <a:lnTo>
                    <a:pt x="17" y="68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1" y="64"/>
                  </a:lnTo>
                  <a:lnTo>
                    <a:pt x="10" y="62"/>
                  </a:lnTo>
                  <a:lnTo>
                    <a:pt x="10" y="58"/>
                  </a:lnTo>
                  <a:lnTo>
                    <a:pt x="4" y="53"/>
                  </a:lnTo>
                  <a:lnTo>
                    <a:pt x="4" y="4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4" y="29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14"/>
                  </a:lnTo>
                  <a:lnTo>
                    <a:pt x="54" y="14"/>
                  </a:lnTo>
                  <a:lnTo>
                    <a:pt x="54" y="16"/>
                  </a:lnTo>
                  <a:lnTo>
                    <a:pt x="54" y="18"/>
                  </a:lnTo>
                  <a:lnTo>
                    <a:pt x="57" y="22"/>
                  </a:lnTo>
                  <a:lnTo>
                    <a:pt x="57" y="26"/>
                  </a:lnTo>
                  <a:lnTo>
                    <a:pt x="58" y="27"/>
                  </a:lnTo>
                  <a:lnTo>
                    <a:pt x="58" y="35"/>
                  </a:lnTo>
                  <a:lnTo>
                    <a:pt x="51" y="35"/>
                  </a:lnTo>
                  <a:lnTo>
                    <a:pt x="51" y="27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41" y="14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9" y="8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1" y="24"/>
                  </a:lnTo>
                  <a:lnTo>
                    <a:pt x="11" y="26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8" y="35"/>
                  </a:lnTo>
                  <a:lnTo>
                    <a:pt x="10" y="39"/>
                  </a:lnTo>
                  <a:lnTo>
                    <a:pt x="10" y="47"/>
                  </a:lnTo>
                  <a:lnTo>
                    <a:pt x="11" y="49"/>
                  </a:lnTo>
                  <a:lnTo>
                    <a:pt x="12" y="49"/>
                  </a:lnTo>
                  <a:lnTo>
                    <a:pt x="12" y="53"/>
                  </a:lnTo>
                  <a:lnTo>
                    <a:pt x="17" y="58"/>
                  </a:lnTo>
                  <a:lnTo>
                    <a:pt x="21" y="62"/>
                  </a:lnTo>
                  <a:lnTo>
                    <a:pt x="22" y="62"/>
                  </a:lnTo>
                  <a:lnTo>
                    <a:pt x="23" y="64"/>
                  </a:lnTo>
                  <a:lnTo>
                    <a:pt x="29" y="64"/>
                  </a:lnTo>
                  <a:lnTo>
                    <a:pt x="30" y="66"/>
                  </a:lnTo>
                  <a:lnTo>
                    <a:pt x="33" y="66"/>
                  </a:lnTo>
                  <a:lnTo>
                    <a:pt x="33" y="64"/>
                  </a:lnTo>
                  <a:lnTo>
                    <a:pt x="39" y="64"/>
                  </a:lnTo>
                  <a:lnTo>
                    <a:pt x="40" y="62"/>
                  </a:lnTo>
                  <a:lnTo>
                    <a:pt x="41" y="62"/>
                  </a:lnTo>
                  <a:lnTo>
                    <a:pt x="41" y="58"/>
                  </a:lnTo>
                  <a:lnTo>
                    <a:pt x="44" y="58"/>
                  </a:lnTo>
                  <a:lnTo>
                    <a:pt x="46" y="56"/>
                  </a:lnTo>
                  <a:lnTo>
                    <a:pt x="48" y="53"/>
                  </a:lnTo>
                  <a:lnTo>
                    <a:pt x="48" y="49"/>
                  </a:lnTo>
                  <a:lnTo>
                    <a:pt x="50" y="49"/>
                  </a:lnTo>
                  <a:lnTo>
                    <a:pt x="51" y="41"/>
                  </a:lnTo>
                  <a:lnTo>
                    <a:pt x="51" y="35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21880" y="4554720"/>
              <a:ext cx="48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49680" y="456228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37600" y="4629600"/>
              <a:ext cx="356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049920" y="4634640"/>
              <a:ext cx="15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P1,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09360" y="1946880"/>
              <a:ext cx="490680" cy="2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7520" y="1951920"/>
              <a:ext cx="18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XN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027240" y="2019240"/>
              <a:ext cx="35640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37400" y="2024280"/>
              <a:ext cx="15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CP1,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22400" y="4958640"/>
              <a:ext cx="34560" cy="20700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7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8" y="3"/>
                  </a:lnTo>
                  <a:lnTo>
                    <a:pt x="18" y="162"/>
                  </a:lnTo>
                  <a:lnTo>
                    <a:pt x="15" y="162"/>
                  </a:lnTo>
                  <a:lnTo>
                    <a:pt x="15" y="166"/>
                  </a:lnTo>
                  <a:lnTo>
                    <a:pt x="11" y="166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5" y="166"/>
                  </a:lnTo>
                  <a:lnTo>
                    <a:pt x="5" y="162"/>
                  </a:lnTo>
                  <a:lnTo>
                    <a:pt x="3" y="162"/>
                  </a:lnTo>
                  <a:lnTo>
                    <a:pt x="3" y="162"/>
                  </a:lnTo>
                  <a:lnTo>
                    <a:pt x="0" y="1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87120" y="5023800"/>
              <a:ext cx="105120" cy="766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8" y="0"/>
                  </a:moveTo>
                  <a:lnTo>
                    <a:pt x="33" y="0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0" y="11"/>
                  </a:lnTo>
                  <a:lnTo>
                    <a:pt x="50" y="19"/>
                  </a:lnTo>
                  <a:lnTo>
                    <a:pt x="52" y="19"/>
                  </a:lnTo>
                  <a:lnTo>
                    <a:pt x="52" y="21"/>
                  </a:lnTo>
                  <a:lnTo>
                    <a:pt x="54" y="27"/>
                  </a:lnTo>
                  <a:lnTo>
                    <a:pt x="54" y="31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52" y="46"/>
                  </a:lnTo>
                  <a:lnTo>
                    <a:pt x="50" y="46"/>
                  </a:lnTo>
                  <a:lnTo>
                    <a:pt x="50" y="50"/>
                  </a:lnTo>
                  <a:lnTo>
                    <a:pt x="48" y="50"/>
                  </a:lnTo>
                  <a:lnTo>
                    <a:pt x="46" y="50"/>
                  </a:lnTo>
                  <a:lnTo>
                    <a:pt x="46" y="54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3" y="56"/>
                  </a:lnTo>
                  <a:lnTo>
                    <a:pt x="41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18" y="62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1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4"/>
                  </a:lnTo>
                  <a:lnTo>
                    <a:pt x="7" y="54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3" y="50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81360" y="5018760"/>
              <a:ext cx="117000" cy="8964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60" y="37"/>
                  </a:moveTo>
                  <a:lnTo>
                    <a:pt x="60" y="42"/>
                  </a:lnTo>
                  <a:lnTo>
                    <a:pt x="58" y="46"/>
                  </a:lnTo>
                  <a:lnTo>
                    <a:pt x="58" y="50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0" y="62"/>
                  </a:lnTo>
                  <a:lnTo>
                    <a:pt x="49" y="62"/>
                  </a:lnTo>
                  <a:lnTo>
                    <a:pt x="46" y="64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0" y="66"/>
                  </a:lnTo>
                  <a:lnTo>
                    <a:pt x="40" y="67"/>
                  </a:lnTo>
                  <a:lnTo>
                    <a:pt x="33" y="67"/>
                  </a:lnTo>
                  <a:lnTo>
                    <a:pt x="32" y="71"/>
                  </a:lnTo>
                  <a:lnTo>
                    <a:pt x="29" y="71"/>
                  </a:lnTo>
                  <a:lnTo>
                    <a:pt x="29" y="67"/>
                  </a:lnTo>
                  <a:lnTo>
                    <a:pt x="22" y="67"/>
                  </a:lnTo>
                  <a:lnTo>
                    <a:pt x="22" y="66"/>
                  </a:lnTo>
                  <a:lnTo>
                    <a:pt x="18" y="66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1" y="62"/>
                  </a:lnTo>
                  <a:lnTo>
                    <a:pt x="11" y="60"/>
                  </a:lnTo>
                  <a:lnTo>
                    <a:pt x="10" y="60"/>
                  </a:lnTo>
                  <a:lnTo>
                    <a:pt x="9" y="58"/>
                  </a:lnTo>
                  <a:lnTo>
                    <a:pt x="9" y="56"/>
                  </a:lnTo>
                  <a:lnTo>
                    <a:pt x="3" y="50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40" y="0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3" y="13"/>
                  </a:lnTo>
                  <a:lnTo>
                    <a:pt x="55" y="13"/>
                  </a:lnTo>
                  <a:lnTo>
                    <a:pt x="55" y="15"/>
                  </a:lnTo>
                  <a:lnTo>
                    <a:pt x="57" y="15"/>
                  </a:lnTo>
                  <a:lnTo>
                    <a:pt x="57" y="17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60" y="27"/>
                  </a:lnTo>
                  <a:lnTo>
                    <a:pt x="60" y="37"/>
                  </a:lnTo>
                  <a:lnTo>
                    <a:pt x="53" y="3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1"/>
                  </a:lnTo>
                  <a:lnTo>
                    <a:pt x="49" y="17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9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1" y="46"/>
                  </a:lnTo>
                  <a:lnTo>
                    <a:pt x="11" y="50"/>
                  </a:lnTo>
                  <a:lnTo>
                    <a:pt x="17" y="56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5" y="60"/>
                  </a:lnTo>
                  <a:lnTo>
                    <a:pt x="29" y="60"/>
                  </a:lnTo>
                  <a:lnTo>
                    <a:pt x="31" y="62"/>
                  </a:lnTo>
                  <a:lnTo>
                    <a:pt x="32" y="62"/>
                  </a:lnTo>
                  <a:lnTo>
                    <a:pt x="33" y="60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6" y="56"/>
                  </a:lnTo>
                  <a:lnTo>
                    <a:pt x="49" y="52"/>
                  </a:lnTo>
                  <a:lnTo>
                    <a:pt x="50" y="50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53" y="38"/>
                  </a:lnTo>
                  <a:lnTo>
                    <a:pt x="53" y="3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264200" y="4946400"/>
              <a:ext cx="33120" cy="224280"/>
            </a:xfrm>
            <a:custGeom>
              <a:avLst/>
              <a:gdLst/>
              <a:ahLst/>
              <a:rect l="l" t="t" r="r" b="b"/>
              <a:pathLst>
                <a:path w="17" h="179">
                  <a:moveTo>
                    <a:pt x="0" y="10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7" y="4"/>
                  </a:lnTo>
                  <a:lnTo>
                    <a:pt x="17" y="176"/>
                  </a:lnTo>
                  <a:lnTo>
                    <a:pt x="15" y="176"/>
                  </a:lnTo>
                  <a:lnTo>
                    <a:pt x="15" y="178"/>
                  </a:lnTo>
                  <a:lnTo>
                    <a:pt x="11" y="178"/>
                  </a:lnTo>
                  <a:lnTo>
                    <a:pt x="9" y="179"/>
                  </a:lnTo>
                  <a:lnTo>
                    <a:pt x="8" y="178"/>
                  </a:lnTo>
                  <a:lnTo>
                    <a:pt x="5" y="178"/>
                  </a:lnTo>
                  <a:lnTo>
                    <a:pt x="5" y="176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0" y="17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31080" y="5018760"/>
              <a:ext cx="99360" cy="8172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26" y="0"/>
                  </a:moveTo>
                  <a:lnTo>
                    <a:pt x="33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3"/>
                  </a:lnTo>
                  <a:lnTo>
                    <a:pt x="47" y="13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8" y="23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51" y="42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7" y="48"/>
                  </a:lnTo>
                  <a:lnTo>
                    <a:pt x="47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4" y="56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40" y="62"/>
                  </a:lnTo>
                  <a:lnTo>
                    <a:pt x="39" y="62"/>
                  </a:lnTo>
                  <a:lnTo>
                    <a:pt x="39" y="64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26" y="66"/>
                  </a:lnTo>
                  <a:lnTo>
                    <a:pt x="18" y="66"/>
                  </a:lnTo>
                  <a:lnTo>
                    <a:pt x="18" y="64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1" y="62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4" y="52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25320" y="5013720"/>
              <a:ext cx="110880" cy="9216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57" y="37"/>
                  </a:moveTo>
                  <a:lnTo>
                    <a:pt x="57" y="46"/>
                  </a:lnTo>
                  <a:lnTo>
                    <a:pt x="55" y="50"/>
                  </a:lnTo>
                  <a:lnTo>
                    <a:pt x="55" y="54"/>
                  </a:lnTo>
                  <a:lnTo>
                    <a:pt x="53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47" y="68"/>
                  </a:lnTo>
                  <a:lnTo>
                    <a:pt x="46" y="68"/>
                  </a:lnTo>
                  <a:lnTo>
                    <a:pt x="44" y="68"/>
                  </a:lnTo>
                  <a:lnTo>
                    <a:pt x="43" y="68"/>
                  </a:lnTo>
                  <a:lnTo>
                    <a:pt x="43" y="72"/>
                  </a:lnTo>
                  <a:lnTo>
                    <a:pt x="39" y="72"/>
                  </a:lnTo>
                  <a:lnTo>
                    <a:pt x="39" y="73"/>
                  </a:lnTo>
                  <a:lnTo>
                    <a:pt x="33" y="73"/>
                  </a:lnTo>
                  <a:lnTo>
                    <a:pt x="32" y="75"/>
                  </a:lnTo>
                  <a:lnTo>
                    <a:pt x="28" y="75"/>
                  </a:lnTo>
                  <a:lnTo>
                    <a:pt x="28" y="73"/>
                  </a:lnTo>
                  <a:lnTo>
                    <a:pt x="21" y="73"/>
                  </a:lnTo>
                  <a:lnTo>
                    <a:pt x="21" y="72"/>
                  </a:lnTo>
                  <a:lnTo>
                    <a:pt x="18" y="72"/>
                  </a:lnTo>
                  <a:lnTo>
                    <a:pt x="15" y="68"/>
                  </a:lnTo>
                  <a:lnTo>
                    <a:pt x="14" y="68"/>
                  </a:lnTo>
                  <a:lnTo>
                    <a:pt x="11" y="68"/>
                  </a:lnTo>
                  <a:lnTo>
                    <a:pt x="11" y="66"/>
                  </a:lnTo>
                  <a:lnTo>
                    <a:pt x="10" y="66"/>
                  </a:lnTo>
                  <a:lnTo>
                    <a:pt x="9" y="62"/>
                  </a:lnTo>
                  <a:lnTo>
                    <a:pt x="9" y="60"/>
                  </a:lnTo>
                  <a:lnTo>
                    <a:pt x="3" y="54"/>
                  </a:lnTo>
                  <a:lnTo>
                    <a:pt x="3" y="50"/>
                  </a:lnTo>
                  <a:lnTo>
                    <a:pt x="3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20" y="4"/>
                  </a:lnTo>
                  <a:lnTo>
                    <a:pt x="21" y="0"/>
                  </a:lnTo>
                  <a:lnTo>
                    <a:pt x="39" y="0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50" y="14"/>
                  </a:lnTo>
                  <a:lnTo>
                    <a:pt x="53" y="14"/>
                  </a:lnTo>
                  <a:lnTo>
                    <a:pt x="53" y="17"/>
                  </a:lnTo>
                  <a:lnTo>
                    <a:pt x="53" y="19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7" y="29"/>
                  </a:lnTo>
                  <a:lnTo>
                    <a:pt x="57" y="37"/>
                  </a:lnTo>
                  <a:lnTo>
                    <a:pt x="50" y="37"/>
                  </a:lnTo>
                  <a:lnTo>
                    <a:pt x="50" y="29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6" y="19"/>
                  </a:lnTo>
                  <a:lnTo>
                    <a:pt x="44" y="14"/>
                  </a:lnTo>
                  <a:lnTo>
                    <a:pt x="42" y="14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0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5" y="14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9" y="29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7" y="37"/>
                  </a:lnTo>
                  <a:lnTo>
                    <a:pt x="9" y="41"/>
                  </a:lnTo>
                  <a:lnTo>
                    <a:pt x="9" y="46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1" y="54"/>
                  </a:lnTo>
                  <a:lnTo>
                    <a:pt x="15" y="60"/>
                  </a:lnTo>
                  <a:lnTo>
                    <a:pt x="20" y="62"/>
                  </a:lnTo>
                  <a:lnTo>
                    <a:pt x="21" y="62"/>
                  </a:lnTo>
                  <a:lnTo>
                    <a:pt x="22" y="66"/>
                  </a:lnTo>
                  <a:lnTo>
                    <a:pt x="28" y="66"/>
                  </a:lnTo>
                  <a:lnTo>
                    <a:pt x="31" y="68"/>
                  </a:lnTo>
                  <a:lnTo>
                    <a:pt x="32" y="68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39" y="62"/>
                  </a:lnTo>
                  <a:lnTo>
                    <a:pt x="42" y="62"/>
                  </a:lnTo>
                  <a:lnTo>
                    <a:pt x="42" y="60"/>
                  </a:lnTo>
                  <a:lnTo>
                    <a:pt x="44" y="60"/>
                  </a:lnTo>
                  <a:lnTo>
                    <a:pt x="46" y="58"/>
                  </a:lnTo>
                  <a:lnTo>
                    <a:pt x="47" y="54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50" y="43"/>
                  </a:lnTo>
                  <a:lnTo>
                    <a:pt x="50" y="37"/>
                  </a:lnTo>
                  <a:lnTo>
                    <a:pt x="5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26200" y="4943880"/>
              <a:ext cx="23400" cy="221760"/>
            </a:xfrm>
            <a:custGeom>
              <a:avLst/>
              <a:gdLst/>
              <a:ahLst/>
              <a:rect l="l" t="t" r="r" b="b"/>
              <a:pathLst>
                <a:path w="12" h="180">
                  <a:moveTo>
                    <a:pt x="0" y="8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2" y="4"/>
                  </a:lnTo>
                  <a:lnTo>
                    <a:pt x="12" y="174"/>
                  </a:lnTo>
                  <a:lnTo>
                    <a:pt x="11" y="174"/>
                  </a:lnTo>
                  <a:lnTo>
                    <a:pt x="10" y="176"/>
                  </a:lnTo>
                  <a:lnTo>
                    <a:pt x="8" y="176"/>
                  </a:lnTo>
                  <a:lnTo>
                    <a:pt x="7" y="180"/>
                  </a:lnTo>
                  <a:lnTo>
                    <a:pt x="6" y="176"/>
                  </a:lnTo>
                  <a:lnTo>
                    <a:pt x="4" y="176"/>
                  </a:lnTo>
                  <a:lnTo>
                    <a:pt x="4" y="174"/>
                  </a:lnTo>
                  <a:lnTo>
                    <a:pt x="3" y="174"/>
                  </a:lnTo>
                  <a:lnTo>
                    <a:pt x="0" y="17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04240" y="5013720"/>
              <a:ext cx="64440" cy="79560"/>
            </a:xfrm>
            <a:custGeom>
              <a:avLst/>
              <a:gdLst/>
              <a:ahLst/>
              <a:rect l="l" t="t" r="r" b="b"/>
              <a:pathLst>
                <a:path w="33" h="66">
                  <a:moveTo>
                    <a:pt x="18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3" y="25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2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26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8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8" y="66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48"/>
                  </a:lnTo>
                  <a:lnTo>
                    <a:pt x="1" y="48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02800" y="5008680"/>
              <a:ext cx="72000" cy="9216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37" y="37"/>
                  </a:moveTo>
                  <a:lnTo>
                    <a:pt x="37" y="47"/>
                  </a:lnTo>
                  <a:lnTo>
                    <a:pt x="35" y="50"/>
                  </a:lnTo>
                  <a:lnTo>
                    <a:pt x="35" y="52"/>
                  </a:lnTo>
                  <a:lnTo>
                    <a:pt x="34" y="56"/>
                  </a:lnTo>
                  <a:lnTo>
                    <a:pt x="33" y="58"/>
                  </a:lnTo>
                  <a:lnTo>
                    <a:pt x="33" y="60"/>
                  </a:lnTo>
                  <a:lnTo>
                    <a:pt x="31" y="66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9" y="68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74"/>
                  </a:lnTo>
                  <a:lnTo>
                    <a:pt x="20" y="74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3" y="74"/>
                  </a:lnTo>
                  <a:lnTo>
                    <a:pt x="13" y="72"/>
                  </a:lnTo>
                  <a:lnTo>
                    <a:pt x="12" y="72"/>
                  </a:lnTo>
                  <a:lnTo>
                    <a:pt x="9" y="6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64"/>
                  </a:lnTo>
                  <a:lnTo>
                    <a:pt x="5" y="64"/>
                  </a:lnTo>
                  <a:lnTo>
                    <a:pt x="5" y="60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5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7"/>
                  </a:lnTo>
                  <a:lnTo>
                    <a:pt x="33" y="37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4" y="37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64"/>
                  </a:lnTo>
                  <a:lnTo>
                    <a:pt x="24" y="64"/>
                  </a:lnTo>
                  <a:lnTo>
                    <a:pt x="24" y="60"/>
                  </a:lnTo>
                  <a:lnTo>
                    <a:pt x="27" y="60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30" y="56"/>
                  </a:lnTo>
                  <a:lnTo>
                    <a:pt x="31" y="52"/>
                  </a:lnTo>
                  <a:lnTo>
                    <a:pt x="31" y="50"/>
                  </a:lnTo>
                  <a:lnTo>
                    <a:pt x="33" y="50"/>
                  </a:lnTo>
                  <a:lnTo>
                    <a:pt x="33" y="48"/>
                  </a:lnTo>
                  <a:lnTo>
                    <a:pt x="33" y="41"/>
                  </a:lnTo>
                  <a:lnTo>
                    <a:pt x="33" y="37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458560" y="3848760"/>
              <a:ext cx="39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123760" y="3381840"/>
              <a:ext cx="640440" cy="46872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17800" y="34192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26080" y="3611520"/>
              <a:ext cx="267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F909-A9AA-4E32-BDBC-6729A78CDCC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9CA25ED-FCE6-44E9-BE78-58C153A59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815840" y="165240"/>
            <a:ext cx="7327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ing Metho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386000" y="953640"/>
            <a:ext cx="77580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uestions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, Rapporteurs and edi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ommendations having regulatory or policy implications (TAP procedure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chnical Recommendations (AAP procedure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, as per Rec. A.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rrespondence (e-mail list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and FTP area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er Quest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apporteurs/editors meetings (approved at WP/SGs leve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5015-7148-46F8-B8F2-E9AE91C52C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4A0009-426E-4F3C-ADD1-5D6D7E4BCF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05040" y="15192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ing Metho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309680" y="1461960"/>
            <a:ext cx="783432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Parties/Study Groups meetings (frequency, duration, locat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ops and semin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operation with other SDO’s (A.4, A.5, A.6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ecial Projects and new initia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7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70000"/>
              </a:lnSpc>
              <a:spcBef>
                <a:spcPts val="1188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http://w</a:t>
            </a:r>
            <a:r>
              <a:rPr b="0" lang="fr-CH" sz="1900" spc="-1" strike="noStrike">
                <a:solidFill>
                  <a:srgbClr val="000000"/>
                </a:solidFill>
                <a:latin typeface="Trebuchet MS"/>
              </a:rPr>
              <a:t>ww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.itu.</a:t>
            </a:r>
            <a:r>
              <a:rPr b="0" lang="fr-CH" sz="1900" spc="-1" strike="noStrike">
                <a:solidFill>
                  <a:srgbClr val="000000"/>
                </a:solidFill>
                <a:latin typeface="Trebuchet MS"/>
              </a:rPr>
              <a:t>int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/ITU-</a:t>
            </a:r>
            <a:r>
              <a:rPr b="0" lang="fr-CH" sz="1900" spc="-1" strike="noStrike">
                <a:solidFill>
                  <a:srgbClr val="000000"/>
                </a:solidFill>
                <a:latin typeface="Trebuchet MS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/info/participants_info.html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400A-3FFA-40C9-9FA0-40ABD9287F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A3E91F-8BA6-4C37-87F7-4451852211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2080" y="152280"/>
            <a:ext cx="7351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king Method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409760" y="1347840"/>
            <a:ext cx="773424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Rules of Procedure of ITU-T meetings (Resolution 1, S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3; R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A.1, S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1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2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Study Group management (R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A.1, S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1.3.2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Submission of contributions (R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A.1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2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How to 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ference o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th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document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Temporary documents (R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A.1, Se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3.3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700"/>
              </a:spcBef>
              <a:buClr>
                <a:srgbClr val="ffffff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The roles of Rapporteurs (R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A.1, Se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2.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2685-C5D0-4945-9609-728FECA101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59680B3-B825-4315-8408-E4B5E0F327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80720" y="228600"/>
            <a:ext cx="71629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52280" y="1474920"/>
            <a:ext cx="85708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Reasons</a:t>
            </a:r>
            <a:r>
              <a:rPr b="0" i="1" lang="fr-CH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</a:rPr>
              <a:t>for collabo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Rea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t to the rapid changes in the market nee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Avoi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d duplication of effort or overla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Shar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e (or develop collaborative actions to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supp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ort) the standardization effo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Prov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ide means for having «critical mass» of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expe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rts in specific are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Savin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g cos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Inter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dependence of telecom techniques &amp;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appli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cations with other industry sectors,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1D77-524B-41B4-A847-E14B88DCE90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56F73C6-F429-4BDF-AA3C-656ED746A5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828800" y="215640"/>
            <a:ext cx="7315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65240" y="1233000"/>
            <a:ext cx="87487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Who is c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</a:rPr>
              <a:t>oncerned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Trebuchet MS"/>
              </a:rPr>
              <a:t>Inter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national Organizations (e.g. ISO, IE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Nati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onal and Regional Standards Development </a:t>
            </a:r>
            <a:r>
              <a:rPr b="0" i="1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Org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"/>
              </a:rPr>
              <a:t>nizations 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(e.g. IEEE, ETSI, TT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Foru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s and consortia (e.g. ATMF, FR Forum,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OMG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  <a:ea typeface="Arial"/>
              </a:rPr>
              <a:t>Levels o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  <a:ea typeface="Arial"/>
              </a:rPr>
              <a:t>f collabo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Com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munication proc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Refe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rencing documents from other organiz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Coop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eration &amp; exchange of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  <a:ea typeface="Arial"/>
              </a:rPr>
              <a:t>Colla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  <a:ea typeface="Arial"/>
              </a:rPr>
              <a:t>boration with ISO/IEC on 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B2DD-BECD-41B1-835F-B8ABA022B8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665CD4-1993-4537-AEE5-C2E267F0F7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817280" y="215640"/>
            <a:ext cx="7326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5240" y="1385640"/>
            <a:ext cx="874872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Rec.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A.4, communication proc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Rec.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A.5, referencing texts from other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orga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niz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Rec.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A.6, cooperation and exchange of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infor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mation with national &amp; regional SD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Res.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7 (WTSA-2000) &amp; Rec. A.23, collaboration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with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ISO and IEC on 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oU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on ICANN PSO (14 July 1999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oU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with ISO, IEC &amp; UN/ECE on e-business (24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ar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 200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DBB0-C1C8-4E63-A061-5A4037B157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9E2A128-23A5-407D-9D4C-E12764A32F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841040" y="190080"/>
            <a:ext cx="7302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15640" y="1157040"/>
            <a:ext cx="869796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oU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 with ETSI (14 June 2000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Key role</a:t>
            </a:r>
            <a:r>
              <a:rPr b="0" i="1" lang="fr-CH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</a:rPr>
              <a:t>of the Director of TSB, Responsible for </a:t>
            </a: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ITU Standar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</a:rPr>
              <a:t>dization Coop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an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agement of processes under Recs. A.4, A.5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&amp; A.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Initi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ating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and co-chairing j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int meeting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f IETF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a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rectors and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TU-T S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tudy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roup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Chair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Sign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atory of the PSO MoU (14 July 1999), the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 MoU 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with ISO, IEC and UNECE on e-business (24 </a:t>
            </a:r>
            <a:r>
              <a:rPr b="0" lang="fr-CH" sz="2800" spc="-1" strike="noStrike">
                <a:solidFill>
                  <a:srgbClr val="ffffff"/>
                </a:solidFill>
                <a:latin typeface="Trebuchet MS"/>
              </a:rPr>
              <a:t>Marc</a:t>
            </a: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 2000)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rebuchet MS"/>
              </a:rPr>
              <a:t>More inf</a:t>
            </a:r>
            <a:r>
              <a:rPr b="0" i="1" lang="fr-CH" sz="2400" spc="-1" strike="noStrike">
                <a:solidFill>
                  <a:srgbClr val="339933"/>
                </a:solidFill>
                <a:latin typeface="Trebuchet MS"/>
              </a:rPr>
              <a:t>or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rebuchet MS"/>
              </a:rPr>
              <a:t>http: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//www.itu.int/ITU-T/tsb_director/index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25F2-3DED-4C1E-9ACB-539BE1044F2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17E95E2-5E03-4B57-BB36-3C4194048E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91" descr=""/>
          <p:cNvPicPr/>
          <p:nvPr/>
        </p:nvPicPr>
        <p:blipFill>
          <a:blip r:embed="rId1"/>
          <a:stretch/>
        </p:blipFill>
        <p:spPr>
          <a:xfrm>
            <a:off x="609480" y="1125360"/>
            <a:ext cx="8280360" cy="54676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2759040" y="436680"/>
            <a:ext cx="61246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ank you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D39B-48B5-4B21-B27C-339626D0E5DB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C4093C4-6009-4DA6-B8E8-F8424E9C69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52200" y="380880"/>
            <a:ext cx="70102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What are ITU-T Projects?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720" y="1996920"/>
            <a:ext cx="77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andardization domain </a:t>
            </a:r>
            <a:r>
              <a:rPr b="0" lang="fr-CH" sz="3000" spc="-1" strike="noStrike">
                <a:solidFill>
                  <a:srgbClr val="000000"/>
                </a:solidFill>
                <a:latin typeface="Trebuchet MS"/>
              </a:rPr>
              <a:t>identified as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f import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y be shared within several S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y correspond to (very) urgent market nee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eds for coordin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Trebuchet MS"/>
              </a:rPr>
              <a:t>May be used to clarify areas for stud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3E48-E850-4716-B409-069CC7FEB3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B339DD8-0C58-4BF0-8375-A6BBE675B2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271520"/>
            <a:ext cx="474192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Explosiv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growth of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the Internet/I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-based 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Ever incr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sing demand for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higher ba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dwidth/capac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etwork o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erators, service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provider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and manufacturers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reconsid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 services, network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tructure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, products e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IT and us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of IP-based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etwor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and applications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(e.g. e-co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merce) become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critical fa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tors in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developm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nt of telecom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etwork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220760"/>
            <a:ext cx="457200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Trebuchet MS"/>
              </a:rPr>
              <a:t>ITU-T and IETF Collaboration must be strengthened considering interest in ITU-T on IP-bas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Trebuchet MS"/>
              </a:rPr>
              <a:t>IETF and ITU-T are not able to adequately address this area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Trebuchet MS"/>
              </a:rPr>
              <a:t>IETF strength: protocol and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Trebuchet MS"/>
              </a:rPr>
              <a:t>ITU-T: great experience in the areas of architecture, network interworking and network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E703-146D-44C1-BCC0-8BC88D0294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128D13-F602-4BB3-AF7F-96CBAD837F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7800" y="380880"/>
            <a:ext cx="7155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44240"/>
            <a:ext cx="914400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ince 199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8, the IP project is updated by the SG 13 Project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Leader ta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king into consideration major deliverables from the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variou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dy Groups, i.e Recommendations approved or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planned (</a:t>
            </a:r>
            <a:r>
              <a:rPr b="0" lang="en-GB" sz="2400" spc="-1" strike="noStrike">
                <a:solidFill>
                  <a:srgbClr val="339933"/>
                </a:solidFill>
                <a:latin typeface="Trebuchet MS"/>
              </a:rPr>
              <a:t>before 1998, IP was a sub-project of the ITU-T GII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projec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Y.1000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to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Y.9999 reserved for IP-related Recommenda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For each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area, the IP Project identifi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cop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 and focus of the work are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ssu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for consid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of current work within ITU-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d work within IET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dition </a:t>
            </a:r>
            <a:r>
              <a:rPr b="0" lang="fr-CH" sz="2400" spc="-1" strike="noStrike">
                <a:solidFill>
                  <a:srgbClr val="ffffff"/>
                </a:solidFill>
                <a:latin typeface="Trebuchet MS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SG 13 meeting, 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2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200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(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ITU-T Websit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537A-9B63-4EA8-904F-0494015A51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0259A39-845F-4BAC-980A-D02A7C6BA2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380880"/>
            <a:ext cx="73501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358640"/>
            <a:ext cx="891396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1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- I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tegrated archite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2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pact to telecommunications access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infrastruc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ures of access to IP 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3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terworking between IP-based network and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witched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ircuit networks, including wireless-based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4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- M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ltimedia applications over 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5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mbering and address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6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ansport for IP-structured sign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7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gnalling support, IN and routing for services on IP-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based net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B3AB-8E07-4085-970E-B248D9817E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566A3EF-8D9A-4A5B-8394-50E3B13C21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1040" y="380520"/>
            <a:ext cx="739296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0300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8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erform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9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tegrated management of telecom and IP-based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10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Security aspec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11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Network capabilities including requirements for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resource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Area 12 -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Operations and Maintenance (OAM) for 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28BF-0CC9-4842-BDAD-E8A336E08C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BEFDF85-9A9F-467F-8D59-B6FAD5798F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3880" y="380520"/>
            <a:ext cx="71992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43352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1160" y="1163520"/>
          <a:ext cx="7356240" cy="523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163520"/>
                    <a:ext cx="735624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AC84-52FC-4E58-80DB-151C62895F5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A77B5E-E184-4486-83BB-23B42D2B09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7920" y="380880"/>
            <a:ext cx="73357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66"/>
                </a:solidFill>
                <a:latin typeface="Verdana"/>
              </a:rPr>
              <a:t>ITU-T IP Projec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682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00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/00) - IP Framework - A framework for convergence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f telec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munications network and IP network technolog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301/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871 (10/00) - Framework for optical transport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etwork 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commend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rebuchet MS"/>
              </a:rPr>
              <a:t>Y.1302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/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807 (07/01) - Requirements for Automatic Switched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ranspor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Networks (ASTN)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31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0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/00) - Transport of IP over ATM in public 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322/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707 (10/00) - Network node interface for the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ynchron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 digital hierarchy (SDH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40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/00) - General requirements for interworking with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net p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tocol (IP)-based 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Y.1501/I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51/Y.801 (10/00) - Relationships among ISDN,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ternet p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otocol, and GII performance 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commend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B1221-3257-411B-BEFA-54FB962FA37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65A3089-E216-486B-ABBD-D046D2E6C7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sebek</cp:lastModifiedBy>
  <cp:lastPrinted>2001-03-15T13:10:50Z</cp:lastPrinted>
  <dcterms:modified xsi:type="dcterms:W3CDTF">2001-08-23T14:14:01Z</dcterms:modified>
  <cp:revision>119</cp:revision>
  <dc:subject/>
  <dc:title>afaefafe</dc:title>
</cp:coreProperties>
</file>