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42513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77565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44560" y="3969360"/>
            <a:ext cx="77565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44560" y="396936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9320" y="396936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7160" y="164412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9760" y="164412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44560" y="396936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7160" y="396936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9760" y="396936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4560" y="1644120"/>
            <a:ext cx="7756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77565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5200" y="230040"/>
            <a:ext cx="8323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4560" y="396936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44560" y="1644120"/>
            <a:ext cx="7756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9320" y="396936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4560" y="3969360"/>
            <a:ext cx="77565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77565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4560" y="3969360"/>
            <a:ext cx="77565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4560" y="396936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9320" y="396936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7160" y="164412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760" y="164412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4560" y="396936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7160" y="396936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760" y="3969360"/>
            <a:ext cx="249732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77565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5200" y="230040"/>
            <a:ext cx="8323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44560" y="396936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9320" y="396936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9320" y="1644120"/>
            <a:ext cx="378504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44560" y="3969360"/>
            <a:ext cx="7756560" cy="212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44560" y="1644120"/>
            <a:ext cx="77565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857160" indent="-190440">
              <a:spcBef>
                <a:spcPts val="451"/>
              </a:spcBef>
              <a:buClr>
                <a:srgbClr val="fe6600"/>
              </a:buClr>
              <a:buSzPct val="110000"/>
              <a:buFont typeface="Monotype Sorts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2" marL="1047600" indent="190800">
              <a:spcBef>
                <a:spcPts val="451"/>
              </a:spcBef>
              <a:buClr>
                <a:srgbClr val="fe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3" marL="1523880" indent="9540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4" marL="1905120" indent="95040">
              <a:spcBef>
                <a:spcPts val="451"/>
              </a:spcBef>
              <a:buClr>
                <a:srgbClr val="33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5" marL="1905120" indent="95040">
              <a:spcBef>
                <a:spcPts val="451"/>
              </a:spcBef>
              <a:buClr>
                <a:srgbClr val="33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6" marL="1905120" indent="95040">
              <a:spcBef>
                <a:spcPts val="451"/>
              </a:spcBef>
              <a:buClr>
                <a:srgbClr val="33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Click to edit the title text format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9604440" y="6141960"/>
            <a:ext cx="6984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560" rIns="34560" tIns="41760" bIns="4176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6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840" y="6280200"/>
            <a:ext cx="84182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1200" spc="-1" strike="noStrike">
                <a:solidFill>
                  <a:srgbClr val="330066"/>
                </a:solidFill>
                <a:latin typeface="Verdana"/>
              </a:rPr>
              <a:t>France Télécom R&amp;D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- </a:t>
            </a:r>
            <a:r>
              <a:rPr b="1" lang="en-US" sz="1200" spc="-1" strike="noStrike">
                <a:solidFill>
                  <a:srgbClr val="663399"/>
                </a:solidFill>
                <a:latin typeface="Verdana"/>
              </a:rPr>
              <a:t>ITU-T - Bangalore Workshop, 30-31 August 2001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</p:txBody>
      </p:sp>
      <p:pic>
        <p:nvPicPr>
          <p:cNvPr id="4" name="diffusion_LIB" descr=""/>
          <p:cNvPicPr/>
          <p:nvPr/>
        </p:nvPicPr>
        <p:blipFill>
          <a:blip r:embed="rId2"/>
          <a:stretch/>
        </p:blipFill>
        <p:spPr>
          <a:xfrm>
            <a:off x="8980560" y="6000840"/>
            <a:ext cx="657000" cy="272880"/>
          </a:xfrm>
          <a:prstGeom prst="rect">
            <a:avLst/>
          </a:prstGeom>
          <a:ln w="0">
            <a:noFill/>
          </a:ln>
        </p:spPr>
      </p:pic>
      <p:pic>
        <p:nvPicPr>
          <p:cNvPr id="5" name="FTR&amp;D7" descr=""/>
          <p:cNvPicPr/>
          <p:nvPr/>
        </p:nvPicPr>
        <p:blipFill>
          <a:blip r:embed="rId3"/>
          <a:stretch/>
        </p:blipFill>
        <p:spPr>
          <a:xfrm>
            <a:off x="9255240" y="125280"/>
            <a:ext cx="41724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1760" y="1843200"/>
            <a:ext cx="5639040" cy="21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Click to edit the title text format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870200" y="6272280"/>
            <a:ext cx="620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5600" rIns="345600" tIns="48960" bIns="4896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170000"/>
                <a:tab algn="l" pos="2340000"/>
                <a:tab algn="l" pos="3510000"/>
                <a:tab algn="l" pos="4680000"/>
                <a:tab algn="l" pos="5850000"/>
                <a:tab algn="l" pos="7020000"/>
                <a:tab algn="l" pos="8190000"/>
                <a:tab algn="l" pos="9360000"/>
                <a:tab algn="l" pos="10530000"/>
              </a:tabLst>
            </a:pPr>
            <a:r>
              <a:rPr b="1" lang="en-US" sz="1200" spc="-1" strike="noStrike">
                <a:solidFill>
                  <a:srgbClr val="663399"/>
                </a:solidFill>
                <a:latin typeface="Verdana"/>
              </a:rPr>
              <a:t>ITU-T - Bangalore Workshop, 30-31 August 2001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</p:txBody>
      </p:sp>
      <p:pic>
        <p:nvPicPr>
          <p:cNvPr id="44" name="FTR&amp;D2" descr=""/>
          <p:cNvPicPr/>
          <p:nvPr/>
        </p:nvPicPr>
        <p:blipFill>
          <a:blip r:embed="rId2"/>
          <a:stretch/>
        </p:blipFill>
        <p:spPr>
          <a:xfrm>
            <a:off x="6932520" y="82440"/>
            <a:ext cx="2730600" cy="126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7160" y="1604520"/>
            <a:ext cx="8948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228600" indent="438120" algn="ctr">
              <a:spcBef>
                <a:spcPts val="400"/>
              </a:spcBef>
              <a:buClr>
                <a:srgbClr val="fe6600"/>
              </a:buClr>
              <a:buSzPct val="110000"/>
              <a:buFont typeface="Monotype Sorts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2" marL="1047600" indent="190800" algn="ctr">
              <a:spcBef>
                <a:spcPts val="400"/>
              </a:spcBef>
              <a:buClr>
                <a:srgbClr val="fe66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3" marL="1523880" indent="95400" algn="ctr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4" marL="1905120" indent="95040" algn="ctr">
              <a:spcBef>
                <a:spcPts val="400"/>
              </a:spcBef>
              <a:buClr>
                <a:srgbClr val="3300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5" marL="1905120" indent="95040">
              <a:spcBef>
                <a:spcPts val="400"/>
              </a:spcBef>
              <a:buClr>
                <a:srgbClr val="33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6" marL="1905120" indent="95040">
              <a:spcBef>
                <a:spcPts val="400"/>
              </a:spcBef>
              <a:buClr>
                <a:srgbClr val="33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livier.dubuisson@francetelecom.com" TargetMode="External"/><Relationship Id="rId2" Type="http://schemas.openxmlformats.org/officeDocument/2006/relationships/hyperlink" Target="mailto:olivier.dubuisson@francetelecom.com" TargetMode="External"/><Relationship Id="rId3" Type="http://schemas.openxmlformats.org/officeDocument/2006/relationships/hyperlink" Target="mailto:olivier.dubuisson@francetelecom.com" TargetMode="External"/><Relationship Id="rId4" Type="http://schemas.openxmlformats.org/officeDocument/2006/relationships/hyperlink" Target="mailto:olivier.dubuisson@francetelecom.com" TargetMode="External"/><Relationship Id="rId5" Type="http://schemas.openxmlformats.org/officeDocument/2006/relationships/hyperlink" Target="mailto:olivier.dubuisson@francetelecom.com" TargetMode="External"/><Relationship Id="rId6" Type="http://schemas.openxmlformats.org/officeDocument/2006/relationships/hyperlink" Target="mailto:olivier.dubuisson@francetelecom.com" TargetMode="External"/><Relationship Id="rId7" Type="http://schemas.openxmlformats.org/officeDocument/2006/relationships/hyperlink" Target="http://asn1.elibel.tm.fr/" TargetMode="External"/><Relationship Id="rId8" Type="http://schemas.openxmlformats.org/officeDocument/2006/relationships/hyperlink" Target="http://asn1.elibel.tm.fr/" TargetMode="External"/><Relationship Id="rId9" Type="http://schemas.openxmlformats.org/officeDocument/2006/relationships/hyperlink" Target="http://asn1.elibel.tm.fr/" TargetMode="External"/><Relationship Id="rId10" Type="http://schemas.openxmlformats.org/officeDocument/2006/relationships/hyperlink" Target="http://asn1.elibel.tm.fr/" TargetMode="External"/><Relationship Id="rId11" Type="http://schemas.openxmlformats.org/officeDocument/2006/relationships/hyperlink" Target="http://asn1.elibel.tm.fr/" TargetMode="External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asn1.elibel.tm.f/en/uses" TargetMode="External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hyperlink" Target="http://asn1.elibel.tm.fr/en/uses" TargetMode="External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sn1.elibel.tm.fr/en/uses" TargetMode="External"/><Relationship Id="rId2" Type="http://schemas.openxmlformats.org/officeDocument/2006/relationships/image" Target="../media/image8.wmf"/><Relationship Id="rId3" Type="http://schemas.openxmlformats.org/officeDocument/2006/relationships/hyperlink" Target="http://asn1.elibel.tm.fr/en/uses" TargetMode="External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sn1.elibel.tm.fr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asn1.elibel.tm.fr/book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tu.int/ITU-T/com7/asn1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itu.int/ITU-T/com7/asn1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sn1.org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1760" y="1843200"/>
            <a:ext cx="6672240" cy="21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7d19"/>
                </a:solidFill>
                <a:latin typeface="Arial Black"/>
              </a:rPr>
              <a:t>ASN.1</a:t>
            </a:r>
            <a:br>
              <a:rPr sz="4000"/>
            </a:br>
            <a:r>
              <a:rPr b="0" lang="en-US" sz="2800" spc="-1" strike="noStrike">
                <a:solidFill>
                  <a:srgbClr val="fe7d19"/>
                </a:solidFill>
                <a:latin typeface="Arial Black"/>
              </a:rPr>
              <a:t>The solution</a:t>
            </a:r>
            <a:br>
              <a:rPr sz="2800"/>
            </a:br>
            <a:r>
              <a:rPr b="0" lang="en-US" sz="2800" spc="-1" strike="noStrike">
                <a:solidFill>
                  <a:srgbClr val="fe7d19"/>
                </a:solidFill>
                <a:latin typeface="Arial Black"/>
              </a:rPr>
              <a:t>for efficient communication between systems</a:t>
            </a:r>
            <a:endParaRPr b="0" lang="en-US" sz="28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84440" y="4152960"/>
            <a:ext cx="7821360" cy="93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Olivier DUBUISSON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99cc00"/>
                </a:solidFill>
                <a:uFillTx/>
                <a:latin typeface="Courier New"/>
                <a:hlinkClick r:id="rId1"/>
              </a:rPr>
              <a:t>olivier</a:t>
            </a:r>
            <a:r>
              <a:rPr b="0" lang="en-US" sz="1400" spc="-1" strike="noStrike" u="sng">
                <a:solidFill>
                  <a:srgbClr val="99cc00"/>
                </a:solidFill>
                <a:uFillTx/>
                <a:latin typeface="Courier New"/>
                <a:hlinkClick r:id="rId2"/>
              </a:rPr>
              <a:t>.</a:t>
            </a:r>
            <a:r>
              <a:rPr b="0" lang="en-US" sz="1400" spc="-1" strike="noStrike" u="sng">
                <a:solidFill>
                  <a:srgbClr val="99cc00"/>
                </a:solidFill>
                <a:uFillTx/>
                <a:latin typeface="Courier New"/>
                <a:hlinkClick r:id="rId3"/>
              </a:rPr>
              <a:t>dubuisson</a:t>
            </a:r>
            <a:r>
              <a:rPr b="0" lang="en-US" sz="1400" spc="-1" strike="noStrike" u="sng">
                <a:solidFill>
                  <a:srgbClr val="99cc00"/>
                </a:solidFill>
                <a:uFillTx/>
                <a:latin typeface="Courier New"/>
                <a:hlinkClick r:id="rId4"/>
              </a:rPr>
              <a:t>@</a:t>
            </a:r>
            <a:r>
              <a:rPr b="0" lang="en-US" sz="1400" spc="-1" strike="noStrike" u="sng">
                <a:solidFill>
                  <a:srgbClr val="99cc00"/>
                </a:solidFill>
                <a:uFillTx/>
                <a:latin typeface="Courier New"/>
                <a:hlinkClick r:id="rId5"/>
              </a:rPr>
              <a:t>francetelecom</a:t>
            </a:r>
            <a:r>
              <a:rPr b="0" lang="en-US" sz="1400" spc="-1" strike="noStrike" u="sng">
                <a:solidFill>
                  <a:srgbClr val="99cc00"/>
                </a:solidFill>
                <a:uFillTx/>
                <a:latin typeface="Courier New"/>
                <a:hlinkClick r:id="rId6"/>
              </a:rPr>
              <a:t>.com</a:t>
            </a:r>
            <a:endParaRPr b="0" lang="en-US" sz="1400" spc="-1" strike="noStrike">
              <a:solidFill>
                <a:srgbClr val="3300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ITU-T ASN.1 Rapporteur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99cc00"/>
                </a:solidFill>
                <a:uFillTx/>
                <a:latin typeface="Courier New"/>
                <a:hlinkClick r:id="rId7"/>
              </a:rPr>
              <a:t>http://asn1.</a:t>
            </a:r>
            <a:r>
              <a:rPr b="0" lang="en-US" sz="1400" spc="-1" strike="noStrike" u="sng">
                <a:solidFill>
                  <a:srgbClr val="99cc00"/>
                </a:solidFill>
                <a:uFillTx/>
                <a:latin typeface="Courier New"/>
                <a:hlinkClick r:id="rId8"/>
              </a:rPr>
              <a:t>elibel</a:t>
            </a:r>
            <a:r>
              <a:rPr b="0" lang="en-US" sz="1400" spc="-1" strike="noStrike" u="sng">
                <a:solidFill>
                  <a:srgbClr val="99cc00"/>
                </a:solidFill>
                <a:uFillTx/>
                <a:latin typeface="Courier New"/>
                <a:hlinkClick r:id="rId9"/>
              </a:rPr>
              <a:t>.tm.</a:t>
            </a:r>
            <a:r>
              <a:rPr b="0" lang="en-US" sz="1400" spc="-1" strike="noStrike" u="sng">
                <a:solidFill>
                  <a:srgbClr val="99cc00"/>
                </a:solidFill>
                <a:uFillTx/>
                <a:latin typeface="Courier New"/>
                <a:hlinkClick r:id="rId10"/>
              </a:rPr>
              <a:t>fr</a:t>
            </a:r>
            <a:endParaRPr b="0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84" name="visuel_presentation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608120" y="1001880"/>
            <a:ext cx="2133720" cy="16984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ASN.1: What is it?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44560" y="1370160"/>
            <a:ext cx="7756560" cy="458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0066"/>
                </a:solidFill>
                <a:latin typeface="Arial"/>
              </a:rPr>
              <a:t>Abstract Syntax Notation number One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International standard : ITU-T X.680 to X.683 | ISO/IEC 8824-1 to 4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Describes data exchanged between two communicating applications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everal associated standardized encodings, such as: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857160" indent="-190440">
              <a:spcBef>
                <a:spcPts val="400"/>
              </a:spcBef>
              <a:buClr>
                <a:srgbClr val="fe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efficient (binary) encoding: </a:t>
            </a:r>
            <a:r>
              <a:rPr b="0" i="1" lang="en-US" sz="1600" spc="-1" strike="noStrike">
                <a:solidFill>
                  <a:srgbClr val="330066"/>
                </a:solidFill>
                <a:latin typeface="Arial"/>
              </a:rPr>
              <a:t>Packed Encoding Rules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(PER)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857160" indent="-190440">
              <a:spcBef>
                <a:spcPts val="400"/>
              </a:spcBef>
              <a:buClr>
                <a:srgbClr val="fe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canonical encoding for digital signatures:</a:t>
            </a:r>
            <a:br>
              <a:rPr sz="1600"/>
            </a:br>
            <a:r>
              <a:rPr b="0" i="1" lang="en-US" sz="1600" spc="-1" strike="noStrike">
                <a:solidFill>
                  <a:srgbClr val="330066"/>
                </a:solidFill>
                <a:latin typeface="Arial"/>
              </a:rPr>
              <a:t>Distinguished Encoding Rules</a:t>
            </a: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(DER)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857160" indent="-190440">
              <a:spcBef>
                <a:spcPts val="400"/>
              </a:spcBef>
              <a:buClr>
                <a:srgbClr val="fe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XML encoding rules (XER)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Mature, long record of reliability and interoperability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ASN.1 is a critical part of our daily lives; it's everywhere, but it works so well it's invisible!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349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More information: </a:t>
            </a:r>
            <a:r>
              <a:rPr b="0" lang="en-US" sz="1400" spc="-1" strike="noStrike">
                <a:solidFill>
                  <a:srgbClr val="330066"/>
                </a:solidFill>
                <a:latin typeface="Courier New"/>
              </a:rPr>
              <a:t>http://asn1.elibel.tm.fr/introduction</a:t>
            </a:r>
            <a:endParaRPr b="0" lang="en-US" sz="1400" spc="-1" strike="noStrike">
              <a:solidFill>
                <a:srgbClr val="330066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87" name="so02464_" descr=""/>
          <p:cNvPicPr/>
          <p:nvPr/>
        </p:nvPicPr>
        <p:blipFill>
          <a:blip r:embed="rId1"/>
          <a:stretch/>
        </p:blipFill>
        <p:spPr>
          <a:xfrm>
            <a:off x="7650000" y="2349360"/>
            <a:ext cx="162432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Example of an ASN.1 module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022400"/>
            <a:ext cx="8229600" cy="5114880"/>
          </a:xfrm>
          <a:prstGeom prst="rect">
            <a:avLst/>
          </a:prstGeom>
          <a:noFill/>
          <a:ln w="19080">
            <a:solidFill>
              <a:srgbClr val="fe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Module-order 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DEFINITIONS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AUTOMATIC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TAGS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::=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Order ::= 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SEQUENCE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header 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Order-header,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items 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SEQUENCE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OF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Order-line }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Order-header ::= 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SEQUENCE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reference 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NumericString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SIZE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12)),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date 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NumericString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SIZE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8)) -- </a:t>
            </a:r>
            <a:r>
              <a:rPr b="0" i="1" lang="en-US" sz="1200" spc="-1" strike="noStrike">
                <a:solidFill>
                  <a:srgbClr val="330066"/>
                </a:solidFill>
                <a:latin typeface="Courier New"/>
              </a:rPr>
              <a:t>MMDDYYYY --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,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client 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Client,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payment 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Payment-method }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Client ::= 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SEQUENCE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name 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PrintableString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SIZE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1..20)),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street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PrintableString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SIZE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1..50)) 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OPTIONAL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,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postcode 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NumericString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SIZE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5)),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town 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PrintableString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SIZE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1..30)),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country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PrintableString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SIZE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1..20)) 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DEFAULT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"France" }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Payment-method ::= 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CHOICE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check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NumericString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SIZE (15)),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credit-card 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Credit-card,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cash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NULL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}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Credit-card ::= 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SEQUENCE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type 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Card-type,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number 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NumericString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SIZE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20)),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expiry-date 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NumericString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SIZE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(6)) -- </a:t>
            </a:r>
            <a:r>
              <a:rPr b="0" i="1" lang="en-US" sz="1200" spc="-1" strike="noStrike">
                <a:solidFill>
                  <a:srgbClr val="330066"/>
                </a:solidFill>
                <a:latin typeface="Courier New"/>
              </a:rPr>
              <a:t>MMYYYY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-- }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Card-type ::= </a:t>
            </a:r>
            <a:r>
              <a:rPr b="1" lang="en-US" sz="1200" spc="-1" strike="noStrike">
                <a:solidFill>
                  <a:srgbClr val="330066"/>
                </a:solidFill>
                <a:latin typeface="Courier New"/>
              </a:rPr>
              <a:t>ENUMERATED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 {cb(0), visa(1), eurocard(2), diners(3), american-express(4)}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-- </a:t>
            </a:r>
            <a:r>
              <a:rPr b="0" i="1" lang="en-US" sz="1200" spc="-1" strike="noStrike">
                <a:solidFill>
                  <a:srgbClr val="330066"/>
                </a:solidFill>
                <a:latin typeface="Courier New"/>
              </a:rPr>
              <a:t>etc</a:t>
            </a:r>
            <a:endParaRPr b="0" lang="en-US" sz="1200" spc="-1" strike="noStrike">
              <a:solidFill>
                <a:srgbClr val="3300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33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ASN.1 and the telecom industry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77565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Intelligent network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GSM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UMTS (3G cellphones)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Voice over IP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Interactive television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Videoconference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ET, C-SET (secured electronic transaction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e-commerce, m-commerce)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omputer-supported telecommunications applications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8640" y="1662120"/>
          <a:ext cx="111276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8640" y="1662120"/>
                    <a:ext cx="11127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934320" y="3352680"/>
          <a:ext cx="113004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3352680"/>
                    <a:ext cx="11300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ASN.1 in other domains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77565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Intelligent transportation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Radio-frequency identification (RFID)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ATN (</a:t>
            </a:r>
            <a:r>
              <a:rPr b="0" i="1" lang="en-US" sz="1800" spc="-1" strike="noStrike">
                <a:solidFill>
                  <a:srgbClr val="330066"/>
                </a:solidFill>
                <a:latin typeface="Arial"/>
              </a:rPr>
              <a:t>Aeronautical Telecommunication Network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Embedded systems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Financial operations (ASC X.9, ISO TC 68)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Control of manufacturing systems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349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And a lot of other application domains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ee </a:t>
            </a:r>
            <a:r>
              <a:rPr b="0" lang="en-US" sz="1400" spc="-1" strike="noStrike">
                <a:solidFill>
                  <a:srgbClr val="330066"/>
                </a:solidFill>
                <a:latin typeface="Courier New"/>
              </a:rPr>
              <a:t>http://asn1.elibel.tm.fr/uses</a:t>
            </a:r>
            <a:endParaRPr b="0" lang="en-US" sz="1400" spc="-1" strike="noStrike">
              <a:solidFill>
                <a:srgbClr val="330066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Fully integrated in the formal languages SDL and TTCN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1920" y="2471760"/>
            <a:ext cx="1352520" cy="1566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3320" y="1752480"/>
            <a:ext cx="1398600" cy="5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To find more information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805968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349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ASN.1 website: </a:t>
            </a:r>
            <a:r>
              <a:rPr b="0" lang="en-US" sz="1400" spc="-1" strike="noStrike">
                <a:solidFill>
                  <a:srgbClr val="330066"/>
                </a:solidFill>
                <a:latin typeface="Courier New"/>
              </a:rPr>
              <a:t>http://asn1.elibel.tm.fr</a:t>
            </a:r>
            <a:endParaRPr b="0" lang="en-US" sz="1400" spc="-1" strike="noStrike">
              <a:solidFill>
                <a:srgbClr val="33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4" marL="1905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4" marL="1905120" indent="9504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0066"/>
                </a:solidFill>
                <a:latin typeface="Arial"/>
              </a:rPr>
              <a:t>ASN.1 - Communication Between Heterogeneous Systems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(Olivier Dubuisson, Morgan Kaufmann, 2001)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download : </a:t>
            </a:r>
            <a:r>
              <a:rPr b="0" lang="en-US" sz="1400" spc="-1" strike="noStrike">
                <a:solidFill>
                  <a:srgbClr val="330066"/>
                </a:solidFill>
                <a:latin typeface="Courier New"/>
              </a:rPr>
              <a:t>http://asn1.elibel.tm.fr/book</a:t>
            </a:r>
            <a:endParaRPr b="0" lang="en-US" sz="1400" spc="-1" strike="noStrike">
              <a:solidFill>
                <a:srgbClr val="330066"/>
              </a:solidFill>
              <a:latin typeface="Arial"/>
            </a:endParaRPr>
          </a:p>
          <a:p>
            <a:pPr lvl="4" marL="1905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4" marL="1905120" indent="9504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0066"/>
                </a:solidFill>
                <a:latin typeface="Arial"/>
              </a:rPr>
              <a:t>ASN.1 Complete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(John Larmouth, Morgan Kaufmann, 2000)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download : </a:t>
            </a:r>
            <a:r>
              <a:rPr b="0" lang="en-US" sz="1400" spc="-1" strike="noStrike">
                <a:solidFill>
                  <a:srgbClr val="330066"/>
                </a:solidFill>
                <a:latin typeface="Courier New"/>
              </a:rPr>
              <a:t>http://www.oss.com/asn1/larmouth.html</a:t>
            </a:r>
            <a:endParaRPr b="0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2" name="elibe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13480" y="1114560"/>
            <a:ext cx="2633760" cy="2633400"/>
          </a:xfrm>
          <a:prstGeom prst="rect">
            <a:avLst/>
          </a:prstGeom>
          <a:ln w="9360">
            <a:solidFill>
              <a:srgbClr val="fe7d19"/>
            </a:solidFill>
            <a:miter/>
          </a:ln>
        </p:spPr>
      </p:pic>
      <p:pic>
        <p:nvPicPr>
          <p:cNvPr id="103" name="cover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31840" y="3521160"/>
            <a:ext cx="1644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ITU-T ASN.1 Project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4560" y="2249640"/>
            <a:ext cx="7756560" cy="384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Hosted by Study Group 7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Promote ASN.1 to all ITU-T study groups and also to other standardization organizations (ISO, ETSI, ECMA, W3C, IETF…)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Help users understand and write ASN.1 specifications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Provide tools and ensure quality of the specifications to be published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First actions: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857160" indent="-190440">
              <a:spcBef>
                <a:spcPts val="400"/>
              </a:spcBef>
              <a:buClr>
                <a:srgbClr val="fe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Free ASN.1 module database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857160" indent="-190440">
              <a:spcBef>
                <a:spcPts val="300"/>
              </a:spcBef>
              <a:buClr>
                <a:srgbClr val="fe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Object identifier (OID) repository: </a:t>
            </a:r>
            <a:r>
              <a:rPr b="0" lang="en-US" sz="1200" spc="-1" strike="noStrike">
                <a:solidFill>
                  <a:srgbClr val="330066"/>
                </a:solidFill>
                <a:latin typeface="Courier New"/>
              </a:rPr>
              <a:t>http://asn1.elibel.tm.fr/oid</a:t>
            </a:r>
            <a:endParaRPr b="0" lang="en-US" sz="12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349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Website:</a:t>
            </a:r>
            <a:r>
              <a:rPr b="0" lang="en-US" sz="1800" spc="-1" strike="noStrike">
                <a:solidFill>
                  <a:srgbClr val="33006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330066"/>
                </a:solidFill>
                <a:latin typeface="Courier New"/>
              </a:rPr>
              <a:t>http://www.itu.int/ITU-T/asn1</a:t>
            </a:r>
            <a:endParaRPr b="0" lang="en-US" sz="14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Open FTP area for information exchange and associated open e-mail exploder,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6" name="banner-en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6040" y="826920"/>
            <a:ext cx="4892760" cy="1486080"/>
          </a:xfrm>
          <a:prstGeom prst="rect">
            <a:avLst/>
          </a:prstGeom>
          <a:ln w="0">
            <a:noFill/>
          </a:ln>
        </p:spPr>
      </p:pic>
      <p:pic>
        <p:nvPicPr>
          <p:cNvPr id="107" name="logo-en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50080" y="880920"/>
            <a:ext cx="24606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5200" y="230040"/>
            <a:ext cx="8323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e7d19"/>
                </a:solidFill>
                <a:latin typeface="Arial Black"/>
              </a:rPr>
              <a:t>ASN.1 Consortium</a:t>
            </a:r>
            <a:endParaRPr b="0" lang="en-US" sz="3500" spc="-1" strike="noStrike">
              <a:solidFill>
                <a:srgbClr val="fe7d1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4560" y="1644120"/>
            <a:ext cx="7756560" cy="44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Group of ASN.1 users (people and companies), specifiers and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tool-vendors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Share resources and information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Promote ASN.1 (towards newspaper and journals, companies, universities…)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No standardization work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Three forums:</a:t>
            </a:r>
            <a:endParaRPr b="0" lang="en-US" sz="1800" spc="-1" strike="noStrike">
              <a:solidFill>
                <a:srgbClr val="330066"/>
              </a:solidFill>
              <a:latin typeface="Arial"/>
            </a:endParaRPr>
          </a:p>
          <a:p>
            <a:pPr lvl="1" marL="857160" indent="-190440">
              <a:spcBef>
                <a:spcPts val="400"/>
              </a:spcBef>
              <a:buClr>
                <a:srgbClr val="fe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Industry forum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857160" indent="-190440">
              <a:spcBef>
                <a:spcPts val="400"/>
              </a:spcBef>
              <a:buClr>
                <a:srgbClr val="fe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Standardization forum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lvl="1" marL="857160" indent="-190440">
              <a:spcBef>
                <a:spcPts val="400"/>
              </a:spcBef>
              <a:buClr>
                <a:srgbClr val="fe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Academic forum</a:t>
            </a:r>
            <a:endParaRPr b="0" lang="en-US" sz="1600" spc="-1" strike="noStrike">
              <a:solidFill>
                <a:srgbClr val="330066"/>
              </a:solidFill>
              <a:latin typeface="Arial"/>
            </a:endParaRPr>
          </a:p>
          <a:p>
            <a:pPr marL="285840" indent="-285840">
              <a:spcBef>
                <a:spcPts val="349"/>
              </a:spcBef>
              <a:buClr>
                <a:srgbClr val="fe6600"/>
              </a:buClr>
              <a:buSzPct val="12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Website:</a:t>
            </a:r>
            <a:r>
              <a:rPr b="0" lang="en-US" sz="1800" spc="-1" strike="noStrike">
                <a:solidFill>
                  <a:srgbClr val="33006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330066"/>
                </a:solidFill>
                <a:latin typeface="Courier New"/>
              </a:rPr>
              <a:t>http://www.asn1.org</a:t>
            </a:r>
            <a:endParaRPr b="0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0" name="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7400" y="4062240"/>
            <a:ext cx="457848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14:28:51Z</dcterms:created>
  <dc:creator>Olivier Dubuisson</dc:creator>
  <dc:description/>
  <dc:language>en-US</dc:language>
  <cp:lastModifiedBy>sebek</cp:lastModifiedBy>
  <cp:lastPrinted>2000-03-02T16:25:29Z</cp:lastPrinted>
  <dcterms:modified xsi:type="dcterms:W3CDTF">2001-08-18T14:54:10Z</dcterms:modified>
  <cp:revision>55</cp:revision>
  <dc:subject/>
  <dc:title>ASN.1 et ECN  La solution pour la communication efficace entre systèmes hétérogènes</dc:title>
</cp:coreProperties>
</file>