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4EEC7-AEB0-4B04-AB72-CCC3991A5A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00160" y="384804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5214E-9FC3-4C06-BD6E-42157EBFA6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0160" y="38480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38480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DF35D-26A8-4D2F-BDBD-199828D4BA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400" y="153936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4280" y="153936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00160" y="38480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400" y="38480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4280" y="38480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FAE3D-2B37-458E-8320-E82C7B8716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00160" y="153936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153936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8600" y="19980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153936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00160" y="38480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00160" y="153936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A9B05-181D-4B70-B34F-9088B1F5A1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38480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00160" y="384804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00160" y="384804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00160" y="38480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38480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400" y="153936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4280" y="153936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00160" y="38480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400" y="38480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4280" y="38480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2453F-0743-4109-8568-76B2BEA43B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153936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C0CE7-3362-4836-AB12-20CE7C6DBC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0DE1F-EBFB-4EC7-9C7F-A1EEDFC618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19980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64203-1398-4BF3-BA65-39F41D769B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153936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00160" y="38480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DDE92-A974-430C-BD09-1A350A5054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38480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6BBD1-8FAB-4654-8503-3C1E0098EE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00160" y="384804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E38A2-A884-44A9-AF73-EE1CFC1BDA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3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0160" y="1539360"/>
            <a:ext cx="86868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51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Aft>
                <a:spcPts val="451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1327320"/>
            <a:ext cx="8458200" cy="759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916080" y="6461280"/>
            <a:ext cx="133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tandards Engineer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rning Incorporat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4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45CD-DB78-4EC9-82CC-30F582ED8184}" type="slidenum">
              <a:rPr b="0" lang="en-US" sz="1000" spc="-1" strike="noStrike">
                <a:solidFill>
                  <a:srgbClr val="00004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WRGBrev" descr=""/>
          <p:cNvPicPr/>
          <p:nvPr/>
        </p:nvPicPr>
        <p:blipFill>
          <a:blip r:embed="rId3"/>
          <a:stretch/>
        </p:blipFill>
        <p:spPr>
          <a:xfrm>
            <a:off x="7904160" y="6461280"/>
            <a:ext cx="977760" cy="142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100160"/>
            <a:ext cx="792504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cc33"/>
              </a:solidFill>
              <a:latin typeface="Arial"/>
            </a:endParaRPr>
          </a:p>
        </p:txBody>
      </p:sp>
      <p:pic>
        <p:nvPicPr>
          <p:cNvPr id="43" name="RGBtagR" descr=""/>
          <p:cNvPicPr/>
          <p:nvPr/>
        </p:nvPicPr>
        <p:blipFill>
          <a:blip r:embed="rId3"/>
          <a:stretch/>
        </p:blipFill>
        <p:spPr>
          <a:xfrm>
            <a:off x="200160" y="5003640"/>
            <a:ext cx="2214360" cy="1711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Aft>
                <a:spcPts val="374"/>
              </a:spcAft>
              <a:buClr>
                <a:srgbClr val="ffcc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Aft>
                <a:spcPts val="374"/>
              </a:spcAft>
              <a:buClr>
                <a:srgbClr val="ffcc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Aft>
                <a:spcPts val="374"/>
              </a:spcAft>
              <a:buClr>
                <a:srgbClr val="ffcc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1100160"/>
            <a:ext cx="792504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33"/>
                </a:solidFill>
                <a:latin typeface="Arial"/>
              </a:rPr>
              <a:t>Highlights - ITU-T Question 17/15</a:t>
            </a:r>
            <a:br>
              <a:rPr sz="3600"/>
            </a:br>
            <a:r>
              <a:rPr b="0" lang="en-US" sz="3600" spc="-1" strike="noStrike">
                <a:solidFill>
                  <a:srgbClr val="ffcc33"/>
                </a:solidFill>
                <a:latin typeface="Arial"/>
              </a:rPr>
              <a:t>Optical Components and Subsystems</a:t>
            </a:r>
            <a:endParaRPr b="0" lang="en-US" sz="36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09480" y="3700080"/>
            <a:ext cx="792504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im Matthews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ning Incorpor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33"/>
                </a:solidFill>
                <a:latin typeface="Arial"/>
              </a:rPr>
              <a:t>Field of Work</a:t>
            </a: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86868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tical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TU-T Recommendation G.67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ransmission Characteristics Of Optical Components And Subsystem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tical Sub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TU-T Recommendation G.661: Definition and test methods for the relevant generic parameters of optical amplifier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TU-T Recommendation G.662: Generic characteristics of optical amplifier devices and subsystem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TU-T Recommendation G.663: Application related aspects of optically amplified devices and sub-system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33"/>
                </a:solidFill>
                <a:latin typeface="Arial"/>
              </a:rPr>
              <a:t>Optical Components</a:t>
            </a: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86868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xt of Revised Draft Rec. G.671 Agreed May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riginally Passive Compone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ssive / Active vs Point to Point / Network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w: ALL compone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tions and Terms (Tied to IEC SC86B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ble of Functional 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alues: Specific or SBA (Specified By Applicatio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33"/>
                </a:solidFill>
                <a:latin typeface="Arial"/>
              </a:rPr>
              <a:t>Recommendation G.671 Device Types: </a:t>
            </a: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879156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 fontScale="87000"/>
          </a:bodyPr>
          <a:p>
            <a:pPr lvl="1" marL="646200" indent="-248400">
              <a:lnSpc>
                <a:spcPct val="80000"/>
              </a:lnSpc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ptical add/drop multiplexer (OADM) subsystem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symmetric branching compon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ptical attenuat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ptical branching component (wavelength non-selective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ptical connector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ynamic channel equaliser (DCE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ptical filt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ptical isolat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ssive (chromatic) dispersion compensator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ptical spli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ptical switc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ptical termin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uneable filt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ptical wavelength multiplexer (MUX) / demultiplexer (DMUX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92120" indent="0">
              <a:lnSpc>
                <a:spcPct val="80000"/>
              </a:lnSpc>
              <a:spcAft>
                <a:spcPts val="37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arse WDM (CWDM) device, Dense WDM (DWDM) device, Wide WDM (WWDM) de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0">
              <a:lnSpc>
                <a:spcPct val="80000"/>
              </a:lnSpc>
              <a:spcAft>
                <a:spcPts val="374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33"/>
                </a:solidFill>
                <a:latin typeface="Arial"/>
              </a:rPr>
              <a:t>ITU-T Question 17/15 Highlights - Next Steps </a:t>
            </a: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00160" y="1371240"/>
            <a:ext cx="894384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Work on Appendix II for Recommendation G.6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nable 40 GB/s Applica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MD Requirements (Align to IEC Document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ise Rec. G.661 and G.662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ame as IEC 61291-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llaboration with IEC SC86C / WG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e Supplement on Raman Ampl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e New Recommendation on PMD Compens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33"/>
                </a:solidFill>
                <a:latin typeface="Arial"/>
              </a:rPr>
              <a:t>Next Meeting</a:t>
            </a: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86868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rts Meeting - Santa Rosa, CA  USA  (7 October, 200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nnex or Corrigenda to G.663 / Appendix I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gress on Supplement on Raman Amplific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ssible New Recommendation on PMD Compensato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uture revisions of Recommendations G.661 and G.662 on Optical Amplifier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xt ITU-T Plenary - January 2003 (Genev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3T20:12:39Z</dcterms:created>
  <dc:creator>COF</dc:creator>
  <dc:description/>
  <dc:language>en-US</dc:language>
  <cp:lastModifiedBy>COF</cp:lastModifiedBy>
  <dcterms:modified xsi:type="dcterms:W3CDTF">2002-06-24T19:41:56Z</dcterms:modified>
  <cp:revision>7</cp:revision>
  <dc:subject/>
  <dc:title>ITU-T Question 17/15 Highlights - May 2002 </dc:title>
</cp:coreProperties>
</file>