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7.png" ContentType="image/png"/>
  <Override PartName="/ppt/media/image9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43725" cy="935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944400" cy="93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33280" y="701640"/>
            <a:ext cx="467964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25200" y="4444560"/>
            <a:ext cx="5094360" cy="4211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-3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9351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9E333-3DBD-4AFE-B7D3-334E1874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81160" y="73836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25200" y="4425840"/>
            <a:ext cx="50943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iss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oneer the Intelligent Wave Division Multiplexing (IWD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ipment market and be the leading supplier of optical net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utions for fiber-based metropolitan net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WDM refers to the access network intelligently utilizing WDM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) deliver multiple service  types on a flexible basis to cust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)  provision bandwidth o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) provide QOS on a customer by customer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two generations of WDM are focused on solving the fiber exhaust problem through bigger pipes.  They are strictly a transport solution.  We are focused on the flexible delivery of services over fiber in an efficient, cost effective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8315280" y="6656400"/>
            <a:ext cx="88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6466a"/>
                </a:solidFill>
                <a:latin typeface="Arial"/>
              </a:rPr>
              <a:t>SLIDE  </a:t>
            </a:r>
            <a:fld id="{D2C66C39-3D2E-4D88-A0F7-685282E093F4}" type="slidenum">
              <a:rPr b="0" lang="en-US" sz="700" spc="-1" strike="noStrike">
                <a:solidFill>
                  <a:srgbClr val="46466a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3961800" y="0"/>
            <a:ext cx="13105800" cy="1599840"/>
            <a:chOff x="-3961800" y="0"/>
            <a:chExt cx="13105800" cy="1599840"/>
          </a:xfrm>
        </p:grpSpPr>
        <p:sp>
          <p:nvSpPr>
            <p:cNvPr id="4" name=""/>
            <p:cNvSpPr/>
            <p:nvPr/>
          </p:nvSpPr>
          <p:spPr>
            <a:xfrm>
              <a:off x="-3961800" y="228600"/>
              <a:ext cx="131054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91160" y="11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1800" y="1144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6689880" y="11916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78720" y="298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23080" y="263520"/>
              <a:ext cx="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813720" y="263520"/>
              <a:ext cx="11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6918480" y="139320"/>
              <a:ext cx="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08760" y="1429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7004160" y="139680"/>
              <a:ext cx="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94440" y="171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7064280" y="172800"/>
              <a:ext cx="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56360" y="291960"/>
              <a:ext cx="10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7151760" y="291600"/>
              <a:ext cx="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156440" y="3301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7216920" y="68400"/>
              <a:ext cx="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07200" y="71280"/>
              <a:ext cx="2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7407360" y="7092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407360" y="2412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7502400" y="244080"/>
              <a:ext cx="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500960" y="306360"/>
              <a:ext cx="10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7597800" y="23328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89880" y="2332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7724880" y="223920"/>
              <a:ext cx="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18400" y="401760"/>
              <a:ext cx="5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7769160" y="365040"/>
              <a:ext cx="180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61240" y="3589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7850160" y="36036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53400" y="422280"/>
              <a:ext cx="4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7891560" y="0"/>
              <a:ext cx="5220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7948080" y="0"/>
              <a:ext cx="5724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flipV="1">
              <a:off x="8059320" y="38376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051760" y="384120"/>
              <a:ext cx="9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V="1">
              <a:off x="8139240" y="38592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42120" y="444600"/>
              <a:ext cx="19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997760" y="45072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flipV="1">
              <a:off x="8338680" y="366480"/>
              <a:ext cx="180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332920" y="371520"/>
              <a:ext cx="5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>
              <a:off x="8373960" y="37260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79000" y="511200"/>
              <a:ext cx="76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8488440" y="487440"/>
              <a:ext cx="0" cy="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113760" y="464760"/>
              <a:ext cx="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8793000" y="394920"/>
              <a:ext cx="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8761320" y="394920"/>
              <a:ext cx="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96360" y="385920"/>
              <a:ext cx="28872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90120" y="387360"/>
              <a:ext cx="1555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29640" y="40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91480" y="426960"/>
              <a:ext cx="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50440" y="44460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09040" y="453960"/>
              <a:ext cx="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66200" y="474840"/>
              <a:ext cx="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17120" y="40788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54920" y="43956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96320" y="466560"/>
              <a:ext cx="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LOGONEW%20tiny" descr=""/>
          <p:cNvPicPr/>
          <p:nvPr/>
        </p:nvPicPr>
        <p:blipFill>
          <a:blip r:embed="rId2"/>
          <a:stretch/>
        </p:blipFill>
        <p:spPr>
          <a:xfrm>
            <a:off x="88920" y="6489720"/>
            <a:ext cx="132408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2395" t="0" r="2414" b="0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8880" y="1347840"/>
            <a:ext cx="85870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-Mile Broadband Acce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Planning Meets Pragmatism in the Outsid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panded Role for Passive Optic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well D. Lamb, Director, PO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rawave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680 Huntwood Avenue  Hayward, Ca  94544 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1 510 401 6532 (voice) +1 510 401 6511 (f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lamb@terawav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9680" y="253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Some Examples: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Broadband Customers, Prices &amp; Cost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035000"/>
            <a:ext cx="914400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em: 13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0 /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7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0 /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3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1 / mon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cl. ISP, P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-fed 100Base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1-92 / mon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, Cable Modem, etc.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0 per mon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7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5 per mon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s include Outside Plant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66760" y="279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A Distressing Case – 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US Rural Broadband Access   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6" name=""/>
          <p:cNvSpPr/>
          <p:nvPr/>
        </p:nvSpPr>
        <p:spPr>
          <a:xfrm>
            <a:off x="76320" y="1225440"/>
            <a:ext cx="908676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5 M Rural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L-ready Lines by 200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2 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 &lt; 18 kf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6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493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 &gt; 18 kf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4,121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“Remote”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6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9,328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neca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416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A Distressing Case – 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In English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973080"/>
            <a:ext cx="879156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A's Middle Mi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b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shows that 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 at a very significant 15 percent penetration rate, the total cost for an average high-speed [1.5 Mb/s] circuit is $63.50 per month, which is above the $50 per month retail rate for this serv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urban are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onsequently, this service loses money in most rural areas, due in large part to the high "middle mile” * cos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Revenue shortfalls won't end as the market grows, they'll actually increase … This sobering conclusion suggests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-speed Internet service may not be sustainable in many rural areas, based on pure economic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“Middle Mile” refers to the distance from the rural CO to the nearest Internet Backbone Provider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neca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120760" y="3022560"/>
            <a:ext cx="1892520" cy="100332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6000" y="406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How Do Japan, Sweden, &amp; Korea Do It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4978440"/>
          <a:ext cx="248904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78440"/>
                    <a:ext cx="248904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562320" y="470700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4600" y="857160"/>
            <a:ext cx="891864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 often are smaller and more closely spaced than US 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s are short (2-3 k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tenant structures domin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regulations allow co-location of businesses and residen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al gui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84400" y="580392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4208400" y="332748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203720" y="5207040"/>
            <a:ext cx="2197080" cy="1168200"/>
          </a:xfrm>
          <a:prstGeom prst="rect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934320" y="5105520"/>
            <a:ext cx="1559160" cy="1092240"/>
            <a:chOff x="6934320" y="5105520"/>
            <a:chExt cx="1559160" cy="1092240"/>
          </a:xfrm>
        </p:grpSpPr>
        <p:sp>
          <p:nvSpPr>
            <p:cNvPr id="469" name=""/>
            <p:cNvSpPr/>
            <p:nvPr/>
          </p:nvSpPr>
          <p:spPr>
            <a:xfrm>
              <a:off x="6934320" y="5105520"/>
              <a:ext cx="182520" cy="1092240"/>
            </a:xfrm>
            <a:custGeom>
              <a:avLst/>
              <a:gdLst>
                <a:gd name="textAreaLeft" fmla="*/ 0 w 182520"/>
                <a:gd name="textAreaRight" fmla="*/ 65880 w 182520"/>
                <a:gd name="textAreaTop" fmla="*/ 28440 h 1092240"/>
                <a:gd name="textAreaBottom" fmla="*/ 10638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06680" y="5259240"/>
              <a:ext cx="14868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934320" y="3270240"/>
            <a:ext cx="182520" cy="1758960"/>
          </a:xfrm>
          <a:custGeom>
            <a:avLst/>
            <a:gdLst>
              <a:gd name="textAreaLeft" fmla="*/ 0 w 182520"/>
              <a:gd name="textAreaRight" fmla="*/ 65880 w 182520"/>
              <a:gd name="textAreaTop" fmla="*/ 45720 h 1758960"/>
              <a:gd name="textAreaBottom" fmla="*/ 1713240 h 17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49880" y="3747960"/>
            <a:ext cx="14000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2280" y="3043080"/>
            <a:ext cx="1855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Rea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-Beh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74840" y="4025880"/>
            <a:ext cx="470160" cy="171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5480" y="5207040"/>
            <a:ext cx="363600" cy="882720"/>
          </a:xfrm>
          <a:prstGeom prst="rect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6437160" y="6056280"/>
            <a:ext cx="276120" cy="336600"/>
          </a:xfrm>
          <a:prstGeom prst="rtTriangle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 rot="5400000">
            <a:off x="6450120" y="4903560"/>
            <a:ext cx="276480" cy="336600"/>
          </a:xfrm>
          <a:prstGeom prst="rtTriangle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60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The Hard Truth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704880"/>
            <a:ext cx="8845560" cy="5725080"/>
            <a:chOff x="152280" y="704880"/>
            <a:chExt cx="8845560" cy="5725080"/>
          </a:xfrm>
        </p:grpSpPr>
        <p:sp>
          <p:nvSpPr>
            <p:cNvPr id="480" name=""/>
            <p:cNvSpPr/>
            <p:nvPr/>
          </p:nvSpPr>
          <p:spPr>
            <a:xfrm>
              <a:off x="152280" y="704880"/>
              <a:ext cx="8845560" cy="57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n general, broadband economics are dominated by the outside plant (cables, conduit, distances, etc), by labor costs, and by regulatory constraints,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y details of the telecom equipment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Recommended Reading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utside Plant Magazine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loader_construction_raisingshovel_hr" descr=""/>
            <p:cNvPicPr/>
            <p:nvPr/>
          </p:nvPicPr>
          <p:blipFill>
            <a:blip r:embed="rId1"/>
            <a:stretch/>
          </p:blipFill>
          <p:spPr>
            <a:xfrm>
              <a:off x="465120" y="3448080"/>
              <a:ext cx="24256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2" name=""/>
            <p:cNvGrpSpPr/>
            <p:nvPr/>
          </p:nvGrpSpPr>
          <p:grpSpPr>
            <a:xfrm>
              <a:off x="6154560" y="3116160"/>
              <a:ext cx="2389320" cy="1974960"/>
              <a:chOff x="6154560" y="3116160"/>
              <a:chExt cx="2389320" cy="197496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6154560" y="3116160"/>
                <a:ext cx="1793160" cy="1974960"/>
                <a:chOff x="6154560" y="3116160"/>
                <a:chExt cx="1793160" cy="1974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154560" y="31161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154560" y="3116160"/>
                  <a:ext cx="1793160" cy="19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38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                                                    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6" name="backhoe-loader-sideview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8520" y="3138120"/>
                <a:ext cx="2295360" cy="18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500880" y="4662000"/>
                <a:ext cx="198288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84040" y="3212640"/>
                <a:ext cx="9561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14320" y="4367160"/>
                <a:ext cx="40140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90640" y="4440960"/>
                <a:ext cx="43344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66840" y="3366360"/>
                <a:ext cx="745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19120" y="3777840"/>
                <a:ext cx="624600" cy="23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88840" y="4520880"/>
                <a:ext cx="15912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75680" y="3470760"/>
                <a:ext cx="15912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52000" y="3544560"/>
                <a:ext cx="159120" cy="11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524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So how do we get there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298440" y="4781520"/>
            <a:ext cx="88455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our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ill it cos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will it take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8120" y="861840"/>
            <a:ext cx="8812440" cy="3989520"/>
            <a:chOff x="168120" y="861840"/>
            <a:chExt cx="8812440" cy="3989520"/>
          </a:xfrm>
        </p:grpSpPr>
        <p:pic>
          <p:nvPicPr>
            <p:cNvPr id="499" name="oldmonarchwall" descr=""/>
            <p:cNvPicPr/>
            <p:nvPr/>
          </p:nvPicPr>
          <p:blipFill>
            <a:blip r:embed="rId1"/>
            <a:stretch/>
          </p:blipFill>
          <p:spPr>
            <a:xfrm>
              <a:off x="168120" y="861840"/>
              <a:ext cx="2874960" cy="39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CW-61" descr=""/>
            <p:cNvPicPr/>
            <p:nvPr/>
          </p:nvPicPr>
          <p:blipFill>
            <a:blip r:embed="rId2"/>
            <a:stretch/>
          </p:blipFill>
          <p:spPr>
            <a:xfrm>
              <a:off x="4659480" y="1666800"/>
              <a:ext cx="432108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3086280" y="2628720"/>
              <a:ext cx="1320480" cy="711360"/>
            </a:xfrm>
            <a:prstGeom prst="rightArrow">
              <a:avLst>
                <a:gd name="adj1" fmla="val 50000"/>
                <a:gd name="adj2" fmla="val 46407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660920" y="4788000"/>
            <a:ext cx="254160" cy="1485720"/>
          </a:xfrm>
          <a:custGeom>
            <a:avLst/>
            <a:gdLst>
              <a:gd name="textAreaLeft" fmla="*/ 0 w 254160"/>
              <a:gd name="textAreaRight" fmla="*/ 91800 w 25416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99040" y="5213520"/>
            <a:ext cx="380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Next Slide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1598760" y="5064120"/>
            <a:ext cx="6308280" cy="691560"/>
            <a:chOff x="1598760" y="5064120"/>
            <a:chExt cx="6308280" cy="691560"/>
          </a:xfrm>
        </p:grpSpPr>
        <p:grpSp>
          <p:nvGrpSpPr>
            <p:cNvPr id="505" name=""/>
            <p:cNvGrpSpPr/>
            <p:nvPr/>
          </p:nvGrpSpPr>
          <p:grpSpPr>
            <a:xfrm>
              <a:off x="1598760" y="5064120"/>
              <a:ext cx="6308280" cy="691560"/>
              <a:chOff x="1598760" y="5064120"/>
              <a:chExt cx="6308280" cy="691560"/>
            </a:xfrm>
          </p:grpSpPr>
          <p:sp>
            <p:nvSpPr>
              <p:cNvPr id="506" name=""/>
              <p:cNvSpPr/>
              <p:nvPr/>
            </p:nvSpPr>
            <p:spPr>
              <a:xfrm>
                <a:off x="1652760" y="5108040"/>
                <a:ext cx="6254280" cy="647640"/>
              </a:xfrm>
              <a:custGeom>
                <a:avLst/>
                <a:gdLst/>
                <a:ahLst/>
                <a:rect l="l" t="t" r="r" b="b"/>
                <a:pathLst>
                  <a:path w="3321" h="337">
                    <a:moveTo>
                      <a:pt x="89" y="0"/>
                    </a:moveTo>
                    <a:lnTo>
                      <a:pt x="71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6" y="26"/>
                    </a:lnTo>
                    <a:lnTo>
                      <a:pt x="16" y="39"/>
                    </a:lnTo>
                    <a:lnTo>
                      <a:pt x="6" y="55"/>
                    </a:lnTo>
                    <a:lnTo>
                      <a:pt x="1" y="71"/>
                    </a:lnTo>
                    <a:lnTo>
                      <a:pt x="0" y="89"/>
                    </a:lnTo>
                    <a:lnTo>
                      <a:pt x="0" y="248"/>
                    </a:lnTo>
                    <a:lnTo>
                      <a:pt x="1" y="266"/>
                    </a:lnTo>
                    <a:lnTo>
                      <a:pt x="6" y="282"/>
                    </a:lnTo>
                    <a:lnTo>
                      <a:pt x="16" y="298"/>
                    </a:lnTo>
                    <a:lnTo>
                      <a:pt x="26" y="311"/>
                    </a:lnTo>
                    <a:lnTo>
                      <a:pt x="39" y="322"/>
                    </a:lnTo>
                    <a:lnTo>
                      <a:pt x="55" y="330"/>
                    </a:lnTo>
                    <a:lnTo>
                      <a:pt x="71" y="335"/>
                    </a:lnTo>
                    <a:lnTo>
                      <a:pt x="89" y="337"/>
                    </a:lnTo>
                    <a:lnTo>
                      <a:pt x="3232" y="337"/>
                    </a:lnTo>
                    <a:lnTo>
                      <a:pt x="3250" y="335"/>
                    </a:lnTo>
                    <a:lnTo>
                      <a:pt x="3266" y="330"/>
                    </a:lnTo>
                    <a:lnTo>
                      <a:pt x="3282" y="322"/>
                    </a:lnTo>
                    <a:lnTo>
                      <a:pt x="3295" y="311"/>
                    </a:lnTo>
                    <a:lnTo>
                      <a:pt x="3306" y="298"/>
                    </a:lnTo>
                    <a:lnTo>
                      <a:pt x="3314" y="282"/>
                    </a:lnTo>
                    <a:lnTo>
                      <a:pt x="3319" y="266"/>
                    </a:lnTo>
                    <a:lnTo>
                      <a:pt x="3321" y="248"/>
                    </a:lnTo>
                    <a:lnTo>
                      <a:pt x="3321" y="89"/>
                    </a:lnTo>
                    <a:lnTo>
                      <a:pt x="3319" y="71"/>
                    </a:lnTo>
                    <a:lnTo>
                      <a:pt x="3314" y="55"/>
                    </a:lnTo>
                    <a:lnTo>
                      <a:pt x="3306" y="39"/>
                    </a:lnTo>
                    <a:lnTo>
                      <a:pt x="3295" y="26"/>
                    </a:lnTo>
                    <a:lnTo>
                      <a:pt x="3282" y="16"/>
                    </a:lnTo>
                    <a:lnTo>
                      <a:pt x="3266" y="7"/>
                    </a:lnTo>
                    <a:lnTo>
                      <a:pt x="3250" y="2"/>
                    </a:lnTo>
                    <a:lnTo>
                      <a:pt x="3232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598760" y="5064120"/>
                <a:ext cx="6240600" cy="635760"/>
              </a:xfrm>
              <a:custGeom>
                <a:avLst/>
                <a:gdLst/>
                <a:ahLst/>
                <a:rect l="l" t="t" r="r" b="b"/>
                <a:pathLst>
                  <a:path w="3314" h="331">
                    <a:moveTo>
                      <a:pt x="87" y="0"/>
                    </a:moveTo>
                    <a:lnTo>
                      <a:pt x="69" y="2"/>
                    </a:lnTo>
                    <a:lnTo>
                      <a:pt x="53" y="7"/>
                    </a:lnTo>
                    <a:lnTo>
                      <a:pt x="39" y="15"/>
                    </a:lnTo>
                    <a:lnTo>
                      <a:pt x="26" y="26"/>
                    </a:lnTo>
                    <a:lnTo>
                      <a:pt x="14" y="39"/>
                    </a:lnTo>
                    <a:lnTo>
                      <a:pt x="6" y="54"/>
                    </a:lnTo>
                    <a:lnTo>
                      <a:pt x="1" y="70"/>
                    </a:lnTo>
                    <a:lnTo>
                      <a:pt x="0" y="88"/>
                    </a:lnTo>
                    <a:lnTo>
                      <a:pt x="0" y="243"/>
                    </a:lnTo>
                    <a:lnTo>
                      <a:pt x="1" y="261"/>
                    </a:lnTo>
                    <a:lnTo>
                      <a:pt x="6" y="277"/>
                    </a:lnTo>
                    <a:lnTo>
                      <a:pt x="14" y="292"/>
                    </a:lnTo>
                    <a:lnTo>
                      <a:pt x="26" y="305"/>
                    </a:lnTo>
                    <a:lnTo>
                      <a:pt x="39" y="316"/>
                    </a:lnTo>
                    <a:lnTo>
                      <a:pt x="53" y="324"/>
                    </a:lnTo>
                    <a:lnTo>
                      <a:pt x="69" y="329"/>
                    </a:lnTo>
                    <a:lnTo>
                      <a:pt x="87" y="331"/>
                    </a:lnTo>
                    <a:lnTo>
                      <a:pt x="3227" y="331"/>
                    </a:lnTo>
                    <a:lnTo>
                      <a:pt x="3245" y="329"/>
                    </a:lnTo>
                    <a:lnTo>
                      <a:pt x="3261" y="324"/>
                    </a:lnTo>
                    <a:lnTo>
                      <a:pt x="3275" y="316"/>
                    </a:lnTo>
                    <a:lnTo>
                      <a:pt x="3288" y="305"/>
                    </a:lnTo>
                    <a:lnTo>
                      <a:pt x="3300" y="292"/>
                    </a:lnTo>
                    <a:lnTo>
                      <a:pt x="3308" y="277"/>
                    </a:lnTo>
                    <a:lnTo>
                      <a:pt x="3313" y="261"/>
                    </a:lnTo>
                    <a:lnTo>
                      <a:pt x="3314" y="243"/>
                    </a:lnTo>
                    <a:lnTo>
                      <a:pt x="3314" y="88"/>
                    </a:lnTo>
                    <a:lnTo>
                      <a:pt x="3313" y="70"/>
                    </a:lnTo>
                    <a:lnTo>
                      <a:pt x="3308" y="54"/>
                    </a:lnTo>
                    <a:lnTo>
                      <a:pt x="3300" y="39"/>
                    </a:lnTo>
                    <a:lnTo>
                      <a:pt x="3288" y="26"/>
                    </a:lnTo>
                    <a:lnTo>
                      <a:pt x="3275" y="15"/>
                    </a:lnTo>
                    <a:lnTo>
                      <a:pt x="3261" y="7"/>
                    </a:lnTo>
                    <a:lnTo>
                      <a:pt x="3245" y="2"/>
                    </a:lnTo>
                    <a:lnTo>
                      <a:pt x="322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819680" y="5073480"/>
              <a:ext cx="293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13000" y="5135400"/>
              <a:ext cx="218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C:Fiber To The Cur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80960" y="540216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Cab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76920" y="5402160"/>
              <a:ext cx="19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:Fiber To The Cabi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36640" y="5073480"/>
              <a:ext cx="2809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36440" y="5135400"/>
              <a:ext cx="232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H :Fiber To The 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36080" y="5402160"/>
              <a:ext cx="255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B :Fiber To The Buil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95840" y="6078600"/>
            <a:ext cx="35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adapted from image on www.fsanet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2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Fiber “As Close As You Can Get It” (FTT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736560"/>
            <a:ext cx="1009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29640" y="3822840"/>
            <a:ext cx="1245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8520" y="4141800"/>
            <a:ext cx="587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62240" y="348300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90680" y="2808360"/>
            <a:ext cx="51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212724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61960" y="146052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9680" y="1131840"/>
            <a:ext cx="1320840" cy="636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5520" y="1801800"/>
            <a:ext cx="1319400" cy="639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6440" y="800280"/>
            <a:ext cx="14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2600" y="860400"/>
            <a:ext cx="106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rvice N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120" y="2475000"/>
            <a:ext cx="1332000" cy="65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4360" y="3830760"/>
            <a:ext cx="1317600" cy="637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360" y="3159000"/>
            <a:ext cx="1317600" cy="639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73320" y="4276800"/>
            <a:ext cx="738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59120" y="1073160"/>
            <a:ext cx="4041720" cy="3848040"/>
          </a:xfrm>
          <a:custGeom>
            <a:avLst/>
            <a:gdLst/>
            <a:ahLst/>
            <a:rect l="l" t="t" r="r" b="b"/>
            <a:pathLst>
              <a:path w="2146" h="2001">
                <a:moveTo>
                  <a:pt x="0" y="0"/>
                </a:moveTo>
                <a:lnTo>
                  <a:pt x="0" y="2001"/>
                </a:lnTo>
                <a:lnTo>
                  <a:pt x="777" y="2001"/>
                </a:lnTo>
                <a:lnTo>
                  <a:pt x="2146" y="284"/>
                </a:lnTo>
                <a:lnTo>
                  <a:pt x="2146" y="0"/>
                </a:lnTo>
                <a:lnTo>
                  <a:pt x="1076" y="0"/>
                </a:lnTo>
                <a:lnTo>
                  <a:pt x="0" y="0"/>
                </a:lnTo>
                <a:close/>
              </a:path>
            </a:pathLst>
          </a:custGeom>
          <a:solidFill>
            <a:srgbClr val="5a9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11520" y="1762200"/>
            <a:ext cx="2389320" cy="3144600"/>
          </a:xfrm>
          <a:custGeom>
            <a:avLst/>
            <a:gdLst/>
            <a:ahLst/>
            <a:rect l="l" t="t" r="r" b="b"/>
            <a:pathLst>
              <a:path w="1269" h="1636">
                <a:moveTo>
                  <a:pt x="0" y="1636"/>
                </a:moveTo>
                <a:lnTo>
                  <a:pt x="1269" y="1636"/>
                </a:lnTo>
                <a:lnTo>
                  <a:pt x="1269" y="0"/>
                </a:lnTo>
                <a:lnTo>
                  <a:pt x="638" y="814"/>
                </a:lnTo>
                <a:lnTo>
                  <a:pt x="0" y="1636"/>
                </a:lnTo>
                <a:close/>
              </a:path>
            </a:pathLst>
          </a:custGeom>
          <a:solidFill>
            <a:srgbClr val="95d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25760" y="1560600"/>
            <a:ext cx="3267000" cy="4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19400" y="3859200"/>
            <a:ext cx="4780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02000" y="2419200"/>
            <a:ext cx="2913120" cy="5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3216240"/>
            <a:ext cx="2133720" cy="4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92280" y="4024440"/>
            <a:ext cx="1497240" cy="5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20920" y="1292400"/>
            <a:ext cx="454320" cy="36324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0880" y="1400040"/>
            <a:ext cx="457200" cy="235080"/>
          </a:xfrm>
          <a:custGeom>
            <a:avLst/>
            <a:gdLst/>
            <a:ahLst/>
            <a:rect l="l" t="t" r="r" b="b"/>
            <a:pathLst>
              <a:path w="243" h="122">
                <a:moveTo>
                  <a:pt x="0" y="97"/>
                </a:moveTo>
                <a:lnTo>
                  <a:pt x="10" y="122"/>
                </a:lnTo>
                <a:lnTo>
                  <a:pt x="243" y="25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60880" y="1563840"/>
            <a:ext cx="447480" cy="2682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2"/>
                </a:lnTo>
                <a:lnTo>
                  <a:pt x="227" y="139"/>
                </a:lnTo>
                <a:lnTo>
                  <a:pt x="238" y="116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03720" y="1596960"/>
            <a:ext cx="409320" cy="100080"/>
          </a:xfrm>
          <a:custGeom>
            <a:avLst/>
            <a:gdLst/>
            <a:ahLst/>
            <a:rect l="l" t="t" r="r" b="b"/>
            <a:pathLst>
              <a:path w="217" h="52">
                <a:moveTo>
                  <a:pt x="3" y="0"/>
                </a:moveTo>
                <a:lnTo>
                  <a:pt x="0" y="26"/>
                </a:lnTo>
                <a:lnTo>
                  <a:pt x="214" y="52"/>
                </a:lnTo>
                <a:lnTo>
                  <a:pt x="217" y="26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35520" y="3875040"/>
            <a:ext cx="650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00040" y="3932280"/>
            <a:ext cx="412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04000" y="1389240"/>
            <a:ext cx="725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2840" y="147636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791400" y="2124000"/>
            <a:ext cx="71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73720" y="234936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04000" y="3106800"/>
            <a:ext cx="71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159320" y="316692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04000" y="3914640"/>
            <a:ext cx="919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82560" y="3976560"/>
            <a:ext cx="66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41920" y="1636560"/>
            <a:ext cx="1341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68360" y="169848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Optical Fi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87640" y="4433760"/>
            <a:ext cx="1444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5040" y="449748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00"/>
                </a:solidFill>
                <a:latin typeface="Times New Roman"/>
              </a:rPr>
              <a:t>P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10160" y="4433760"/>
            <a:ext cx="826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21480" y="449748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12960" y="1317600"/>
            <a:ext cx="711000" cy="29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79560" y="2708280"/>
            <a:ext cx="6415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9480" y="27669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65600" y="3038400"/>
            <a:ext cx="4780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9920" y="3054240"/>
            <a:ext cx="652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46240" y="3111480"/>
            <a:ext cx="412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20920" y="2138400"/>
            <a:ext cx="454320" cy="36360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60880" y="2260440"/>
            <a:ext cx="457200" cy="231840"/>
          </a:xfrm>
          <a:custGeom>
            <a:avLst/>
            <a:gdLst/>
            <a:ahLst/>
            <a:rect l="l" t="t" r="r" b="b"/>
            <a:pathLst>
              <a:path w="243" h="121">
                <a:moveTo>
                  <a:pt x="0" y="97"/>
                </a:moveTo>
                <a:lnTo>
                  <a:pt x="10" y="121"/>
                </a:lnTo>
                <a:lnTo>
                  <a:pt x="243" y="24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60880" y="2421000"/>
            <a:ext cx="447480" cy="2682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3"/>
                </a:lnTo>
                <a:lnTo>
                  <a:pt x="227" y="139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760" y="2444760"/>
            <a:ext cx="422280" cy="111240"/>
          </a:xfrm>
          <a:custGeom>
            <a:avLst/>
            <a:gdLst/>
            <a:ahLst/>
            <a:rect l="l" t="t" r="r" b="b"/>
            <a:pathLst>
              <a:path w="224" h="58">
                <a:moveTo>
                  <a:pt x="4" y="0"/>
                </a:moveTo>
                <a:lnTo>
                  <a:pt x="0" y="25"/>
                </a:lnTo>
                <a:lnTo>
                  <a:pt x="221" y="58"/>
                </a:lnTo>
                <a:lnTo>
                  <a:pt x="224" y="32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20920" y="2935440"/>
            <a:ext cx="454320" cy="350640"/>
          </a:xfrm>
          <a:custGeom>
            <a:avLst/>
            <a:gdLst/>
            <a:ahLst/>
            <a:rect l="l" t="t" r="r" b="b"/>
            <a:pathLst>
              <a:path w="241" h="183">
                <a:moveTo>
                  <a:pt x="0" y="162"/>
                </a:moveTo>
                <a:lnTo>
                  <a:pt x="15" y="183"/>
                </a:lnTo>
                <a:lnTo>
                  <a:pt x="241" y="21"/>
                </a:lnTo>
                <a:lnTo>
                  <a:pt x="227" y="0"/>
                </a:lnTo>
                <a:lnTo>
                  <a:pt x="0" y="1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880" y="3044880"/>
            <a:ext cx="457200" cy="231840"/>
          </a:xfrm>
          <a:custGeom>
            <a:avLst/>
            <a:gdLst/>
            <a:ahLst/>
            <a:rect l="l" t="t" r="r" b="b"/>
            <a:pathLst>
              <a:path w="243" h="121">
                <a:moveTo>
                  <a:pt x="0" y="97"/>
                </a:moveTo>
                <a:lnTo>
                  <a:pt x="10" y="121"/>
                </a:lnTo>
                <a:lnTo>
                  <a:pt x="243" y="24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60880" y="3206880"/>
            <a:ext cx="447480" cy="2664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3"/>
                </a:lnTo>
                <a:lnTo>
                  <a:pt x="227" y="139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90760" y="3240000"/>
            <a:ext cx="422280" cy="100080"/>
          </a:xfrm>
          <a:custGeom>
            <a:avLst/>
            <a:gdLst/>
            <a:ahLst/>
            <a:rect l="l" t="t" r="r" b="b"/>
            <a:pathLst>
              <a:path w="224" h="52">
                <a:moveTo>
                  <a:pt x="4" y="0"/>
                </a:moveTo>
                <a:lnTo>
                  <a:pt x="0" y="26"/>
                </a:lnTo>
                <a:lnTo>
                  <a:pt x="221" y="52"/>
                </a:lnTo>
                <a:lnTo>
                  <a:pt x="224" y="26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20920" y="3745080"/>
            <a:ext cx="454320" cy="36324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0880" y="3865680"/>
            <a:ext cx="457200" cy="234720"/>
          </a:xfrm>
          <a:custGeom>
            <a:avLst/>
            <a:gdLst/>
            <a:ahLst/>
            <a:rect l="l" t="t" r="r" b="b"/>
            <a:pathLst>
              <a:path w="243" h="122">
                <a:moveTo>
                  <a:pt x="0" y="97"/>
                </a:moveTo>
                <a:lnTo>
                  <a:pt x="10" y="122"/>
                </a:lnTo>
                <a:lnTo>
                  <a:pt x="243" y="25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0880" y="4027320"/>
            <a:ext cx="447480" cy="268560"/>
          </a:xfrm>
          <a:custGeom>
            <a:avLst/>
            <a:gdLst/>
            <a:ahLst/>
            <a:rect l="l" t="t" r="r" b="b"/>
            <a:pathLst>
              <a:path w="238" h="140">
                <a:moveTo>
                  <a:pt x="12" y="0"/>
                </a:moveTo>
                <a:lnTo>
                  <a:pt x="0" y="23"/>
                </a:lnTo>
                <a:lnTo>
                  <a:pt x="227" y="140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90760" y="4049640"/>
            <a:ext cx="422280" cy="111240"/>
          </a:xfrm>
          <a:custGeom>
            <a:avLst/>
            <a:gdLst/>
            <a:ahLst/>
            <a:rect l="l" t="t" r="r" b="b"/>
            <a:pathLst>
              <a:path w="224" h="58">
                <a:moveTo>
                  <a:pt x="4" y="0"/>
                </a:moveTo>
                <a:lnTo>
                  <a:pt x="0" y="26"/>
                </a:lnTo>
                <a:lnTo>
                  <a:pt x="221" y="58"/>
                </a:lnTo>
                <a:lnTo>
                  <a:pt x="224" y="32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75320" y="2754360"/>
            <a:ext cx="1243080" cy="349200"/>
          </a:xfrm>
          <a:custGeom>
            <a:avLst/>
            <a:gdLst/>
            <a:ahLst/>
            <a:rect l="l" t="t" r="r" b="b"/>
            <a:pathLst>
              <a:path w="660" h="182">
                <a:moveTo>
                  <a:pt x="660" y="182"/>
                </a:moveTo>
                <a:lnTo>
                  <a:pt x="339" y="0"/>
                </a:lnTo>
                <a:lnTo>
                  <a:pt x="0" y="182"/>
                </a:lnTo>
                <a:lnTo>
                  <a:pt x="82" y="182"/>
                </a:lnTo>
                <a:lnTo>
                  <a:pt x="339" y="51"/>
                </a:lnTo>
                <a:lnTo>
                  <a:pt x="576" y="182"/>
                </a:lnTo>
                <a:lnTo>
                  <a:pt x="621" y="182"/>
                </a:lnTo>
                <a:lnTo>
                  <a:pt x="660" y="18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99080" y="2743200"/>
            <a:ext cx="1230480" cy="34776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32680" y="2728800"/>
            <a:ext cx="609480" cy="362160"/>
          </a:xfrm>
          <a:custGeom>
            <a:avLst/>
            <a:gdLst/>
            <a:ahLst/>
            <a:rect l="l" t="t" r="r" b="b"/>
            <a:pathLst>
              <a:path w="324" h="188">
                <a:moveTo>
                  <a:pt x="324" y="188"/>
                </a:moveTo>
                <a:lnTo>
                  <a:pt x="324" y="1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99080" y="2728800"/>
            <a:ext cx="1243080" cy="3621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336" y="0"/>
                </a:moveTo>
                <a:lnTo>
                  <a:pt x="336" y="0"/>
                </a:lnTo>
                <a:lnTo>
                  <a:pt x="0" y="188"/>
                </a:lnTo>
                <a:lnTo>
                  <a:pt x="84" y="188"/>
                </a:lnTo>
                <a:lnTo>
                  <a:pt x="336" y="46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86480" y="2717640"/>
            <a:ext cx="1243080" cy="3621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5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8520" y="2828880"/>
            <a:ext cx="1011240" cy="698400"/>
          </a:xfrm>
          <a:custGeom>
            <a:avLst/>
            <a:gdLst/>
            <a:ahLst/>
            <a:rect l="l" t="t" r="r" b="b"/>
            <a:pathLst>
              <a:path w="537" h="363">
                <a:moveTo>
                  <a:pt x="537" y="159"/>
                </a:moveTo>
                <a:lnTo>
                  <a:pt x="537" y="363"/>
                </a:lnTo>
                <a:lnTo>
                  <a:pt x="0" y="363"/>
                </a:lnTo>
                <a:lnTo>
                  <a:pt x="0" y="152"/>
                </a:lnTo>
                <a:lnTo>
                  <a:pt x="268" y="0"/>
                </a:lnTo>
                <a:lnTo>
                  <a:pt x="403" y="76"/>
                </a:lnTo>
                <a:lnTo>
                  <a:pt x="537" y="159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9680" y="2817720"/>
            <a:ext cx="1013040" cy="684360"/>
          </a:xfrm>
          <a:custGeom>
            <a:avLst/>
            <a:gdLst/>
            <a:ahLst/>
            <a:rect l="l" t="t" r="r" b="b"/>
            <a:pathLst>
              <a:path w="538" h="356">
                <a:moveTo>
                  <a:pt x="538" y="158"/>
                </a:moveTo>
                <a:lnTo>
                  <a:pt x="538" y="356"/>
                </a:lnTo>
                <a:lnTo>
                  <a:pt x="0" y="356"/>
                </a:lnTo>
                <a:lnTo>
                  <a:pt x="0" y="145"/>
                </a:lnTo>
                <a:lnTo>
                  <a:pt x="269" y="0"/>
                </a:lnTo>
                <a:lnTo>
                  <a:pt x="403" y="76"/>
                </a:lnTo>
                <a:lnTo>
                  <a:pt x="538" y="1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9680" y="2803680"/>
            <a:ext cx="1024200" cy="6984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162"/>
                </a:ln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5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08520" y="2792520"/>
            <a:ext cx="1024200" cy="69696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2"/>
                </a:moveTo>
                <a:lnTo>
                  <a:pt x="544" y="362"/>
                </a:lnTo>
                <a:lnTo>
                  <a:pt x="0" y="362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99080" y="3613320"/>
            <a:ext cx="1230480" cy="34920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99080" y="3602160"/>
            <a:ext cx="1243080" cy="360360"/>
          </a:xfrm>
          <a:custGeom>
            <a:avLst/>
            <a:gdLst/>
            <a:ahLst/>
            <a:rect l="l" t="t" r="r" b="b"/>
            <a:pathLst>
              <a:path w="660" h="187">
                <a:moveTo>
                  <a:pt x="660" y="187"/>
                </a:moveTo>
                <a:lnTo>
                  <a:pt x="660" y="187"/>
                </a:lnTo>
                <a:lnTo>
                  <a:pt x="336" y="0"/>
                </a:lnTo>
                <a:lnTo>
                  <a:pt x="0" y="187"/>
                </a:lnTo>
                <a:lnTo>
                  <a:pt x="84" y="187"/>
                </a:lnTo>
                <a:lnTo>
                  <a:pt x="336" y="45"/>
                </a:lnTo>
                <a:lnTo>
                  <a:pt x="576" y="187"/>
                </a:lnTo>
                <a:lnTo>
                  <a:pt x="615" y="187"/>
                </a:lnTo>
                <a:lnTo>
                  <a:pt x="660" y="1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86480" y="3589200"/>
            <a:ext cx="1243080" cy="3603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6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9680" y="3689280"/>
            <a:ext cx="1013040" cy="684360"/>
          </a:xfrm>
          <a:custGeom>
            <a:avLst/>
            <a:gdLst/>
            <a:ahLst/>
            <a:rect l="l" t="t" r="r" b="b"/>
            <a:pathLst>
              <a:path w="538" h="356">
                <a:moveTo>
                  <a:pt x="538" y="159"/>
                </a:moveTo>
                <a:lnTo>
                  <a:pt x="538" y="356"/>
                </a:lnTo>
                <a:lnTo>
                  <a:pt x="0" y="356"/>
                </a:lnTo>
                <a:lnTo>
                  <a:pt x="0" y="146"/>
                </a:lnTo>
                <a:lnTo>
                  <a:pt x="269" y="0"/>
                </a:lnTo>
                <a:lnTo>
                  <a:pt x="403" y="76"/>
                </a:lnTo>
                <a:lnTo>
                  <a:pt x="538" y="15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9680" y="3676680"/>
            <a:ext cx="1024200" cy="69696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1"/>
                </a:moveTo>
                <a:lnTo>
                  <a:pt x="544" y="161"/>
                </a:lnTo>
                <a:lnTo>
                  <a:pt x="544" y="362"/>
                </a:lnTo>
                <a:lnTo>
                  <a:pt x="0" y="362"/>
                </a:lnTo>
                <a:lnTo>
                  <a:pt x="0" y="148"/>
                </a:lnTo>
                <a:lnTo>
                  <a:pt x="272" y="0"/>
                </a:lnTo>
                <a:lnTo>
                  <a:pt x="408" y="84"/>
                </a:lnTo>
                <a:lnTo>
                  <a:pt x="544" y="1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8520" y="3664080"/>
            <a:ext cx="1024200" cy="6969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43480" y="1971720"/>
            <a:ext cx="1535040" cy="73080"/>
          </a:xfrm>
          <a:custGeom>
            <a:avLst/>
            <a:gdLst/>
            <a:ahLst/>
            <a:rect l="l" t="t" r="r" b="b"/>
            <a:pathLst>
              <a:path w="815" h="38">
                <a:moveTo>
                  <a:pt x="815" y="38"/>
                </a:moveTo>
                <a:lnTo>
                  <a:pt x="147" y="38"/>
                </a:lnTo>
                <a:lnTo>
                  <a:pt x="0" y="0"/>
                </a:lnTo>
                <a:lnTo>
                  <a:pt x="636" y="0"/>
                </a:lnTo>
                <a:lnTo>
                  <a:pt x="725" y="16"/>
                </a:lnTo>
                <a:lnTo>
                  <a:pt x="815" y="38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29080" y="1946160"/>
            <a:ext cx="1549440" cy="87480"/>
          </a:xfrm>
          <a:custGeom>
            <a:avLst/>
            <a:gdLst/>
            <a:ahLst/>
            <a:rect l="l" t="t" r="r" b="b"/>
            <a:pathLst>
              <a:path w="822" h="45">
                <a:moveTo>
                  <a:pt x="822" y="45"/>
                </a:moveTo>
                <a:lnTo>
                  <a:pt x="822" y="45"/>
                </a:lnTo>
                <a:lnTo>
                  <a:pt x="149" y="45"/>
                </a:lnTo>
                <a:lnTo>
                  <a:pt x="0" y="0"/>
                </a:lnTo>
                <a:lnTo>
                  <a:pt x="641" y="0"/>
                </a:lnTo>
                <a:lnTo>
                  <a:pt x="732" y="26"/>
                </a:lnTo>
                <a:lnTo>
                  <a:pt x="822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29080" y="1946160"/>
            <a:ext cx="1549440" cy="87480"/>
          </a:xfrm>
          <a:custGeom>
            <a:avLst/>
            <a:gdLst/>
            <a:ahLst/>
            <a:rect l="l" t="t" r="r" b="b"/>
            <a:pathLst>
              <a:path w="822" h="45">
                <a:moveTo>
                  <a:pt x="822" y="45"/>
                </a:moveTo>
                <a:lnTo>
                  <a:pt x="149" y="45"/>
                </a:lnTo>
                <a:lnTo>
                  <a:pt x="0" y="0"/>
                </a:lnTo>
                <a:lnTo>
                  <a:pt x="641" y="0"/>
                </a:lnTo>
                <a:lnTo>
                  <a:pt x="732" y="26"/>
                </a:lnTo>
                <a:lnTo>
                  <a:pt x="822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21400" y="2044800"/>
            <a:ext cx="1257120" cy="63360"/>
          </a:xfrm>
          <a:custGeom>
            <a:avLst/>
            <a:gdLst/>
            <a:ahLst/>
            <a:rect l="l" t="t" r="r" b="b"/>
            <a:pathLst>
              <a:path w="667" h="33">
                <a:moveTo>
                  <a:pt x="667" y="0"/>
                </a:moveTo>
                <a:lnTo>
                  <a:pt x="667" y="33"/>
                </a:lnTo>
                <a:lnTo>
                  <a:pt x="0" y="33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10240" y="2019240"/>
            <a:ext cx="1268280" cy="763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10240" y="2019240"/>
            <a:ext cx="1268280" cy="763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43480" y="1971720"/>
            <a:ext cx="266760" cy="147600"/>
          </a:xfrm>
          <a:custGeom>
            <a:avLst/>
            <a:gdLst/>
            <a:ahLst/>
            <a:rect l="l" t="t" r="r" b="b"/>
            <a:pathLst>
              <a:path w="142" h="77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7"/>
                </a:lnTo>
                <a:lnTo>
                  <a:pt x="142" y="59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29080" y="194616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149" y="45"/>
                </a:ln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29080" y="194616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29320" y="2127240"/>
            <a:ext cx="1160280" cy="114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67080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23268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8472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94036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276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78400" y="2058840"/>
            <a:ext cx="231840" cy="174600"/>
          </a:xfrm>
          <a:custGeom>
            <a:avLst/>
            <a:gdLst/>
            <a:ahLst/>
            <a:rect l="l" t="t" r="r" b="b"/>
            <a:pathLst>
              <a:path w="123" h="91">
                <a:moveTo>
                  <a:pt x="123" y="91"/>
                </a:moveTo>
                <a:lnTo>
                  <a:pt x="0" y="53"/>
                </a:lnTo>
                <a:lnTo>
                  <a:pt x="0" y="0"/>
                </a:lnTo>
                <a:lnTo>
                  <a:pt x="117" y="36"/>
                </a:lnTo>
                <a:lnTo>
                  <a:pt x="123" y="60"/>
                </a:lnTo>
                <a:lnTo>
                  <a:pt x="123" y="91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67240" y="20336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9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67240" y="20336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9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21400" y="2133720"/>
            <a:ext cx="3240" cy="11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487840" y="2095200"/>
            <a:ext cx="18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599080" y="213336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89680" y="1922400"/>
            <a:ext cx="231840" cy="85680"/>
          </a:xfrm>
          <a:custGeom>
            <a:avLst/>
            <a:gdLst/>
            <a:ahLst/>
            <a:rect l="l" t="t" r="r" b="b"/>
            <a:pathLst>
              <a:path w="123" h="45">
                <a:moveTo>
                  <a:pt x="123" y="0"/>
                </a:moveTo>
                <a:lnTo>
                  <a:pt x="123" y="45"/>
                </a:lnTo>
                <a:lnTo>
                  <a:pt x="0" y="45"/>
                </a:lnTo>
                <a:lnTo>
                  <a:pt x="0" y="0"/>
                </a:lnTo>
                <a:lnTo>
                  <a:pt x="61" y="0"/>
                </a:lnTo>
                <a:lnTo>
                  <a:pt x="12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75280" y="1897200"/>
            <a:ext cx="246240" cy="99720"/>
          </a:xfrm>
          <a:custGeom>
            <a:avLst/>
            <a:gdLst/>
            <a:ahLst/>
            <a:rect l="l" t="t" r="r" b="b"/>
            <a:pathLst>
              <a:path w="130" h="52">
                <a:moveTo>
                  <a:pt x="130" y="0"/>
                </a:moveTo>
                <a:lnTo>
                  <a:pt x="130" y="0"/>
                </a:lnTo>
                <a:lnTo>
                  <a:pt x="130" y="52"/>
                </a:lnTo>
                <a:lnTo>
                  <a:pt x="0" y="52"/>
                </a:lnTo>
                <a:lnTo>
                  <a:pt x="0" y="0"/>
                </a:lnTo>
                <a:lnTo>
                  <a:pt x="65" y="0"/>
                </a:lnTo>
                <a:lnTo>
                  <a:pt x="123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75280" y="1897200"/>
            <a:ext cx="246240" cy="99720"/>
          </a:xfrm>
          <a:custGeom>
            <a:avLst/>
            <a:gdLst/>
            <a:ahLst/>
            <a:rect l="l" t="t" r="r" b="b"/>
            <a:pathLst>
              <a:path w="130" h="52">
                <a:moveTo>
                  <a:pt x="130" y="0"/>
                </a:moveTo>
                <a:lnTo>
                  <a:pt x="130" y="52"/>
                </a:lnTo>
                <a:lnTo>
                  <a:pt x="0" y="52"/>
                </a:lnTo>
                <a:lnTo>
                  <a:pt x="0" y="0"/>
                </a:lnTo>
                <a:lnTo>
                  <a:pt x="65" y="0"/>
                </a:lnTo>
                <a:lnTo>
                  <a:pt x="71" y="0"/>
                </a:lnTo>
                <a:lnTo>
                  <a:pt x="97" y="0"/>
                </a:lnTo>
                <a:lnTo>
                  <a:pt x="117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27760" y="1871640"/>
            <a:ext cx="47520" cy="136440"/>
          </a:xfrm>
          <a:custGeom>
            <a:avLst/>
            <a:gdLst/>
            <a:ahLst/>
            <a:rect l="l" t="t" r="r" b="b"/>
            <a:pathLst>
              <a:path w="26" h="71">
                <a:moveTo>
                  <a:pt x="26" y="18"/>
                </a:moveTo>
                <a:lnTo>
                  <a:pt x="0" y="0"/>
                </a:lnTo>
                <a:lnTo>
                  <a:pt x="0" y="53"/>
                </a:lnTo>
                <a:lnTo>
                  <a:pt x="0" y="47"/>
                </a:lnTo>
                <a:lnTo>
                  <a:pt x="26" y="71"/>
                </a:lnTo>
                <a:lnTo>
                  <a:pt x="26" y="40"/>
                </a:lnTo>
                <a:lnTo>
                  <a:pt x="26" y="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15160" y="1846440"/>
            <a:ext cx="60120" cy="150480"/>
          </a:xfrm>
          <a:custGeom>
            <a:avLst/>
            <a:gdLst/>
            <a:ahLst/>
            <a:rect l="l" t="t" r="r" b="b"/>
            <a:pathLst>
              <a:path w="32" h="78">
                <a:moveTo>
                  <a:pt x="32" y="19"/>
                </a:moveTo>
                <a:lnTo>
                  <a:pt x="32" y="19"/>
                </a:lnTo>
                <a:lnTo>
                  <a:pt x="0" y="0"/>
                </a:lnTo>
                <a:lnTo>
                  <a:pt x="0" y="58"/>
                </a:lnTo>
                <a:lnTo>
                  <a:pt x="0" y="52"/>
                </a:lnTo>
                <a:lnTo>
                  <a:pt x="32" y="78"/>
                </a:lnTo>
                <a:lnTo>
                  <a:pt x="32" y="52"/>
                </a:lnTo>
                <a:lnTo>
                  <a:pt x="32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15160" y="1846440"/>
            <a:ext cx="60120" cy="150480"/>
          </a:xfrm>
          <a:custGeom>
            <a:avLst/>
            <a:gdLst/>
            <a:ahLst/>
            <a:rect l="l" t="t" r="r" b="b"/>
            <a:pathLst>
              <a:path w="32" h="78">
                <a:moveTo>
                  <a:pt x="32" y="19"/>
                </a:moveTo>
                <a:lnTo>
                  <a:pt x="0" y="0"/>
                </a:lnTo>
                <a:lnTo>
                  <a:pt x="0" y="58"/>
                </a:lnTo>
                <a:lnTo>
                  <a:pt x="0" y="52"/>
                </a:lnTo>
                <a:lnTo>
                  <a:pt x="32" y="78"/>
                </a:lnTo>
                <a:lnTo>
                  <a:pt x="32" y="52"/>
                </a:lnTo>
                <a:lnTo>
                  <a:pt x="32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27760" y="1882800"/>
            <a:ext cx="293760" cy="25200"/>
          </a:xfrm>
          <a:custGeom>
            <a:avLst/>
            <a:gdLst/>
            <a:ahLst/>
            <a:rect l="l" t="t" r="r" b="b"/>
            <a:pathLst>
              <a:path w="156" h="13">
                <a:moveTo>
                  <a:pt x="156" y="13"/>
                </a:moveTo>
                <a:lnTo>
                  <a:pt x="38" y="13"/>
                </a:lnTo>
                <a:lnTo>
                  <a:pt x="0" y="0"/>
                </a:lnTo>
                <a:lnTo>
                  <a:pt x="118" y="0"/>
                </a:lnTo>
                <a:lnTo>
                  <a:pt x="136" y="3"/>
                </a:lnTo>
                <a:lnTo>
                  <a:pt x="156" y="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15160" y="1859040"/>
            <a:ext cx="306360" cy="38160"/>
          </a:xfrm>
          <a:custGeom>
            <a:avLst/>
            <a:gdLst/>
            <a:ahLst/>
            <a:rect l="l" t="t" r="r" b="b"/>
            <a:pathLst>
              <a:path w="162" h="20">
                <a:moveTo>
                  <a:pt x="162" y="20"/>
                </a:moveTo>
                <a:lnTo>
                  <a:pt x="162" y="20"/>
                </a:lnTo>
                <a:lnTo>
                  <a:pt x="39" y="20"/>
                </a:lnTo>
                <a:lnTo>
                  <a:pt x="0" y="0"/>
                </a:lnTo>
                <a:lnTo>
                  <a:pt x="123" y="0"/>
                </a:lnTo>
                <a:lnTo>
                  <a:pt x="142" y="13"/>
                </a:lnTo>
                <a:lnTo>
                  <a:pt x="162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15160" y="1859040"/>
            <a:ext cx="306360" cy="38160"/>
          </a:xfrm>
          <a:custGeom>
            <a:avLst/>
            <a:gdLst/>
            <a:ahLst/>
            <a:rect l="l" t="t" r="r" b="b"/>
            <a:pathLst>
              <a:path w="162" h="20">
                <a:moveTo>
                  <a:pt x="162" y="20"/>
                </a:moveTo>
                <a:lnTo>
                  <a:pt x="39" y="20"/>
                </a:lnTo>
                <a:lnTo>
                  <a:pt x="0" y="0"/>
                </a:lnTo>
                <a:lnTo>
                  <a:pt x="123" y="0"/>
                </a:lnTo>
                <a:lnTo>
                  <a:pt x="142" y="13"/>
                </a:lnTo>
                <a:lnTo>
                  <a:pt x="162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21400" y="224460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10240" y="221940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10240" y="221940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43480" y="2157480"/>
            <a:ext cx="266760" cy="149040"/>
          </a:xfrm>
          <a:custGeom>
            <a:avLst/>
            <a:gdLst/>
            <a:ahLst/>
            <a:rect l="l" t="t" r="r" b="b"/>
            <a:pathLst>
              <a:path w="142" h="77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7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9080" y="2133720"/>
            <a:ext cx="281160" cy="1602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149" y="45"/>
                </a:ln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29080" y="2133720"/>
            <a:ext cx="281160" cy="1602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29320" y="2325600"/>
            <a:ext cx="1173240" cy="1015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683400" y="233028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53724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38964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24528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7680" y="233028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95152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80716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78400" y="2255760"/>
            <a:ext cx="231840" cy="174600"/>
          </a:xfrm>
          <a:custGeom>
            <a:avLst/>
            <a:gdLst/>
            <a:ahLst/>
            <a:rect l="l" t="t" r="r" b="b"/>
            <a:pathLst>
              <a:path w="123" h="91">
                <a:moveTo>
                  <a:pt x="123" y="91"/>
                </a:moveTo>
                <a:lnTo>
                  <a:pt x="0" y="54"/>
                </a:lnTo>
                <a:lnTo>
                  <a:pt x="0" y="0"/>
                </a:lnTo>
                <a:lnTo>
                  <a:pt x="117" y="36"/>
                </a:lnTo>
                <a:lnTo>
                  <a:pt x="123" y="60"/>
                </a:lnTo>
                <a:lnTo>
                  <a:pt x="123" y="91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67240" y="22334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67240" y="22334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635800" y="23302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487840" y="229392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59908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21400" y="244476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10240" y="2419200"/>
            <a:ext cx="1268280" cy="73080"/>
          </a:xfrm>
          <a:custGeom>
            <a:avLst/>
            <a:gdLst/>
            <a:ahLst/>
            <a:rect l="l" t="t" r="r" b="b"/>
            <a:pathLst>
              <a:path w="673" h="38">
                <a:moveTo>
                  <a:pt x="673" y="0"/>
                </a:moveTo>
                <a:lnTo>
                  <a:pt x="673" y="0"/>
                </a:lnTo>
                <a:lnTo>
                  <a:pt x="673" y="38"/>
                </a:lnTo>
                <a:lnTo>
                  <a:pt x="0" y="38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10240" y="2419200"/>
            <a:ext cx="1268280" cy="73080"/>
          </a:xfrm>
          <a:custGeom>
            <a:avLst/>
            <a:gdLst/>
            <a:ahLst/>
            <a:rect l="l" t="t" r="r" b="b"/>
            <a:pathLst>
              <a:path w="673" h="38">
                <a:moveTo>
                  <a:pt x="673" y="0"/>
                </a:moveTo>
                <a:lnTo>
                  <a:pt x="673" y="38"/>
                </a:lnTo>
                <a:lnTo>
                  <a:pt x="0" y="38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43480" y="2355840"/>
            <a:ext cx="266760" cy="150840"/>
          </a:xfrm>
          <a:custGeom>
            <a:avLst/>
            <a:gdLst/>
            <a:ahLst/>
            <a:rect l="l" t="t" r="r" b="b"/>
            <a:pathLst>
              <a:path w="142" h="78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8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29080" y="233028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6"/>
                </a:moveTo>
                <a:lnTo>
                  <a:pt x="149" y="46"/>
                </a:lnTo>
                <a:lnTo>
                  <a:pt x="0" y="0"/>
                </a:lnTo>
                <a:lnTo>
                  <a:pt x="0" y="33"/>
                </a:lnTo>
                <a:lnTo>
                  <a:pt x="149" y="84"/>
                </a:lnTo>
                <a:lnTo>
                  <a:pt x="149" y="65"/>
                </a:lnTo>
                <a:lnTo>
                  <a:pt x="149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9080" y="233028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6"/>
                </a:moveTo>
                <a:lnTo>
                  <a:pt x="0" y="0"/>
                </a:lnTo>
                <a:lnTo>
                  <a:pt x="0" y="33"/>
                </a:lnTo>
                <a:lnTo>
                  <a:pt x="149" y="84"/>
                </a:lnTo>
                <a:lnTo>
                  <a:pt x="149" y="65"/>
                </a:lnTo>
                <a:lnTo>
                  <a:pt x="149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29320" y="2525760"/>
            <a:ext cx="1173240" cy="1015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683400" y="25304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537240" y="25304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389640" y="25304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24528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097680" y="25304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95152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0716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8400" y="2444760"/>
            <a:ext cx="231840" cy="173160"/>
          </a:xfrm>
          <a:custGeom>
            <a:avLst/>
            <a:gdLst/>
            <a:ahLst/>
            <a:rect l="l" t="t" r="r" b="b"/>
            <a:pathLst>
              <a:path w="123" h="90">
                <a:moveTo>
                  <a:pt x="123" y="90"/>
                </a:moveTo>
                <a:lnTo>
                  <a:pt x="0" y="53"/>
                </a:lnTo>
                <a:lnTo>
                  <a:pt x="0" y="0"/>
                </a:lnTo>
                <a:lnTo>
                  <a:pt x="117" y="35"/>
                </a:lnTo>
                <a:lnTo>
                  <a:pt x="123" y="59"/>
                </a:lnTo>
                <a:lnTo>
                  <a:pt x="123" y="90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67240" y="2419200"/>
            <a:ext cx="243000" cy="1875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67240" y="2419200"/>
            <a:ext cx="243000" cy="1875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5635800" y="2517480"/>
            <a:ext cx="144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487840" y="2480760"/>
            <a:ext cx="18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610240" y="2517480"/>
            <a:ext cx="144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1920" y="2525760"/>
            <a:ext cx="10188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21400" y="263052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0240" y="260676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10240" y="260676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54640" y="2556000"/>
            <a:ext cx="266760" cy="150840"/>
          </a:xfrm>
          <a:custGeom>
            <a:avLst/>
            <a:gdLst/>
            <a:ahLst/>
            <a:rect l="l" t="t" r="r" b="b"/>
            <a:pathLst>
              <a:path w="142" h="78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8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43480" y="2530440"/>
            <a:ext cx="277920" cy="162000"/>
          </a:xfrm>
          <a:custGeom>
            <a:avLst/>
            <a:gdLst/>
            <a:ahLst/>
            <a:rect l="l" t="t" r="r" b="b"/>
            <a:pathLst>
              <a:path w="148" h="84">
                <a:moveTo>
                  <a:pt x="148" y="45"/>
                </a:moveTo>
                <a:lnTo>
                  <a:pt x="148" y="45"/>
                </a:lnTo>
                <a:lnTo>
                  <a:pt x="0" y="0"/>
                </a:lnTo>
                <a:lnTo>
                  <a:pt x="0" y="32"/>
                </a:lnTo>
                <a:lnTo>
                  <a:pt x="148" y="84"/>
                </a:lnTo>
                <a:lnTo>
                  <a:pt x="148" y="65"/>
                </a:lnTo>
                <a:lnTo>
                  <a:pt x="148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43480" y="2530440"/>
            <a:ext cx="277920" cy="162000"/>
          </a:xfrm>
          <a:custGeom>
            <a:avLst/>
            <a:gdLst/>
            <a:ahLst/>
            <a:rect l="l" t="t" r="r" b="b"/>
            <a:pathLst>
              <a:path w="148" h="84">
                <a:moveTo>
                  <a:pt x="148" y="45"/>
                </a:moveTo>
                <a:lnTo>
                  <a:pt x="0" y="0"/>
                </a:lnTo>
                <a:lnTo>
                  <a:pt x="0" y="32"/>
                </a:lnTo>
                <a:lnTo>
                  <a:pt x="148" y="84"/>
                </a:lnTo>
                <a:lnTo>
                  <a:pt x="148" y="65"/>
                </a:lnTo>
                <a:lnTo>
                  <a:pt x="148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8920" y="2225520"/>
            <a:ext cx="619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68920" y="2411280"/>
            <a:ext cx="619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68920" y="2630520"/>
            <a:ext cx="61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48160" y="2163600"/>
            <a:ext cx="11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48160" y="2363760"/>
            <a:ext cx="1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9320" y="255096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31120" y="2127240"/>
            <a:ext cx="112680" cy="8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1120" y="2325600"/>
            <a:ext cx="112680" cy="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84960" y="2138400"/>
            <a:ext cx="100080" cy="7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52608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37848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37360" y="2138400"/>
            <a:ext cx="101520" cy="7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81800" y="2394000"/>
            <a:ext cx="3240" cy="3240"/>
          </a:xfrm>
          <a:prstGeom prst="line">
            <a:avLst/>
          </a:prstGeom>
          <a:ln w="9360">
            <a:solidFill>
              <a:srgbClr val="003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0920" y="3060720"/>
            <a:ext cx="47772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7400" y="3075120"/>
            <a:ext cx="468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91120" y="3137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23000" y="3936960"/>
            <a:ext cx="479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30920" y="395460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85000" y="401472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86480" y="1073160"/>
            <a:ext cx="1243080" cy="351000"/>
          </a:xfrm>
          <a:custGeom>
            <a:avLst/>
            <a:gdLst/>
            <a:ahLst/>
            <a:rect l="l" t="t" r="r" b="b"/>
            <a:pathLst>
              <a:path w="660" h="182">
                <a:moveTo>
                  <a:pt x="660" y="182"/>
                </a:moveTo>
                <a:lnTo>
                  <a:pt x="340" y="0"/>
                </a:lnTo>
                <a:lnTo>
                  <a:pt x="0" y="182"/>
                </a:lnTo>
                <a:lnTo>
                  <a:pt x="83" y="182"/>
                </a:lnTo>
                <a:lnTo>
                  <a:pt x="340" y="51"/>
                </a:lnTo>
                <a:lnTo>
                  <a:pt x="576" y="182"/>
                </a:lnTo>
                <a:lnTo>
                  <a:pt x="622" y="182"/>
                </a:lnTo>
                <a:lnTo>
                  <a:pt x="660" y="18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99080" y="1062000"/>
            <a:ext cx="1230480" cy="34776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99080" y="1049400"/>
            <a:ext cx="1243080" cy="3603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660" y="188"/>
                </a:lnTo>
                <a:lnTo>
                  <a:pt x="336" y="0"/>
                </a:lnTo>
                <a:lnTo>
                  <a:pt x="0" y="188"/>
                </a:lnTo>
                <a:lnTo>
                  <a:pt x="84" y="188"/>
                </a:lnTo>
                <a:lnTo>
                  <a:pt x="336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32680" y="1136520"/>
            <a:ext cx="609480" cy="273240"/>
          </a:xfrm>
          <a:custGeom>
            <a:avLst/>
            <a:gdLst/>
            <a:ahLst/>
            <a:rect l="l" t="t" r="r" b="b"/>
            <a:pathLst>
              <a:path w="324" h="142">
                <a:moveTo>
                  <a:pt x="0" y="0"/>
                </a:moveTo>
                <a:lnTo>
                  <a:pt x="240" y="142"/>
                </a:lnTo>
                <a:lnTo>
                  <a:pt x="279" y="142"/>
                </a:lnTo>
                <a:lnTo>
                  <a:pt x="324" y="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86480" y="1036800"/>
            <a:ext cx="1243080" cy="36180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5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08520" y="1149480"/>
            <a:ext cx="1011240" cy="696960"/>
          </a:xfrm>
          <a:custGeom>
            <a:avLst/>
            <a:gdLst/>
            <a:ahLst/>
            <a:rect l="l" t="t" r="r" b="b"/>
            <a:pathLst>
              <a:path w="537" h="363">
                <a:moveTo>
                  <a:pt x="537" y="159"/>
                </a:moveTo>
                <a:lnTo>
                  <a:pt x="537" y="363"/>
                </a:lnTo>
                <a:lnTo>
                  <a:pt x="0" y="363"/>
                </a:lnTo>
                <a:lnTo>
                  <a:pt x="0" y="152"/>
                </a:lnTo>
                <a:lnTo>
                  <a:pt x="268" y="0"/>
                </a:lnTo>
                <a:lnTo>
                  <a:pt x="403" y="76"/>
                </a:lnTo>
                <a:lnTo>
                  <a:pt x="537" y="159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32640" y="1136520"/>
            <a:ext cx="1011240" cy="685800"/>
          </a:xfrm>
          <a:custGeom>
            <a:avLst/>
            <a:gdLst/>
            <a:ahLst/>
            <a:rect l="l" t="t" r="r" b="b"/>
            <a:pathLst>
              <a:path w="537" h="356">
                <a:moveTo>
                  <a:pt x="537" y="158"/>
                </a:moveTo>
                <a:lnTo>
                  <a:pt x="537" y="356"/>
                </a:lnTo>
                <a:lnTo>
                  <a:pt x="0" y="356"/>
                </a:lnTo>
                <a:lnTo>
                  <a:pt x="0" y="145"/>
                </a:lnTo>
                <a:lnTo>
                  <a:pt x="268" y="0"/>
                </a:lnTo>
                <a:lnTo>
                  <a:pt x="403" y="76"/>
                </a:lnTo>
                <a:lnTo>
                  <a:pt x="537" y="15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2640" y="1123920"/>
            <a:ext cx="1025280" cy="6984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162"/>
                </a:ln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5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19680" y="1112760"/>
            <a:ext cx="1024200" cy="6955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2"/>
                </a:moveTo>
                <a:lnTo>
                  <a:pt x="544" y="362"/>
                </a:lnTo>
                <a:lnTo>
                  <a:pt x="0" y="362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65880" y="1722600"/>
            <a:ext cx="549360" cy="149040"/>
          </a:xfrm>
          <a:custGeom>
            <a:avLst/>
            <a:gdLst/>
            <a:ahLst/>
            <a:rect l="l" t="t" r="r" b="b"/>
            <a:pathLst>
              <a:path w="292" h="78">
                <a:moveTo>
                  <a:pt x="89" y="71"/>
                </a:moveTo>
                <a:lnTo>
                  <a:pt x="44" y="71"/>
                </a:lnTo>
                <a:lnTo>
                  <a:pt x="13" y="78"/>
                </a:lnTo>
                <a:lnTo>
                  <a:pt x="0" y="65"/>
                </a:lnTo>
                <a:lnTo>
                  <a:pt x="7" y="36"/>
                </a:lnTo>
                <a:lnTo>
                  <a:pt x="38" y="18"/>
                </a:lnTo>
                <a:lnTo>
                  <a:pt x="76" y="24"/>
                </a:lnTo>
                <a:lnTo>
                  <a:pt x="101" y="36"/>
                </a:lnTo>
                <a:lnTo>
                  <a:pt x="120" y="36"/>
                </a:lnTo>
                <a:lnTo>
                  <a:pt x="133" y="18"/>
                </a:lnTo>
                <a:lnTo>
                  <a:pt x="164" y="0"/>
                </a:lnTo>
                <a:lnTo>
                  <a:pt x="209" y="0"/>
                </a:lnTo>
                <a:lnTo>
                  <a:pt x="246" y="5"/>
                </a:lnTo>
                <a:lnTo>
                  <a:pt x="279" y="29"/>
                </a:lnTo>
                <a:lnTo>
                  <a:pt x="292" y="60"/>
                </a:lnTo>
                <a:lnTo>
                  <a:pt x="272" y="71"/>
                </a:lnTo>
                <a:lnTo>
                  <a:pt x="240" y="65"/>
                </a:lnTo>
                <a:lnTo>
                  <a:pt x="203" y="65"/>
                </a:lnTo>
                <a:lnTo>
                  <a:pt x="146" y="65"/>
                </a:lnTo>
                <a:lnTo>
                  <a:pt x="89" y="71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9520" y="1685880"/>
            <a:ext cx="572760" cy="173160"/>
          </a:xfrm>
          <a:custGeom>
            <a:avLst/>
            <a:gdLst/>
            <a:ahLst/>
            <a:rect l="l" t="t" r="r" b="b"/>
            <a:pathLst>
              <a:path w="304" h="90">
                <a:moveTo>
                  <a:pt x="78" y="84"/>
                </a:moveTo>
                <a:lnTo>
                  <a:pt x="39" y="84"/>
                </a:lnTo>
                <a:lnTo>
                  <a:pt x="13" y="90"/>
                </a:lnTo>
                <a:lnTo>
                  <a:pt x="0" y="58"/>
                </a:lnTo>
                <a:lnTo>
                  <a:pt x="32" y="39"/>
                </a:lnTo>
                <a:lnTo>
                  <a:pt x="71" y="26"/>
                </a:lnTo>
                <a:lnTo>
                  <a:pt x="104" y="45"/>
                </a:lnTo>
                <a:lnTo>
                  <a:pt x="110" y="58"/>
                </a:lnTo>
                <a:lnTo>
                  <a:pt x="136" y="39"/>
                </a:lnTo>
                <a:lnTo>
                  <a:pt x="155" y="6"/>
                </a:lnTo>
                <a:lnTo>
                  <a:pt x="201" y="6"/>
                </a:lnTo>
                <a:lnTo>
                  <a:pt x="252" y="0"/>
                </a:lnTo>
                <a:lnTo>
                  <a:pt x="278" y="19"/>
                </a:lnTo>
                <a:lnTo>
                  <a:pt x="304" y="51"/>
                </a:lnTo>
                <a:lnTo>
                  <a:pt x="298" y="84"/>
                </a:lnTo>
                <a:lnTo>
                  <a:pt x="278" y="77"/>
                </a:lnTo>
                <a:lnTo>
                  <a:pt x="233" y="77"/>
                </a:lnTo>
                <a:lnTo>
                  <a:pt x="188" y="77"/>
                </a:lnTo>
                <a:lnTo>
                  <a:pt x="123" y="77"/>
                </a:lnTo>
                <a:lnTo>
                  <a:pt x="78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40320" y="1697040"/>
            <a:ext cx="561960" cy="162000"/>
          </a:xfrm>
          <a:custGeom>
            <a:avLst/>
            <a:gdLst/>
            <a:ahLst/>
            <a:rect l="l" t="t" r="r" b="b"/>
            <a:pathLst>
              <a:path w="298" h="84">
                <a:moveTo>
                  <a:pt x="98" y="78"/>
                </a:moveTo>
                <a:lnTo>
                  <a:pt x="52" y="78"/>
                </a:lnTo>
                <a:lnTo>
                  <a:pt x="20" y="84"/>
                </a:lnTo>
                <a:lnTo>
                  <a:pt x="0" y="71"/>
                </a:lnTo>
                <a:lnTo>
                  <a:pt x="0" y="52"/>
                </a:lnTo>
                <a:lnTo>
                  <a:pt x="13" y="45"/>
                </a:lnTo>
                <a:lnTo>
                  <a:pt x="46" y="26"/>
                </a:lnTo>
                <a:lnTo>
                  <a:pt x="85" y="33"/>
                </a:lnTo>
                <a:lnTo>
                  <a:pt x="104" y="45"/>
                </a:lnTo>
                <a:lnTo>
                  <a:pt x="117" y="45"/>
                </a:lnTo>
                <a:lnTo>
                  <a:pt x="143" y="20"/>
                </a:lnTo>
                <a:lnTo>
                  <a:pt x="175" y="0"/>
                </a:lnTo>
                <a:lnTo>
                  <a:pt x="221" y="0"/>
                </a:lnTo>
                <a:lnTo>
                  <a:pt x="259" y="7"/>
                </a:lnTo>
                <a:lnTo>
                  <a:pt x="285" y="33"/>
                </a:lnTo>
                <a:lnTo>
                  <a:pt x="298" y="65"/>
                </a:lnTo>
                <a:lnTo>
                  <a:pt x="285" y="78"/>
                </a:lnTo>
                <a:lnTo>
                  <a:pt x="253" y="71"/>
                </a:lnTo>
                <a:lnTo>
                  <a:pt x="208" y="71"/>
                </a:lnTo>
                <a:lnTo>
                  <a:pt x="149" y="71"/>
                </a:lnTo>
                <a:lnTo>
                  <a:pt x="98" y="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11840" y="1379520"/>
            <a:ext cx="477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05400" y="2157480"/>
            <a:ext cx="1800" cy="2520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3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78480" y="3390840"/>
            <a:ext cx="561960" cy="173160"/>
          </a:xfrm>
          <a:custGeom>
            <a:avLst/>
            <a:gdLst/>
            <a:ahLst/>
            <a:rect l="l" t="t" r="r" b="b"/>
            <a:pathLst>
              <a:path w="298" h="90">
                <a:moveTo>
                  <a:pt x="94" y="77"/>
                </a:moveTo>
                <a:lnTo>
                  <a:pt x="50" y="84"/>
                </a:lnTo>
                <a:lnTo>
                  <a:pt x="13" y="90"/>
                </a:lnTo>
                <a:lnTo>
                  <a:pt x="0" y="72"/>
                </a:lnTo>
                <a:lnTo>
                  <a:pt x="6" y="42"/>
                </a:lnTo>
                <a:lnTo>
                  <a:pt x="37" y="24"/>
                </a:lnTo>
                <a:lnTo>
                  <a:pt x="76" y="29"/>
                </a:lnTo>
                <a:lnTo>
                  <a:pt x="100" y="42"/>
                </a:lnTo>
                <a:lnTo>
                  <a:pt x="126" y="35"/>
                </a:lnTo>
                <a:lnTo>
                  <a:pt x="139" y="17"/>
                </a:lnTo>
                <a:lnTo>
                  <a:pt x="170" y="4"/>
                </a:lnTo>
                <a:lnTo>
                  <a:pt x="215" y="0"/>
                </a:lnTo>
                <a:lnTo>
                  <a:pt x="252" y="4"/>
                </a:lnTo>
                <a:lnTo>
                  <a:pt x="285" y="29"/>
                </a:lnTo>
                <a:lnTo>
                  <a:pt x="298" y="66"/>
                </a:lnTo>
                <a:lnTo>
                  <a:pt x="285" y="77"/>
                </a:lnTo>
                <a:lnTo>
                  <a:pt x="252" y="72"/>
                </a:lnTo>
                <a:lnTo>
                  <a:pt x="209" y="72"/>
                </a:lnTo>
                <a:lnTo>
                  <a:pt x="152" y="72"/>
                </a:lnTo>
                <a:lnTo>
                  <a:pt x="94" y="77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40320" y="3352680"/>
            <a:ext cx="600120" cy="200160"/>
          </a:xfrm>
          <a:custGeom>
            <a:avLst/>
            <a:gdLst/>
            <a:ahLst/>
            <a:rect l="l" t="t" r="r" b="b"/>
            <a:pathLst>
              <a:path w="318" h="104">
                <a:moveTo>
                  <a:pt x="85" y="97"/>
                </a:moveTo>
                <a:lnTo>
                  <a:pt x="39" y="97"/>
                </a:lnTo>
                <a:lnTo>
                  <a:pt x="13" y="104"/>
                </a:lnTo>
                <a:lnTo>
                  <a:pt x="0" y="65"/>
                </a:lnTo>
                <a:lnTo>
                  <a:pt x="33" y="46"/>
                </a:lnTo>
                <a:lnTo>
                  <a:pt x="72" y="33"/>
                </a:lnTo>
                <a:lnTo>
                  <a:pt x="104" y="52"/>
                </a:lnTo>
                <a:lnTo>
                  <a:pt x="123" y="65"/>
                </a:lnTo>
                <a:lnTo>
                  <a:pt x="143" y="46"/>
                </a:lnTo>
                <a:lnTo>
                  <a:pt x="162" y="13"/>
                </a:lnTo>
                <a:lnTo>
                  <a:pt x="208" y="7"/>
                </a:lnTo>
                <a:lnTo>
                  <a:pt x="253" y="0"/>
                </a:lnTo>
                <a:lnTo>
                  <a:pt x="285" y="20"/>
                </a:lnTo>
                <a:lnTo>
                  <a:pt x="318" y="58"/>
                </a:lnTo>
                <a:lnTo>
                  <a:pt x="311" y="91"/>
                </a:lnTo>
                <a:lnTo>
                  <a:pt x="292" y="84"/>
                </a:lnTo>
                <a:lnTo>
                  <a:pt x="240" y="84"/>
                </a:lnTo>
                <a:lnTo>
                  <a:pt x="195" y="84"/>
                </a:lnTo>
                <a:lnTo>
                  <a:pt x="130" y="84"/>
                </a:lnTo>
                <a:lnTo>
                  <a:pt x="85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54720" y="3365640"/>
            <a:ext cx="585720" cy="187200"/>
          </a:xfrm>
          <a:custGeom>
            <a:avLst/>
            <a:gdLst/>
            <a:ahLst/>
            <a:rect l="l" t="t" r="r" b="b"/>
            <a:pathLst>
              <a:path w="311" h="97">
                <a:moveTo>
                  <a:pt x="103" y="84"/>
                </a:moveTo>
                <a:lnTo>
                  <a:pt x="58" y="90"/>
                </a:lnTo>
                <a:lnTo>
                  <a:pt x="19" y="97"/>
                </a:lnTo>
                <a:lnTo>
                  <a:pt x="0" y="77"/>
                </a:lnTo>
                <a:lnTo>
                  <a:pt x="0" y="58"/>
                </a:lnTo>
                <a:lnTo>
                  <a:pt x="13" y="51"/>
                </a:lnTo>
                <a:lnTo>
                  <a:pt x="45" y="32"/>
                </a:lnTo>
                <a:lnTo>
                  <a:pt x="84" y="39"/>
                </a:lnTo>
                <a:lnTo>
                  <a:pt x="110" y="51"/>
                </a:lnTo>
                <a:lnTo>
                  <a:pt x="129" y="51"/>
                </a:lnTo>
                <a:lnTo>
                  <a:pt x="149" y="26"/>
                </a:lnTo>
                <a:lnTo>
                  <a:pt x="181" y="6"/>
                </a:lnTo>
                <a:lnTo>
                  <a:pt x="226" y="0"/>
                </a:lnTo>
                <a:lnTo>
                  <a:pt x="265" y="6"/>
                </a:lnTo>
                <a:lnTo>
                  <a:pt x="298" y="32"/>
                </a:lnTo>
                <a:lnTo>
                  <a:pt x="311" y="71"/>
                </a:lnTo>
                <a:lnTo>
                  <a:pt x="298" y="84"/>
                </a:lnTo>
                <a:lnTo>
                  <a:pt x="259" y="77"/>
                </a:lnTo>
                <a:lnTo>
                  <a:pt x="214" y="77"/>
                </a:lnTo>
                <a:lnTo>
                  <a:pt x="155" y="77"/>
                </a:lnTo>
                <a:lnTo>
                  <a:pt x="103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89640" y="4297320"/>
            <a:ext cx="550800" cy="150840"/>
          </a:xfrm>
          <a:custGeom>
            <a:avLst/>
            <a:gdLst/>
            <a:ahLst/>
            <a:rect l="l" t="t" r="r" b="b"/>
            <a:pathLst>
              <a:path w="292" h="78">
                <a:moveTo>
                  <a:pt x="89" y="71"/>
                </a:moveTo>
                <a:lnTo>
                  <a:pt x="44" y="71"/>
                </a:lnTo>
                <a:lnTo>
                  <a:pt x="13" y="78"/>
                </a:lnTo>
                <a:lnTo>
                  <a:pt x="0" y="65"/>
                </a:lnTo>
                <a:lnTo>
                  <a:pt x="7" y="36"/>
                </a:lnTo>
                <a:lnTo>
                  <a:pt x="38" y="18"/>
                </a:lnTo>
                <a:lnTo>
                  <a:pt x="76" y="25"/>
                </a:lnTo>
                <a:lnTo>
                  <a:pt x="101" y="36"/>
                </a:lnTo>
                <a:lnTo>
                  <a:pt x="120" y="36"/>
                </a:lnTo>
                <a:lnTo>
                  <a:pt x="133" y="18"/>
                </a:lnTo>
                <a:lnTo>
                  <a:pt x="164" y="0"/>
                </a:lnTo>
                <a:lnTo>
                  <a:pt x="209" y="0"/>
                </a:lnTo>
                <a:lnTo>
                  <a:pt x="246" y="5"/>
                </a:lnTo>
                <a:lnTo>
                  <a:pt x="279" y="29"/>
                </a:lnTo>
                <a:lnTo>
                  <a:pt x="292" y="60"/>
                </a:lnTo>
                <a:lnTo>
                  <a:pt x="272" y="71"/>
                </a:lnTo>
                <a:lnTo>
                  <a:pt x="240" y="65"/>
                </a:lnTo>
                <a:lnTo>
                  <a:pt x="203" y="65"/>
                </a:lnTo>
                <a:lnTo>
                  <a:pt x="146" y="65"/>
                </a:lnTo>
                <a:lnTo>
                  <a:pt x="89" y="71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54720" y="4260960"/>
            <a:ext cx="571680" cy="172800"/>
          </a:xfrm>
          <a:custGeom>
            <a:avLst/>
            <a:gdLst/>
            <a:ahLst/>
            <a:rect l="l" t="t" r="r" b="b"/>
            <a:pathLst>
              <a:path w="304" h="90">
                <a:moveTo>
                  <a:pt x="78" y="84"/>
                </a:moveTo>
                <a:lnTo>
                  <a:pt x="39" y="84"/>
                </a:lnTo>
                <a:lnTo>
                  <a:pt x="13" y="90"/>
                </a:lnTo>
                <a:lnTo>
                  <a:pt x="0" y="58"/>
                </a:lnTo>
                <a:lnTo>
                  <a:pt x="32" y="39"/>
                </a:lnTo>
                <a:lnTo>
                  <a:pt x="71" y="26"/>
                </a:lnTo>
                <a:lnTo>
                  <a:pt x="103" y="45"/>
                </a:lnTo>
                <a:lnTo>
                  <a:pt x="110" y="58"/>
                </a:lnTo>
                <a:lnTo>
                  <a:pt x="136" y="39"/>
                </a:lnTo>
                <a:lnTo>
                  <a:pt x="155" y="6"/>
                </a:lnTo>
                <a:lnTo>
                  <a:pt x="201" y="6"/>
                </a:lnTo>
                <a:lnTo>
                  <a:pt x="252" y="0"/>
                </a:lnTo>
                <a:lnTo>
                  <a:pt x="278" y="19"/>
                </a:lnTo>
                <a:lnTo>
                  <a:pt x="304" y="52"/>
                </a:lnTo>
                <a:lnTo>
                  <a:pt x="298" y="84"/>
                </a:lnTo>
                <a:lnTo>
                  <a:pt x="278" y="77"/>
                </a:lnTo>
                <a:lnTo>
                  <a:pt x="233" y="77"/>
                </a:lnTo>
                <a:lnTo>
                  <a:pt x="188" y="77"/>
                </a:lnTo>
                <a:lnTo>
                  <a:pt x="123" y="77"/>
                </a:lnTo>
                <a:lnTo>
                  <a:pt x="78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65880" y="4273560"/>
            <a:ext cx="560520" cy="160200"/>
          </a:xfrm>
          <a:custGeom>
            <a:avLst/>
            <a:gdLst/>
            <a:ahLst/>
            <a:rect l="l" t="t" r="r" b="b"/>
            <a:pathLst>
              <a:path w="298" h="84">
                <a:moveTo>
                  <a:pt x="97" y="78"/>
                </a:moveTo>
                <a:lnTo>
                  <a:pt x="52" y="78"/>
                </a:lnTo>
                <a:lnTo>
                  <a:pt x="20" y="84"/>
                </a:lnTo>
                <a:lnTo>
                  <a:pt x="0" y="71"/>
                </a:lnTo>
                <a:lnTo>
                  <a:pt x="0" y="52"/>
                </a:lnTo>
                <a:lnTo>
                  <a:pt x="13" y="46"/>
                </a:lnTo>
                <a:lnTo>
                  <a:pt x="46" y="26"/>
                </a:lnTo>
                <a:lnTo>
                  <a:pt x="85" y="33"/>
                </a:lnTo>
                <a:lnTo>
                  <a:pt x="104" y="46"/>
                </a:lnTo>
                <a:lnTo>
                  <a:pt x="117" y="46"/>
                </a:lnTo>
                <a:lnTo>
                  <a:pt x="143" y="20"/>
                </a:lnTo>
                <a:lnTo>
                  <a:pt x="175" y="0"/>
                </a:lnTo>
                <a:lnTo>
                  <a:pt x="220" y="0"/>
                </a:lnTo>
                <a:lnTo>
                  <a:pt x="259" y="7"/>
                </a:lnTo>
                <a:lnTo>
                  <a:pt x="285" y="33"/>
                </a:lnTo>
                <a:lnTo>
                  <a:pt x="298" y="65"/>
                </a:lnTo>
                <a:lnTo>
                  <a:pt x="285" y="78"/>
                </a:lnTo>
                <a:lnTo>
                  <a:pt x="253" y="71"/>
                </a:lnTo>
                <a:lnTo>
                  <a:pt x="208" y="71"/>
                </a:lnTo>
                <a:lnTo>
                  <a:pt x="149" y="71"/>
                </a:lnTo>
                <a:lnTo>
                  <a:pt x="97" y="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12880" y="1015920"/>
            <a:ext cx="223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91400" y="893880"/>
            <a:ext cx="677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1840" y="3981600"/>
            <a:ext cx="101880" cy="12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01840" y="3184560"/>
            <a:ext cx="10188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27400" y="2374920"/>
            <a:ext cx="101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40000" y="1515960"/>
            <a:ext cx="100080" cy="128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36640" y="704880"/>
            <a:ext cx="4827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8000" y="1287360"/>
            <a:ext cx="860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200" y="134136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1960" y="1962000"/>
            <a:ext cx="1189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8600" y="2016000"/>
            <a:ext cx="85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eased 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1440" y="2562120"/>
            <a:ext cx="1120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640" y="26161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rame/C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69960" y="285588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1920" y="3317760"/>
            <a:ext cx="1046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9200" y="33717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1440" y="3900600"/>
            <a:ext cx="10908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8720" y="395460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2160" y="41940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87760" y="3529080"/>
            <a:ext cx="1293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10960" y="3591000"/>
            <a:ext cx="96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7600" y="1395360"/>
            <a:ext cx="62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91760" y="145260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296040" y="1563840"/>
            <a:ext cx="417240" cy="48600"/>
            <a:chOff x="6296040" y="1563840"/>
            <a:chExt cx="417240" cy="48600"/>
          </a:xfrm>
        </p:grpSpPr>
        <p:sp>
          <p:nvSpPr>
            <p:cNvPr id="732" name=""/>
            <p:cNvSpPr/>
            <p:nvPr/>
          </p:nvSpPr>
          <p:spPr>
            <a:xfrm>
              <a:off x="6296040" y="156384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3960" y="1563840"/>
              <a:ext cx="4860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91520" y="156384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89440" y="1563840"/>
              <a:ext cx="471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85200" y="1563840"/>
              <a:ext cx="2808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931000" y="2363760"/>
            <a:ext cx="828360" cy="47160"/>
            <a:chOff x="5931000" y="2363760"/>
            <a:chExt cx="828360" cy="47160"/>
          </a:xfrm>
        </p:grpSpPr>
        <p:sp>
          <p:nvSpPr>
            <p:cNvPr id="738" name=""/>
            <p:cNvSpPr/>
            <p:nvPr/>
          </p:nvSpPr>
          <p:spPr>
            <a:xfrm>
              <a:off x="593100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2856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26840" y="2363760"/>
              <a:ext cx="468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2260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20880" y="2363760"/>
              <a:ext cx="486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1844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1636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1248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10760" y="2363760"/>
              <a:ext cx="486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151600" y="3225960"/>
            <a:ext cx="631440" cy="48600"/>
            <a:chOff x="5151600" y="3225960"/>
            <a:chExt cx="631440" cy="48600"/>
          </a:xfrm>
        </p:grpSpPr>
        <p:sp>
          <p:nvSpPr>
            <p:cNvPr id="748" name=""/>
            <p:cNvSpPr/>
            <p:nvPr/>
          </p:nvSpPr>
          <p:spPr>
            <a:xfrm>
              <a:off x="515160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473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492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42840" y="3225960"/>
              <a:ext cx="4824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07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320" y="3225960"/>
              <a:ext cx="471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3408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308640" y="3225960"/>
            <a:ext cx="340920" cy="48600"/>
            <a:chOff x="6308640" y="3225960"/>
            <a:chExt cx="340920" cy="48600"/>
          </a:xfrm>
        </p:grpSpPr>
        <p:sp>
          <p:nvSpPr>
            <p:cNvPr id="756" name=""/>
            <p:cNvSpPr/>
            <p:nvPr/>
          </p:nvSpPr>
          <p:spPr>
            <a:xfrm>
              <a:off x="630864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047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0268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00960" y="3225960"/>
              <a:ext cx="4860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505400" y="4037040"/>
            <a:ext cx="1174320" cy="48960"/>
            <a:chOff x="4505400" y="4037040"/>
            <a:chExt cx="1174320" cy="48960"/>
          </a:xfrm>
        </p:grpSpPr>
        <p:sp>
          <p:nvSpPr>
            <p:cNvPr id="761" name=""/>
            <p:cNvSpPr/>
            <p:nvPr/>
          </p:nvSpPr>
          <p:spPr>
            <a:xfrm>
              <a:off x="4505400" y="4037040"/>
              <a:ext cx="468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116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9908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9700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492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9068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8896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8652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8444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272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7884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640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74320" y="4037040"/>
              <a:ext cx="54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308640" y="4108320"/>
            <a:ext cx="340920" cy="48960"/>
            <a:chOff x="6308640" y="4108320"/>
            <a:chExt cx="340920" cy="48960"/>
          </a:xfrm>
        </p:grpSpPr>
        <p:sp>
          <p:nvSpPr>
            <p:cNvPr id="775" name=""/>
            <p:cNvSpPr/>
            <p:nvPr/>
          </p:nvSpPr>
          <p:spPr>
            <a:xfrm>
              <a:off x="630864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0476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0268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00960" y="410832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5927760" y="2143080"/>
            <a:ext cx="294840" cy="257040"/>
            <a:chOff x="5927760" y="2143080"/>
            <a:chExt cx="294840" cy="257040"/>
          </a:xfrm>
        </p:grpSpPr>
        <p:sp>
          <p:nvSpPr>
            <p:cNvPr id="780" name=""/>
            <p:cNvSpPr/>
            <p:nvPr/>
          </p:nvSpPr>
          <p:spPr>
            <a:xfrm>
              <a:off x="5927760" y="23310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7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04800" y="2269440"/>
              <a:ext cx="65520" cy="691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16"/>
                  </a:moveTo>
                  <a:lnTo>
                    <a:pt x="16" y="36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9680" y="2208240"/>
              <a:ext cx="67680" cy="669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6"/>
                  </a:moveTo>
                  <a:lnTo>
                    <a:pt x="16" y="35"/>
                  </a:lnTo>
                  <a:lnTo>
                    <a:pt x="36" y="19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57080" y="2143080"/>
              <a:ext cx="65520" cy="70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17"/>
                  </a:moveTo>
                  <a:lnTo>
                    <a:pt x="16" y="37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146560" y="3003480"/>
            <a:ext cx="296640" cy="258480"/>
            <a:chOff x="5146560" y="3003480"/>
            <a:chExt cx="296640" cy="258480"/>
          </a:xfrm>
        </p:grpSpPr>
        <p:sp>
          <p:nvSpPr>
            <p:cNvPr id="785" name=""/>
            <p:cNvSpPr/>
            <p:nvPr/>
          </p:nvSpPr>
          <p:spPr>
            <a:xfrm>
              <a:off x="5146560" y="3194280"/>
              <a:ext cx="68040" cy="67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6"/>
                  </a:moveTo>
                  <a:lnTo>
                    <a:pt x="16" y="35"/>
                  </a:lnTo>
                  <a:lnTo>
                    <a:pt x="36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22160" y="3130560"/>
              <a:ext cx="6804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99920" y="30690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6" y="36"/>
                  </a:lnTo>
                  <a:lnTo>
                    <a:pt x="36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5160" y="3003480"/>
              <a:ext cx="68040" cy="71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18"/>
                  </a:moveTo>
                  <a:lnTo>
                    <a:pt x="17" y="37"/>
                  </a:lnTo>
                  <a:lnTo>
                    <a:pt x="36" y="19"/>
                  </a:lnTo>
                  <a:lnTo>
                    <a:pt x="2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4502160" y="3878280"/>
            <a:ext cx="216720" cy="192960"/>
            <a:chOff x="4502160" y="3878280"/>
            <a:chExt cx="216720" cy="192960"/>
          </a:xfrm>
        </p:grpSpPr>
        <p:sp>
          <p:nvSpPr>
            <p:cNvPr id="790" name=""/>
            <p:cNvSpPr/>
            <p:nvPr/>
          </p:nvSpPr>
          <p:spPr>
            <a:xfrm>
              <a:off x="4502160" y="4001760"/>
              <a:ext cx="67320" cy="694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7"/>
                  </a:moveTo>
                  <a:lnTo>
                    <a:pt x="16" y="36"/>
                  </a:lnTo>
                  <a:lnTo>
                    <a:pt x="36" y="20"/>
                  </a:lnTo>
                  <a:lnTo>
                    <a:pt x="1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6680" y="3939840"/>
              <a:ext cx="67320" cy="694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53720" y="3878280"/>
              <a:ext cx="6516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6"/>
                  </a:moveTo>
                  <a:lnTo>
                    <a:pt x="16" y="35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502160" y="4046400"/>
            <a:ext cx="294840" cy="257040"/>
            <a:chOff x="4502160" y="4046400"/>
            <a:chExt cx="294840" cy="257040"/>
          </a:xfrm>
        </p:grpSpPr>
        <p:sp>
          <p:nvSpPr>
            <p:cNvPr id="794" name=""/>
            <p:cNvSpPr/>
            <p:nvPr/>
          </p:nvSpPr>
          <p:spPr>
            <a:xfrm>
              <a:off x="4502160" y="4046400"/>
              <a:ext cx="67680" cy="68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7040" y="41076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54080" y="4170600"/>
              <a:ext cx="6552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6" y="0"/>
                  </a:moveTo>
                  <a:lnTo>
                    <a:pt x="0" y="19"/>
                  </a:lnTo>
                  <a:lnTo>
                    <a:pt x="19" y="35"/>
                  </a:lnTo>
                  <a:lnTo>
                    <a:pt x="35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29320" y="4232160"/>
              <a:ext cx="67680" cy="71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6" y="0"/>
                  </a:moveTo>
                  <a:lnTo>
                    <a:pt x="0" y="20"/>
                  </a:lnTo>
                  <a:lnTo>
                    <a:pt x="20" y="37"/>
                  </a:lnTo>
                  <a:lnTo>
                    <a:pt x="36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146560" y="3236760"/>
            <a:ext cx="296640" cy="258480"/>
            <a:chOff x="5146560" y="3236760"/>
            <a:chExt cx="296640" cy="258480"/>
          </a:xfrm>
        </p:grpSpPr>
        <p:sp>
          <p:nvSpPr>
            <p:cNvPr id="799" name=""/>
            <p:cNvSpPr/>
            <p:nvPr/>
          </p:nvSpPr>
          <p:spPr>
            <a:xfrm>
              <a:off x="5146560" y="3236760"/>
              <a:ext cx="6804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22160" y="3300120"/>
              <a:ext cx="68040" cy="669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0"/>
                  </a:moveTo>
                  <a:lnTo>
                    <a:pt x="0" y="19"/>
                  </a:lnTo>
                  <a:lnTo>
                    <a:pt x="20" y="35"/>
                  </a:lnTo>
                  <a:lnTo>
                    <a:pt x="36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99920" y="336132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19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75160" y="3422880"/>
              <a:ext cx="68040" cy="723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7" y="0"/>
                  </a:moveTo>
                  <a:lnTo>
                    <a:pt x="0" y="20"/>
                  </a:lnTo>
                  <a:lnTo>
                    <a:pt x="20" y="38"/>
                  </a:lnTo>
                  <a:lnTo>
                    <a:pt x="36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927760" y="2371680"/>
            <a:ext cx="294840" cy="255240"/>
            <a:chOff x="5927760" y="2371680"/>
            <a:chExt cx="294840" cy="255240"/>
          </a:xfrm>
        </p:grpSpPr>
        <p:sp>
          <p:nvSpPr>
            <p:cNvPr id="804" name=""/>
            <p:cNvSpPr/>
            <p:nvPr/>
          </p:nvSpPr>
          <p:spPr>
            <a:xfrm>
              <a:off x="5927760" y="237168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04800" y="2434680"/>
              <a:ext cx="6552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6" y="0"/>
                  </a:moveTo>
                  <a:lnTo>
                    <a:pt x="0" y="19"/>
                  </a:lnTo>
                  <a:lnTo>
                    <a:pt x="19" y="35"/>
                  </a:lnTo>
                  <a:lnTo>
                    <a:pt x="35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79680" y="249624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57080" y="2558160"/>
              <a:ext cx="65520" cy="687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5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5464080" y="2216160"/>
            <a:ext cx="466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73720" y="2208240"/>
            <a:ext cx="62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37520" y="22654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721640" y="1130040"/>
            <a:ext cx="0" cy="378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7733880" y="410220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733880" y="157464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733880" y="246384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7733880" y="325116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7520" y="4915080"/>
            <a:ext cx="740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552760" y="1128600"/>
            <a:ext cx="762120" cy="429120"/>
            <a:chOff x="2552760" y="1128600"/>
            <a:chExt cx="762120" cy="429120"/>
          </a:xfrm>
        </p:grpSpPr>
        <p:sp>
          <p:nvSpPr>
            <p:cNvPr id="818" name=""/>
            <p:cNvSpPr/>
            <p:nvPr/>
          </p:nvSpPr>
          <p:spPr>
            <a:xfrm>
              <a:off x="2552760" y="115560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9520" y="1128600"/>
              <a:ext cx="60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$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4393440" y="6000840"/>
            <a:ext cx="40914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TTB costs compared to traditional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*Depends on the service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832880" y="2158920"/>
            <a:ext cx="1245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33240" y="1308240"/>
            <a:ext cx="123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835040" y="2984400"/>
            <a:ext cx="123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552760" y="2004840"/>
            <a:ext cx="762120" cy="429120"/>
            <a:chOff x="2552760" y="2004840"/>
            <a:chExt cx="762120" cy="429120"/>
          </a:xfrm>
        </p:grpSpPr>
        <p:sp>
          <p:nvSpPr>
            <p:cNvPr id="825" name=""/>
            <p:cNvSpPr/>
            <p:nvPr/>
          </p:nvSpPr>
          <p:spPr>
            <a:xfrm>
              <a:off x="2552760" y="203184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39160" y="20048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565360" y="2792520"/>
            <a:ext cx="762120" cy="429120"/>
            <a:chOff x="2565360" y="2792520"/>
            <a:chExt cx="762120" cy="429120"/>
          </a:xfrm>
        </p:grpSpPr>
        <p:sp>
          <p:nvSpPr>
            <p:cNvPr id="828" name=""/>
            <p:cNvSpPr/>
            <p:nvPr/>
          </p:nvSpPr>
          <p:spPr>
            <a:xfrm>
              <a:off x="2565360" y="281952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52120" y="2792520"/>
              <a:ext cx="60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$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498760" y="3592440"/>
            <a:ext cx="860400" cy="429120"/>
            <a:chOff x="2498760" y="3592440"/>
            <a:chExt cx="860400" cy="429120"/>
          </a:xfrm>
        </p:grpSpPr>
        <p:sp>
          <p:nvSpPr>
            <p:cNvPr id="831" name=""/>
            <p:cNvSpPr/>
            <p:nvPr/>
          </p:nvSpPr>
          <p:spPr>
            <a:xfrm>
              <a:off x="2565360" y="361944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8760" y="3592440"/>
              <a:ext cx="86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-$$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112160" y="2057400"/>
            <a:ext cx="76176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49840" y="2057400"/>
            <a:ext cx="76212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02000" y="2057400"/>
            <a:ext cx="76176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0440" y="3301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5649d"/>
                </a:solidFill>
                <a:uFillTx/>
                <a:latin typeface="Arial Black"/>
              </a:rPr>
              <a:t>Cocktail Napkin Calculation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Equipment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Infrastructure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Money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How Long Would it Take?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04920" y="5791320"/>
            <a:ext cx="9399240" cy="685800"/>
            <a:chOff x="304920" y="5791320"/>
            <a:chExt cx="9399240" cy="685800"/>
          </a:xfrm>
        </p:grpSpPr>
        <p:sp>
          <p:nvSpPr>
            <p:cNvPr id="838" name=""/>
            <p:cNvSpPr/>
            <p:nvPr/>
          </p:nvSpPr>
          <p:spPr>
            <a:xfrm>
              <a:off x="304920" y="5791320"/>
              <a:ext cx="8737560" cy="685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9440" y="5823360"/>
              <a:ext cx="932472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bor per Subscri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.5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29.2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196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ars to Convert Network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9.4 Yea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6.5 Yea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45 Ye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06440" y="2301840"/>
            <a:ext cx="882720" cy="97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520" y="1973160"/>
            <a:ext cx="483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25440" y="2568600"/>
            <a:ext cx="630576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051440" y="2635200"/>
            <a:ext cx="290520" cy="328320"/>
            <a:chOff x="4051440" y="2635200"/>
            <a:chExt cx="290520" cy="328320"/>
          </a:xfrm>
        </p:grpSpPr>
        <p:sp>
          <p:nvSpPr>
            <p:cNvPr id="844" name=""/>
            <p:cNvSpPr/>
            <p:nvPr/>
          </p:nvSpPr>
          <p:spPr>
            <a:xfrm>
              <a:off x="4062240" y="263520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51440" y="266688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749160" y="2813040"/>
            <a:ext cx="290520" cy="328320"/>
            <a:chOff x="749160" y="2813040"/>
            <a:chExt cx="290520" cy="328320"/>
          </a:xfrm>
        </p:grpSpPr>
        <p:sp>
          <p:nvSpPr>
            <p:cNvPr id="847" name=""/>
            <p:cNvSpPr/>
            <p:nvPr/>
          </p:nvSpPr>
          <p:spPr>
            <a:xfrm>
              <a:off x="759960" y="28130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49160" y="28447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625480" y="3379680"/>
            <a:ext cx="519120" cy="361440"/>
            <a:chOff x="2625480" y="3379680"/>
            <a:chExt cx="519120" cy="361440"/>
          </a:xfrm>
        </p:grpSpPr>
        <p:sp>
          <p:nvSpPr>
            <p:cNvPr id="850" name=""/>
            <p:cNvSpPr/>
            <p:nvPr/>
          </p:nvSpPr>
          <p:spPr>
            <a:xfrm>
              <a:off x="2662200" y="3433680"/>
              <a:ext cx="455760" cy="29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25480" y="3379680"/>
              <a:ext cx="5191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06640" y="3710160"/>
            <a:ext cx="0" cy="12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16160" y="35784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5320" y="357840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370600" y="3738600"/>
            <a:ext cx="1065600" cy="537840"/>
            <a:chOff x="2370600" y="3738600"/>
            <a:chExt cx="1065600" cy="537840"/>
          </a:xfrm>
        </p:grpSpPr>
        <p:sp>
          <p:nvSpPr>
            <p:cNvPr id="856" name=""/>
            <p:cNvSpPr/>
            <p:nvPr/>
          </p:nvSpPr>
          <p:spPr>
            <a:xfrm rot="10800000">
              <a:off x="2904120" y="37432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rot="10800000">
              <a:off x="2370600" y="37386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013200" y="4368960"/>
            <a:ext cx="1127160" cy="2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68720" y="42768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08400" y="4235400"/>
            <a:ext cx="8892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3352680" y="4273200"/>
            <a:ext cx="76320" cy="95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0800" y="3254400"/>
            <a:ext cx="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0800" y="2549520"/>
            <a:ext cx="0" cy="23328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936800" y="2828880"/>
            <a:ext cx="556920" cy="361440"/>
            <a:chOff x="1936800" y="2828880"/>
            <a:chExt cx="556920" cy="361440"/>
          </a:xfrm>
        </p:grpSpPr>
        <p:sp>
          <p:nvSpPr>
            <p:cNvPr id="865" name=""/>
            <p:cNvSpPr/>
            <p:nvPr/>
          </p:nvSpPr>
          <p:spPr>
            <a:xfrm>
              <a:off x="1973160" y="2879640"/>
              <a:ext cx="520560" cy="300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36800" y="2828880"/>
              <a:ext cx="4503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409120" y="2611440"/>
            <a:ext cx="481680" cy="336600"/>
            <a:chOff x="2409120" y="2611440"/>
            <a:chExt cx="481680" cy="336600"/>
          </a:xfrm>
        </p:grpSpPr>
        <p:sp>
          <p:nvSpPr>
            <p:cNvPr id="868" name=""/>
            <p:cNvSpPr/>
            <p:nvPr/>
          </p:nvSpPr>
          <p:spPr>
            <a:xfrm flipH="1" rot="10800000">
              <a:off x="2409120" y="2611440"/>
              <a:ext cx="4816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76440" y="2946600"/>
              <a:ext cx="20808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2409120" y="3103560"/>
            <a:ext cx="481680" cy="335880"/>
            <a:chOff x="2409120" y="3103560"/>
            <a:chExt cx="481680" cy="335880"/>
          </a:xfrm>
        </p:grpSpPr>
        <p:sp>
          <p:nvSpPr>
            <p:cNvPr id="871" name=""/>
            <p:cNvSpPr/>
            <p:nvPr/>
          </p:nvSpPr>
          <p:spPr>
            <a:xfrm flipH="1" flipV="1" rot="10800000">
              <a:off x="2409120" y="3103200"/>
              <a:ext cx="4816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76440" y="3104640"/>
              <a:ext cx="20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620800" y="2784600"/>
            <a:ext cx="271440" cy="284040"/>
            <a:chOff x="2620800" y="2784600"/>
            <a:chExt cx="271440" cy="284040"/>
          </a:xfrm>
        </p:grpSpPr>
        <p:sp>
          <p:nvSpPr>
            <p:cNvPr id="874" name=""/>
            <p:cNvSpPr/>
            <p:nvPr/>
          </p:nvSpPr>
          <p:spPr>
            <a:xfrm>
              <a:off x="2620800" y="278460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58960" y="280800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33480" y="28587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187800" y="3625920"/>
            <a:ext cx="290520" cy="328320"/>
            <a:chOff x="3187800" y="3625920"/>
            <a:chExt cx="290520" cy="328320"/>
          </a:xfrm>
        </p:grpSpPr>
        <p:sp>
          <p:nvSpPr>
            <p:cNvPr id="878" name=""/>
            <p:cNvSpPr/>
            <p:nvPr/>
          </p:nvSpPr>
          <p:spPr>
            <a:xfrm>
              <a:off x="3198600" y="362592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87800" y="365760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946240" y="2774880"/>
            <a:ext cx="290520" cy="328320"/>
            <a:chOff x="2946240" y="2774880"/>
            <a:chExt cx="290520" cy="328320"/>
          </a:xfrm>
        </p:grpSpPr>
        <p:sp>
          <p:nvSpPr>
            <p:cNvPr id="881" name=""/>
            <p:cNvSpPr/>
            <p:nvPr/>
          </p:nvSpPr>
          <p:spPr>
            <a:xfrm>
              <a:off x="2957040" y="27748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46240" y="28065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006640" y="3232080"/>
            <a:ext cx="290520" cy="328320"/>
            <a:chOff x="2006640" y="3232080"/>
            <a:chExt cx="290520" cy="328320"/>
          </a:xfrm>
        </p:grpSpPr>
        <p:sp>
          <p:nvSpPr>
            <p:cNvPr id="884" name=""/>
            <p:cNvSpPr/>
            <p:nvPr/>
          </p:nvSpPr>
          <p:spPr>
            <a:xfrm>
              <a:off x="2017440" y="32320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06640" y="32637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867040" y="5200560"/>
            <a:ext cx="290520" cy="328320"/>
            <a:chOff x="2867040" y="5200560"/>
            <a:chExt cx="290520" cy="328320"/>
          </a:xfrm>
        </p:grpSpPr>
        <p:sp>
          <p:nvSpPr>
            <p:cNvPr id="887" name=""/>
            <p:cNvSpPr/>
            <p:nvPr/>
          </p:nvSpPr>
          <p:spPr>
            <a:xfrm>
              <a:off x="2877840" y="52005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67040" y="52322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373640" y="2403360"/>
            <a:ext cx="271440" cy="284040"/>
            <a:chOff x="4373640" y="2403360"/>
            <a:chExt cx="271440" cy="284040"/>
          </a:xfrm>
        </p:grpSpPr>
        <p:sp>
          <p:nvSpPr>
            <p:cNvPr id="890" name=""/>
            <p:cNvSpPr/>
            <p:nvPr/>
          </p:nvSpPr>
          <p:spPr>
            <a:xfrm>
              <a:off x="4373640" y="240336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411800" y="24267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486320" y="247752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657680" y="3417840"/>
            <a:ext cx="1047960" cy="628920"/>
            <a:chOff x="4657680" y="3417840"/>
            <a:chExt cx="1047960" cy="628920"/>
          </a:xfrm>
        </p:grpSpPr>
        <p:sp>
          <p:nvSpPr>
            <p:cNvPr id="894" name=""/>
            <p:cNvSpPr/>
            <p:nvPr/>
          </p:nvSpPr>
          <p:spPr>
            <a:xfrm>
              <a:off x="4694400" y="3471480"/>
              <a:ext cx="966600" cy="53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57680" y="3417840"/>
              <a:ext cx="10479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U 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SL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299200" y="4368960"/>
            <a:ext cx="1127160" cy="26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54720" y="42768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94400" y="4235400"/>
            <a:ext cx="8892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5638680" y="4273200"/>
            <a:ext cx="15264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76800" y="2575080"/>
            <a:ext cx="0" cy="86832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046840" y="2682720"/>
            <a:ext cx="271440" cy="284040"/>
            <a:chOff x="5046840" y="2682720"/>
            <a:chExt cx="271440" cy="284040"/>
          </a:xfrm>
        </p:grpSpPr>
        <p:sp>
          <p:nvSpPr>
            <p:cNvPr id="902" name=""/>
            <p:cNvSpPr/>
            <p:nvPr/>
          </p:nvSpPr>
          <p:spPr>
            <a:xfrm>
              <a:off x="5046840" y="268272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085000" y="270612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5159520" y="275688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765760" y="3892680"/>
            <a:ext cx="290520" cy="328320"/>
            <a:chOff x="5765760" y="3892680"/>
            <a:chExt cx="290520" cy="328320"/>
          </a:xfrm>
        </p:grpSpPr>
        <p:sp>
          <p:nvSpPr>
            <p:cNvPr id="906" name=""/>
            <p:cNvSpPr/>
            <p:nvPr/>
          </p:nvSpPr>
          <p:spPr>
            <a:xfrm>
              <a:off x="5776560" y="38926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65760" y="39243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397480" y="2660760"/>
            <a:ext cx="290520" cy="328320"/>
            <a:chOff x="5397480" y="2660760"/>
            <a:chExt cx="290520" cy="328320"/>
          </a:xfrm>
        </p:grpSpPr>
        <p:sp>
          <p:nvSpPr>
            <p:cNvPr id="909" name=""/>
            <p:cNvSpPr/>
            <p:nvPr/>
          </p:nvSpPr>
          <p:spPr>
            <a:xfrm>
              <a:off x="5408280" y="26607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97480" y="26924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165640" y="5200560"/>
            <a:ext cx="290520" cy="328320"/>
            <a:chOff x="5165640" y="5200560"/>
            <a:chExt cx="290520" cy="328320"/>
          </a:xfrm>
        </p:grpSpPr>
        <p:sp>
          <p:nvSpPr>
            <p:cNvPr id="912" name=""/>
            <p:cNvSpPr/>
            <p:nvPr/>
          </p:nvSpPr>
          <p:spPr>
            <a:xfrm>
              <a:off x="5176440" y="52005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65640" y="52322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516800" y="2558880"/>
            <a:ext cx="12600" cy="249588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635960" y="4368960"/>
            <a:ext cx="1127160" cy="26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1480" y="4276800"/>
            <a:ext cx="1057320" cy="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7975440" y="4273200"/>
            <a:ext cx="177840" cy="94284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830360" y="4770000"/>
            <a:ext cx="1263960" cy="894960"/>
            <a:chOff x="7830360" y="4770000"/>
            <a:chExt cx="1263960" cy="894960"/>
          </a:xfrm>
        </p:grpSpPr>
        <p:grpSp>
          <p:nvGrpSpPr>
            <p:cNvPr id="919" name=""/>
            <p:cNvGrpSpPr/>
            <p:nvPr/>
          </p:nvGrpSpPr>
          <p:grpSpPr>
            <a:xfrm>
              <a:off x="8224920" y="4770000"/>
              <a:ext cx="869400" cy="894960"/>
              <a:chOff x="8224920" y="4770000"/>
              <a:chExt cx="869400" cy="894960"/>
            </a:xfrm>
          </p:grpSpPr>
          <p:sp>
            <p:nvSpPr>
              <p:cNvPr id="920" name=""/>
              <p:cNvSpPr/>
              <p:nvPr/>
            </p:nvSpPr>
            <p:spPr>
              <a:xfrm flipH="1">
                <a:off x="838044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874512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868248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845676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55828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845712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8224920" y="4770000"/>
                <a:ext cx="869400" cy="312120"/>
                <a:chOff x="8224920" y="4770000"/>
                <a:chExt cx="869400" cy="312120"/>
              </a:xfrm>
            </p:grpSpPr>
            <p:sp>
              <p:nvSpPr>
                <p:cNvPr id="927" name=""/>
                <p:cNvSpPr/>
                <p:nvPr/>
              </p:nvSpPr>
              <p:spPr>
                <a:xfrm flipH="1" flipV="1">
                  <a:off x="865368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822492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9" name=""/>
            <p:cNvGrpSpPr/>
            <p:nvPr/>
          </p:nvGrpSpPr>
          <p:grpSpPr>
            <a:xfrm>
              <a:off x="7830360" y="5178240"/>
              <a:ext cx="607320" cy="361440"/>
              <a:chOff x="7830360" y="5178240"/>
              <a:chExt cx="607320" cy="361440"/>
            </a:xfrm>
          </p:grpSpPr>
          <p:sp>
            <p:nvSpPr>
              <p:cNvPr id="930" name=""/>
              <p:cNvSpPr/>
              <p:nvPr/>
            </p:nvSpPr>
            <p:spPr>
              <a:xfrm>
                <a:off x="786600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30360" y="5178240"/>
                <a:ext cx="6073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7370640" y="3483000"/>
            <a:ext cx="271440" cy="284040"/>
            <a:chOff x="7370640" y="3483000"/>
            <a:chExt cx="271440" cy="284040"/>
          </a:xfrm>
        </p:grpSpPr>
        <p:sp>
          <p:nvSpPr>
            <p:cNvPr id="933" name=""/>
            <p:cNvSpPr/>
            <p:nvPr/>
          </p:nvSpPr>
          <p:spPr>
            <a:xfrm>
              <a:off x="7370640" y="348300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408800" y="350640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483320" y="35571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7734240" y="4718160"/>
            <a:ext cx="290520" cy="328320"/>
            <a:chOff x="7734240" y="4718160"/>
            <a:chExt cx="290520" cy="328320"/>
          </a:xfrm>
        </p:grpSpPr>
        <p:sp>
          <p:nvSpPr>
            <p:cNvPr id="937" name=""/>
            <p:cNvSpPr/>
            <p:nvPr/>
          </p:nvSpPr>
          <p:spPr>
            <a:xfrm>
              <a:off x="7745040" y="47181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734240" y="47498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569360" y="3016080"/>
            <a:ext cx="290520" cy="328320"/>
            <a:chOff x="7569360" y="3016080"/>
            <a:chExt cx="290520" cy="328320"/>
          </a:xfrm>
        </p:grpSpPr>
        <p:sp>
          <p:nvSpPr>
            <p:cNvPr id="940" name=""/>
            <p:cNvSpPr/>
            <p:nvPr/>
          </p:nvSpPr>
          <p:spPr>
            <a:xfrm>
              <a:off x="7580160" y="30160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69360" y="30477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7670880" y="3854520"/>
            <a:ext cx="290520" cy="328320"/>
            <a:chOff x="7670880" y="3854520"/>
            <a:chExt cx="290520" cy="328320"/>
          </a:xfrm>
        </p:grpSpPr>
        <p:sp>
          <p:nvSpPr>
            <p:cNvPr id="943" name=""/>
            <p:cNvSpPr/>
            <p:nvPr/>
          </p:nvSpPr>
          <p:spPr>
            <a:xfrm>
              <a:off x="7681680" y="385452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70880" y="388620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7489800" y="5207040"/>
            <a:ext cx="290520" cy="328320"/>
            <a:chOff x="7489800" y="5207040"/>
            <a:chExt cx="290520" cy="328320"/>
          </a:xfrm>
        </p:grpSpPr>
        <p:sp>
          <p:nvSpPr>
            <p:cNvPr id="946" name=""/>
            <p:cNvSpPr/>
            <p:nvPr/>
          </p:nvSpPr>
          <p:spPr>
            <a:xfrm>
              <a:off x="7500600" y="52070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89800" y="52387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68160" y="2384280"/>
            <a:ext cx="584640" cy="361440"/>
            <a:chOff x="668160" y="2384280"/>
            <a:chExt cx="584640" cy="361440"/>
          </a:xfrm>
        </p:grpSpPr>
        <p:sp>
          <p:nvSpPr>
            <p:cNvPr id="949" name=""/>
            <p:cNvSpPr/>
            <p:nvPr/>
          </p:nvSpPr>
          <p:spPr>
            <a:xfrm>
              <a:off x="703440" y="2435040"/>
              <a:ext cx="520560" cy="300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8160" y="2384280"/>
              <a:ext cx="5846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4643640" y="3738600"/>
            <a:ext cx="1065600" cy="537840"/>
            <a:chOff x="4643640" y="3738600"/>
            <a:chExt cx="1065600" cy="537840"/>
          </a:xfrm>
        </p:grpSpPr>
        <p:sp>
          <p:nvSpPr>
            <p:cNvPr id="952" name=""/>
            <p:cNvSpPr/>
            <p:nvPr/>
          </p:nvSpPr>
          <p:spPr>
            <a:xfrm rot="10800000">
              <a:off x="5177160" y="37432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10800000">
              <a:off x="4643640" y="37386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92640" y="4052880"/>
            <a:ext cx="0" cy="81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4654080" y="4264200"/>
            <a:ext cx="2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368960" y="3498840"/>
            <a:ext cx="290520" cy="328320"/>
            <a:chOff x="4368960" y="3498840"/>
            <a:chExt cx="290520" cy="328320"/>
          </a:xfrm>
        </p:grpSpPr>
        <p:sp>
          <p:nvSpPr>
            <p:cNvPr id="957" name=""/>
            <p:cNvSpPr/>
            <p:nvPr/>
          </p:nvSpPr>
          <p:spPr>
            <a:xfrm>
              <a:off x="4379760" y="34988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68960" y="35305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993360" y="3738240"/>
            <a:ext cx="1065600" cy="586080"/>
            <a:chOff x="6993360" y="3738240"/>
            <a:chExt cx="1065600" cy="586080"/>
          </a:xfrm>
        </p:grpSpPr>
        <p:grpSp>
          <p:nvGrpSpPr>
            <p:cNvPr id="960" name=""/>
            <p:cNvGrpSpPr/>
            <p:nvPr/>
          </p:nvGrpSpPr>
          <p:grpSpPr>
            <a:xfrm>
              <a:off x="6993360" y="3738240"/>
              <a:ext cx="1065600" cy="537840"/>
              <a:chOff x="6993360" y="3738240"/>
              <a:chExt cx="1065600" cy="537840"/>
            </a:xfrm>
          </p:grpSpPr>
          <p:sp>
            <p:nvSpPr>
              <p:cNvPr id="961" name=""/>
              <p:cNvSpPr/>
              <p:nvPr/>
            </p:nvSpPr>
            <p:spPr>
              <a:xfrm rot="10800000">
                <a:off x="7526880" y="37429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0800000">
                <a:off x="6993360" y="37382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7931160" y="4235400"/>
              <a:ext cx="88920" cy="88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86920" y="3971880"/>
              <a:ext cx="88920" cy="88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168720" y="4770000"/>
            <a:ext cx="1264680" cy="894960"/>
            <a:chOff x="3168720" y="4770000"/>
            <a:chExt cx="1264680" cy="894960"/>
          </a:xfrm>
        </p:grpSpPr>
        <p:grpSp>
          <p:nvGrpSpPr>
            <p:cNvPr id="966" name=""/>
            <p:cNvGrpSpPr/>
            <p:nvPr/>
          </p:nvGrpSpPr>
          <p:grpSpPr>
            <a:xfrm>
              <a:off x="3564000" y="4770000"/>
              <a:ext cx="869400" cy="894960"/>
              <a:chOff x="3564000" y="4770000"/>
              <a:chExt cx="869400" cy="894960"/>
            </a:xfrm>
          </p:grpSpPr>
          <p:sp>
            <p:nvSpPr>
              <p:cNvPr id="967" name=""/>
              <p:cNvSpPr/>
              <p:nvPr/>
            </p:nvSpPr>
            <p:spPr>
              <a:xfrm flipH="1">
                <a:off x="371952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408420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402156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79584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89736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79620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3564000" y="4770000"/>
                <a:ext cx="869400" cy="312120"/>
                <a:chOff x="3564000" y="4770000"/>
                <a:chExt cx="869400" cy="312120"/>
              </a:xfrm>
            </p:grpSpPr>
            <p:sp>
              <p:nvSpPr>
                <p:cNvPr id="974" name=""/>
                <p:cNvSpPr/>
                <p:nvPr/>
              </p:nvSpPr>
              <p:spPr>
                <a:xfrm flipH="1" flipV="1">
                  <a:off x="399276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356400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6" name=""/>
            <p:cNvGrpSpPr/>
            <p:nvPr/>
          </p:nvGrpSpPr>
          <p:grpSpPr>
            <a:xfrm>
              <a:off x="3168720" y="5178240"/>
              <a:ext cx="556920" cy="361440"/>
              <a:chOff x="3168720" y="5178240"/>
              <a:chExt cx="556920" cy="361440"/>
            </a:xfrm>
          </p:grpSpPr>
          <p:sp>
            <p:nvSpPr>
              <p:cNvPr id="977" name=""/>
              <p:cNvSpPr/>
              <p:nvPr/>
            </p:nvSpPr>
            <p:spPr>
              <a:xfrm>
                <a:off x="320508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8720" y="5178240"/>
                <a:ext cx="4503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"/>
          <p:cNvGrpSpPr/>
          <p:nvPr/>
        </p:nvGrpSpPr>
        <p:grpSpPr>
          <a:xfrm>
            <a:off x="5478840" y="4770000"/>
            <a:ext cx="1264680" cy="894960"/>
            <a:chOff x="5478840" y="4770000"/>
            <a:chExt cx="1264680" cy="894960"/>
          </a:xfrm>
        </p:grpSpPr>
        <p:grpSp>
          <p:nvGrpSpPr>
            <p:cNvPr id="980" name=""/>
            <p:cNvGrpSpPr/>
            <p:nvPr/>
          </p:nvGrpSpPr>
          <p:grpSpPr>
            <a:xfrm>
              <a:off x="5874120" y="4770000"/>
              <a:ext cx="869400" cy="894960"/>
              <a:chOff x="5874120" y="4770000"/>
              <a:chExt cx="869400" cy="894960"/>
            </a:xfrm>
          </p:grpSpPr>
          <p:sp>
            <p:nvSpPr>
              <p:cNvPr id="981" name=""/>
              <p:cNvSpPr/>
              <p:nvPr/>
            </p:nvSpPr>
            <p:spPr>
              <a:xfrm flipH="1">
                <a:off x="602964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39432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33168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10596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20748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610632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5874120" y="4770000"/>
                <a:ext cx="869400" cy="312120"/>
                <a:chOff x="5874120" y="4770000"/>
                <a:chExt cx="869400" cy="312120"/>
              </a:xfrm>
            </p:grpSpPr>
            <p:sp>
              <p:nvSpPr>
                <p:cNvPr id="988" name=""/>
                <p:cNvSpPr/>
                <p:nvPr/>
              </p:nvSpPr>
              <p:spPr>
                <a:xfrm flipH="1" flipV="1">
                  <a:off x="630288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587412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0" name=""/>
            <p:cNvGrpSpPr/>
            <p:nvPr/>
          </p:nvGrpSpPr>
          <p:grpSpPr>
            <a:xfrm>
              <a:off x="5478840" y="5178240"/>
              <a:ext cx="556920" cy="361440"/>
              <a:chOff x="5478840" y="5178240"/>
              <a:chExt cx="556920" cy="361440"/>
            </a:xfrm>
          </p:grpSpPr>
          <p:sp>
            <p:nvSpPr>
              <p:cNvPr id="991" name=""/>
              <p:cNvSpPr/>
              <p:nvPr/>
            </p:nvSpPr>
            <p:spPr>
              <a:xfrm>
                <a:off x="551520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78840" y="5178240"/>
                <a:ext cx="4503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3" name=""/>
          <p:cNvGrpSpPr/>
          <p:nvPr/>
        </p:nvGrpSpPr>
        <p:grpSpPr>
          <a:xfrm>
            <a:off x="4643640" y="2824200"/>
            <a:ext cx="1065600" cy="537840"/>
            <a:chOff x="4643640" y="2824200"/>
            <a:chExt cx="1065600" cy="537840"/>
          </a:xfrm>
        </p:grpSpPr>
        <p:sp>
          <p:nvSpPr>
            <p:cNvPr id="994" name=""/>
            <p:cNvSpPr/>
            <p:nvPr/>
          </p:nvSpPr>
          <p:spPr>
            <a:xfrm rot="10800000">
              <a:off x="5177160" y="28288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rot="10800000">
              <a:off x="4643640" y="28242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5137200" y="3057480"/>
            <a:ext cx="88920" cy="88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253800" y="3638520"/>
            <a:ext cx="2576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del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Feede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Lateral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Distribution/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21480" y="438120"/>
            <a:ext cx="460800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merican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% Aerial / 50% Bu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-service plat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performed by 20% of total Telco work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%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49520" y="2076480"/>
            <a:ext cx="5237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TCab                                         FTTC                                              FT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3429000" y="2536920"/>
            <a:ext cx="2362320" cy="236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6920" y="4229280"/>
            <a:ext cx="1143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STM-1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PT-to-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638680" y="2243160"/>
            <a:ext cx="2416320" cy="1312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638680" y="2854440"/>
            <a:ext cx="2297160" cy="77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634000" y="3462120"/>
            <a:ext cx="2303640" cy="245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34000" y="3780000"/>
            <a:ext cx="236700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14920" y="3855960"/>
            <a:ext cx="2440080" cy="725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29320" y="3932280"/>
            <a:ext cx="2413080" cy="1220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746600" y="355428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647960" y="3630600"/>
            <a:ext cx="990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4746600" y="370692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4746600" y="378288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4647960" y="3859200"/>
            <a:ext cx="990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4746600" y="393552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3124080" y="1449000"/>
            <a:ext cx="1300320" cy="1166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flipV="1">
            <a:off x="3657600" y="1372680"/>
            <a:ext cx="838080" cy="1257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4267080" y="1296720"/>
            <a:ext cx="3002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643280" y="1296720"/>
            <a:ext cx="2336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21400" y="1449360"/>
            <a:ext cx="688680" cy="117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4789440" y="1449000"/>
            <a:ext cx="1230480" cy="1179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1792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494240" y="2612880"/>
            <a:ext cx="0" cy="96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056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4652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22840" y="2612880"/>
            <a:ext cx="0" cy="96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9916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3263760" y="2371680"/>
            <a:ext cx="1274040" cy="12898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2361600" y="2057400"/>
            <a:ext cx="1066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TM-1c 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58920" y="2295360"/>
            <a:ext cx="2246400" cy="1260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1207800" y="2827080"/>
            <a:ext cx="2297160" cy="804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1271520" y="3449160"/>
            <a:ext cx="2238480" cy="2588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1247760" y="3780000"/>
            <a:ext cx="2262240" cy="242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284120" y="3855960"/>
            <a:ext cx="2244960" cy="660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179000" y="3932280"/>
            <a:ext cx="2335320" cy="1208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3505320" y="3554280"/>
            <a:ext cx="990000" cy="380880"/>
            <a:chOff x="3505320" y="3554280"/>
            <a:chExt cx="990000" cy="380880"/>
          </a:xfrm>
        </p:grpSpPr>
        <p:sp>
          <p:nvSpPr>
            <p:cNvPr id="1035" name=""/>
            <p:cNvSpPr/>
            <p:nvPr/>
          </p:nvSpPr>
          <p:spPr>
            <a:xfrm>
              <a:off x="3505320" y="355428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505320" y="3630240"/>
              <a:ext cx="9900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05320" y="370656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05320" y="378288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05320" y="3858840"/>
              <a:ext cx="9900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505320" y="393516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80880" y="2152800"/>
            <a:ext cx="761760" cy="465120"/>
            <a:chOff x="380880" y="2152800"/>
            <a:chExt cx="761760" cy="465120"/>
          </a:xfrm>
        </p:grpSpPr>
        <p:sp>
          <p:nvSpPr>
            <p:cNvPr id="1042" name=""/>
            <p:cNvSpPr/>
            <p:nvPr/>
          </p:nvSpPr>
          <p:spPr>
            <a:xfrm flipH="1">
              <a:off x="380880" y="23893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85440" y="2160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532800" y="21528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80880" y="2685960"/>
            <a:ext cx="761760" cy="465120"/>
            <a:chOff x="380880" y="2685960"/>
            <a:chExt cx="761760" cy="465120"/>
          </a:xfrm>
        </p:grpSpPr>
        <p:sp>
          <p:nvSpPr>
            <p:cNvPr id="1046" name=""/>
            <p:cNvSpPr/>
            <p:nvPr/>
          </p:nvSpPr>
          <p:spPr>
            <a:xfrm flipH="1">
              <a:off x="380880" y="29224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85440" y="2693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32800" y="26859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80880" y="3227400"/>
            <a:ext cx="761760" cy="465120"/>
            <a:chOff x="380880" y="3227400"/>
            <a:chExt cx="761760" cy="465120"/>
          </a:xfrm>
        </p:grpSpPr>
        <p:sp>
          <p:nvSpPr>
            <p:cNvPr id="1050" name=""/>
            <p:cNvSpPr/>
            <p:nvPr/>
          </p:nvSpPr>
          <p:spPr>
            <a:xfrm flipH="1">
              <a:off x="380880" y="34639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85440" y="3235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32800" y="32274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80880" y="3760920"/>
            <a:ext cx="761760" cy="465120"/>
            <a:chOff x="380880" y="3760920"/>
            <a:chExt cx="761760" cy="465120"/>
          </a:xfrm>
        </p:grpSpPr>
        <p:sp>
          <p:nvSpPr>
            <p:cNvPr id="1054" name=""/>
            <p:cNvSpPr/>
            <p:nvPr/>
          </p:nvSpPr>
          <p:spPr>
            <a:xfrm flipH="1">
              <a:off x="380880" y="399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85440" y="376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32800" y="376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80880" y="4286160"/>
            <a:ext cx="761760" cy="465120"/>
            <a:chOff x="380880" y="4286160"/>
            <a:chExt cx="761760" cy="465120"/>
          </a:xfrm>
        </p:grpSpPr>
        <p:sp>
          <p:nvSpPr>
            <p:cNvPr id="1058" name=""/>
            <p:cNvSpPr/>
            <p:nvPr/>
          </p:nvSpPr>
          <p:spPr>
            <a:xfrm flipH="1">
              <a:off x="380880" y="45226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85440" y="429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32800" y="4286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80880" y="4819680"/>
            <a:ext cx="761760" cy="465120"/>
            <a:chOff x="380880" y="4819680"/>
            <a:chExt cx="761760" cy="465120"/>
          </a:xfrm>
        </p:grpSpPr>
        <p:sp>
          <p:nvSpPr>
            <p:cNvPr id="1062" name=""/>
            <p:cNvSpPr/>
            <p:nvPr/>
          </p:nvSpPr>
          <p:spPr>
            <a:xfrm flipH="1">
              <a:off x="380880" y="5056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85440" y="482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32800" y="4819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 flipH="1">
            <a:off x="3124080" y="4776840"/>
            <a:ext cx="1300320" cy="1166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3657600" y="4762440"/>
            <a:ext cx="838080" cy="1257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267080" y="4781520"/>
            <a:ext cx="3002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43280" y="4781520"/>
            <a:ext cx="285840" cy="1182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1400" y="4772160"/>
            <a:ext cx="780840" cy="1144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89440" y="4764240"/>
            <a:ext cx="1204920" cy="1074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419720" y="3811680"/>
            <a:ext cx="380880" cy="966240"/>
            <a:chOff x="4419720" y="3811680"/>
            <a:chExt cx="380880" cy="966240"/>
          </a:xfrm>
        </p:grpSpPr>
        <p:sp>
          <p:nvSpPr>
            <p:cNvPr id="1072" name=""/>
            <p:cNvSpPr/>
            <p:nvPr/>
          </p:nvSpPr>
          <p:spPr>
            <a:xfrm flipV="1">
              <a:off x="441972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4495680" y="3811680"/>
              <a:ext cx="0" cy="966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57200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64832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4724280" y="3811680"/>
              <a:ext cx="0" cy="966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80060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2971440" y="5803920"/>
            <a:ext cx="609480" cy="762120"/>
            <a:chOff x="2971440" y="5803920"/>
            <a:chExt cx="609480" cy="762120"/>
          </a:xfrm>
        </p:grpSpPr>
        <p:sp>
          <p:nvSpPr>
            <p:cNvPr id="1079" name=""/>
            <p:cNvSpPr/>
            <p:nvPr/>
          </p:nvSpPr>
          <p:spPr>
            <a:xfrm flipV="1">
              <a:off x="346536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307080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97108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504960" y="5803920"/>
            <a:ext cx="609480" cy="762120"/>
            <a:chOff x="3504960" y="5803920"/>
            <a:chExt cx="609480" cy="762120"/>
          </a:xfrm>
        </p:grpSpPr>
        <p:sp>
          <p:nvSpPr>
            <p:cNvPr id="1083" name=""/>
            <p:cNvSpPr/>
            <p:nvPr/>
          </p:nvSpPr>
          <p:spPr>
            <a:xfrm flipV="1">
              <a:off x="399888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60432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50460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038480" y="5803920"/>
            <a:ext cx="609840" cy="762120"/>
            <a:chOff x="4038480" y="5803920"/>
            <a:chExt cx="609840" cy="762120"/>
          </a:xfrm>
        </p:grpSpPr>
        <p:sp>
          <p:nvSpPr>
            <p:cNvPr id="1087" name=""/>
            <p:cNvSpPr/>
            <p:nvPr/>
          </p:nvSpPr>
          <p:spPr>
            <a:xfrm flipV="1">
              <a:off x="453240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413856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4038480" y="626112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4571640" y="5803920"/>
            <a:ext cx="609480" cy="762120"/>
            <a:chOff x="4571640" y="5803920"/>
            <a:chExt cx="609480" cy="762120"/>
          </a:xfrm>
        </p:grpSpPr>
        <p:sp>
          <p:nvSpPr>
            <p:cNvPr id="1091" name=""/>
            <p:cNvSpPr/>
            <p:nvPr/>
          </p:nvSpPr>
          <p:spPr>
            <a:xfrm flipV="1">
              <a:off x="506556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67100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457128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105160" y="5803920"/>
            <a:ext cx="609480" cy="762120"/>
            <a:chOff x="5105160" y="5803920"/>
            <a:chExt cx="609480" cy="762120"/>
          </a:xfrm>
        </p:grpSpPr>
        <p:sp>
          <p:nvSpPr>
            <p:cNvPr id="1095" name=""/>
            <p:cNvSpPr/>
            <p:nvPr/>
          </p:nvSpPr>
          <p:spPr>
            <a:xfrm flipV="1">
              <a:off x="559908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20452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10480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638680" y="5803920"/>
            <a:ext cx="609840" cy="762120"/>
            <a:chOff x="5638680" y="5803920"/>
            <a:chExt cx="609840" cy="762120"/>
          </a:xfrm>
        </p:grpSpPr>
        <p:sp>
          <p:nvSpPr>
            <p:cNvPr id="1099" name=""/>
            <p:cNvSpPr/>
            <p:nvPr/>
          </p:nvSpPr>
          <p:spPr>
            <a:xfrm flipV="1">
              <a:off x="613260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73876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638680" y="626112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33894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8954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9225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4282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4560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9618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49896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956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55227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0284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0562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55620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29955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5290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0622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5957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1292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6624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504960" y="4006800"/>
            <a:ext cx="21272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505320" y="4087800"/>
            <a:ext cx="2133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504960" y="3483000"/>
            <a:ext cx="2136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505320" y="3406680"/>
            <a:ext cx="2133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81600" y="2625840"/>
            <a:ext cx="0" cy="2136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625840"/>
            <a:ext cx="0" cy="2136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38720" y="2619360"/>
            <a:ext cx="0" cy="213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257720" y="2619360"/>
            <a:ext cx="0" cy="213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638320" y="1763640"/>
            <a:ext cx="2266920" cy="171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624640" y="1106640"/>
            <a:ext cx="2371680" cy="2292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5624640" y="3998520"/>
            <a:ext cx="2365200" cy="1716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5633640" y="4079520"/>
            <a:ext cx="2306520" cy="2111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05000" y="1782720"/>
            <a:ext cx="2200320" cy="1692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66840" y="1220760"/>
            <a:ext cx="2238480" cy="2182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1266840" y="4008240"/>
            <a:ext cx="2238480" cy="1665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1266840" y="4084560"/>
            <a:ext cx="2252520" cy="21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884840" y="1471680"/>
            <a:ext cx="1627200" cy="1147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41720" y="1511280"/>
            <a:ext cx="2119320" cy="1122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2631960" y="1536480"/>
            <a:ext cx="1704960" cy="1082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2030400" y="1498680"/>
            <a:ext cx="2216160" cy="1130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79800" y="4764240"/>
            <a:ext cx="1697040" cy="1082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56120" y="4759200"/>
            <a:ext cx="2170080" cy="1101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706840" y="4759200"/>
            <a:ext cx="1630080" cy="1096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69720" y="4745160"/>
            <a:ext cx="2081160" cy="1085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2438280" y="5791320"/>
            <a:ext cx="609840" cy="761040"/>
            <a:chOff x="2438280" y="5791320"/>
            <a:chExt cx="609840" cy="761040"/>
          </a:xfrm>
        </p:grpSpPr>
        <p:sp>
          <p:nvSpPr>
            <p:cNvPr id="1145" name=""/>
            <p:cNvSpPr/>
            <p:nvPr/>
          </p:nvSpPr>
          <p:spPr>
            <a:xfrm flipV="1">
              <a:off x="293220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538360" y="5791320"/>
              <a:ext cx="45720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438280" y="624816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904760" y="5791320"/>
            <a:ext cx="609480" cy="761040"/>
            <a:chOff x="1904760" y="5791320"/>
            <a:chExt cx="609480" cy="761040"/>
          </a:xfrm>
        </p:grpSpPr>
        <p:sp>
          <p:nvSpPr>
            <p:cNvPr id="1149" name=""/>
            <p:cNvSpPr/>
            <p:nvPr/>
          </p:nvSpPr>
          <p:spPr>
            <a:xfrm flipV="1">
              <a:off x="239868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200412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190440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6171840" y="5791320"/>
            <a:ext cx="609480" cy="761040"/>
            <a:chOff x="6171840" y="5791320"/>
            <a:chExt cx="609480" cy="761040"/>
          </a:xfrm>
        </p:grpSpPr>
        <p:sp>
          <p:nvSpPr>
            <p:cNvPr id="1153" name=""/>
            <p:cNvSpPr/>
            <p:nvPr/>
          </p:nvSpPr>
          <p:spPr>
            <a:xfrm flipV="1">
              <a:off x="666576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627120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17148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6705360" y="5791320"/>
            <a:ext cx="609480" cy="761040"/>
            <a:chOff x="6705360" y="5791320"/>
            <a:chExt cx="609480" cy="761040"/>
          </a:xfrm>
        </p:grpSpPr>
        <p:sp>
          <p:nvSpPr>
            <p:cNvPr id="1157" name=""/>
            <p:cNvSpPr/>
            <p:nvPr/>
          </p:nvSpPr>
          <p:spPr>
            <a:xfrm flipV="1">
              <a:off x="719928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0472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70500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80880" y="5334120"/>
            <a:ext cx="761760" cy="465120"/>
            <a:chOff x="380880" y="5334120"/>
            <a:chExt cx="761760" cy="465120"/>
          </a:xfrm>
        </p:grpSpPr>
        <p:sp>
          <p:nvSpPr>
            <p:cNvPr id="1161" name=""/>
            <p:cNvSpPr/>
            <p:nvPr/>
          </p:nvSpPr>
          <p:spPr>
            <a:xfrm flipH="1">
              <a:off x="380880" y="55706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5440" y="53420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532800" y="5334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380880" y="5867280"/>
            <a:ext cx="761760" cy="465120"/>
            <a:chOff x="380880" y="5867280"/>
            <a:chExt cx="761760" cy="465120"/>
          </a:xfrm>
        </p:grpSpPr>
        <p:sp>
          <p:nvSpPr>
            <p:cNvPr id="1165" name=""/>
            <p:cNvSpPr/>
            <p:nvPr/>
          </p:nvSpPr>
          <p:spPr>
            <a:xfrm flipH="1">
              <a:off x="380880" y="61038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85440" y="5875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532800" y="58672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80880" y="1600200"/>
            <a:ext cx="761760" cy="465120"/>
            <a:chOff x="380880" y="1600200"/>
            <a:chExt cx="761760" cy="465120"/>
          </a:xfrm>
        </p:grpSpPr>
        <p:sp>
          <p:nvSpPr>
            <p:cNvPr id="1169" name=""/>
            <p:cNvSpPr/>
            <p:nvPr/>
          </p:nvSpPr>
          <p:spPr>
            <a:xfrm flipH="1">
              <a:off x="380880" y="18367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8544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32800" y="16002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80880" y="1066680"/>
            <a:ext cx="761760" cy="465120"/>
            <a:chOff x="380880" y="1066680"/>
            <a:chExt cx="761760" cy="465120"/>
          </a:xfrm>
        </p:grpSpPr>
        <p:sp>
          <p:nvSpPr>
            <p:cNvPr id="1173" name=""/>
            <p:cNvSpPr/>
            <p:nvPr/>
          </p:nvSpPr>
          <p:spPr>
            <a:xfrm flipH="1">
              <a:off x="380880" y="1303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8544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32800" y="1066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848720" y="2152800"/>
            <a:ext cx="990360" cy="465120"/>
            <a:chOff x="7848720" y="2152800"/>
            <a:chExt cx="990360" cy="465120"/>
          </a:xfrm>
        </p:grpSpPr>
        <p:sp>
          <p:nvSpPr>
            <p:cNvPr id="1177" name=""/>
            <p:cNvSpPr/>
            <p:nvPr/>
          </p:nvSpPr>
          <p:spPr>
            <a:xfrm>
              <a:off x="8153280" y="23893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848720" y="2160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29600" y="21528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848720" y="2685960"/>
            <a:ext cx="990360" cy="465120"/>
            <a:chOff x="7848720" y="2685960"/>
            <a:chExt cx="990360" cy="465120"/>
          </a:xfrm>
        </p:grpSpPr>
        <p:sp>
          <p:nvSpPr>
            <p:cNvPr id="1181" name=""/>
            <p:cNvSpPr/>
            <p:nvPr/>
          </p:nvSpPr>
          <p:spPr>
            <a:xfrm>
              <a:off x="8153280" y="29224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48720" y="2693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9600" y="26859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848720" y="3227400"/>
            <a:ext cx="990360" cy="465120"/>
            <a:chOff x="7848720" y="3227400"/>
            <a:chExt cx="990360" cy="465120"/>
          </a:xfrm>
        </p:grpSpPr>
        <p:sp>
          <p:nvSpPr>
            <p:cNvPr id="1185" name=""/>
            <p:cNvSpPr/>
            <p:nvPr/>
          </p:nvSpPr>
          <p:spPr>
            <a:xfrm>
              <a:off x="8153280" y="34639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48720" y="3235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29600" y="32274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7848720" y="3760920"/>
            <a:ext cx="990360" cy="465120"/>
            <a:chOff x="7848720" y="3760920"/>
            <a:chExt cx="990360" cy="465120"/>
          </a:xfrm>
        </p:grpSpPr>
        <p:sp>
          <p:nvSpPr>
            <p:cNvPr id="1189" name=""/>
            <p:cNvSpPr/>
            <p:nvPr/>
          </p:nvSpPr>
          <p:spPr>
            <a:xfrm>
              <a:off x="8153280" y="399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848720" y="376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29600" y="376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848720" y="4286160"/>
            <a:ext cx="990360" cy="465120"/>
            <a:chOff x="7848720" y="4286160"/>
            <a:chExt cx="990360" cy="465120"/>
          </a:xfrm>
        </p:grpSpPr>
        <p:sp>
          <p:nvSpPr>
            <p:cNvPr id="1193" name=""/>
            <p:cNvSpPr/>
            <p:nvPr/>
          </p:nvSpPr>
          <p:spPr>
            <a:xfrm>
              <a:off x="8153280" y="45226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8720" y="429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29600" y="4286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848720" y="4819680"/>
            <a:ext cx="990360" cy="465120"/>
            <a:chOff x="7848720" y="4819680"/>
            <a:chExt cx="990360" cy="465120"/>
          </a:xfrm>
        </p:grpSpPr>
        <p:sp>
          <p:nvSpPr>
            <p:cNvPr id="1197" name=""/>
            <p:cNvSpPr/>
            <p:nvPr/>
          </p:nvSpPr>
          <p:spPr>
            <a:xfrm>
              <a:off x="8153280" y="5056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848720" y="482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29600" y="4819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848720" y="5334120"/>
            <a:ext cx="990360" cy="465120"/>
            <a:chOff x="7848720" y="5334120"/>
            <a:chExt cx="990360" cy="465120"/>
          </a:xfrm>
        </p:grpSpPr>
        <p:sp>
          <p:nvSpPr>
            <p:cNvPr id="1201" name=""/>
            <p:cNvSpPr/>
            <p:nvPr/>
          </p:nvSpPr>
          <p:spPr>
            <a:xfrm>
              <a:off x="8153280" y="55706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48720" y="53420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229600" y="5334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7848720" y="5867280"/>
            <a:ext cx="990360" cy="465120"/>
            <a:chOff x="7848720" y="5867280"/>
            <a:chExt cx="990360" cy="465120"/>
          </a:xfrm>
        </p:grpSpPr>
        <p:sp>
          <p:nvSpPr>
            <p:cNvPr id="1205" name=""/>
            <p:cNvSpPr/>
            <p:nvPr/>
          </p:nvSpPr>
          <p:spPr>
            <a:xfrm>
              <a:off x="8153280" y="61038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848720" y="5875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29600" y="58672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848720" y="1600200"/>
            <a:ext cx="990360" cy="465120"/>
            <a:chOff x="7848720" y="1600200"/>
            <a:chExt cx="990360" cy="465120"/>
          </a:xfrm>
        </p:grpSpPr>
        <p:sp>
          <p:nvSpPr>
            <p:cNvPr id="1209" name=""/>
            <p:cNvSpPr/>
            <p:nvPr/>
          </p:nvSpPr>
          <p:spPr>
            <a:xfrm>
              <a:off x="8153280" y="18367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4872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229600" y="16002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7848720" y="1066680"/>
            <a:ext cx="990360" cy="465120"/>
            <a:chOff x="7848720" y="1066680"/>
            <a:chExt cx="990360" cy="465120"/>
          </a:xfrm>
        </p:grpSpPr>
        <p:sp>
          <p:nvSpPr>
            <p:cNvPr id="1213" name=""/>
            <p:cNvSpPr/>
            <p:nvPr/>
          </p:nvSpPr>
          <p:spPr>
            <a:xfrm>
              <a:off x="8153280" y="1303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4872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229600" y="1066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 flipV="1">
            <a:off x="65898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0958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61959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229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6286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7294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8558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3616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4620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3223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8280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19288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218120" y="3352680"/>
            <a:ext cx="768240" cy="768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320" y="88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ON’s Ro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Yesterday’s Backhau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3429000" y="2523960"/>
            <a:ext cx="2362320" cy="236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077320" y="238284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5424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153280" y="214632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7772400" y="2679840"/>
            <a:ext cx="990360" cy="465120"/>
            <a:chOff x="7772400" y="2679840"/>
            <a:chExt cx="990360" cy="465120"/>
          </a:xfrm>
        </p:grpSpPr>
        <p:sp>
          <p:nvSpPr>
            <p:cNvPr id="1235" name=""/>
            <p:cNvSpPr/>
            <p:nvPr/>
          </p:nvSpPr>
          <p:spPr>
            <a:xfrm>
              <a:off x="8076960" y="29163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72400" y="26877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153280" y="26798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772400" y="3220920"/>
            <a:ext cx="990360" cy="465120"/>
            <a:chOff x="7772400" y="3220920"/>
            <a:chExt cx="990360" cy="465120"/>
          </a:xfrm>
        </p:grpSpPr>
        <p:sp>
          <p:nvSpPr>
            <p:cNvPr id="1239" name=""/>
            <p:cNvSpPr/>
            <p:nvPr/>
          </p:nvSpPr>
          <p:spPr>
            <a:xfrm>
              <a:off x="8076960" y="345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72400" y="322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53280" y="322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7772400" y="3754440"/>
            <a:ext cx="990360" cy="465120"/>
            <a:chOff x="7772400" y="3754440"/>
            <a:chExt cx="990360" cy="465120"/>
          </a:xfrm>
        </p:grpSpPr>
        <p:sp>
          <p:nvSpPr>
            <p:cNvPr id="1243" name=""/>
            <p:cNvSpPr/>
            <p:nvPr/>
          </p:nvSpPr>
          <p:spPr>
            <a:xfrm>
              <a:off x="8076960" y="39909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72400" y="3762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53280" y="37544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7772400" y="4280040"/>
            <a:ext cx="990360" cy="465120"/>
            <a:chOff x="7772400" y="4280040"/>
            <a:chExt cx="990360" cy="465120"/>
          </a:xfrm>
        </p:grpSpPr>
        <p:sp>
          <p:nvSpPr>
            <p:cNvPr id="1247" name=""/>
            <p:cNvSpPr/>
            <p:nvPr/>
          </p:nvSpPr>
          <p:spPr>
            <a:xfrm>
              <a:off x="8076960" y="45165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72400" y="42879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53280" y="42800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 flipV="1">
            <a:off x="33894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9225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445608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49896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5227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056280" y="76212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9955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352908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406224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5957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512928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566244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171240" y="2292840"/>
            <a:ext cx="1365840" cy="13683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285280" y="1981080"/>
            <a:ext cx="1143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TM-1c 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84600" y="2266920"/>
            <a:ext cx="0" cy="286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228240" y="2158920"/>
            <a:ext cx="991080" cy="465120"/>
            <a:chOff x="228240" y="2158920"/>
            <a:chExt cx="991080" cy="465120"/>
          </a:xfrm>
        </p:grpSpPr>
        <p:grpSp>
          <p:nvGrpSpPr>
            <p:cNvPr id="1266" name=""/>
            <p:cNvGrpSpPr/>
            <p:nvPr/>
          </p:nvGrpSpPr>
          <p:grpSpPr>
            <a:xfrm>
              <a:off x="228240" y="2158920"/>
              <a:ext cx="686160" cy="261360"/>
              <a:chOff x="228240" y="2158920"/>
              <a:chExt cx="686160" cy="261360"/>
            </a:xfrm>
          </p:grpSpPr>
          <p:sp>
            <p:nvSpPr>
              <p:cNvPr id="1267" name=""/>
              <p:cNvSpPr/>
              <p:nvPr/>
            </p:nvSpPr>
            <p:spPr>
              <a:xfrm flipH="1">
                <a:off x="457200" y="239544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227880" y="215892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 flipH="1">
              <a:off x="762120" y="2166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1582560" y="2295360"/>
            <a:ext cx="381240" cy="1400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080" y="3684600"/>
            <a:ext cx="52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76440" y="2844720"/>
            <a:ext cx="37476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582560" y="3429000"/>
            <a:ext cx="374760" cy="266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595520" y="3701880"/>
            <a:ext cx="349200" cy="298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620720" y="3701520"/>
            <a:ext cx="330480" cy="79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614600" y="3683160"/>
            <a:ext cx="345960" cy="1390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6200000">
            <a:off x="1325520" y="2319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rot="16200000">
            <a:off x="1325520" y="28555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rot="16200000">
            <a:off x="1325520" y="33922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rot="16200000">
            <a:off x="1325520" y="3928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16200000">
            <a:off x="1325160" y="445284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1325520" y="498600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17840" y="3438360"/>
            <a:ext cx="533520" cy="533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7261200" y="2279520"/>
            <a:ext cx="371520" cy="139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264080" y="2828880"/>
            <a:ext cx="37476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7257600" y="3413160"/>
            <a:ext cx="374760" cy="266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7270920" y="3685680"/>
            <a:ext cx="349200" cy="29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7264080" y="3685680"/>
            <a:ext cx="330120" cy="79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 flipV="1">
            <a:off x="7245360" y="3666600"/>
            <a:ext cx="355680" cy="139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2400" y="4821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153280" y="4813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594320" y="1739880"/>
            <a:ext cx="1311120" cy="507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578120" y="1752480"/>
            <a:ext cx="793800" cy="501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584600" y="1752480"/>
            <a:ext cx="21600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286160" y="1746360"/>
            <a:ext cx="298440" cy="501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753000" y="1739880"/>
            <a:ext cx="819000" cy="51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06880" y="1739880"/>
            <a:ext cx="1377720" cy="527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4581000" y="5136840"/>
            <a:ext cx="1327320" cy="51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 flipV="1">
            <a:off x="4575240" y="5136840"/>
            <a:ext cx="799920" cy="501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 flipV="1">
            <a:off x="4587840" y="5162040"/>
            <a:ext cx="21600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289400" y="5162040"/>
            <a:ext cx="298440" cy="482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755880" y="5162040"/>
            <a:ext cx="825480" cy="489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209760" y="5156280"/>
            <a:ext cx="1365480" cy="495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99736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4024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6728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0692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14044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673600" y="56260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3720" y="3657600"/>
            <a:ext cx="1371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622MB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592280" y="1681200"/>
            <a:ext cx="376200" cy="2019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22520" y="1136520"/>
            <a:ext cx="361800" cy="256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592280" y="3710160"/>
            <a:ext cx="369720" cy="200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595520" y="3695760"/>
            <a:ext cx="387360" cy="254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1317240" y="550692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1317240" y="60958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1317240" y="176040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1338120" y="121860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2564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46384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3032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73092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153280" y="5326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153280" y="585936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153280" y="1600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53280" y="105876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7251480" y="1741320"/>
            <a:ext cx="344520" cy="1924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7241760" y="1155600"/>
            <a:ext cx="352440" cy="250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238880" y="3683160"/>
            <a:ext cx="371520" cy="1866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7229520" y="3695400"/>
            <a:ext cx="365040" cy="254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212960" y="3641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85588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246204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23223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192888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65898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61959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71229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1828440" y="762120"/>
            <a:ext cx="5410080" cy="308520"/>
            <a:chOff x="1828440" y="762120"/>
            <a:chExt cx="5410080" cy="308520"/>
          </a:xfrm>
        </p:grpSpPr>
        <p:sp>
          <p:nvSpPr>
            <p:cNvPr id="1341" name=""/>
            <p:cNvSpPr/>
            <p:nvPr/>
          </p:nvSpPr>
          <p:spPr>
            <a:xfrm flipH="1">
              <a:off x="2895480" y="77472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42828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96180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4495680" y="77472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02848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56200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236160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182808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6095880" y="77616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2868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H="1">
            <a:off x="672948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665440" y="1722600"/>
            <a:ext cx="1876320" cy="53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025720" y="1709640"/>
            <a:ext cx="2527200" cy="567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573440" y="1739520"/>
            <a:ext cx="1874880" cy="531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572000" y="1739520"/>
            <a:ext cx="2451240" cy="54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54356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941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3700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0368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707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460600" y="1606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927080" y="16066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945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727680" y="16066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4564080" y="5133600"/>
            <a:ext cx="1928880" cy="53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4589640" y="5127120"/>
            <a:ext cx="2503440" cy="54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573280" y="5144760"/>
            <a:ext cx="1997280" cy="515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011320" y="5125680"/>
            <a:ext cx="2571840" cy="547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546440" y="51048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077320" y="182880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77320" y="12952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077320" y="556272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77320" y="60958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772400" y="5334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772400" y="58672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772400" y="1608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72400" y="10666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rot="16200000">
            <a:off x="7435800" y="23032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rot="16200000">
            <a:off x="7435800" y="2839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rot="16200000">
            <a:off x="7435800" y="33764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16200000">
            <a:off x="7435800" y="39128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6200000">
            <a:off x="7435800" y="44366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rot="16200000">
            <a:off x="7435800" y="497016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6200000">
            <a:off x="7435800" y="548280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7435800" y="60163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16200000">
            <a:off x="7435800" y="175716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16200000">
            <a:off x="7435800" y="12157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28240" y="1600200"/>
            <a:ext cx="991080" cy="465120"/>
            <a:chOff x="228240" y="1600200"/>
            <a:chExt cx="991080" cy="465120"/>
          </a:xfrm>
        </p:grpSpPr>
        <p:grpSp>
          <p:nvGrpSpPr>
            <p:cNvPr id="1391" name=""/>
            <p:cNvGrpSpPr/>
            <p:nvPr/>
          </p:nvGrpSpPr>
          <p:grpSpPr>
            <a:xfrm>
              <a:off x="228240" y="1600200"/>
              <a:ext cx="686160" cy="261360"/>
              <a:chOff x="228240" y="1600200"/>
              <a:chExt cx="686160" cy="261360"/>
            </a:xfrm>
          </p:grpSpPr>
          <p:sp>
            <p:nvSpPr>
              <p:cNvPr id="1392" name=""/>
              <p:cNvSpPr/>
              <p:nvPr/>
            </p:nvSpPr>
            <p:spPr>
              <a:xfrm flipH="1">
                <a:off x="457200" y="183672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27880" y="160020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 flipH="1">
              <a:off x="76212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28240" y="1066680"/>
            <a:ext cx="991080" cy="465120"/>
            <a:chOff x="228240" y="1066680"/>
            <a:chExt cx="991080" cy="465120"/>
          </a:xfrm>
        </p:grpSpPr>
        <p:grpSp>
          <p:nvGrpSpPr>
            <p:cNvPr id="1396" name=""/>
            <p:cNvGrpSpPr/>
            <p:nvPr/>
          </p:nvGrpSpPr>
          <p:grpSpPr>
            <a:xfrm>
              <a:off x="228240" y="1066680"/>
              <a:ext cx="686160" cy="261360"/>
              <a:chOff x="228240" y="1066680"/>
              <a:chExt cx="686160" cy="26136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457200" y="130320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27880" y="106668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 flipH="1">
              <a:off x="76212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228240" y="3801960"/>
            <a:ext cx="991080" cy="465120"/>
            <a:chOff x="228240" y="3801960"/>
            <a:chExt cx="991080" cy="465120"/>
          </a:xfrm>
        </p:grpSpPr>
        <p:grpSp>
          <p:nvGrpSpPr>
            <p:cNvPr id="1401" name=""/>
            <p:cNvGrpSpPr/>
            <p:nvPr/>
          </p:nvGrpSpPr>
          <p:grpSpPr>
            <a:xfrm>
              <a:off x="228240" y="3801960"/>
              <a:ext cx="686160" cy="261360"/>
              <a:chOff x="228240" y="3801960"/>
              <a:chExt cx="686160" cy="261360"/>
            </a:xfrm>
          </p:grpSpPr>
          <p:sp>
            <p:nvSpPr>
              <p:cNvPr id="1402" name=""/>
              <p:cNvSpPr/>
              <p:nvPr/>
            </p:nvSpPr>
            <p:spPr>
              <a:xfrm flipH="1">
                <a:off x="457200" y="403848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227880" y="38019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flipH="1">
              <a:off x="762120" y="3809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28240" y="3243240"/>
            <a:ext cx="991080" cy="465120"/>
            <a:chOff x="228240" y="3243240"/>
            <a:chExt cx="991080" cy="465120"/>
          </a:xfrm>
        </p:grpSpPr>
        <p:grpSp>
          <p:nvGrpSpPr>
            <p:cNvPr id="1406" name=""/>
            <p:cNvGrpSpPr/>
            <p:nvPr/>
          </p:nvGrpSpPr>
          <p:grpSpPr>
            <a:xfrm>
              <a:off x="228240" y="3243240"/>
              <a:ext cx="686160" cy="261360"/>
              <a:chOff x="228240" y="3243240"/>
              <a:chExt cx="686160" cy="261360"/>
            </a:xfrm>
          </p:grpSpPr>
          <p:sp>
            <p:nvSpPr>
              <p:cNvPr id="1407" name=""/>
              <p:cNvSpPr/>
              <p:nvPr/>
            </p:nvSpPr>
            <p:spPr>
              <a:xfrm flipH="1">
                <a:off x="457200" y="34797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227880" y="32432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9" name=""/>
            <p:cNvSpPr/>
            <p:nvPr/>
          </p:nvSpPr>
          <p:spPr>
            <a:xfrm flipH="1">
              <a:off x="762120" y="32511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228240" y="2709720"/>
            <a:ext cx="991080" cy="465120"/>
            <a:chOff x="228240" y="2709720"/>
            <a:chExt cx="991080" cy="465120"/>
          </a:xfrm>
        </p:grpSpPr>
        <p:grpSp>
          <p:nvGrpSpPr>
            <p:cNvPr id="1411" name=""/>
            <p:cNvGrpSpPr/>
            <p:nvPr/>
          </p:nvGrpSpPr>
          <p:grpSpPr>
            <a:xfrm>
              <a:off x="228240" y="2709720"/>
              <a:ext cx="686160" cy="261360"/>
              <a:chOff x="228240" y="2709720"/>
              <a:chExt cx="686160" cy="261360"/>
            </a:xfrm>
          </p:grpSpPr>
          <p:sp>
            <p:nvSpPr>
              <p:cNvPr id="1412" name=""/>
              <p:cNvSpPr/>
              <p:nvPr/>
            </p:nvSpPr>
            <p:spPr>
              <a:xfrm flipH="1">
                <a:off x="457200" y="294624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27880" y="270972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 flipH="1">
              <a:off x="762120" y="27176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228240" y="4292640"/>
            <a:ext cx="991080" cy="465120"/>
            <a:chOff x="228240" y="4292640"/>
            <a:chExt cx="991080" cy="465120"/>
          </a:xfrm>
        </p:grpSpPr>
        <p:grpSp>
          <p:nvGrpSpPr>
            <p:cNvPr id="1416" name=""/>
            <p:cNvGrpSpPr/>
            <p:nvPr/>
          </p:nvGrpSpPr>
          <p:grpSpPr>
            <a:xfrm>
              <a:off x="228240" y="4292640"/>
              <a:ext cx="686160" cy="261360"/>
              <a:chOff x="228240" y="4292640"/>
              <a:chExt cx="686160" cy="261360"/>
            </a:xfrm>
          </p:grpSpPr>
          <p:sp>
            <p:nvSpPr>
              <p:cNvPr id="1417" name=""/>
              <p:cNvSpPr/>
              <p:nvPr/>
            </p:nvSpPr>
            <p:spPr>
              <a:xfrm flipH="1">
                <a:off x="457200" y="45291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227880" y="42926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 flipH="1">
              <a:off x="762120" y="43005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228240" y="5935680"/>
            <a:ext cx="991080" cy="465120"/>
            <a:chOff x="228240" y="5935680"/>
            <a:chExt cx="991080" cy="465120"/>
          </a:xfrm>
        </p:grpSpPr>
        <p:grpSp>
          <p:nvGrpSpPr>
            <p:cNvPr id="1421" name=""/>
            <p:cNvGrpSpPr/>
            <p:nvPr/>
          </p:nvGrpSpPr>
          <p:grpSpPr>
            <a:xfrm>
              <a:off x="228240" y="5935680"/>
              <a:ext cx="686160" cy="261360"/>
              <a:chOff x="228240" y="5935680"/>
              <a:chExt cx="686160" cy="261360"/>
            </a:xfrm>
          </p:grpSpPr>
          <p:sp>
            <p:nvSpPr>
              <p:cNvPr id="1422" name=""/>
              <p:cNvSpPr/>
              <p:nvPr/>
            </p:nvSpPr>
            <p:spPr>
              <a:xfrm flipH="1">
                <a:off x="457200" y="617220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227880" y="593568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flipH="1">
              <a:off x="762120" y="5943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28240" y="5376960"/>
            <a:ext cx="991080" cy="465120"/>
            <a:chOff x="228240" y="5376960"/>
            <a:chExt cx="991080" cy="465120"/>
          </a:xfrm>
        </p:grpSpPr>
        <p:grpSp>
          <p:nvGrpSpPr>
            <p:cNvPr id="1426" name=""/>
            <p:cNvGrpSpPr/>
            <p:nvPr/>
          </p:nvGrpSpPr>
          <p:grpSpPr>
            <a:xfrm>
              <a:off x="228240" y="5376960"/>
              <a:ext cx="686160" cy="261360"/>
              <a:chOff x="228240" y="5376960"/>
              <a:chExt cx="686160" cy="261360"/>
            </a:xfrm>
          </p:grpSpPr>
          <p:sp>
            <p:nvSpPr>
              <p:cNvPr id="1427" name=""/>
              <p:cNvSpPr/>
              <p:nvPr/>
            </p:nvSpPr>
            <p:spPr>
              <a:xfrm flipH="1">
                <a:off x="457200" y="561348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227880" y="53769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 flipH="1">
              <a:off x="762120" y="5384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228240" y="4843440"/>
            <a:ext cx="991080" cy="465120"/>
            <a:chOff x="228240" y="4843440"/>
            <a:chExt cx="991080" cy="465120"/>
          </a:xfrm>
        </p:grpSpPr>
        <p:grpSp>
          <p:nvGrpSpPr>
            <p:cNvPr id="1431" name=""/>
            <p:cNvGrpSpPr/>
            <p:nvPr/>
          </p:nvGrpSpPr>
          <p:grpSpPr>
            <a:xfrm>
              <a:off x="228240" y="4843440"/>
              <a:ext cx="686160" cy="261360"/>
              <a:chOff x="228240" y="4843440"/>
              <a:chExt cx="686160" cy="261360"/>
            </a:xfrm>
          </p:grpSpPr>
          <p:sp>
            <p:nvSpPr>
              <p:cNvPr id="1432" name=""/>
              <p:cNvSpPr/>
              <p:nvPr/>
            </p:nvSpPr>
            <p:spPr>
              <a:xfrm flipH="1">
                <a:off x="457200" y="50799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227880" y="48434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 flipH="1">
              <a:off x="762120" y="4851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5562360" y="5803920"/>
            <a:ext cx="609480" cy="749160"/>
            <a:chOff x="5562360" y="5803920"/>
            <a:chExt cx="609480" cy="749160"/>
          </a:xfrm>
        </p:grpSpPr>
        <p:sp>
          <p:nvSpPr>
            <p:cNvPr id="1436" name=""/>
            <p:cNvSpPr/>
            <p:nvPr/>
          </p:nvSpPr>
          <p:spPr>
            <a:xfrm flipH="1">
              <a:off x="56624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5562360" y="6095880"/>
              <a:ext cx="609480" cy="457200"/>
              <a:chOff x="5562360" y="6095880"/>
              <a:chExt cx="609480" cy="45720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60562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55620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0" name=""/>
          <p:cNvGrpSpPr/>
          <p:nvPr/>
        </p:nvGrpSpPr>
        <p:grpSpPr>
          <a:xfrm>
            <a:off x="6095520" y="5803920"/>
            <a:ext cx="609480" cy="749160"/>
            <a:chOff x="6095520" y="5803920"/>
            <a:chExt cx="609480" cy="749160"/>
          </a:xfrm>
        </p:grpSpPr>
        <p:sp>
          <p:nvSpPr>
            <p:cNvPr id="1441" name=""/>
            <p:cNvSpPr/>
            <p:nvPr/>
          </p:nvSpPr>
          <p:spPr>
            <a:xfrm flipH="1">
              <a:off x="61956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6095520" y="6095880"/>
              <a:ext cx="609480" cy="457200"/>
              <a:chOff x="6095520" y="6095880"/>
              <a:chExt cx="609480" cy="457200"/>
            </a:xfrm>
          </p:grpSpPr>
          <p:sp>
            <p:nvSpPr>
              <p:cNvPr id="1443" name=""/>
              <p:cNvSpPr/>
              <p:nvPr/>
            </p:nvSpPr>
            <p:spPr>
              <a:xfrm flipV="1">
                <a:off x="65894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60951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5" name=""/>
          <p:cNvGrpSpPr/>
          <p:nvPr/>
        </p:nvGrpSpPr>
        <p:grpSpPr>
          <a:xfrm>
            <a:off x="6629040" y="5803920"/>
            <a:ext cx="609480" cy="749160"/>
            <a:chOff x="6629040" y="5803920"/>
            <a:chExt cx="609480" cy="749160"/>
          </a:xfrm>
        </p:grpSpPr>
        <p:sp>
          <p:nvSpPr>
            <p:cNvPr id="1446" name=""/>
            <p:cNvSpPr/>
            <p:nvPr/>
          </p:nvSpPr>
          <p:spPr>
            <a:xfrm flipH="1">
              <a:off x="67291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6629040" y="6095880"/>
              <a:ext cx="609480" cy="457200"/>
              <a:chOff x="6629040" y="6095880"/>
              <a:chExt cx="609480" cy="457200"/>
            </a:xfrm>
          </p:grpSpPr>
          <p:sp>
            <p:nvSpPr>
              <p:cNvPr id="1448" name=""/>
              <p:cNvSpPr/>
              <p:nvPr/>
            </p:nvSpPr>
            <p:spPr>
              <a:xfrm flipV="1">
                <a:off x="71229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66286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3962160" y="5803920"/>
            <a:ext cx="609480" cy="749160"/>
            <a:chOff x="3962160" y="5803920"/>
            <a:chExt cx="609480" cy="749160"/>
          </a:xfrm>
        </p:grpSpPr>
        <p:sp>
          <p:nvSpPr>
            <p:cNvPr id="1451" name=""/>
            <p:cNvSpPr/>
            <p:nvPr/>
          </p:nvSpPr>
          <p:spPr>
            <a:xfrm flipH="1">
              <a:off x="40622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3962160" y="6095880"/>
              <a:ext cx="609480" cy="457200"/>
              <a:chOff x="3962160" y="6095880"/>
              <a:chExt cx="609480" cy="457200"/>
            </a:xfrm>
          </p:grpSpPr>
          <p:sp>
            <p:nvSpPr>
              <p:cNvPr id="1453" name=""/>
              <p:cNvSpPr/>
              <p:nvPr/>
            </p:nvSpPr>
            <p:spPr>
              <a:xfrm flipV="1">
                <a:off x="44560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9618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5" name=""/>
          <p:cNvGrpSpPr/>
          <p:nvPr/>
        </p:nvGrpSpPr>
        <p:grpSpPr>
          <a:xfrm>
            <a:off x="4495320" y="5803920"/>
            <a:ext cx="609480" cy="749160"/>
            <a:chOff x="4495320" y="5803920"/>
            <a:chExt cx="609480" cy="749160"/>
          </a:xfrm>
        </p:grpSpPr>
        <p:sp>
          <p:nvSpPr>
            <p:cNvPr id="1456" name=""/>
            <p:cNvSpPr/>
            <p:nvPr/>
          </p:nvSpPr>
          <p:spPr>
            <a:xfrm flipH="1">
              <a:off x="45954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4495320" y="6095880"/>
              <a:ext cx="609480" cy="457200"/>
              <a:chOff x="4495320" y="6095880"/>
              <a:chExt cx="609480" cy="457200"/>
            </a:xfrm>
          </p:grpSpPr>
          <p:sp>
            <p:nvSpPr>
              <p:cNvPr id="1458" name=""/>
              <p:cNvSpPr/>
              <p:nvPr/>
            </p:nvSpPr>
            <p:spPr>
              <a:xfrm flipV="1">
                <a:off x="49892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44949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5028840" y="5803920"/>
            <a:ext cx="609480" cy="749160"/>
            <a:chOff x="5028840" y="5803920"/>
            <a:chExt cx="609480" cy="749160"/>
          </a:xfrm>
        </p:grpSpPr>
        <p:sp>
          <p:nvSpPr>
            <p:cNvPr id="1461" name=""/>
            <p:cNvSpPr/>
            <p:nvPr/>
          </p:nvSpPr>
          <p:spPr>
            <a:xfrm flipH="1">
              <a:off x="51289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5028840" y="6095880"/>
              <a:ext cx="609480" cy="457200"/>
              <a:chOff x="5028840" y="6095880"/>
              <a:chExt cx="609480" cy="457200"/>
            </a:xfrm>
          </p:grpSpPr>
          <p:sp>
            <p:nvSpPr>
              <p:cNvPr id="1463" name=""/>
              <p:cNvSpPr/>
              <p:nvPr/>
            </p:nvSpPr>
            <p:spPr>
              <a:xfrm flipV="1">
                <a:off x="55227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50284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2361960" y="5803920"/>
            <a:ext cx="609480" cy="749160"/>
            <a:chOff x="2361960" y="5803920"/>
            <a:chExt cx="609480" cy="749160"/>
          </a:xfrm>
        </p:grpSpPr>
        <p:sp>
          <p:nvSpPr>
            <p:cNvPr id="1466" name=""/>
            <p:cNvSpPr/>
            <p:nvPr/>
          </p:nvSpPr>
          <p:spPr>
            <a:xfrm flipH="1">
              <a:off x="24620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2361960" y="6095880"/>
              <a:ext cx="609480" cy="457200"/>
              <a:chOff x="2361960" y="6095880"/>
              <a:chExt cx="609480" cy="457200"/>
            </a:xfrm>
          </p:grpSpPr>
          <p:sp>
            <p:nvSpPr>
              <p:cNvPr id="1468" name=""/>
              <p:cNvSpPr/>
              <p:nvPr/>
            </p:nvSpPr>
            <p:spPr>
              <a:xfrm flipV="1">
                <a:off x="28558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23616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0" name=""/>
          <p:cNvGrpSpPr/>
          <p:nvPr/>
        </p:nvGrpSpPr>
        <p:grpSpPr>
          <a:xfrm>
            <a:off x="2895120" y="5803920"/>
            <a:ext cx="609480" cy="749160"/>
            <a:chOff x="2895120" y="5803920"/>
            <a:chExt cx="609480" cy="749160"/>
          </a:xfrm>
        </p:grpSpPr>
        <p:sp>
          <p:nvSpPr>
            <p:cNvPr id="1471" name=""/>
            <p:cNvSpPr/>
            <p:nvPr/>
          </p:nvSpPr>
          <p:spPr>
            <a:xfrm flipH="1">
              <a:off x="29952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2895120" y="6095880"/>
              <a:ext cx="609480" cy="457200"/>
              <a:chOff x="2895120" y="6095880"/>
              <a:chExt cx="609480" cy="457200"/>
            </a:xfrm>
          </p:grpSpPr>
          <p:sp>
            <p:nvSpPr>
              <p:cNvPr id="1473" name=""/>
              <p:cNvSpPr/>
              <p:nvPr/>
            </p:nvSpPr>
            <p:spPr>
              <a:xfrm flipV="1">
                <a:off x="33890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28947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3428640" y="5803920"/>
            <a:ext cx="609480" cy="749160"/>
            <a:chOff x="3428640" y="5803920"/>
            <a:chExt cx="609480" cy="749160"/>
          </a:xfrm>
        </p:grpSpPr>
        <p:sp>
          <p:nvSpPr>
            <p:cNvPr id="1476" name=""/>
            <p:cNvSpPr/>
            <p:nvPr/>
          </p:nvSpPr>
          <p:spPr>
            <a:xfrm flipH="1">
              <a:off x="35287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3428640" y="6095880"/>
              <a:ext cx="609480" cy="457200"/>
              <a:chOff x="3428640" y="6095880"/>
              <a:chExt cx="609480" cy="457200"/>
            </a:xfrm>
          </p:grpSpPr>
          <p:sp>
            <p:nvSpPr>
              <p:cNvPr id="1478" name=""/>
              <p:cNvSpPr/>
              <p:nvPr/>
            </p:nvSpPr>
            <p:spPr>
              <a:xfrm flipV="1">
                <a:off x="39225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4282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0" name=""/>
          <p:cNvGrpSpPr/>
          <p:nvPr/>
        </p:nvGrpSpPr>
        <p:grpSpPr>
          <a:xfrm>
            <a:off x="1828440" y="5803920"/>
            <a:ext cx="609480" cy="749160"/>
            <a:chOff x="1828440" y="5803920"/>
            <a:chExt cx="609480" cy="749160"/>
          </a:xfrm>
        </p:grpSpPr>
        <p:sp>
          <p:nvSpPr>
            <p:cNvPr id="1481" name=""/>
            <p:cNvSpPr/>
            <p:nvPr/>
          </p:nvSpPr>
          <p:spPr>
            <a:xfrm flipH="1">
              <a:off x="19285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1828440" y="6095880"/>
              <a:ext cx="609480" cy="457200"/>
              <a:chOff x="1828440" y="6095880"/>
              <a:chExt cx="609480" cy="457200"/>
            </a:xfrm>
          </p:grpSpPr>
          <p:sp>
            <p:nvSpPr>
              <p:cNvPr id="1483" name=""/>
              <p:cNvSpPr/>
              <p:nvPr/>
            </p:nvSpPr>
            <p:spPr>
              <a:xfrm flipV="1">
                <a:off x="23223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8280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5" name=""/>
          <p:cNvSpPr/>
          <p:nvPr/>
        </p:nvSpPr>
        <p:spPr>
          <a:xfrm>
            <a:off x="76320" y="88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ON’s Ro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Tomorrow’s Backhau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Outline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39680" y="1263600"/>
            <a:ext cx="884556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blem are We Trying to Sol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are the Custom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Access Net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We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65240" y="711360"/>
            <a:ext cx="89154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mall Business Deploym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10/100BaseT grows in popularity, PON will be the only viabl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DU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market (especially internationally) for ONTs with many 10/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T-Backhaul (Full-Service VDSL, wireless, etc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T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-generation video will drive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eased Line Services (DS1/E1, DS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AN spec matches SONET/SDH service features (protection switching, jitter, wander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s deployment of data-capable access network for legac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-End Video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I (270 Mb/s), PAL, NTSC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many video customers also have substantial data and/or leased-line need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bE (Gigabit PONs in prepa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lightly loaded PON, customer can burst at line-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congested PON, BW is distributed fairly (enforce SL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pse core transport requirements (no more pt-to-pt fi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16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mmary 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What is PON good for?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488" name=""/>
          <p:cNvSpPr/>
          <p:nvPr/>
        </p:nvSpPr>
        <p:spPr>
          <a:xfrm>
            <a:off x="6071760" y="5326200"/>
            <a:ext cx="56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 G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6164280" y="4556160"/>
            <a:ext cx="2717640" cy="2092320"/>
            <a:chOff x="6164280" y="4556160"/>
            <a:chExt cx="2717640" cy="2092320"/>
          </a:xfrm>
        </p:grpSpPr>
        <p:grpSp>
          <p:nvGrpSpPr>
            <p:cNvPr id="1490" name=""/>
            <p:cNvGrpSpPr/>
            <p:nvPr/>
          </p:nvGrpSpPr>
          <p:grpSpPr>
            <a:xfrm>
              <a:off x="8258040" y="4556160"/>
              <a:ext cx="623880" cy="460440"/>
              <a:chOff x="8258040" y="4556160"/>
              <a:chExt cx="623880" cy="460440"/>
            </a:xfrm>
          </p:grpSpPr>
          <p:sp>
            <p:nvSpPr>
              <p:cNvPr id="1491" name=""/>
              <p:cNvSpPr/>
              <p:nvPr/>
            </p:nvSpPr>
            <p:spPr>
              <a:xfrm>
                <a:off x="8258040" y="4886280"/>
                <a:ext cx="52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314200" y="4556160"/>
                <a:ext cx="5677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1 Gb/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>
              <a:off x="7770600" y="6216840"/>
              <a:ext cx="468360" cy="41580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80320" y="618804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19680" y="5367240"/>
              <a:ext cx="439920" cy="49860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22920" y="5481720"/>
              <a:ext cx="43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64280" y="5562720"/>
              <a:ext cx="13644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200640" y="5641920"/>
              <a:ext cx="39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7476480" y="5647680"/>
              <a:ext cx="2948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7451640" y="5641560"/>
              <a:ext cx="34236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489080" y="5115600"/>
              <a:ext cx="297720" cy="46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786440" y="4699080"/>
              <a:ext cx="466920" cy="41436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786800" y="466560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783560" y="5456160"/>
              <a:ext cx="466560" cy="41616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786800" y="543744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7876440" y="5880960"/>
              <a:ext cx="307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5400000">
              <a:off x="7881120" y="5166720"/>
              <a:ext cx="307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8258040" y="6107040"/>
              <a:ext cx="540000" cy="460440"/>
              <a:chOff x="8258040" y="6107040"/>
              <a:chExt cx="540000" cy="460440"/>
            </a:xfrm>
          </p:grpSpPr>
          <p:sp>
            <p:nvSpPr>
              <p:cNvPr id="1509" name=""/>
              <p:cNvSpPr/>
              <p:nvPr/>
            </p:nvSpPr>
            <p:spPr>
              <a:xfrm>
                <a:off x="8258040" y="643716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399520" y="6107040"/>
                <a:ext cx="3985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8258040" y="5311800"/>
              <a:ext cx="540000" cy="460440"/>
              <a:chOff x="8258040" y="5311800"/>
              <a:chExt cx="540000" cy="460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8258040" y="564192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399520" y="5311800"/>
                <a:ext cx="3985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7405560" y="5591160"/>
              <a:ext cx="106200" cy="120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067520" y="5646960"/>
              <a:ext cx="32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at’s the Problem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972040" y="2697120"/>
            <a:ext cx="4286160" cy="360"/>
            <a:chOff x="5972040" y="2697120"/>
            <a:chExt cx="4286160" cy="360"/>
          </a:xfrm>
        </p:grpSpPr>
        <p:sp>
          <p:nvSpPr>
            <p:cNvPr id="145" name=""/>
            <p:cNvSpPr/>
            <p:nvPr/>
          </p:nvSpPr>
          <p:spPr>
            <a:xfrm>
              <a:off x="5972040" y="269712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72040" y="269712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50160" y="6475320"/>
            <a:ext cx="30398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www.runco.com/Products/CWPlasma/CWDefault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8920" y="6475320"/>
            <a:ext cx="27896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www.sandman.com/images/oldmonarchwall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560" y="966960"/>
            <a:ext cx="42559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Premises Equipment (C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59000" y="5740560"/>
            <a:ext cx="5753160" cy="469800"/>
            <a:chOff x="1359000" y="5740560"/>
            <a:chExt cx="5753160" cy="469800"/>
          </a:xfrm>
        </p:grpSpPr>
        <p:sp>
          <p:nvSpPr>
            <p:cNvPr id="151" name=""/>
            <p:cNvSpPr/>
            <p:nvPr/>
          </p:nvSpPr>
          <p:spPr>
            <a:xfrm>
              <a:off x="5981760" y="5740560"/>
              <a:ext cx="1130400" cy="4698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9000" y="5740560"/>
              <a:ext cx="876240" cy="4698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92480" y="5767560"/>
              <a:ext cx="57114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kHz                                                                20 Mb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oldmonarchwall" descr=""/>
          <p:cNvPicPr/>
          <p:nvPr/>
        </p:nvPicPr>
        <p:blipFill>
          <a:blip r:embed="rId1"/>
          <a:stretch/>
        </p:blipFill>
        <p:spPr>
          <a:xfrm>
            <a:off x="168120" y="1674720"/>
            <a:ext cx="2874960" cy="3989520"/>
          </a:xfrm>
          <a:prstGeom prst="rect">
            <a:avLst/>
          </a:prstGeom>
          <a:ln w="0">
            <a:noFill/>
          </a:ln>
        </p:spPr>
      </p:pic>
      <p:pic>
        <p:nvPicPr>
          <p:cNvPr id="155" name="CW-61" descr=""/>
          <p:cNvPicPr/>
          <p:nvPr/>
        </p:nvPicPr>
        <p:blipFill>
          <a:blip r:embed="rId2"/>
          <a:stretch/>
        </p:blipFill>
        <p:spPr>
          <a:xfrm>
            <a:off x="4659480" y="2479680"/>
            <a:ext cx="4321080" cy="280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99720" y="1601640"/>
            <a:ext cx="42559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orrow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Premises Equipment (C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6280" y="3441600"/>
            <a:ext cx="1320480" cy="71136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7640" y="5803920"/>
            <a:ext cx="3899160" cy="90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5240" y="666720"/>
            <a:ext cx="8928000" cy="62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iginal Bell System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band channel is a communications channel having a bandwidth greater than a voice-grade channel, and therefore capable of higher-speed data transmission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996 US Telecom Reform 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services are capable of carrying “high-quality” voice, data, graphics, &amp;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to “all America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actical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means DSL, cable modem, or high-speed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’s services are web access, work-at-home, &amp; streaming audio (Napster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orrow, next-generation video will be the “killer app” (Son of Napster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, data, &amp;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 – Generally 1.5 Mb/s and 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orrow – MUCH MORE than 1.5 Mb/s ( 100Mb/s?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oadband” is a moving tar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n’t forget multi-service wirele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680" y="279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at are Broadband Services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36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Broadband Wireles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3840" y="851040"/>
            <a:ext cx="8355960" cy="2501640"/>
            <a:chOff x="393840" y="851040"/>
            <a:chExt cx="8355960" cy="2501640"/>
          </a:xfrm>
        </p:grpSpPr>
        <p:sp>
          <p:nvSpPr>
            <p:cNvPr id="163" name=""/>
            <p:cNvSpPr/>
            <p:nvPr/>
          </p:nvSpPr>
          <p:spPr>
            <a:xfrm>
              <a:off x="393840" y="851040"/>
              <a:ext cx="8355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840" y="851040"/>
              <a:ext cx="835596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outh Let Their Thumbs Do the Talking in Japan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800"/>
              </a:br>
              <a:br>
                <a:rPr sz="18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 Times April 30, 200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STRACT - Young Japanese in a quiet, technology-driven change are developing hyper-agile thumbs, the fruit of childhoods spent furiously thumbing hand-held computer games and young adulthoods thumbing out e-mail messages on cell-phone key pads; a study of cell-phone habits of people in eight major world cities finds Japan's 'thumb generation' is the most advanced in the worl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0 Words /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0 Emails / 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ll Phones With Came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spacer" descr=""/>
          <p:cNvPicPr/>
          <p:nvPr/>
        </p:nvPicPr>
        <p:blipFill>
          <a:blip r:embed="rId1"/>
          <a:stretch/>
        </p:blipFill>
        <p:spPr>
          <a:xfrm>
            <a:off x="1754280" y="1468440"/>
            <a:ext cx="11160" cy="7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5040" y="1027080"/>
            <a:ext cx="638280" cy="1085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83160" y="1027080"/>
            <a:ext cx="638280" cy="10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067440" y="915840"/>
            <a:ext cx="2949840" cy="1527840"/>
            <a:chOff x="6067440" y="915840"/>
            <a:chExt cx="2949840" cy="1527840"/>
          </a:xfrm>
        </p:grpSpPr>
        <p:sp>
          <p:nvSpPr>
            <p:cNvPr id="169" name=""/>
            <p:cNvSpPr/>
            <p:nvPr/>
          </p:nvSpPr>
          <p:spPr>
            <a:xfrm>
              <a:off x="6067440" y="915840"/>
              <a:ext cx="2894040" cy="1376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78240" y="946080"/>
              <a:ext cx="293904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Typical North American Central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k pairs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5% residential, 35% 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k residences (2+ pair per ho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I : Serving Area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LC: Digital Loop 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4880" y="1752120"/>
            <a:ext cx="8582400" cy="4775760"/>
            <a:chOff x="164880" y="1752120"/>
            <a:chExt cx="8582400" cy="4775760"/>
          </a:xfrm>
        </p:grpSpPr>
        <p:grpSp>
          <p:nvGrpSpPr>
            <p:cNvPr id="172" name=""/>
            <p:cNvGrpSpPr/>
            <p:nvPr/>
          </p:nvGrpSpPr>
          <p:grpSpPr>
            <a:xfrm>
              <a:off x="685800" y="2417760"/>
              <a:ext cx="947520" cy="658800"/>
              <a:chOff x="685800" y="2417760"/>
              <a:chExt cx="947520" cy="658800"/>
            </a:xfrm>
          </p:grpSpPr>
          <p:sp>
            <p:nvSpPr>
              <p:cNvPr id="173" name=""/>
              <p:cNvSpPr/>
              <p:nvPr/>
            </p:nvSpPr>
            <p:spPr>
              <a:xfrm>
                <a:off x="685800" y="2428920"/>
                <a:ext cx="88236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8040" y="2417760"/>
                <a:ext cx="935280" cy="62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nt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574640" y="2759040"/>
              <a:ext cx="622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4760" y="25909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52640" y="275904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2640" y="3184560"/>
              <a:ext cx="3330720" cy="333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62120" y="3506760"/>
              <a:ext cx="519120" cy="361440"/>
              <a:chOff x="2562120" y="3506760"/>
              <a:chExt cx="519120" cy="361440"/>
            </a:xfrm>
          </p:grpSpPr>
          <p:sp>
            <p:nvSpPr>
              <p:cNvPr id="180" name=""/>
              <p:cNvSpPr/>
              <p:nvPr/>
            </p:nvSpPr>
            <p:spPr>
              <a:xfrm>
                <a:off x="2598840" y="3560760"/>
                <a:ext cx="455760" cy="299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62120" y="3506760"/>
                <a:ext cx="5191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3280" y="386244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10120" y="3963960"/>
              <a:ext cx="1065600" cy="537840"/>
              <a:chOff x="2310120" y="3963960"/>
              <a:chExt cx="1065600" cy="537840"/>
            </a:xfrm>
          </p:grpSpPr>
          <p:sp>
            <p:nvSpPr>
              <p:cNvPr id="184" name=""/>
              <p:cNvSpPr/>
              <p:nvPr/>
            </p:nvSpPr>
            <p:spPr>
              <a:xfrm rot="10800000">
                <a:off x="2843640" y="39686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10800000">
                <a:off x="2310120" y="39639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310120" y="3682800"/>
              <a:ext cx="1065600" cy="537840"/>
              <a:chOff x="2310120" y="3682800"/>
              <a:chExt cx="1065600" cy="537840"/>
            </a:xfrm>
          </p:grpSpPr>
          <p:sp>
            <p:nvSpPr>
              <p:cNvPr id="187" name=""/>
              <p:cNvSpPr/>
              <p:nvPr/>
            </p:nvSpPr>
            <p:spPr>
              <a:xfrm rot="10800000">
                <a:off x="2843640" y="368748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2310120" y="368280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052800" y="3705120"/>
              <a:ext cx="32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71600" y="370512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195720" y="4608000"/>
              <a:ext cx="1177560" cy="1481760"/>
              <a:chOff x="3195720" y="4608000"/>
              <a:chExt cx="1177560" cy="14817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195720" y="4608000"/>
                <a:ext cx="1174680" cy="430920"/>
                <a:chOff x="3195720" y="4608000"/>
                <a:chExt cx="1174680" cy="4309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195720" y="4608000"/>
                  <a:ext cx="450720" cy="430920"/>
                  <a:chOff x="3195720" y="4608000"/>
                  <a:chExt cx="450720" cy="4309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>
                    <a:off x="3276000" y="4707000"/>
                    <a:ext cx="28908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3465720" y="4870440"/>
                    <a:ext cx="6984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3379680" y="47624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3316680" y="4800600"/>
                    <a:ext cx="10296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68880" y="47991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3316680" y="48578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95720" y="4608000"/>
                    <a:ext cx="450720" cy="142920"/>
                    <a:chOff x="3195720" y="4608000"/>
                    <a:chExt cx="450720" cy="1429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flipH="1" flipV="1">
                      <a:off x="3417840" y="460908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flipV="1">
                      <a:off x="3195720" y="4608000"/>
                      <a:ext cx="22860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3919680" y="4608000"/>
                  <a:ext cx="450720" cy="430920"/>
                  <a:chOff x="3919680" y="4608000"/>
                  <a:chExt cx="450720" cy="4309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999960" y="4707000"/>
                    <a:ext cx="28908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4189680" y="4870440"/>
                    <a:ext cx="6984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4103640" y="47624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4040640" y="4800600"/>
                    <a:ext cx="10296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092840" y="47991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4040640" y="48578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3919680" y="4608000"/>
                    <a:ext cx="450720" cy="142920"/>
                    <a:chOff x="3919680" y="4608000"/>
                    <a:chExt cx="450720" cy="142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flipV="1">
                      <a:off x="4141800" y="460908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V="1">
                      <a:off x="3919680" y="4608000"/>
                      <a:ext cx="22860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3199320" y="5659560"/>
                <a:ext cx="1173960" cy="430200"/>
                <a:chOff x="3199320" y="5659560"/>
                <a:chExt cx="1173960" cy="4302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3199320" y="5659560"/>
                  <a:ext cx="450360" cy="430200"/>
                  <a:chOff x="3199320" y="5659560"/>
                  <a:chExt cx="450360" cy="430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>
                    <a:off x="3279600" y="5757840"/>
                    <a:ext cx="28872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3467880" y="5921280"/>
                    <a:ext cx="6948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382920" y="581328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3318840" y="5851440"/>
                    <a:ext cx="10260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371760" y="585000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319200" y="590868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199320" y="5659560"/>
                    <a:ext cx="450360" cy="141840"/>
                    <a:chOff x="3199320" y="5659560"/>
                    <a:chExt cx="450360" cy="1418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flipV="1">
                      <a:off x="3421440" y="5659920"/>
                      <a:ext cx="22824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V="1">
                      <a:off x="3199320" y="565956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3922920" y="5659560"/>
                  <a:ext cx="450360" cy="430200"/>
                  <a:chOff x="3922920" y="5659560"/>
                  <a:chExt cx="450360" cy="430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>
                    <a:off x="4003200" y="5757840"/>
                    <a:ext cx="28872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>
                    <a:off x="4191480" y="5921280"/>
                    <a:ext cx="6948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>
                    <a:off x="4106520" y="581328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4042440" y="5851440"/>
                    <a:ext cx="10260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095360" y="585000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4042800" y="590868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922920" y="5659560"/>
                    <a:ext cx="450360" cy="141840"/>
                    <a:chOff x="3922920" y="5659560"/>
                    <a:chExt cx="450360" cy="1418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flipV="1">
                      <a:off x="4145040" y="5659920"/>
                      <a:ext cx="22824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V="1">
                      <a:off x="3922920" y="565956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2306880" y="4627440"/>
              <a:ext cx="1065600" cy="537840"/>
              <a:chOff x="2306880" y="4627440"/>
              <a:chExt cx="1065600" cy="537840"/>
            </a:xfrm>
          </p:grpSpPr>
          <p:sp>
            <p:nvSpPr>
              <p:cNvPr id="235" name=""/>
              <p:cNvSpPr/>
              <p:nvPr/>
            </p:nvSpPr>
            <p:spPr>
              <a:xfrm rot="10800000">
                <a:off x="2840400" y="46321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0800000">
                <a:off x="2306880" y="46274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139920" y="5257800"/>
              <a:ext cx="1438560" cy="26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5000" y="5165640"/>
              <a:ext cx="156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9160" y="5124600"/>
              <a:ext cx="8892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574800" y="4892400"/>
              <a:ext cx="9828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689280" y="4898880"/>
              <a:ext cx="30816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571560" y="5165640"/>
              <a:ext cx="104760" cy="70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673440" y="5162040"/>
              <a:ext cx="317520" cy="75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6560" y="3197160"/>
              <a:ext cx="3330720" cy="333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296040" y="3519360"/>
              <a:ext cx="519120" cy="361440"/>
              <a:chOff x="6296040" y="3519360"/>
              <a:chExt cx="519120" cy="361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332400" y="3573360"/>
                <a:ext cx="455400" cy="299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96040" y="3519360"/>
                <a:ext cx="5191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576840" y="387504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044040" y="3976560"/>
              <a:ext cx="1065600" cy="537840"/>
              <a:chOff x="6044040" y="3976560"/>
              <a:chExt cx="1065600" cy="537840"/>
            </a:xfrm>
          </p:grpSpPr>
          <p:sp>
            <p:nvSpPr>
              <p:cNvPr id="250" name=""/>
              <p:cNvSpPr/>
              <p:nvPr/>
            </p:nvSpPr>
            <p:spPr>
              <a:xfrm rot="10800000">
                <a:off x="6577560" y="39812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0800000">
                <a:off x="6044040" y="39765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44040" y="3695760"/>
              <a:ext cx="1065600" cy="537840"/>
              <a:chOff x="6044040" y="3695760"/>
              <a:chExt cx="1065600" cy="537840"/>
            </a:xfrm>
          </p:grpSpPr>
          <p:sp>
            <p:nvSpPr>
              <p:cNvPr id="253" name=""/>
              <p:cNvSpPr/>
              <p:nvPr/>
            </p:nvSpPr>
            <p:spPr>
              <a:xfrm rot="10800000">
                <a:off x="6577560" y="37004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0800000">
                <a:off x="6044040" y="36957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786720" y="3718080"/>
              <a:ext cx="32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5520" y="371808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929280" y="4621320"/>
              <a:ext cx="1177560" cy="1481400"/>
              <a:chOff x="6929280" y="4621320"/>
              <a:chExt cx="1177560" cy="14814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929280" y="4621320"/>
                <a:ext cx="1174680" cy="430200"/>
                <a:chOff x="6929280" y="4621320"/>
                <a:chExt cx="1174680" cy="430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6929280" y="4621320"/>
                  <a:ext cx="450720" cy="430200"/>
                  <a:chOff x="6929280" y="4621320"/>
                  <a:chExt cx="450720" cy="430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>
                    <a:off x="7009560" y="4719600"/>
                    <a:ext cx="28908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7199280" y="4883040"/>
                    <a:ext cx="6984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>
                    <a:off x="7113240" y="47750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>
                    <a:off x="7050240" y="4813200"/>
                    <a:ext cx="10296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02440" y="481176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>
                    <a:off x="7050240" y="48704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6929280" y="4621320"/>
                    <a:ext cx="450720" cy="141840"/>
                    <a:chOff x="6929280" y="4621320"/>
                    <a:chExt cx="450720" cy="1418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flipV="1">
                      <a:off x="7151400" y="4621680"/>
                      <a:ext cx="22860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V="1">
                      <a:off x="6929280" y="462132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653240" y="4621320"/>
                  <a:ext cx="450720" cy="430200"/>
                  <a:chOff x="7653240" y="4621320"/>
                  <a:chExt cx="450720" cy="4302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>
                    <a:off x="7733520" y="4719600"/>
                    <a:ext cx="28908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7923240" y="4883040"/>
                    <a:ext cx="6984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7837200" y="47750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7774200" y="4813200"/>
                    <a:ext cx="10296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826400" y="481176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7774200" y="48704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53240" y="4621320"/>
                    <a:ext cx="450720" cy="141840"/>
                    <a:chOff x="7653240" y="4621320"/>
                    <a:chExt cx="450720" cy="14184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7875360" y="4621680"/>
                      <a:ext cx="22860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7653240" y="462132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6932880" y="5671800"/>
                <a:ext cx="1173960" cy="430920"/>
                <a:chOff x="6932880" y="5671800"/>
                <a:chExt cx="1173960" cy="43092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6932880" y="5671800"/>
                  <a:ext cx="450360" cy="430920"/>
                  <a:chOff x="6932880" y="5671800"/>
                  <a:chExt cx="450360" cy="4309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7013160" y="5770800"/>
                    <a:ext cx="28872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7201440" y="5934240"/>
                    <a:ext cx="6948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7116480" y="58262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7052400" y="5864400"/>
                    <a:ext cx="10260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105320" y="58629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>
                    <a:off x="7052760" y="592164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6932880" y="5671800"/>
                    <a:ext cx="450360" cy="142920"/>
                    <a:chOff x="6932880" y="5671800"/>
                    <a:chExt cx="450360" cy="1429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>
                      <a:off x="7155000" y="567288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V="1">
                      <a:off x="6932880" y="5671800"/>
                      <a:ext cx="22824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656480" y="5671800"/>
                  <a:ext cx="450360" cy="430920"/>
                  <a:chOff x="7656480" y="5671800"/>
                  <a:chExt cx="450360" cy="4309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>
                    <a:off x="7736760" y="5770800"/>
                    <a:ext cx="28872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7925040" y="5934240"/>
                    <a:ext cx="6948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7840080" y="58262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7776000" y="5864400"/>
                    <a:ext cx="10260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828920" y="58629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7776360" y="592164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7656480" y="5671800"/>
                    <a:ext cx="450360" cy="142920"/>
                    <a:chOff x="7656480" y="5671800"/>
                    <a:chExt cx="450360" cy="1429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flipV="1">
                      <a:off x="7878600" y="567288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V="1">
                      <a:off x="7656480" y="5671800"/>
                      <a:ext cx="22824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0" name=""/>
            <p:cNvGrpSpPr/>
            <p:nvPr/>
          </p:nvGrpSpPr>
          <p:grpSpPr>
            <a:xfrm>
              <a:off x="6040800" y="4640040"/>
              <a:ext cx="1065600" cy="537840"/>
              <a:chOff x="6040800" y="4640040"/>
              <a:chExt cx="1065600" cy="537840"/>
            </a:xfrm>
          </p:grpSpPr>
          <p:sp>
            <p:nvSpPr>
              <p:cNvPr id="301" name=""/>
              <p:cNvSpPr/>
              <p:nvPr/>
            </p:nvSpPr>
            <p:spPr>
              <a:xfrm rot="10800000">
                <a:off x="6574320" y="46447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6040800" y="46400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873840" y="5270400"/>
              <a:ext cx="1438200" cy="26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38920" y="5178600"/>
              <a:ext cx="156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62720" y="5137200"/>
              <a:ext cx="8892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7308720" y="4905000"/>
              <a:ext cx="986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22840" y="4911840"/>
              <a:ext cx="307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305480" y="5178600"/>
              <a:ext cx="104760" cy="70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7407360" y="5175360"/>
              <a:ext cx="31752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7840" y="5818320"/>
              <a:ext cx="17672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400-600 hom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650960" y="5727600"/>
              <a:ext cx="1904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3120" y="262260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61000" y="339408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64880" y="2759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136520" y="1752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35080" y="30664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6080" y="1893960"/>
              <a:ext cx="8452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84360" y="2695680"/>
              <a:ext cx="622620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937120" y="2521080"/>
              <a:ext cx="271440" cy="284040"/>
              <a:chOff x="5937120" y="2521080"/>
              <a:chExt cx="271440" cy="284040"/>
            </a:xfrm>
          </p:grpSpPr>
          <p:sp>
            <p:nvSpPr>
              <p:cNvPr id="320" name=""/>
              <p:cNvSpPr/>
              <p:nvPr/>
            </p:nvSpPr>
            <p:spPr>
              <a:xfrm>
                <a:off x="5937120" y="252108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975280" y="254448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049800" y="25952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781440" y="25837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919680" y="2037960"/>
              <a:ext cx="0" cy="7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759200" y="25837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02120" y="1968120"/>
              <a:ext cx="0" cy="73044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68920" y="2222640"/>
              <a:ext cx="271440" cy="284040"/>
              <a:chOff x="4768920" y="2222640"/>
              <a:chExt cx="271440" cy="284040"/>
            </a:xfrm>
          </p:grpSpPr>
          <p:sp>
            <p:nvSpPr>
              <p:cNvPr id="328" name=""/>
              <p:cNvSpPr/>
              <p:nvPr/>
            </p:nvSpPr>
            <p:spPr>
              <a:xfrm>
                <a:off x="4768920" y="222264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807080" y="22460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4881600" y="229680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561000" y="2689200"/>
              <a:ext cx="0" cy="2332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5607000" y="2968560"/>
              <a:ext cx="596880" cy="361440"/>
              <a:chOff x="5607000" y="2968560"/>
              <a:chExt cx="596880" cy="361440"/>
            </a:xfrm>
          </p:grpSpPr>
          <p:sp>
            <p:nvSpPr>
              <p:cNvPr id="333" name=""/>
              <p:cNvSpPr/>
              <p:nvPr/>
            </p:nvSpPr>
            <p:spPr>
              <a:xfrm>
                <a:off x="5643720" y="301932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07000" y="2968560"/>
                <a:ext cx="59688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79320" y="2751120"/>
              <a:ext cx="481680" cy="336600"/>
              <a:chOff x="6079320" y="2751120"/>
              <a:chExt cx="481680" cy="336600"/>
            </a:xfrm>
          </p:grpSpPr>
          <p:sp>
            <p:nvSpPr>
              <p:cNvPr id="336" name=""/>
              <p:cNvSpPr/>
              <p:nvPr/>
            </p:nvSpPr>
            <p:spPr>
              <a:xfrm flipH="1" rot="10800000">
                <a:off x="6079320" y="2751120"/>
                <a:ext cx="481680" cy="33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46640" y="3086280"/>
                <a:ext cx="208080" cy="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79320" y="3243240"/>
              <a:ext cx="481680" cy="335880"/>
              <a:chOff x="6079320" y="3243240"/>
              <a:chExt cx="481680" cy="335880"/>
            </a:xfrm>
          </p:grpSpPr>
          <p:sp>
            <p:nvSpPr>
              <p:cNvPr id="339" name=""/>
              <p:cNvSpPr/>
              <p:nvPr/>
            </p:nvSpPr>
            <p:spPr>
              <a:xfrm flipH="1" flipV="1" rot="10800000">
                <a:off x="6079320" y="324288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46640" y="3244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291360" y="2924280"/>
              <a:ext cx="271440" cy="284040"/>
              <a:chOff x="6291360" y="2924280"/>
              <a:chExt cx="271440" cy="28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291360" y="292428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329520" y="294768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6404040" y="29984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656000" y="2736720"/>
              <a:ext cx="1024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200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494080" y="3018960"/>
              <a:ext cx="30456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3920" y="4175280"/>
              <a:ext cx="13161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2400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2400" y="3971880"/>
              <a:ext cx="241200" cy="191448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49680 h 1914480"/>
                <a:gd name="textAreaBottom" fmla="*/ 186480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74840" y="4586400"/>
              <a:ext cx="718920" cy="31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37320" y="3863880"/>
              <a:ext cx="6865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657600" y="4238640"/>
              <a:ext cx="32400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26120" y="1971720"/>
              <a:ext cx="619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229000" y="3164040"/>
              <a:ext cx="481680" cy="335880"/>
              <a:chOff x="5229000" y="3164040"/>
              <a:chExt cx="481680" cy="335880"/>
            </a:xfrm>
          </p:grpSpPr>
          <p:sp>
            <p:nvSpPr>
              <p:cNvPr id="354" name=""/>
              <p:cNvSpPr/>
              <p:nvPr/>
            </p:nvSpPr>
            <p:spPr>
              <a:xfrm flipV="1" rot="10800000">
                <a:off x="5229000" y="316368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35280" y="31651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25760" y="2729160"/>
              <a:ext cx="481680" cy="335880"/>
              <a:chOff x="5225760" y="2729160"/>
              <a:chExt cx="481680" cy="335880"/>
            </a:xfrm>
          </p:grpSpPr>
          <p:sp>
            <p:nvSpPr>
              <p:cNvPr id="357" name=""/>
              <p:cNvSpPr/>
              <p:nvPr/>
            </p:nvSpPr>
            <p:spPr>
              <a:xfrm rot="10800000">
                <a:off x="5225760" y="272916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32040" y="306396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V="1" rot="10800000">
              <a:off x="5401080" y="3296520"/>
              <a:ext cx="4816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60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ere are the customers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80" y="3301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assive Optical Network Cheat Sheet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33560" y="774720"/>
            <a:ext cx="6676920" cy="2387520"/>
            <a:chOff x="1933560" y="774720"/>
            <a:chExt cx="6676920" cy="2387520"/>
          </a:xfrm>
        </p:grpSpPr>
        <p:sp>
          <p:nvSpPr>
            <p:cNvPr id="363" name=""/>
            <p:cNvSpPr/>
            <p:nvPr/>
          </p:nvSpPr>
          <p:spPr>
            <a:xfrm>
              <a:off x="1933560" y="774720"/>
              <a:ext cx="6676920" cy="23875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12760" y="804960"/>
              <a:ext cx="648072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ed by ITU-T &amp; IE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5&amp; 622 Mbps currently,  1.2 &amp; 2.5 Gbps in preparatio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TU-T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tection switch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 bandwidth allocation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DM overla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ryption used to insure securit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-rate, QOS, etc. provisionable on a per-customer basi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s in deployment (tens of thousands of customers turn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888080" y="5315040"/>
            <a:ext cx="8856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933800" y="4336920"/>
            <a:ext cx="74304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920" y="305604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76520" y="4568760"/>
            <a:ext cx="7524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399680" y="5521320"/>
            <a:ext cx="26676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9720" y="5351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-n/STM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2880" y="5761080"/>
            <a:ext cx="960480" cy="605880"/>
            <a:chOff x="542880" y="5761080"/>
            <a:chExt cx="960480" cy="605880"/>
          </a:xfrm>
        </p:grpSpPr>
        <p:grpSp>
          <p:nvGrpSpPr>
            <p:cNvPr id="372" name=""/>
            <p:cNvGrpSpPr/>
            <p:nvPr/>
          </p:nvGrpSpPr>
          <p:grpSpPr>
            <a:xfrm>
              <a:off x="542880" y="5761080"/>
              <a:ext cx="960480" cy="605880"/>
              <a:chOff x="542880" y="5761080"/>
              <a:chExt cx="960480" cy="605880"/>
            </a:xfrm>
          </p:grpSpPr>
          <p:sp>
            <p:nvSpPr>
              <p:cNvPr id="373" name=""/>
              <p:cNvSpPr/>
              <p:nvPr/>
            </p:nvSpPr>
            <p:spPr>
              <a:xfrm>
                <a:off x="843120" y="5778000"/>
                <a:ext cx="230760" cy="201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35360" y="576108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07080" y="5927760"/>
                <a:ext cx="29628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9800" y="6038280"/>
                <a:ext cx="339120" cy="291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21400" y="6074640"/>
                <a:ext cx="252360" cy="217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3400" y="6094080"/>
                <a:ext cx="189360" cy="161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2880" y="596448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8920" y="5816880"/>
                <a:ext cx="29520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85240" y="6112440"/>
                <a:ext cx="29628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49920" y="5834160"/>
                <a:ext cx="232200" cy="19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84760" y="5761080"/>
                <a:ext cx="209880" cy="181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0280" y="5809320"/>
                <a:ext cx="829800" cy="479880"/>
              </a:xfrm>
              <a:custGeom>
                <a:avLst/>
                <a:gdLst/>
                <a:ahLst/>
                <a:rect l="l" t="t" r="r" b="b"/>
                <a:pathLst>
                  <a:path w="1958" h="1061">
                    <a:moveTo>
                      <a:pt x="603" y="106"/>
                    </a:moveTo>
                    <a:lnTo>
                      <a:pt x="686" y="29"/>
                    </a:lnTo>
                    <a:lnTo>
                      <a:pt x="1051" y="35"/>
                    </a:lnTo>
                    <a:lnTo>
                      <a:pt x="1309" y="0"/>
                    </a:lnTo>
                    <a:lnTo>
                      <a:pt x="1636" y="126"/>
                    </a:lnTo>
                    <a:lnTo>
                      <a:pt x="1799" y="91"/>
                    </a:lnTo>
                    <a:lnTo>
                      <a:pt x="1887" y="106"/>
                    </a:lnTo>
                    <a:lnTo>
                      <a:pt x="1906" y="420"/>
                    </a:lnTo>
                    <a:lnTo>
                      <a:pt x="1957" y="472"/>
                    </a:lnTo>
                    <a:lnTo>
                      <a:pt x="1806" y="714"/>
                    </a:lnTo>
                    <a:lnTo>
                      <a:pt x="1642" y="548"/>
                    </a:lnTo>
                    <a:lnTo>
                      <a:pt x="1597" y="634"/>
                    </a:lnTo>
                    <a:lnTo>
                      <a:pt x="1366" y="968"/>
                    </a:lnTo>
                    <a:lnTo>
                      <a:pt x="591" y="1060"/>
                    </a:lnTo>
                    <a:lnTo>
                      <a:pt x="189" y="994"/>
                    </a:lnTo>
                    <a:lnTo>
                      <a:pt x="63" y="786"/>
                    </a:lnTo>
                    <a:lnTo>
                      <a:pt x="63" y="572"/>
                    </a:lnTo>
                    <a:lnTo>
                      <a:pt x="0" y="396"/>
                    </a:lnTo>
                    <a:lnTo>
                      <a:pt x="603" y="106"/>
                    </a:lnTo>
                  </a:path>
                </a:pathLst>
              </a:custGeom>
              <a:solidFill>
                <a:srgbClr val="ffffff"/>
              </a:solidFill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171440" y="5954760"/>
              <a:ext cx="2300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9280" y="580248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428920" y="5349960"/>
            <a:ext cx="24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167440" y="4697280"/>
            <a:ext cx="271440" cy="284040"/>
            <a:chOff x="5167440" y="4697280"/>
            <a:chExt cx="271440" cy="284040"/>
          </a:xfrm>
        </p:grpSpPr>
        <p:sp>
          <p:nvSpPr>
            <p:cNvPr id="389" name=""/>
            <p:cNvSpPr/>
            <p:nvPr/>
          </p:nvSpPr>
          <p:spPr>
            <a:xfrm>
              <a:off x="5167440" y="469728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05240" y="4721040"/>
              <a:ext cx="123840" cy="18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80120" y="47714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110040" y="5194440"/>
            <a:ext cx="271440" cy="284040"/>
            <a:chOff x="3110040" y="5194440"/>
            <a:chExt cx="271440" cy="284040"/>
          </a:xfrm>
        </p:grpSpPr>
        <p:sp>
          <p:nvSpPr>
            <p:cNvPr id="393" name=""/>
            <p:cNvSpPr/>
            <p:nvPr/>
          </p:nvSpPr>
          <p:spPr>
            <a:xfrm>
              <a:off x="3110040" y="519444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148200" y="52178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22720" y="526860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160520" y="565164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05200" y="5473440"/>
            <a:ext cx="152640" cy="19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45200" y="4579920"/>
            <a:ext cx="81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1288800" y="4187520"/>
            <a:ext cx="352440" cy="57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45277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-nc/G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84080" y="3544920"/>
            <a:ext cx="960480" cy="605880"/>
            <a:chOff x="784080" y="3544920"/>
            <a:chExt cx="960480" cy="605880"/>
          </a:xfrm>
        </p:grpSpPr>
        <p:grpSp>
          <p:nvGrpSpPr>
            <p:cNvPr id="402" name=""/>
            <p:cNvGrpSpPr/>
            <p:nvPr/>
          </p:nvGrpSpPr>
          <p:grpSpPr>
            <a:xfrm>
              <a:off x="784080" y="3544920"/>
              <a:ext cx="960480" cy="605880"/>
              <a:chOff x="784080" y="3544920"/>
              <a:chExt cx="960480" cy="605880"/>
            </a:xfrm>
          </p:grpSpPr>
          <p:sp>
            <p:nvSpPr>
              <p:cNvPr id="403" name=""/>
              <p:cNvSpPr/>
              <p:nvPr/>
            </p:nvSpPr>
            <p:spPr>
              <a:xfrm>
                <a:off x="1084320" y="3561840"/>
                <a:ext cx="230760" cy="201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76560" y="354492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8280" y="3711600"/>
                <a:ext cx="29628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1000" y="3822120"/>
                <a:ext cx="339120" cy="291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62600" y="3858480"/>
                <a:ext cx="252360" cy="217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4600" y="3877920"/>
                <a:ext cx="189360" cy="161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4080" y="374832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70120" y="3600720"/>
                <a:ext cx="29520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26440" y="3896280"/>
                <a:ext cx="29628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491120" y="3618000"/>
                <a:ext cx="232200" cy="19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25960" y="3544920"/>
                <a:ext cx="209880" cy="181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1480" y="3593160"/>
                <a:ext cx="829800" cy="479880"/>
              </a:xfrm>
              <a:custGeom>
                <a:avLst/>
                <a:gdLst/>
                <a:ahLst/>
                <a:rect l="l" t="t" r="r" b="b"/>
                <a:pathLst>
                  <a:path w="1958" h="1061">
                    <a:moveTo>
                      <a:pt x="603" y="106"/>
                    </a:moveTo>
                    <a:lnTo>
                      <a:pt x="686" y="29"/>
                    </a:lnTo>
                    <a:lnTo>
                      <a:pt x="1051" y="35"/>
                    </a:lnTo>
                    <a:lnTo>
                      <a:pt x="1309" y="0"/>
                    </a:lnTo>
                    <a:lnTo>
                      <a:pt x="1636" y="126"/>
                    </a:lnTo>
                    <a:lnTo>
                      <a:pt x="1799" y="91"/>
                    </a:lnTo>
                    <a:lnTo>
                      <a:pt x="1887" y="106"/>
                    </a:lnTo>
                    <a:lnTo>
                      <a:pt x="1906" y="420"/>
                    </a:lnTo>
                    <a:lnTo>
                      <a:pt x="1957" y="472"/>
                    </a:lnTo>
                    <a:lnTo>
                      <a:pt x="1806" y="714"/>
                    </a:lnTo>
                    <a:lnTo>
                      <a:pt x="1642" y="548"/>
                    </a:lnTo>
                    <a:lnTo>
                      <a:pt x="1597" y="634"/>
                    </a:lnTo>
                    <a:lnTo>
                      <a:pt x="1366" y="968"/>
                    </a:lnTo>
                    <a:lnTo>
                      <a:pt x="591" y="1060"/>
                    </a:lnTo>
                    <a:lnTo>
                      <a:pt x="189" y="994"/>
                    </a:lnTo>
                    <a:lnTo>
                      <a:pt x="63" y="786"/>
                    </a:lnTo>
                    <a:lnTo>
                      <a:pt x="63" y="572"/>
                    </a:lnTo>
                    <a:lnTo>
                      <a:pt x="0" y="396"/>
                    </a:lnTo>
                    <a:lnTo>
                      <a:pt x="603" y="106"/>
                    </a:lnTo>
                  </a:path>
                </a:pathLst>
              </a:custGeom>
              <a:solidFill>
                <a:srgbClr val="ffffff"/>
              </a:solidFill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412640" y="3738600"/>
              <a:ext cx="2300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0480" y="358632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940280" y="5372280"/>
            <a:ext cx="833400" cy="672840"/>
            <a:chOff x="4940280" y="5372280"/>
            <a:chExt cx="833400" cy="672840"/>
          </a:xfrm>
        </p:grpSpPr>
        <p:sp>
          <p:nvSpPr>
            <p:cNvPr id="418" name=""/>
            <p:cNvSpPr/>
            <p:nvPr/>
          </p:nvSpPr>
          <p:spPr>
            <a:xfrm>
              <a:off x="4940280" y="5372280"/>
              <a:ext cx="833400" cy="67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243400" y="5568840"/>
              <a:ext cx="271440" cy="283680"/>
              <a:chOff x="5243400" y="5568840"/>
              <a:chExt cx="271440" cy="283680"/>
            </a:xfrm>
          </p:grpSpPr>
          <p:sp>
            <p:nvSpPr>
              <p:cNvPr id="420" name=""/>
              <p:cNvSpPr/>
              <p:nvPr/>
            </p:nvSpPr>
            <p:spPr>
              <a:xfrm>
                <a:off x="5243400" y="5568840"/>
                <a:ext cx="271440" cy="283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281560" y="5592240"/>
                <a:ext cx="12384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356080" y="5643000"/>
                <a:ext cx="12384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 flipV="1">
            <a:off x="4946760" y="4997160"/>
            <a:ext cx="214632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72120" y="5008680"/>
            <a:ext cx="271440" cy="284040"/>
            <a:chOff x="6072120" y="5008680"/>
            <a:chExt cx="271440" cy="284040"/>
          </a:xfrm>
        </p:grpSpPr>
        <p:sp>
          <p:nvSpPr>
            <p:cNvPr id="425" name=""/>
            <p:cNvSpPr/>
            <p:nvPr/>
          </p:nvSpPr>
          <p:spPr>
            <a:xfrm>
              <a:off x="6072120" y="500868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110280" y="503208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84800" y="50828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891840" y="4319640"/>
            <a:ext cx="1950480" cy="1279440"/>
            <a:chOff x="6891840" y="4319640"/>
            <a:chExt cx="1950480" cy="1279440"/>
          </a:xfrm>
        </p:grpSpPr>
        <p:sp>
          <p:nvSpPr>
            <p:cNvPr id="429" name=""/>
            <p:cNvSpPr/>
            <p:nvPr/>
          </p:nvSpPr>
          <p:spPr>
            <a:xfrm>
              <a:off x="6994440" y="4600800"/>
              <a:ext cx="1847880" cy="99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3080" y="4691160"/>
              <a:ext cx="734760" cy="8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91840" y="4319640"/>
              <a:ext cx="161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remi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32880" y="5315040"/>
              <a:ext cx="77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37560" y="4937400"/>
              <a:ext cx="77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96880" y="46911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60520" y="50468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52040" y="4664160"/>
              <a:ext cx="81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O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57200" y="3375000"/>
            <a:ext cx="2457360" cy="305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571840" y="3591000"/>
            <a:ext cx="5482800" cy="459000"/>
            <a:chOff x="2571840" y="3591000"/>
            <a:chExt cx="5482800" cy="459000"/>
          </a:xfrm>
        </p:grpSpPr>
        <p:sp>
          <p:nvSpPr>
            <p:cNvPr id="439" name=""/>
            <p:cNvSpPr/>
            <p:nvPr/>
          </p:nvSpPr>
          <p:spPr>
            <a:xfrm flipH="1" flipV="1">
              <a:off x="6748200" y="3797280"/>
              <a:ext cx="130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0280" y="3591000"/>
              <a:ext cx="212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 km 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@ 32-Way Split (155 Mb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71840" y="3782880"/>
              <a:ext cx="22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309480" y="4640400"/>
            <a:ext cx="1476720" cy="459000"/>
            <a:chOff x="3309480" y="4640400"/>
            <a:chExt cx="1476720" cy="459000"/>
          </a:xfrm>
        </p:grpSpPr>
        <p:sp>
          <p:nvSpPr>
            <p:cNvPr id="443" name=""/>
            <p:cNvSpPr/>
            <p:nvPr/>
          </p:nvSpPr>
          <p:spPr>
            <a:xfrm>
              <a:off x="3650760" y="4640400"/>
              <a:ext cx="79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xx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10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24400" y="4783320"/>
              <a:ext cx="36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309480" y="4969080"/>
              <a:ext cx="36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480" y="2919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Example: Verizon Access Line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557280"/>
            <a:ext cx="91440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witched access lines in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3 Months Ended 3/31/0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,34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,29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58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1,22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DS0 Equivalents (Dat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,53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voice grade equival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33,7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ale &amp; UNE-P lines (000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3,67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 N.B. Unbundled lines are not uniformly distribut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vestor.verizon.com/financial/quarterly/VZ/1Q2002/1Q02Bulleti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084320" y="896760"/>
            <a:ext cx="5357880" cy="5030640"/>
            <a:chOff x="1084320" y="896760"/>
            <a:chExt cx="5357880" cy="5030640"/>
          </a:xfrm>
        </p:grpSpPr>
        <p:sp>
          <p:nvSpPr>
            <p:cNvPr id="449" name=""/>
            <p:cNvSpPr/>
            <p:nvPr/>
          </p:nvSpPr>
          <p:spPr>
            <a:xfrm>
              <a:off x="1084320" y="896760"/>
              <a:ext cx="5357880" cy="50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84320" y="896760"/>
              <a:ext cx="5357880" cy="50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3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1" name="World%20top%20ten%20DSL" descr=""/>
          <p:cNvPicPr/>
          <p:nvPr/>
        </p:nvPicPr>
        <p:blipFill>
          <a:blip r:embed="rId1"/>
          <a:stretch/>
        </p:blipFill>
        <p:spPr>
          <a:xfrm>
            <a:off x="641520" y="579600"/>
            <a:ext cx="8015040" cy="5875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40" y="3934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DSL: Who’s Connected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22:45:33Z</dcterms:created>
  <dc:creator>Dilip Modi</dc:creator>
  <dc:description/>
  <dc:language>en-US</dc:language>
  <cp:lastModifiedBy>UGALE, Arvin Carlos D.</cp:lastModifiedBy>
  <dcterms:modified xsi:type="dcterms:W3CDTF">2002-07-19T14:02:08Z</dcterms:modified>
  <cp:revision>294</cp:revision>
  <dc:subject>Terawave</dc:subject>
  <dc:title>Alts Presentation</dc:title>
</cp:coreProperties>
</file>