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6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19320"/>
            <a:ext cx="8229600" cy="26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6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6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19320"/>
            <a:ext cx="4015800" cy="26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19320"/>
            <a:ext cx="4015800" cy="26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6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6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6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19320"/>
            <a:ext cx="2649600" cy="26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19320"/>
            <a:ext cx="2649600" cy="26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19320"/>
            <a:ext cx="2649600" cy="26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56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6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6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6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6840" y="151920"/>
            <a:ext cx="6629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6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6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19320"/>
            <a:ext cx="4015800" cy="26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56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6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6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19320"/>
            <a:ext cx="4015800" cy="26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6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6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19320"/>
            <a:ext cx="8229600" cy="26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6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19320"/>
            <a:ext cx="8229600" cy="26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6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6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19320"/>
            <a:ext cx="4015800" cy="26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19320"/>
            <a:ext cx="4015800" cy="26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6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6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6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19320"/>
            <a:ext cx="2649600" cy="26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19320"/>
            <a:ext cx="2649600" cy="26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19320"/>
            <a:ext cx="2649600" cy="26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6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6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6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151920"/>
            <a:ext cx="6629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6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6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19320"/>
            <a:ext cx="4015800" cy="26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6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6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19320"/>
            <a:ext cx="4015800" cy="26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6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6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19320"/>
            <a:ext cx="8229600" cy="26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2"/>
            </a:gs>
            <a:gs pos="100000">
              <a:srgbClr val="00009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629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56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90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0" y="6629400"/>
            <a:ext cx="4191120" cy="2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3080" tIns="46800" bIns="468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cc"/>
                </a:solidFill>
                <a:latin typeface="Verdana"/>
              </a:rPr>
              <a:t>September 2001</a:t>
            </a:r>
            <a:r>
              <a:rPr b="1" lang="en-US" sz="1200" spc="-1" strike="noStrike">
                <a:solidFill>
                  <a:srgbClr val="0099cc"/>
                </a:solidFill>
                <a:latin typeface="Verdana"/>
              </a:rPr>
              <a:t>	</a:t>
            </a:r>
            <a:fld id="{91B1B087-24FB-49C6-AD5D-7A78A1E3AB05}" type="slidenum">
              <a:rPr b="1" lang="en-US" sz="1200" spc="-1" strike="noStrike">
                <a:solidFill>
                  <a:srgbClr val="0099cc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90720" y="3581280"/>
            <a:ext cx="6885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mlabs_vert_white" descr=""/>
          <p:cNvPicPr/>
          <p:nvPr/>
        </p:nvPicPr>
        <p:blipFill>
          <a:blip r:embed="rId2"/>
          <a:stretch/>
        </p:blipFill>
        <p:spPr>
          <a:xfrm>
            <a:off x="7238880" y="54000"/>
            <a:ext cx="1447920" cy="8143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457200" y="838080"/>
            <a:ext cx="6627960" cy="0"/>
          </a:xfrm>
          <a:prstGeom prst="line">
            <a:avLst/>
          </a:prstGeom>
          <a:ln w="1260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flipH="1">
            <a:off x="457200" y="6629400"/>
            <a:ext cx="8229600" cy="0"/>
          </a:xfrm>
          <a:prstGeom prst="line">
            <a:avLst/>
          </a:prstGeom>
          <a:ln w="1260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495360" y="838080"/>
            <a:ext cx="659124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2"/>
            </a:gs>
            <a:gs pos="100000">
              <a:srgbClr val="00009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457200" y="6553080"/>
            <a:ext cx="8229600" cy="0"/>
          </a:xfrm>
          <a:prstGeom prst="line">
            <a:avLst/>
          </a:prstGeom>
          <a:ln w="1260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00600" y="6553080"/>
            <a:ext cx="380520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19920" y="6556320"/>
            <a:ext cx="27432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cc"/>
                </a:solidFill>
                <a:latin typeface="Verdana"/>
              </a:rPr>
              <a:t>Motorola Labs UK     </a:t>
            </a:r>
            <a:fld id="{5409186A-B3B6-444F-944E-423D21099E95}" type="slidenum">
              <a:rPr b="1" lang="en-US" sz="1400" spc="-1" strike="noStrike">
                <a:solidFill>
                  <a:srgbClr val="0099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219320"/>
            <a:ext cx="8229600" cy="0"/>
          </a:xfrm>
          <a:prstGeom prst="line">
            <a:avLst/>
          </a:prstGeom>
          <a:ln w="1260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mlabs_white" descr=""/>
          <p:cNvPicPr/>
          <p:nvPr/>
        </p:nvPicPr>
        <p:blipFill>
          <a:blip r:embed="rId2"/>
          <a:stretch/>
        </p:blipFill>
        <p:spPr>
          <a:xfrm>
            <a:off x="900000" y="42840"/>
            <a:ext cx="7342200" cy="11001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7160" algn="ctr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200240" algn="ctr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542960" algn="ctr">
              <a:spcBef>
                <a:spcPts val="34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5" marL="154296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6" marL="154296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2"/>
            </a:gs>
            <a:gs pos="100000">
              <a:srgbClr val="00009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189160" y="2409840"/>
            <a:ext cx="5033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he Meaning of a Specification’s Mea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ase Example: MS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ve Jerv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2"/>
            </a:gs>
            <a:gs pos="100000">
              <a:srgbClr val="00009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629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s MSC a Design Language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5120" y="1182600"/>
            <a:ext cx="8050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f we partition instances into components, then the partition forms a desig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particular, if we take each instance as a separate component, it represents a desig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to consider an MSC as a desig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1792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tract a trace specification for each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1792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current composition of the components represents the design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9480" y="5230800"/>
            <a:ext cx="80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MSC is a design language if we define compon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MSC language is not very helpful in defining desig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2"/>
            </a:gs>
            <a:gs pos="100000">
              <a:srgbClr val="00009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629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Overspecific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6960" y="1521000"/>
            <a:ext cx="8050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can define overspecification of a component in a desig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f a component specification can be relaxed without altering the set of possible constructions, then it is overspecif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verspecification represents functional redundan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2"/>
            </a:gs>
            <a:gs pos="100000">
              <a:srgbClr val="00009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629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Overspecified Instan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106880" y="952560"/>
            <a:ext cx="4514760" cy="2693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96440" y="952560"/>
            <a:ext cx="20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s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verspec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264440" y="1371600"/>
            <a:ext cx="114300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64440" y="3225960"/>
            <a:ext cx="1143000" cy="304560"/>
          </a:xfrm>
          <a:prstGeom prst="rect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829480" y="1371600"/>
            <a:ext cx="114300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d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29480" y="3225960"/>
            <a:ext cx="1143000" cy="304560"/>
          </a:xfrm>
          <a:prstGeom prst="rect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>
            <a:stCxn id="153" idx="2"/>
            <a:endCxn id="154" idx="0"/>
          </p:cNvCxnSpPr>
          <p:nvPr/>
        </p:nvCxnSpPr>
        <p:spPr>
          <a:xfrm>
            <a:off x="7835400" y="1690200"/>
            <a:ext cx="1080" cy="1521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6532560" y="1908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6" idx="0"/>
            <a:endCxn id="155" idx="2"/>
          </p:cNvCxnSpPr>
          <p:nvPr/>
        </p:nvCxnSpPr>
        <p:spPr>
          <a:xfrm flipV="1">
            <a:off x="6400440" y="1689840"/>
            <a:ext cx="1080" cy="1521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60" name=""/>
          <p:cNvSpPr/>
          <p:nvPr/>
        </p:nvSpPr>
        <p:spPr>
          <a:xfrm>
            <a:off x="4410000" y="1368360"/>
            <a:ext cx="114300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410000" y="3222720"/>
            <a:ext cx="1143000" cy="304560"/>
          </a:xfrm>
          <a:prstGeom prst="rect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60" idx="2"/>
            <a:endCxn id="161" idx="0"/>
          </p:cNvCxnSpPr>
          <p:nvPr/>
        </p:nvCxnSpPr>
        <p:spPr>
          <a:xfrm>
            <a:off x="4981320" y="1687680"/>
            <a:ext cx="1080" cy="1521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63" name=""/>
          <p:cNvSpPr/>
          <p:nvPr/>
        </p:nvSpPr>
        <p:spPr>
          <a:xfrm>
            <a:off x="6044040" y="2379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4978080" y="2703240"/>
            <a:ext cx="1428840" cy="14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6400800" y="2246040"/>
            <a:ext cx="1428840" cy="14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25960" y="3795840"/>
            <a:ext cx="4514760" cy="2693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114800" y="379584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s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just_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283520" y="4214880"/>
            <a:ext cx="114300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283520" y="6068880"/>
            <a:ext cx="1143000" cy="304920"/>
          </a:xfrm>
          <a:prstGeom prst="rect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848200" y="4214880"/>
            <a:ext cx="114300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d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"/>
          <p:cNvCxnSpPr>
            <a:stCxn id="172" idx="0"/>
            <a:endCxn id="173" idx="0"/>
          </p:cNvCxnSpPr>
          <p:nvPr/>
        </p:nvCxnSpPr>
        <p:spPr>
          <a:xfrm flipH="1">
            <a:off x="6419160" y="5894280"/>
            <a:ext cx="5400" cy="161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5848200" y="6068880"/>
            <a:ext cx="1143000" cy="304920"/>
          </a:xfrm>
          <a:prstGeom prst="rect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68" idx="2"/>
            <a:endCxn id="169" idx="0"/>
          </p:cNvCxnSpPr>
          <p:nvPr/>
        </p:nvCxnSpPr>
        <p:spPr>
          <a:xfrm>
            <a:off x="7854480" y="4533480"/>
            <a:ext cx="1080" cy="1521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6551640" y="4751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6424200" y="4863960"/>
            <a:ext cx="3240" cy="10177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"/>
          <p:cNvCxnSpPr>
            <a:stCxn id="176" idx="0"/>
            <a:endCxn id="170" idx="2"/>
          </p:cNvCxnSpPr>
          <p:nvPr/>
        </p:nvCxnSpPr>
        <p:spPr>
          <a:xfrm flipH="1" flipV="1">
            <a:off x="6419520" y="4533480"/>
            <a:ext cx="8640" cy="316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8" name=""/>
          <p:cNvSpPr/>
          <p:nvPr/>
        </p:nvSpPr>
        <p:spPr>
          <a:xfrm flipH="1">
            <a:off x="6265440" y="5875200"/>
            <a:ext cx="290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265440" y="4859280"/>
            <a:ext cx="290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29080" y="4211640"/>
            <a:ext cx="114300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29080" y="6066000"/>
            <a:ext cx="1143000" cy="304560"/>
          </a:xfrm>
          <a:prstGeom prst="rect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"/>
          <p:cNvCxnSpPr>
            <a:stCxn id="180" idx="2"/>
            <a:endCxn id="181" idx="0"/>
          </p:cNvCxnSpPr>
          <p:nvPr/>
        </p:nvCxnSpPr>
        <p:spPr>
          <a:xfrm>
            <a:off x="5000400" y="4530240"/>
            <a:ext cx="1080" cy="1521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63120" y="5222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997160" y="5560920"/>
            <a:ext cx="1428840" cy="12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419880" y="5103720"/>
            <a:ext cx="1428840" cy="12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17480" y="1608120"/>
            <a:ext cx="309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iddle specifies that m is sent before n, but upper and lower don’t know or c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89120" y="4260960"/>
            <a:ext cx="309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lementer is free to choose order of sending m and 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2"/>
            </a:gs>
            <a:gs pos="100000">
              <a:srgbClr val="00009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629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Refine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74560" y="1554120"/>
            <a:ext cx="83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refinement is a design that satisfies a given spec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inement can reduce the choices open to an implemen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MSCs be used in refine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at’s another story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2"/>
            </a:gs>
            <a:gs pos="100000">
              <a:srgbClr val="00009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629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What is the meaning of MSC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30200" y="1031760"/>
            <a:ext cx="8361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s it a specification langua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s it a design langua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s it an implementation langua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Its whatever you want it to be, but the semantics fit none of the abov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No-one agrees on what an MSC means, even though everyone can agree its semanti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f we add a definition of implementation, we find that there are MSCs with well defined semantics, but which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consistent (have no possible implementation)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2"/>
            </a:gs>
            <a:gs pos="100000">
              <a:srgbClr val="00009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629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all To Ar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84080" y="1935000"/>
            <a:ext cx="7554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et us agree on meaning of semantic 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nsure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commendations use the terms consist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semantics reflect the 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We are worse off than UML, because we pretend to have semantics, even formal seman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2"/>
            </a:gs>
            <a:gs pos="100000">
              <a:srgbClr val="00009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629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What is a Specification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29400" y="1227240"/>
            <a:ext cx="6450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readily use terms such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ecificatio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sig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invent formal languages to express the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may even ascribe them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forma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emanti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use sub-categories such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der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ver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ined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ut what do they me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are their relationshi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2"/>
            </a:gs>
            <a:gs pos="100000">
              <a:srgbClr val="00009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629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Specific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66840" y="1044720"/>
            <a:ext cx="8464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18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simple defini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18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ffcc00"/>
                </a:solidFill>
                <a:latin typeface="Arial"/>
              </a:rPr>
              <a:t>A specification represents a set of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1839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specification that represents more than one implementation we call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underspecification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an implementer is free to choose which one to bui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1839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1839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specification that represents just one implementation is complete and the implementer has no freedom of cho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1839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1839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ice, the ‘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type’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of specifications is different to the ‘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type’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of implementations: 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type Spec = set of(set of Im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1839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1839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finition is independent of definition of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2"/>
            </a:gs>
            <a:gs pos="100000">
              <a:srgbClr val="00009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629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rrect Implemen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6840" y="1044720"/>
            <a:ext cx="8464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finition of correctn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cc00"/>
                </a:solidFill>
                <a:latin typeface="Arial"/>
              </a:rPr>
              <a:t>An implementation satisfies its specification if it is amongst its represen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I satisfies S </a:t>
            </a:r>
            <a:r>
              <a:rPr b="0" lang="en-GB" sz="2400" spc="-1" strike="noStrike">
                <a:solidFill>
                  <a:srgbClr val="ffcc00"/>
                </a:solidFill>
                <a:latin typeface="Symbol"/>
                <a:ea typeface="Symbol"/>
              </a:rPr>
              <a:t>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 I </a:t>
            </a:r>
            <a:r>
              <a:rPr b="0" lang="en-GB" sz="2400" spc="-1" strike="noStrike">
                <a:solidFill>
                  <a:srgbClr val="ffcc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f a specification is inconsistent, then it represents the empty set, and so no implementation can satisfy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2"/>
            </a:gs>
            <a:gs pos="100000">
              <a:srgbClr val="00009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629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s MSC a Specification Language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66840" y="955800"/>
            <a:ext cx="84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18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cording to the language, an MSC defines a set of tr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18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ut does each trace define an intended implement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08320" y="1873080"/>
            <a:ext cx="4514760" cy="2694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98600" y="1873080"/>
            <a:ext cx="28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s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m_I_a_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65880" y="2292480"/>
            <a:ext cx="114300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65880" y="4146480"/>
            <a:ext cx="1143000" cy="304920"/>
          </a:xfrm>
          <a:prstGeom prst="rect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30560" y="2292480"/>
            <a:ext cx="114300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d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98" idx="2"/>
            <a:endCxn id="99" idx="0"/>
          </p:cNvCxnSpPr>
          <p:nvPr/>
        </p:nvCxnSpPr>
        <p:spPr>
          <a:xfrm>
            <a:off x="6036840" y="2611080"/>
            <a:ext cx="1080" cy="1521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2" name=""/>
          <p:cNvSpPr/>
          <p:nvPr/>
        </p:nvSpPr>
        <p:spPr>
          <a:xfrm>
            <a:off x="4734000" y="28288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104" idx="0"/>
            <a:endCxn id="100" idx="2"/>
          </p:cNvCxnSpPr>
          <p:nvPr/>
        </p:nvCxnSpPr>
        <p:spPr>
          <a:xfrm flipV="1">
            <a:off x="4601880" y="2610720"/>
            <a:ext cx="1080" cy="1521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5" name=""/>
          <p:cNvSpPr/>
          <p:nvPr/>
        </p:nvSpPr>
        <p:spPr>
          <a:xfrm>
            <a:off x="2611440" y="2289240"/>
            <a:ext cx="114300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11440" y="4143240"/>
            <a:ext cx="1143000" cy="304920"/>
          </a:xfrm>
          <a:prstGeom prst="rect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105" idx="2"/>
            <a:endCxn id="106" idx="0"/>
          </p:cNvCxnSpPr>
          <p:nvPr/>
        </p:nvCxnSpPr>
        <p:spPr>
          <a:xfrm>
            <a:off x="3182400" y="2607840"/>
            <a:ext cx="1080" cy="1521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4245120" y="3300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179880" y="3638520"/>
            <a:ext cx="1428480" cy="12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02240" y="3181320"/>
            <a:ext cx="1428840" cy="12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702400" y="4645080"/>
            <a:ext cx="295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18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&lt; !m, ?m, !n, ?n 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18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&lt; !m, !n, ?m, ?n 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18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&lt; !m, !n, ?n, ?m 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030560" y="4146480"/>
            <a:ext cx="1143000" cy="304920"/>
          </a:xfrm>
          <a:prstGeom prst="rect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2760" y="4660920"/>
            <a:ext cx="487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1890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SC defines 3 tr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1890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ch trace fixes the exact order of events 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?m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?n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59594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18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MSC semantics does not seem to fit our definition of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2"/>
            </a:gs>
            <a:gs pos="100000">
              <a:srgbClr val="00009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629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SC is a Specification Langua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6840" y="905040"/>
            <a:ext cx="84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 is possible to define functions that transforms a set of traces into sets of tr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450880" y="3330720"/>
            <a:ext cx="4523040" cy="2693880"/>
            <a:chOff x="2450880" y="3330720"/>
            <a:chExt cx="4523040" cy="2693880"/>
          </a:xfrm>
        </p:grpSpPr>
        <p:sp>
          <p:nvSpPr>
            <p:cNvPr id="117" name=""/>
            <p:cNvSpPr/>
            <p:nvPr/>
          </p:nvSpPr>
          <p:spPr>
            <a:xfrm>
              <a:off x="2459160" y="3330720"/>
              <a:ext cx="4514760" cy="2693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450880" y="3330720"/>
              <a:ext cx="356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msc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one_implementation_or_tw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16720" y="3749760"/>
              <a:ext cx="114300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w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616720" y="5603760"/>
              <a:ext cx="1143000" cy="304920"/>
            </a:xfrm>
            <a:prstGeom prst="rect">
              <a:avLst/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81400" y="3749760"/>
              <a:ext cx="114300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idd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2" name=""/>
            <p:cNvCxnSpPr>
              <a:stCxn id="123" idx="0"/>
              <a:endCxn id="124" idx="0"/>
            </p:cNvCxnSpPr>
            <p:nvPr/>
          </p:nvCxnSpPr>
          <p:spPr>
            <a:xfrm flipH="1">
              <a:off x="4752360" y="5429160"/>
              <a:ext cx="5400" cy="1612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4" name=""/>
            <p:cNvSpPr/>
            <p:nvPr/>
          </p:nvSpPr>
          <p:spPr>
            <a:xfrm>
              <a:off x="4181400" y="5603760"/>
              <a:ext cx="1143000" cy="304920"/>
            </a:xfrm>
            <a:prstGeom prst="rect">
              <a:avLst/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5" name=""/>
            <p:cNvCxnSpPr>
              <a:stCxn id="119" idx="2"/>
              <a:endCxn id="120" idx="0"/>
            </p:cNvCxnSpPr>
            <p:nvPr/>
          </p:nvCxnSpPr>
          <p:spPr>
            <a:xfrm>
              <a:off x="6187680" y="4068360"/>
              <a:ext cx="1080" cy="1521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6" name=""/>
            <p:cNvSpPr/>
            <p:nvPr/>
          </p:nvSpPr>
          <p:spPr>
            <a:xfrm>
              <a:off x="4884840" y="428616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4757400" y="4398840"/>
              <a:ext cx="3240" cy="10177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8" name=""/>
            <p:cNvCxnSpPr>
              <a:stCxn id="127" idx="0"/>
              <a:endCxn id="121" idx="2"/>
            </p:cNvCxnSpPr>
            <p:nvPr/>
          </p:nvCxnSpPr>
          <p:spPr>
            <a:xfrm flipH="1" flipV="1">
              <a:off x="4752720" y="4068360"/>
              <a:ext cx="8640" cy="316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9" name=""/>
            <p:cNvSpPr/>
            <p:nvPr/>
          </p:nvSpPr>
          <p:spPr>
            <a:xfrm flipH="1">
              <a:off x="4598640" y="5410080"/>
              <a:ext cx="29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4598640" y="4394160"/>
              <a:ext cx="29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762280" y="3746520"/>
              <a:ext cx="114300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pp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762280" y="5600880"/>
              <a:ext cx="1143000" cy="304560"/>
            </a:xfrm>
            <a:prstGeom prst="rect">
              <a:avLst/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3" name=""/>
            <p:cNvCxnSpPr>
              <a:stCxn id="131" idx="2"/>
              <a:endCxn id="132" idx="0"/>
            </p:cNvCxnSpPr>
            <p:nvPr/>
          </p:nvCxnSpPr>
          <p:spPr>
            <a:xfrm>
              <a:off x="3333600" y="4065120"/>
              <a:ext cx="1080" cy="1521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4" name=""/>
            <p:cNvSpPr/>
            <p:nvPr/>
          </p:nvSpPr>
          <p:spPr>
            <a:xfrm>
              <a:off x="4396320" y="47577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3330360" y="5095800"/>
              <a:ext cx="1428840" cy="12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53080" y="4638600"/>
              <a:ext cx="1428840" cy="12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0" y="6099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18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MSC Semantics not very helpful but permits many interpre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1280" y="1717560"/>
            <a:ext cx="846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ever, there are different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r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3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ne permits only deterministic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3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ne permits non-determinist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2"/>
            </a:gs>
            <a:gs pos="100000">
              <a:srgbClr val="00009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31844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hen is a Specification not a Specification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4720" y="1339920"/>
            <a:ext cx="8140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n it’s a desig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Specifications commonly tell not just what we can build, but how to build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n is a design not a desig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n it’s a spec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Often designs are vehicles for expressing specif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That is, an implementer does not have to follow the design, just the functiona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 MSC a design langua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2"/>
            </a:gs>
            <a:gs pos="100000">
              <a:srgbClr val="00009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629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7760" y="1044720"/>
            <a:ext cx="82436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18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simple defini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18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183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cc00"/>
                </a:solidFill>
                <a:latin typeface="Arial"/>
              </a:rPr>
              <a:t>A prescription for building an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183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cc00"/>
                </a:solidFill>
                <a:latin typeface="Arial"/>
              </a:rPr>
              <a:t>from a set of given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1839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y ‘given’ we mean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specifie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1839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1839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y ‘prescription’ we mean a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1839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1839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ice, the ‘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type’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of design is different  to the ‘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type’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of specification and ‘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type’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of implement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1839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1839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finition is independent of implementation, but not of spec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2"/>
            </a:gs>
            <a:gs pos="100000">
              <a:srgbClr val="00009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629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rrect Desig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5120" y="1271520"/>
            <a:ext cx="8050320" cy="41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design is correct with respect to a specific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1792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never we take a set of components that meet their specification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1792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d construct an implementation following the design prescriptio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1792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n it satisfies the spec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c</a:t>
            </a:r>
            <a:r>
              <a:rPr b="0" lang="en-GB" sz="2400" spc="-1" strike="noStrike" baseline="-25000">
                <a:solidFill>
                  <a:srgbClr val="ffcc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 sat S</a:t>
            </a:r>
            <a:r>
              <a:rPr b="0" lang="en-GB" sz="2400" spc="-1" strike="noStrike" baseline="-25000">
                <a:solidFill>
                  <a:srgbClr val="ffcc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cc00"/>
                </a:solidFill>
                <a:latin typeface="Symbol"/>
                <a:ea typeface="Symbol"/>
              </a:rPr>
              <a:t>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 … </a:t>
            </a:r>
            <a:r>
              <a:rPr b="0" lang="en-GB" sz="2400" spc="-1" strike="noStrike">
                <a:solidFill>
                  <a:srgbClr val="ffcc00"/>
                </a:solidFill>
                <a:latin typeface="Symbol"/>
                <a:ea typeface="Symbol"/>
              </a:rPr>
              <a:t>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 c</a:t>
            </a:r>
            <a:r>
              <a:rPr b="0" lang="en-GB" sz="2400" spc="-1" strike="noStrike" baseline="-25000">
                <a:solidFill>
                  <a:srgbClr val="ffcc00"/>
                </a:solidFill>
                <a:latin typeface="Arial"/>
              </a:rPr>
              <a:t>n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 sat S</a:t>
            </a:r>
            <a:r>
              <a:rPr b="0" lang="en-GB" sz="2400" spc="-1" strike="noStrike" baseline="-25000">
                <a:solidFill>
                  <a:srgbClr val="ffcc00"/>
                </a:solidFill>
                <a:latin typeface="Arial"/>
              </a:rPr>
              <a:t>n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cc00"/>
                </a:solidFill>
                <a:latin typeface="Symbol"/>
                <a:ea typeface="Symbol"/>
              </a:rPr>
              <a:t>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 D(c</a:t>
            </a:r>
            <a:r>
              <a:rPr b="0" lang="en-GB" sz="2400" spc="-1" strike="noStrike" baseline="-25000">
                <a:solidFill>
                  <a:srgbClr val="ffcc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, …, c</a:t>
            </a:r>
            <a:r>
              <a:rPr b="0" lang="en-GB" sz="2400" spc="-1" strike="noStrike" baseline="-25000">
                <a:solidFill>
                  <a:srgbClr val="ffcc00"/>
                </a:solidFill>
                <a:latin typeface="Arial"/>
              </a:rPr>
              <a:t>n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) sat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, design correctness is measured against a given spec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9T14:07:27Z</dcterms:created>
  <dc:creator>Clive Jervis</dc:creator>
  <dc:description/>
  <dc:language>en-US</dc:language>
  <cp:lastModifiedBy>Clive Jervis</cp:lastModifiedBy>
  <cp:lastPrinted>1999-09-21T14:01:23Z</cp:lastPrinted>
  <dcterms:modified xsi:type="dcterms:W3CDTF">2002-04-09T22:31:23Z</dcterms:modified>
  <cp:revision>20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epartment">
    <vt:lpwstr>Motorola Labs</vt:lpwstr>
  </property>
  <property fmtid="{D5CDD505-2E9C-101B-9397-08002B2CF9AE}" pid="3" name="Document number">
    <vt:lpwstr>1</vt:lpwstr>
  </property>
</Properties>
</file>