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85480" y="701280"/>
            <a:ext cx="4622760" cy="346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28440" y="4406760"/>
            <a:ext cx="513540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584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28440" y="4406760"/>
            <a:ext cx="513540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 of slide:  Introduce the founding principals which lead to the creation of cdma20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cdma2000 was to advance IS-95 based on the requirements defined under the IMT-2000 requirements of ITU.  The basic requirements were to provide high speed data services for Indoor, Indoor to Outdoor/Pedestrian, and Vehicular environ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IS-95 is a FDD based technologies, technical proposals were also introduced which defined TDD modes of operation as well.  These were adopted by WG-IV of TR45.5 and included in the cdma2000 RTT proposal to ITU-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dma2000 RTT proposal, as defined, meets the IMT-2000 requirements while maintaining backward compatibility to what the industry terms “cdmaOne”, which is a complete family of standa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existing services such as - speech coders, packet data, circuit data, fax, SMS, OTA, were identified as capabilities already available with the IS-95 family of standards and were included in the requirements for cdma2000 to be evolved and inclusive in the 3rd generation of cdma2000 capabili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329040"/>
            <a:ext cx="61722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329040"/>
            <a:ext cx="61722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7080" y="39121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9840" y="329040"/>
            <a:ext cx="61722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6240" y="152388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7560" y="152388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6240" y="391212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7560" y="391212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329040"/>
            <a:ext cx="61722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329040"/>
            <a:ext cx="61722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329040"/>
            <a:ext cx="61722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329040"/>
            <a:ext cx="61722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9840" y="380880"/>
            <a:ext cx="61722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329040"/>
            <a:ext cx="61722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329040"/>
            <a:ext cx="61722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7080" y="39121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329040"/>
            <a:ext cx="61722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73160" y="6432480"/>
            <a:ext cx="295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U-T Workshop on Security, Seoul (Korea) 13-14 May,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6297480"/>
            <a:ext cx="8766360" cy="27000"/>
          </a:xfrm>
          <a:prstGeom prst="rect">
            <a:avLst/>
          </a:prstGeom>
          <a:gradFill rotWithShape="0">
            <a:gsLst>
              <a:gs pos="0">
                <a:srgbClr val="5315ce"/>
              </a:gs>
              <a:gs pos="50000">
                <a:srgbClr val="a889e5"/>
              </a:gs>
              <a:gs pos="100000">
                <a:srgbClr val="5315c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9400" y="1039680"/>
            <a:ext cx="8766000" cy="27000"/>
          </a:xfrm>
          <a:prstGeom prst="rect">
            <a:avLst/>
          </a:prstGeom>
          <a:gradFill rotWithShape="0">
            <a:gsLst>
              <a:gs pos="0">
                <a:srgbClr val="5315ce"/>
              </a:gs>
              <a:gs pos="50000">
                <a:srgbClr val="a889e5"/>
              </a:gs>
              <a:gs pos="100000">
                <a:srgbClr val="5315c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3GPP2%20logo%20v2" descr=""/>
          <p:cNvPicPr/>
          <p:nvPr/>
        </p:nvPicPr>
        <p:blipFill>
          <a:blip r:embed="rId2"/>
          <a:stretch/>
        </p:blipFill>
        <p:spPr>
          <a:xfrm>
            <a:off x="0" y="169920"/>
            <a:ext cx="2230560" cy="695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399880" y="6458040"/>
            <a:ext cx="64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DF03-8FB9-435C-8277-4FF74708AAD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3gpp2.org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1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image" Target="../media/image8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9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0.png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1.png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12.png"/><Relationship Id="rId1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68320" y="1852560"/>
            <a:ext cx="58867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Security in cdma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81360" y="4027320"/>
            <a:ext cx="53863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ank Qui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ALCOMM, Incorporat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ir, 3GPP2 TSG-S WG4 (Security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cdma2000 Overview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IS-2000/C.S0001-0005 through revision B (alias 1x, 3x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ied operation on 1 or 3 1.25 MHz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voice and data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IS-856/C.S0024 (alias HDR, HRPD, 1xEV-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 to 2.4 Mb/s burst data rate on a 1.25 MHz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Internet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Fut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-2000-C and later: improved data and voice (EV-D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H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IS-2000/C.S0001-0005 (1x-3x)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Direct sequence sp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25 MHz bandwidth per physical channel, 1 or 3 channe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Forward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thogonal modulation using 64 or 128 Walsh codes (depending on rate set in us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Reverse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lot-aided coherent modulation, spreading sequence offset channeliz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General voice and data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 to 307 kb/s (1x), 1.04 Mb/s (3x) per supplemental data 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Net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STN and Internet service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-41 MAP for mobility management and 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1x-3x Network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46400" y="5619600"/>
            <a:ext cx="11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Times New Roman"/>
              </a:rPr>
              <a:t>Home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46640" y="5619600"/>
            <a:ext cx="127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Times New Roman"/>
              </a:rPr>
              <a:t>Visited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17960" y="3282840"/>
            <a:ext cx="1218960" cy="838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4495680"/>
            <a:ext cx="1219320" cy="838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3276720"/>
            <a:ext cx="1219320" cy="838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TN 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43400" y="3733920"/>
            <a:ext cx="9144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43800" y="2286000"/>
            <a:ext cx="228600" cy="5335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696080" y="20570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2133720"/>
            <a:ext cx="1218960" cy="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0480" y="4713120"/>
            <a:ext cx="16786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Security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Key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37240" y="3352680"/>
            <a:ext cx="17928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Subscription pro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Authorization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Location 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55680" y="3211560"/>
            <a:ext cx="187524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Local authent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Mobility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2057400"/>
            <a:ext cx="1219320" cy="838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dio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360" y="335268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S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81840" y="1004760"/>
            <a:ext cx="451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imes New Roman"/>
              </a:rPr>
              <a:t>(voice and other circuit-switched servi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4876920"/>
            <a:ext cx="4572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800600" y="3733560"/>
            <a:ext cx="0" cy="1143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2895480"/>
            <a:ext cx="0" cy="3812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Future All-IP Network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Not just a replacement for SS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Internet-based network signaling, likely inclu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IP for location registration and data deliv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 servers may replace HL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P for call/session establish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 security protoco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New security challeng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twork is directly exposed to Internet attac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security in one operator’s system may jeopardize the entir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TSG-S WG4 is establishing security requirements for the all-IP Net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IS-856/C.S0024 (1xEV-DO)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IS-2000 Compatible RF parameters and compon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pla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al-mode 1x/1xEV-DO terminals suppo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High-performance data serv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MA/TDMA hybrid with demand assig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 to 2.4576 Mb/s FL burst rate, 153.6 kb/s R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Network: direct Internet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IP for mobility with fixed IP add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IP” for mobility with locally assigned IP add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A/Radius security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1xEV-DO Network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46400" y="5619600"/>
            <a:ext cx="11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Times New Roman"/>
              </a:rPr>
              <a:t>Home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46640" y="5619600"/>
            <a:ext cx="127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Times New Roman"/>
              </a:rPr>
              <a:t>Visited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4572000"/>
            <a:ext cx="1219320" cy="838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me 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3048120"/>
            <a:ext cx="1219320" cy="838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AA-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57800" y="4572000"/>
            <a:ext cx="1219320" cy="838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DSN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eign 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34320" y="3200400"/>
            <a:ext cx="228600" cy="5335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86600" y="29714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3124080"/>
            <a:ext cx="609480" cy="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16800" y="2895480"/>
            <a:ext cx="16786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Subscrip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Authoriz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Security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Key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4080" y="4641840"/>
            <a:ext cx="178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Location 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55680" y="4506840"/>
            <a:ext cx="187524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PDSN access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Mobility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3048120"/>
            <a:ext cx="1219320" cy="838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dio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2057400"/>
            <a:ext cx="0" cy="2895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94960" y="1676520"/>
            <a:ext cx="7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3429000"/>
            <a:ext cx="9144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4952880"/>
            <a:ext cx="9144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600200"/>
            <a:ext cx="1219320" cy="838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"/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-A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18960" y="1600200"/>
            <a:ext cx="171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RAN access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72400" y="3276720"/>
            <a:ext cx="533520" cy="38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848720" y="3352680"/>
            <a:ext cx="380880" cy="22860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7696080" y="3657600"/>
            <a:ext cx="76320" cy="76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05920" y="3657600"/>
            <a:ext cx="75960" cy="76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96080" y="373392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62920" y="3581280"/>
            <a:ext cx="6094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02560" y="374508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467120" y="373392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DA, laptop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3886200"/>
            <a:ext cx="0" cy="685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Security Elements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Access Control (bilater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Key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Data and identity priv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Provis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Access Control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Protection of System Resources against Unauthorized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Terminal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ent fraudulent use of th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of of subscription id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of of sender identity and message integ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Network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ent false base station attacks on user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Autho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is a pre-requisite for Author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Access Rights based on Subscription data are passed from home system (HLR or AAA) to serv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Key Management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S-2000/C.S0001-000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es on symmetric keys for all secu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oot authentication key forms the base security associ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ssion keys are derived from the root key during authent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S-856/C.S002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public-key agreement to establish airlink session ke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symmetric keys for Radius authent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Authentication Methods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Message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thod where each message includes identification and proof of ident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thod is required on random-access chann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a long-term security 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Connection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thod where identity is proven once, and all subsequent data includes proof that it comes from the same sou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ful where a connection is established, including a session-related security assoc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0020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0400" y="1719360"/>
            <a:ext cx="781380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???"/>
              </a:rPr>
              <a:t>The 3GPP2 organization (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ea typeface="???"/>
                <a:hlinkClick r:id="rId1"/>
              </a:rPr>
              <a:t>www.3gpp2.or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???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???"/>
              </a:rPr>
              <a:t>The cdma2000 family of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???"/>
              </a:rPr>
              <a:t>Wireless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???"/>
              </a:rPr>
              <a:t>Security Architectures in cdma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IS-2000 Authentication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Challenge-Response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 B and earli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acy authentication based on IS-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 C and lat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KA (same as UMTS authentication), pl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 UIM authentication procedure to prove presence of a valid UIM, preventing rogue shell atta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Message Integrity Che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ed SHA-1-based hash of message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ptosync based on time and other data to prevent replay attac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IS-2000-C Authentication (AKA)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52480" y="1752480"/>
            <a:ext cx="0" cy="2590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1828800"/>
            <a:ext cx="0" cy="2514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0" y="1828800"/>
            <a:ext cx="0" cy="3886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15520" y="1382760"/>
            <a:ext cx="6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21760" y="138276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sited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00000" y="138276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me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52480" y="2057400"/>
            <a:ext cx="2667240" cy="0"/>
          </a:xfrm>
          <a:prstGeom prst="line">
            <a:avLst/>
          </a:prstGeom>
          <a:ln w="3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19720" y="2209680"/>
            <a:ext cx="2438280" cy="0"/>
          </a:xfrm>
          <a:prstGeom prst="line">
            <a:avLst/>
          </a:prstGeom>
          <a:ln w="3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419360" y="2666880"/>
            <a:ext cx="2438280" cy="0"/>
          </a:xfrm>
          <a:prstGeom prst="line">
            <a:avLst/>
          </a:prstGeom>
          <a:ln w="3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752120" y="2895480"/>
            <a:ext cx="2667240" cy="0"/>
          </a:xfrm>
          <a:prstGeom prst="line">
            <a:avLst/>
          </a:prstGeom>
          <a:ln w="3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67920" y="176364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Registration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52480" y="4876920"/>
            <a:ext cx="2667240" cy="0"/>
          </a:xfrm>
          <a:prstGeom prst="line">
            <a:avLst/>
          </a:prstGeom>
          <a:ln w="3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3352680"/>
            <a:ext cx="2667240" cy="0"/>
          </a:xfrm>
          <a:prstGeom prst="line">
            <a:avLst/>
          </a:prstGeom>
          <a:ln w="3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19720" y="3505320"/>
            <a:ext cx="2438280" cy="0"/>
          </a:xfrm>
          <a:prstGeom prst="line">
            <a:avLst/>
          </a:prstGeom>
          <a:ln w="3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95680" y="1916280"/>
            <a:ext cx="230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Times New Roman"/>
              </a:rPr>
              <a:t>Authentication vector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19440" y="2373480"/>
            <a:ext cx="22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Times New Roman"/>
              </a:rPr>
              <a:t>AV(challenge, response, B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99720" y="2590920"/>
            <a:ext cx="22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Times New Roman"/>
              </a:rPr>
              <a:t>Challenge, BS authent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38360" y="3059280"/>
            <a:ext cx="86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Times New Roman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58480" y="321156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Registration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71920" y="266688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Times New Roman"/>
              </a:rPr>
              <a:t>authentication, CK, IK, UA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32880" y="2133720"/>
            <a:ext cx="208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ute response, CK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K, UAK using root key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6440" y="2819520"/>
            <a:ext cx="1553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ute respons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K, IK, UA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root key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349360" y="458316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Times New Roman"/>
              </a:rPr>
              <a:t>Access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84320" y="4811760"/>
            <a:ext cx="19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Times New Roman"/>
              </a:rPr>
              <a:t>(MAC using IK or UA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419360" y="3886200"/>
            <a:ext cx="2438280" cy="0"/>
          </a:xfrm>
          <a:prstGeom prst="line">
            <a:avLst/>
          </a:prstGeom>
          <a:ln w="3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1752120" y="4038480"/>
            <a:ext cx="2667240" cy="0"/>
          </a:xfrm>
          <a:prstGeom prst="line">
            <a:avLst/>
          </a:prstGeom>
          <a:ln w="3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79000" y="3592440"/>
            <a:ext cx="173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Registration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29760" y="3733920"/>
            <a:ext cx="173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Registration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52480" y="4648320"/>
            <a:ext cx="0" cy="99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4648320"/>
            <a:ext cx="0" cy="99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52480" y="434340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434340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IS-856 Authentication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R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 connection establishment is neither authenticated nor encryp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ssion establishment includes Diffie-Hellman key negoti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RAN-domain messages can be authenticated and/or encrypted using the negotiated ke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P/LCP setup follows session establish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 user identity is optionally authenticated by CHA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a the RAN-AA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integrity protection (encryption, keyed MAC) prevents packet insertion or similar theft of serv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PDS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parate PPP/LCP instance cre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 and/or MIP authentication of PDSN user identity via the home AAA ser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 security ensures integrity of the PPP conn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IS-856 Authentication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10080" y="1828800"/>
            <a:ext cx="0" cy="3886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6840" y="1371600"/>
            <a:ext cx="6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93320" y="1219320"/>
            <a:ext cx="12034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sited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RAN/PD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78400" y="1382760"/>
            <a:ext cx="187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me RAN (via PD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93800" y="2046240"/>
            <a:ext cx="2666880" cy="0"/>
          </a:xfrm>
          <a:prstGeom prst="line">
            <a:avLst/>
          </a:prstGeom>
          <a:ln w="3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793800" y="2122560"/>
            <a:ext cx="2666880" cy="0"/>
          </a:xfrm>
          <a:prstGeom prst="line">
            <a:avLst/>
          </a:prstGeom>
          <a:ln w="3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96920" y="1752480"/>
            <a:ext cx="215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RAN session establish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65440" y="2122560"/>
            <a:ext cx="249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(Diffie-Hellman key agreem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793440" y="2883960"/>
            <a:ext cx="4616280" cy="11160"/>
          </a:xfrm>
          <a:prstGeom prst="line">
            <a:avLst/>
          </a:prstGeom>
          <a:ln w="3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793800" y="2984040"/>
            <a:ext cx="4616280" cy="1800"/>
          </a:xfrm>
          <a:prstGeom prst="line">
            <a:avLst/>
          </a:prstGeom>
          <a:ln w="3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63280" y="2579760"/>
            <a:ext cx="246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Times New Roman"/>
              </a:rPr>
              <a:t>(optional) CHAP authent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793800" y="3720600"/>
            <a:ext cx="2658960" cy="1800"/>
          </a:xfrm>
          <a:prstGeom prst="line">
            <a:avLst/>
          </a:prstGeom>
          <a:ln w="3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793440" y="3798360"/>
            <a:ext cx="2647800" cy="11160"/>
          </a:xfrm>
          <a:prstGeom prst="line">
            <a:avLst/>
          </a:prstGeom>
          <a:ln w="3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018440" y="3417840"/>
            <a:ext cx="22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PDSN session establish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793800" y="4329000"/>
            <a:ext cx="6826320" cy="3240"/>
          </a:xfrm>
          <a:prstGeom prst="line">
            <a:avLst/>
          </a:prstGeom>
          <a:ln w="3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93800" y="4408560"/>
            <a:ext cx="6826320" cy="11160"/>
          </a:xfrm>
          <a:prstGeom prst="line">
            <a:avLst/>
          </a:prstGeom>
          <a:ln w="3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61200" y="4038480"/>
            <a:ext cx="22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Times New Roman"/>
              </a:rPr>
              <a:t>CHAP or MIP authent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93800" y="1741320"/>
            <a:ext cx="0" cy="3124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60680" y="1817640"/>
            <a:ext cx="0" cy="3048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93800" y="5170320"/>
            <a:ext cx="0" cy="457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60680" y="5170320"/>
            <a:ext cx="0" cy="457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93800" y="4865760"/>
            <a:ext cx="0" cy="30456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60680" y="4865760"/>
            <a:ext cx="0" cy="30456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93800" y="5398920"/>
            <a:ext cx="2666880" cy="0"/>
          </a:xfrm>
          <a:prstGeom prst="line">
            <a:avLst/>
          </a:prstGeom>
          <a:ln w="3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60520" y="509436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Times New Roman"/>
              </a:rPr>
              <a:t>Access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188360" y="5322960"/>
            <a:ext cx="180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Times New Roman"/>
              </a:rPr>
              <a:t>(MAC using D-H ke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0120" y="1828800"/>
            <a:ext cx="0" cy="3886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44960" y="1382760"/>
            <a:ext cx="176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me ISP (via PD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IS-2000 Privacy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Identity privac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orary mobile station identifier (TMSI) is assigned by the serv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User data privac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-2000-B and later use 128-bit Rijndael algorithm (A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am cipher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yptosync based on time and other data to prevent replay atta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-2000 encryption ke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-bit keys from legacy authenti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8-bit keys from AK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IS-856 Privacy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Identity privac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encryption is available, user identities are sent only after encryption is inv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User data privac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-the-air 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s against packet insertion, session hijacking, and data eavesdropping within the wireless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address the greater Internet privacy risks once the data leaves the wireless networ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 security protocols (IPsec, SSL, etc.) are necessary for end-to-end secur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Provisioning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nstallation of subscription data in the mobile and net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metric key security requires at least one key provisio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Provisioning is a major operational conce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impact on customer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solutions will vary depending on business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Provisioning Methods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Manufacturer provisi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 are installed by the manufacturer, and securely communicated to the operator’s AC or AA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Manual provisi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r service representative enters the key via a keypad or provisioning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Over-the-air Service Provisioning (OTAS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provisioned devices are hotlined to special service numbers/URLs; secure protocols are used to install ke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Removable U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GSM SIM; keys are in a removable “token” provided separately from the terminal and installed by the u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71240" y="1066680"/>
            <a:ext cx="476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99"/>
                </a:solidFill>
                <a:latin typeface="Times New Roman"/>
              </a:rPr>
              <a:t>(In approximate order of prevalence in cdma2000 deploymen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In Conclusion: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dma2000 standards support a full set of security features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ud pre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priva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volution to all-IP networks poses new security challen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ual system security is only as good as the operators mak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8080" y="2743200"/>
            <a:ext cx="6248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67080" y="2743200"/>
            <a:ext cx="0" cy="773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86600" y="274320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743200"/>
            <a:ext cx="1440" cy="457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2743200"/>
            <a:ext cx="0" cy="457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japanf" descr=""/>
          <p:cNvPicPr/>
          <p:nvPr/>
        </p:nvPicPr>
        <p:blipFill>
          <a:blip r:embed="rId1"/>
          <a:stretch/>
        </p:blipFill>
        <p:spPr>
          <a:xfrm>
            <a:off x="1960560" y="4043520"/>
            <a:ext cx="1143000" cy="73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6" name="prcf" descr=""/>
          <p:cNvPicPr/>
          <p:nvPr/>
        </p:nvPicPr>
        <p:blipFill>
          <a:blip r:embed="rId2"/>
          <a:stretch/>
        </p:blipFill>
        <p:spPr>
          <a:xfrm>
            <a:off x="284040" y="4043520"/>
            <a:ext cx="1143000" cy="758520"/>
          </a:xfrm>
          <a:prstGeom prst="rect">
            <a:avLst/>
          </a:prstGeom>
          <a:ln w="0">
            <a:noFill/>
          </a:ln>
        </p:spPr>
      </p:pic>
      <p:pic>
        <p:nvPicPr>
          <p:cNvPr id="57" name="usaf" descr=""/>
          <p:cNvPicPr/>
          <p:nvPr/>
        </p:nvPicPr>
        <p:blipFill>
          <a:blip r:embed="rId3"/>
          <a:stretch/>
        </p:blipFill>
        <p:spPr>
          <a:xfrm>
            <a:off x="5181480" y="4038480"/>
            <a:ext cx="1143000" cy="708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800600" y="1981080"/>
            <a:ext cx="0" cy="773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3GPP2%20logo%20v2" descr=""/>
          <p:cNvPicPr/>
          <p:nvPr/>
        </p:nvPicPr>
        <p:blipFill>
          <a:blip r:embed="rId4"/>
          <a:stretch/>
        </p:blipFill>
        <p:spPr>
          <a:xfrm>
            <a:off x="3733920" y="1447920"/>
            <a:ext cx="2743200" cy="8539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3GPP2 Membership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5029200"/>
            <a:ext cx="8458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I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ociation of Radio Industries and Business (Japa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W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na Wireless Telecommunication Standard Group (Chin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lecommunications Industry Association (NAFTA countries: USA, Canada, Mexic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T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lecommunications Technology Association (Kore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T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lecommunication Technology Committee (Japa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canadaf" descr=""/>
          <p:cNvPicPr/>
          <p:nvPr/>
        </p:nvPicPr>
        <p:blipFill>
          <a:blip r:embed="rId5"/>
          <a:stretch/>
        </p:blipFill>
        <p:spPr>
          <a:xfrm>
            <a:off x="6515280" y="4083120"/>
            <a:ext cx="1218960" cy="619200"/>
          </a:xfrm>
          <a:prstGeom prst="rect">
            <a:avLst/>
          </a:prstGeom>
          <a:ln w="0">
            <a:noFill/>
          </a:ln>
        </p:spPr>
      </p:pic>
      <p:pic>
        <p:nvPicPr>
          <p:cNvPr id="63" name="mexicof" descr=""/>
          <p:cNvPicPr/>
          <p:nvPr/>
        </p:nvPicPr>
        <p:blipFill>
          <a:blip r:embed="rId6"/>
          <a:stretch/>
        </p:blipFill>
        <p:spPr>
          <a:xfrm>
            <a:off x="7924680" y="4059360"/>
            <a:ext cx="990720" cy="664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rot="5400000">
            <a:off x="6914520" y="2000160"/>
            <a:ext cx="190800" cy="3809880"/>
          </a:xfrm>
          <a:custGeom>
            <a:avLst/>
            <a:gdLst>
              <a:gd name="textAreaLeft" fmla="*/ 122040 w 190800"/>
              <a:gd name="textAreaRight" fmla="*/ 191160 w 1908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31"/>
                </a:lnTo>
                <a:cubicBezTo>
                  <a:pt x="10800" y="9531"/>
                  <a:pt x="5400" y="10431"/>
                  <a:pt x="0" y="10431"/>
                </a:cubicBezTo>
                <a:cubicBezTo>
                  <a:pt x="5400" y="10431"/>
                  <a:pt x="10800" y="11331"/>
                  <a:pt x="10800" y="1223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852720" y="3414600"/>
          <a:ext cx="771840" cy="594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52720" y="3414600"/>
                    <a:ext cx="77184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skoreaf" descr=""/>
          <p:cNvPicPr/>
          <p:nvPr/>
        </p:nvPicPr>
        <p:blipFill>
          <a:blip r:embed="rId9"/>
          <a:stretch/>
        </p:blipFill>
        <p:spPr>
          <a:xfrm>
            <a:off x="3637080" y="4043520"/>
            <a:ext cx="1144440" cy="722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68" name=""/>
          <p:cNvGraphicFramePr/>
          <p:nvPr/>
        </p:nvGraphicFramePr>
        <p:xfrm>
          <a:off x="6576840" y="3303720"/>
          <a:ext cx="990720" cy="507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576840" y="3303720"/>
                    <a:ext cx="9907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228600" y="3276720"/>
          <a:ext cx="1219320" cy="685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8600" y="3276720"/>
                    <a:ext cx="12193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" name=""/>
          <p:cNvGrpSpPr/>
          <p:nvPr/>
        </p:nvGrpSpPr>
        <p:grpSpPr>
          <a:xfrm>
            <a:off x="1905120" y="3276720"/>
            <a:ext cx="1218960" cy="694800"/>
            <a:chOff x="1905120" y="3276720"/>
            <a:chExt cx="1218960" cy="694800"/>
          </a:xfrm>
        </p:grpSpPr>
        <p:graphicFrame>
          <p:nvGraphicFramePr>
            <p:cNvPr id="73" name=""/>
            <p:cNvGraphicFramePr/>
            <p:nvPr/>
          </p:nvGraphicFramePr>
          <p:xfrm>
            <a:off x="1905120" y="3630240"/>
            <a:ext cx="1218960" cy="34128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905120" y="3630240"/>
                      <a:ext cx="1218960" cy="34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" name=""/>
            <p:cNvGraphicFramePr/>
            <p:nvPr/>
          </p:nvGraphicFramePr>
          <p:xfrm>
            <a:off x="2108160" y="3276720"/>
            <a:ext cx="830520" cy="34128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2108160" y="3276720"/>
                      <a:ext cx="830520" cy="34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Membership, cont’d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3880" y="1114560"/>
            <a:ext cx="7772400" cy="48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Market Representation Part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800"/>
              </a:spcBef>
              <a:buClr>
                <a:srgbClr val="3333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CDMA Development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800"/>
              </a:spcBef>
              <a:buClr>
                <a:srgbClr val="3333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MW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800"/>
              </a:spcBef>
              <a:buClr>
                <a:srgbClr val="3333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IPv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Ob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401"/>
              </a:spcBef>
              <a:buClr>
                <a:srgbClr val="3333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TS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401"/>
              </a:spcBef>
              <a:buClr>
                <a:srgbClr val="3333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AC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401"/>
              </a:spcBef>
              <a:buClr>
                <a:srgbClr val="3333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ET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335720" y="1141560"/>
          <a:ext cx="1562040" cy="82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5720" y="1141560"/>
                    <a:ext cx="1562040" cy="82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014880" y="5424480"/>
            <a:ext cx="2286000" cy="63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3513240" y="3666960"/>
          <a:ext cx="3429000" cy="81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13240" y="3666960"/>
                    <a:ext cx="342900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5295960" y="1739880"/>
          <a:ext cx="1905120" cy="555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95960" y="1739880"/>
                    <a:ext cx="190512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Aciflogosmall" descr=""/>
          <p:cNvPicPr/>
          <p:nvPr/>
        </p:nvPicPr>
        <p:blipFill>
          <a:blip r:embed="rId8"/>
          <a:stretch/>
        </p:blipFill>
        <p:spPr>
          <a:xfrm>
            <a:off x="3575160" y="4630680"/>
            <a:ext cx="1600200" cy="1338480"/>
          </a:xfrm>
          <a:prstGeom prst="rect">
            <a:avLst/>
          </a:prstGeom>
          <a:ln w="0">
            <a:noFill/>
          </a:ln>
        </p:spPr>
      </p:pic>
      <p:pic>
        <p:nvPicPr>
          <p:cNvPr id="87" name="ipv6forum_logo3" descr=""/>
          <p:cNvPicPr/>
          <p:nvPr/>
        </p:nvPicPr>
        <p:blipFill>
          <a:blip r:embed="rId9"/>
          <a:stretch/>
        </p:blipFill>
        <p:spPr>
          <a:xfrm>
            <a:off x="6664320" y="2598840"/>
            <a:ext cx="100476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Purpose of 3GPP2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9240" y="1368360"/>
            <a:ext cx="80629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바탕체"/>
              </a:rPr>
              <a:t>The purpose of 3GPP2 is to prepare, approve and maintain globally applicable Technical Specifications and Technical Reports for a 3rd Generation Mobile System based on the evolving ANSI-41 Core Network and the cdma2000 radio access technolog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바탕체"/>
              </a:rPr>
              <a:t>These specifications include support for 3G Networks based on both Internet Protocol and evolved ANSI-41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???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바탕체"/>
              </a:rPr>
              <a:t>including interoperability between these networks and mobile s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???"/>
              </a:rPr>
              <a:t>3GPP2 also takes into account the emerging ITU recommendations on interworking between IMT-2000 family me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???"/>
              </a:rPr>
              <a:t>Serving the CDMA Community via Smooth Evolution of cdma2000 from 2G to 3G while Expanding 2.5G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Process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054080"/>
            <a:ext cx="7772400" cy="443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3GPP2 publishes technical specifications as a cooperative effort of all partner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Gs develop technical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Gs’ outputs reviewed and approved by Steering Committee per 3GPP2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Partners apply national standardization processes to standardize results of 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wnership and copyright of these output documents is shared between the Organizational Partn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Resulting in globally developed standards for use on a region by region b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380880"/>
            <a:ext cx="72295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3GPP2 Organizational Structure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079640" y="1158840"/>
          <a:ext cx="7129440" cy="539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158840"/>
                    <a:ext cx="7129440" cy="53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History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Prior to 2001, 3GPP2 relied on the TIA’s Ad Hoc Authentication Group (AHAG) for security nee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AG was formed in 1991 to handle encryption-related work in accordance with US and Canadian la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t changes in export laws make international meetings on security much simpl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TSG-S WG4 (Security) was formed in August 200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G4 will assume most of the work previously done by AHA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AG continues as a TIA support gro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7126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CDMA Air Interface Standards (TIA)</a:t>
            </a:r>
            <a:endParaRPr b="1" lang="en-US" sz="32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60360" y="1035000"/>
            <a:ext cx="12002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endCxn id="98" idx="2"/>
          </p:cNvCxnSpPr>
          <p:nvPr/>
        </p:nvCxnSpPr>
        <p:spPr>
          <a:xfrm>
            <a:off x="1158480" y="1322280"/>
            <a:ext cx="702360" cy="457920"/>
          </a:xfrm>
          <a:prstGeom prst="bentConnector4">
            <a:avLst>
              <a:gd name="adj1" fmla="val 5538"/>
              <a:gd name="adj2" fmla="val 149960"/>
            </a:avLst>
          </a:prstGeom>
          <a:ln w="0">
            <a:noFill/>
          </a:ln>
        </p:spPr>
      </p:cxnSp>
      <p:grpSp>
        <p:nvGrpSpPr>
          <p:cNvPr id="100" name=""/>
          <p:cNvGrpSpPr/>
          <p:nvPr/>
        </p:nvGrpSpPr>
        <p:grpSpPr>
          <a:xfrm>
            <a:off x="1268280" y="1827360"/>
            <a:ext cx="1188720" cy="693720"/>
            <a:chOff x="1268280" y="1827360"/>
            <a:chExt cx="1188720" cy="693720"/>
          </a:xfrm>
        </p:grpSpPr>
        <p:sp>
          <p:nvSpPr>
            <p:cNvPr id="101" name=""/>
            <p:cNvSpPr/>
            <p:nvPr/>
          </p:nvSpPr>
          <p:spPr>
            <a:xfrm>
              <a:off x="2001600" y="1839960"/>
              <a:ext cx="455400" cy="674640"/>
            </a:xfrm>
            <a:custGeom>
              <a:avLst/>
              <a:gdLst/>
              <a:ahLst/>
              <a:rect l="l" t="t" r="r" b="b"/>
              <a:pathLst>
                <a:path w="270" h="413">
                  <a:moveTo>
                    <a:pt x="0" y="0"/>
                  </a:moveTo>
                  <a:lnTo>
                    <a:pt x="270" y="413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68280" y="1827360"/>
              <a:ext cx="501840" cy="693720"/>
            </a:xfrm>
            <a:custGeom>
              <a:avLst/>
              <a:gdLst/>
              <a:ahLst/>
              <a:rect l="l" t="t" r="r" b="b"/>
              <a:pathLst>
                <a:path w="312" h="444">
                  <a:moveTo>
                    <a:pt x="312" y="0"/>
                  </a:moveTo>
                  <a:lnTo>
                    <a:pt x="0" y="444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333440" y="1258920"/>
            <a:ext cx="1050840" cy="595440"/>
            <a:chOff x="1333440" y="1258920"/>
            <a:chExt cx="1050840" cy="595440"/>
          </a:xfrm>
        </p:grpSpPr>
        <p:sp>
          <p:nvSpPr>
            <p:cNvPr id="104" name=""/>
            <p:cNvSpPr/>
            <p:nvPr/>
          </p:nvSpPr>
          <p:spPr>
            <a:xfrm>
              <a:off x="1333440" y="1258920"/>
              <a:ext cx="1050840" cy="595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06520" y="1332000"/>
              <a:ext cx="97740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J-STD-0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SB7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452680" y="3500280"/>
            <a:ext cx="1687320" cy="934200"/>
            <a:chOff x="2452680" y="3500280"/>
            <a:chExt cx="1687320" cy="934200"/>
          </a:xfrm>
        </p:grpSpPr>
        <p:sp>
          <p:nvSpPr>
            <p:cNvPr id="107" name=""/>
            <p:cNvSpPr/>
            <p:nvPr/>
          </p:nvSpPr>
          <p:spPr>
            <a:xfrm>
              <a:off x="3616560" y="3821040"/>
              <a:ext cx="523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80760" y="3522600"/>
              <a:ext cx="1051200" cy="596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52680" y="3500280"/>
              <a:ext cx="1108800" cy="641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S-2000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CDMA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ev 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61320" y="4097160"/>
              <a:ext cx="109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July 199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711600" y="3500280"/>
            <a:ext cx="2071440" cy="2801520"/>
            <a:chOff x="3711600" y="3500280"/>
            <a:chExt cx="2071440" cy="2801520"/>
          </a:xfrm>
        </p:grpSpPr>
        <p:sp>
          <p:nvSpPr>
            <p:cNvPr id="112" name=""/>
            <p:cNvSpPr/>
            <p:nvPr/>
          </p:nvSpPr>
          <p:spPr>
            <a:xfrm>
              <a:off x="5259600" y="3821040"/>
              <a:ext cx="523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29200" y="3522600"/>
              <a:ext cx="1050120" cy="596880"/>
            </a:xfrm>
            <a:prstGeom prst="rect">
              <a:avLst/>
            </a:prstGeom>
            <a:gradFill rotWithShape="0">
              <a:gsLst>
                <a:gs pos="0">
                  <a:srgbClr val="18313d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99320" y="3500280"/>
              <a:ext cx="1109160" cy="641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S-2000-A (CDMA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ev 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27400" y="5124240"/>
              <a:ext cx="1053000" cy="596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04080" y="5194080"/>
              <a:ext cx="900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S-856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1xEV-D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68280" y="5721120"/>
              <a:ext cx="137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October 2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11600" y="5422680"/>
              <a:ext cx="411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20960" y="3825720"/>
              <a:ext cx="0" cy="15908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11840" y="4097160"/>
              <a:ext cx="128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March 2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180200" y="3502080"/>
            <a:ext cx="1734840" cy="1175760"/>
            <a:chOff x="7180200" y="3502080"/>
            <a:chExt cx="1734840" cy="1175760"/>
          </a:xfrm>
        </p:grpSpPr>
        <p:sp>
          <p:nvSpPr>
            <p:cNvPr id="122" name=""/>
            <p:cNvSpPr/>
            <p:nvPr/>
          </p:nvSpPr>
          <p:spPr>
            <a:xfrm>
              <a:off x="7924680" y="3821040"/>
              <a:ext cx="990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22480" y="3522600"/>
              <a:ext cx="1049400" cy="5965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8ea5b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394400" y="3502080"/>
              <a:ext cx="1107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d4d4d"/>
                  </a:solidFill>
                  <a:latin typeface="Arial"/>
                </a:rPr>
                <a:t>IS-2000-C (CDMA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d4d4d"/>
                  </a:solidFill>
                  <a:latin typeface="Arial"/>
                </a:rPr>
                <a:t>Rev 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80200" y="4097160"/>
              <a:ext cx="1547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(Summer 200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566320" y="3500280"/>
            <a:ext cx="1857960" cy="934200"/>
            <a:chOff x="5566320" y="3500280"/>
            <a:chExt cx="1857960" cy="934200"/>
          </a:xfrm>
        </p:grpSpPr>
        <p:sp>
          <p:nvSpPr>
            <p:cNvPr id="127" name=""/>
            <p:cNvSpPr/>
            <p:nvPr/>
          </p:nvSpPr>
          <p:spPr>
            <a:xfrm>
              <a:off x="6901200" y="3821040"/>
              <a:ext cx="523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75480" y="3522600"/>
              <a:ext cx="1049400" cy="5968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8ea5b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31920" y="3500280"/>
              <a:ext cx="1107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d4d4d"/>
                  </a:solidFill>
                  <a:latin typeface="Arial"/>
                </a:rPr>
                <a:t>IS-2000-B (CDMA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d4d4d"/>
                  </a:solidFill>
                  <a:latin typeface="Arial"/>
                </a:rPr>
                <a:t>Rev 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66320" y="4097160"/>
              <a:ext cx="146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(Spring 200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2970000" y="2695680"/>
            <a:ext cx="14040" cy="785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08080" y="1751040"/>
            <a:ext cx="3569400" cy="1073160"/>
            <a:chOff x="208080" y="1751040"/>
            <a:chExt cx="3569400" cy="1073160"/>
          </a:xfrm>
        </p:grpSpPr>
        <p:sp>
          <p:nvSpPr>
            <p:cNvPr id="133" name=""/>
            <p:cNvSpPr/>
            <p:nvPr/>
          </p:nvSpPr>
          <p:spPr>
            <a:xfrm>
              <a:off x="1260360" y="2525760"/>
              <a:ext cx="12006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8080" y="2227320"/>
              <a:ext cx="1052280" cy="596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1520" y="2376360"/>
              <a:ext cx="89964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S-95-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70680" y="2227320"/>
              <a:ext cx="1052280" cy="596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79320" y="2376360"/>
              <a:ext cx="103536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S-95-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7760" y="1751040"/>
              <a:ext cx="973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May 19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91920" y="1751040"/>
              <a:ext cx="128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March 199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5013360" y="1461960"/>
            <a:ext cx="452520" cy="247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74880" y="1351080"/>
            <a:ext cx="30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 in Commercial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03640" y="2025720"/>
            <a:ext cx="471600" cy="269640"/>
          </a:xfrm>
          <a:prstGeom prst="rect">
            <a:avLst/>
          </a:prstGeom>
          <a:gradFill rotWithShape="0">
            <a:gsLst>
              <a:gs pos="0">
                <a:srgbClr val="18313d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43640" y="1924200"/>
            <a:ext cx="192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 Comple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97520" y="2620800"/>
            <a:ext cx="447480" cy="2462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8ea5b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71640" y="2401920"/>
            <a:ext cx="315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 Development in Prog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expected date of comple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5410080"/>
            <a:ext cx="380880" cy="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8T17:34:53Z</dcterms:created>
  <dc:creator>3GPP2 Adminstration</dc:creator>
  <dc:description/>
  <dc:language>en-US</dc:language>
  <cp:lastModifiedBy>UGALE, Arvin Carlos D.</cp:lastModifiedBy>
  <cp:lastPrinted>1999-10-31T22:17:46Z</cp:lastPrinted>
  <dcterms:modified xsi:type="dcterms:W3CDTF">2002-04-18T08:07:18Z</dcterms:modified>
  <cp:revision>298</cp:revision>
  <dc:subject>Presentation for ITU Sub-Regional Seminar on IMT-2000</dc:subject>
  <dc:title>3GPP2 Overview</dc:title>
</cp:coreProperties>
</file>